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pct" ContentType="image/x-pict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E6F-9EF3-49D4-A048-A66F2024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85E-83E3-49C1-BEBF-55E9D773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FDE-1E26-4A95-A52B-B0D86950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EC7-E5DB-4ADB-9F18-47A640B8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A6C-FB05-4CFE-9BF3-5B7327AA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B92-26BC-4CA2-B257-945E3F9F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17A-D728-45D5-B4A8-49A7E6EC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88B-5D75-45C6-A8F6-C41876E7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834-C76A-4B02-9F69-F20A55EE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FB4-8CDA-4FE1-B041-77F7D384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5E6-A2CE-4C21-9A25-E0617F7D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CCA-EDE5-44FE-B019-0AAC4AA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iem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28600" y="5562720"/>
            <a:ext cx="69228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%96@s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%96@s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0" y="44193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9999"/>
                </a:solidFill>
                <a:latin typeface="Lucida Bright"/>
              </a:rPr>
              <a:t>1988  - 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2584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o Comercial Expres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ca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7800" y="4114800"/>
            <a:ext cx="168588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o Comercial Expres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n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27008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rvicio Social Comunit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UD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o  Universitario de Alta G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estudiantes para hacer su pasa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CION VENEZU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ciendo proyecto para Servicio Social Comunitario para estudiantes Univers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caldia Municipio Car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le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niñ@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situacion de c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funcionarios (Fortalecimiento Familia, consejeros de protección, defensores, educadores de c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caldia Municipio Car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le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niñ@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situación de c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nstituyó una RED  (R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 hicieron tres reun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ver en Septie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atorio de Infancia y Juvent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pp://observatori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anciayjuvent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gsp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reun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roceso de reg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ado libre.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mos en Mercado Libr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iendo los productos del Cen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esanal de Los  Muchachos en San Bernard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34040" y="1981080"/>
            <a:ext cx="263664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08520" y="4114800"/>
            <a:ext cx="1685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1:28:16Z</dcterms:created>
  <dc:creator>carl vonalbtrcht</dc:creator>
  <dc:description/>
  <dc:language>en-US</dc:language>
  <cp:lastModifiedBy>donna civale</cp:lastModifiedBy>
  <cp:lastPrinted>2002-06-30T21:16:08Z</cp:lastPrinted>
  <dcterms:modified xsi:type="dcterms:W3CDTF">2007-09-05T03:44:26Z</dcterms:modified>
  <cp:revision>50</cp:revision>
  <dc:subject/>
  <dc:title>ASOCIACION MUCHACHOS DE LA CALLE</dc:title>
</cp:coreProperties>
</file>