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A98-7EBA-4D3F-B4C4-DCDC8604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A37-7843-4C5A-A3EE-0BD407F3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6B5-0C01-44E0-B4BB-8D60C661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9D2-AA26-4B52-B60B-668198AA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A7E-0ACE-4C93-8F18-ED8F0E66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B724-F945-4DD1-931F-19E546CB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406-6C0F-4EF4-98BB-2A30FF8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02B5-6EE9-4DA8-831B-47D81E09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383-447C-4868-B530-26D65F0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0C7-B28F-46AA-BB90-A9A2E6E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B2A7-A45B-4995-B783-26C0299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570-A592-4F56-AFCC-7AACD254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A5EB-EDC2-458C-8780-FF01D1B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62FC-16EE-48AD-BB64-9F5F7C9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D8BC-DB45-478D-A03C-12CDA0A0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7FFF-FE1E-4E0A-8BFB-D1CE513D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E2C5-C3F9-4AB4-A719-D6AA2F9E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78B-76AE-4155-B612-8C5D2C9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681-8F3B-41F0-8F46-84CC6BFA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072-D4F4-4780-AF4F-E228776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0B3-56F1-4FD7-BB6F-9B75306E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208-8116-4CF6-96D3-4D6B6D4B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493-3DEF-4C64-AE87-2911EAE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B65-D89C-4579-8DEB-BB3C355C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5455-94C9-4DC2-8FC4-7339EDF0E28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6741-888D-458F-92B6-713E3A52F0C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06633"/>
                </a:solidFill>
                <a:latin typeface="Garamond"/>
              </a:rPr>
              <a:t>II CONFERENCIA </a:t>
            </a:r>
            <a:br>
              <a:rPr sz="5000"/>
            </a:br>
            <a:r>
              <a:rPr b="0" lang="es-MX" sz="5000" spc="-1" strike="noStrike">
                <a:solidFill>
                  <a:srgbClr val="006633"/>
                </a:solidFill>
                <a:latin typeface="Garamond"/>
              </a:rPr>
              <a:t>REL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ogo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9-21 Julio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Aportes del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Seguimiento y la Evaluación a la Gobernabilidad y Democraci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vio a la Conferenci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7 Talleres de Capacitación: marco lógico, evaluación de un programa integral, mapeo de alcance, gerenciando una evaluación, evaluación en un mundo real, métodos cualitativos y estrategias de facilitación multiact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Materiales a la disposi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Temas de Conferenci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n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Papel estratégico de la evaluación en 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Evaluación como proceso político desde las i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Evaluación de la cooperación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Evaluación de la Acción Humanitaria: Índice de Respuesta Humani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Evaluación, Rendición de Cuentas y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Experiencia del Gobierno Colombiano en la Gestión po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aestría Virtual en S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6000" y="112500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Paneles: Exper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aluación y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zación de la Evaluación: La Agencia Española de Evaluación de Políticas Públicas y de la Calidad de Servicios de la Administración de Españ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aluación en contextos sociales y polít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Uso de la  evaluación para el aprendizaje y la responsabi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aluaciones de 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Retos en la Implementación de Procesos de Planificación, M&amp;E Cualitativo de Organizaciones de Desarroll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rofesionalización de 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aluación y gestión del cono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Garamond"/>
              </a:rPr>
              <a:t>Evaluación para la incidencia y el desarrollo local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Acciones a Realizar</a:t>
            </a:r>
            <a:br>
              <a:rPr sz="3200"/>
            </a:b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RedLac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Nueva Directiva:</a:t>
            </a:r>
            <a:r>
              <a:rPr b="0" lang="es-CO" sz="2800" spc="-1" strike="noStrike">
                <a:solidFill>
                  <a:srgbClr val="000000"/>
                </a:solidFill>
                <a:latin typeface="Garamond"/>
              </a:rPr>
              <a:t>Gloria Vela (Colombia), Ada Ocampo (Perú), Roggerio de Lamar (Brasil), Ronny Ricardo (Costa Rica), Carmen Alicia Valle (El Salvador), Nerio Neirotti (Argentina) y Sergio Martinic (Chi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Realizar un estudio para </a:t>
            </a:r>
            <a:r>
              <a:rPr b="0" lang="es-CO" sz="2800" spc="-1" strike="noStrike">
                <a:solidFill>
                  <a:srgbClr val="000000"/>
                </a:solidFill>
                <a:latin typeface="Garamond"/>
              </a:rPr>
              <a:t>la obtención de Personería Jurídica y el país que será s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Garamond"/>
              </a:rPr>
              <a:t>Identificación de Lineamientos para el próximo Plan de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Situación de las Redes Naciona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funcionamiento intercambio y aprendizajes: Colombia, Perú, Honduras, El Salvador, Nicara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Iniciando acciones: Bolivia, Costa Rica, Argen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proceso de conformación: Guatemala, Uruguay, Venezu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Nuevos grupos a conformarse: República Dominicana, 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Nuevo integrante: Red Canadie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l proceso ha sido variado, con </a:t>
            </a:r>
            <a:r>
              <a:rPr b="0" lang="es-CO" sz="2000" spc="-1" strike="noStrike">
                <a:solidFill>
                  <a:srgbClr val="000000"/>
                </a:solidFill>
                <a:latin typeface="Garamond"/>
              </a:rPr>
              <a:t>Han tenido altos y bajos, de acuerdo al momento y a la disposición de sus integrantes. Lo común y valioso es el interés y la motivación en crear y fortalecer un espacio de encuentro sobre el tema que nos motiva e interesa.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33"/>
                </a:solidFill>
                <a:latin typeface="Garamond"/>
              </a:rPr>
              <a:t>Actividades Realizadas</a:t>
            </a:r>
            <a:br>
              <a:rPr sz="2400"/>
            </a:br>
            <a:r>
              <a:rPr b="1" lang="es-MX" sz="2400" spc="-1" strike="noStrike">
                <a:solidFill>
                  <a:srgbClr val="006633"/>
                </a:solidFill>
                <a:latin typeface="Garamond"/>
              </a:rPr>
              <a:t>Grupo SES en Venezuela 2005…2007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93360" indent="-69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Conformación de una lista de correo, estimado en 25 miemb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-69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Realización de reuniones presénciales para analizar la visión, la misión, los objetivos estratégicos y alcance de la R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-69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Intercambio de inform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-69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ropuestas de temas para analizar de manera virt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-69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Construcción de Indicadores. Indicadores de gestión para cooper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040" indent="-6004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Buenas Prácticas. Enfoques y herramientas básicas para la sistematización de experiencias comunitarias. Sistematización de Proyectos de Desarrollo agrícola. Sistematización e incidencia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040" indent="-6004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Investigación Cualitativa y su aplicación a la Investigación Evaluativa y a la sistemat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040" indent="-6004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a evaluación de aprendizaj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040" indent="-6004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Medición de los Objetivos de Desarrollo del Mile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Propuestas para retomar </a:t>
            </a:r>
            <a:br>
              <a:rPr sz="3200"/>
            </a:br>
            <a:r>
              <a:rPr b="1" lang="es-MX" sz="3200" spc="-1" strike="noStrike">
                <a:solidFill>
                  <a:srgbClr val="006633"/>
                </a:solidFill>
                <a:latin typeface="Garamond"/>
              </a:rPr>
              <a:t>Funcionamiento Grupo S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869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otivar a los integrantes y potenciales dando a conocer los beneficios: ser parte de una comunidad evaluadora, opciones de formación, acceso a información actualizada, aprendizaje compartido, vinculaciones, entre ot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Coordinar un conjunto de acciones mínimas por ejemplo compartir algunos temas conjuntos en torno a lo que nos convoca en el grupo, tomando en cuenta los temas propuestos abrir el debate, intercambiar opiniones, puntos de vistas e información, boletín, entre ot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Conocer a otras redes nacionales para conocer su experiencia y extraer lecciones/alianz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Intercambio con otras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redes de evaluación en Latinoamérica y en otros lug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………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..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9:27:58Z</dcterms:created>
  <dc:creator>rosmary</dc:creator>
  <dc:description/>
  <dc:language>en-US</dc:language>
  <cp:lastModifiedBy>rosmary</cp:lastModifiedBy>
  <dcterms:modified xsi:type="dcterms:W3CDTF">2007-09-04T20:29:32Z</dcterms:modified>
  <cp:revision>9</cp:revision>
  <dc:subject/>
  <dc:title>II CONFERENCIA  RELAC</dc:title>
</cp:coreProperties>
</file>