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5AC-BF35-4D3F-9BB3-61148D99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72A-BDB3-4EB1-BD7B-00EEF69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59A-ECA3-4C52-B814-ACE20DFC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201-F394-46AE-9DF1-BED3FBDA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4D8-6EB7-43AE-9C1E-711D76E9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B8E-8129-4797-A75A-3355A5C9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CEA-1963-4235-99DB-40218CDB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BEB-3A0C-4D08-8E8C-DD87241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40C-6611-415B-9FC7-7FB3D9F0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B23-A84C-4E23-8071-5AB3CC0E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3BF-527F-4265-9DDB-26E8B30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534-30FE-4CA9-80C9-3ECFFAC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EF74-48E0-4EC6-9BB2-1C0826A6B2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05800" cy="565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993400">
            <a:off x="2954880" y="4051800"/>
            <a:ext cx="25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59800">
            <a:off x="4134960" y="4431960"/>
            <a:ext cx="250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883040" y="3433320"/>
            <a:ext cx="249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502200">
            <a:off x="4203000" y="2304720"/>
            <a:ext cx="2509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8137200">
            <a:off x="2887200" y="2610000"/>
            <a:ext cx="25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54040" y="3502080"/>
            <a:ext cx="688680" cy="258840"/>
            <a:chOff x="5954040" y="3502080"/>
            <a:chExt cx="688680" cy="258840"/>
          </a:xfrm>
        </p:grpSpPr>
        <p:sp>
          <p:nvSpPr>
            <p:cNvPr id="48" name=""/>
            <p:cNvSpPr/>
            <p:nvPr/>
          </p:nvSpPr>
          <p:spPr>
            <a:xfrm rot="617400">
              <a:off x="5964120" y="3513240"/>
              <a:ext cx="137160" cy="12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17400">
              <a:off x="6495480" y="3625200"/>
              <a:ext cx="137160" cy="124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17400">
              <a:off x="6320880" y="3587040"/>
              <a:ext cx="137160" cy="124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617400">
              <a:off x="6146280" y="3549960"/>
              <a:ext cx="137160" cy="124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V="1">
            <a:off x="6365880" y="3780000"/>
            <a:ext cx="0" cy="66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64120" y="4448160"/>
            <a:ext cx="1249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Stylus BT"/>
              </a:rPr>
              <a:t>FRANQUI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00120" y="1832040"/>
            <a:ext cx="3117960" cy="3373200"/>
            <a:chOff x="2400120" y="1832040"/>
            <a:chExt cx="3117960" cy="3373200"/>
          </a:xfrm>
        </p:grpSpPr>
        <p:sp>
          <p:nvSpPr>
            <p:cNvPr id="55" name=""/>
            <p:cNvSpPr/>
            <p:nvPr/>
          </p:nvSpPr>
          <p:spPr>
            <a:xfrm flipH="1">
              <a:off x="3629880" y="1874160"/>
              <a:ext cx="374400" cy="4989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440080" y="3455640"/>
              <a:ext cx="374400" cy="4989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3056400" y="2156760"/>
              <a:ext cx="581400" cy="226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906800" y="2843280"/>
              <a:ext cx="581400" cy="226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2441880" y="2950560"/>
              <a:ext cx="356760" cy="511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410560" y="2124720"/>
              <a:ext cx="624600" cy="809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00120" y="4006080"/>
              <a:ext cx="580680" cy="842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011480" y="1832040"/>
              <a:ext cx="958320" cy="357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962160" y="4887000"/>
              <a:ext cx="972360" cy="3182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17960" y="2219400"/>
              <a:ext cx="0" cy="622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8080" y="3056760"/>
              <a:ext cx="0" cy="998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84840" y="4245120"/>
              <a:ext cx="0" cy="622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898160" y="4066920"/>
              <a:ext cx="596520" cy="181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183200">
            <a:off x="3736440" y="1563480"/>
            <a:ext cx="1827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Stylus BT"/>
              </a:rPr>
              <a:t>FERIA DE LAS ORG. ESTUDI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07800" y="4676760"/>
            <a:ext cx="891360" cy="502200"/>
            <a:chOff x="3007800" y="4676760"/>
            <a:chExt cx="891360" cy="502200"/>
          </a:xfrm>
        </p:grpSpPr>
        <p:sp>
          <p:nvSpPr>
            <p:cNvPr id="70" name=""/>
            <p:cNvSpPr/>
            <p:nvPr/>
          </p:nvSpPr>
          <p:spPr>
            <a:xfrm>
              <a:off x="3570840" y="4685400"/>
              <a:ext cx="328320" cy="4935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007800" y="4676760"/>
              <a:ext cx="576360" cy="1378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556360" y="3449880"/>
            <a:ext cx="2264040" cy="1594800"/>
            <a:chOff x="2556360" y="3449880"/>
            <a:chExt cx="2264040" cy="1594800"/>
          </a:xfrm>
        </p:grpSpPr>
        <p:sp>
          <p:nvSpPr>
            <p:cNvPr id="73" name=""/>
            <p:cNvSpPr/>
            <p:nvPr/>
          </p:nvSpPr>
          <p:spPr>
            <a:xfrm rot="20477400">
              <a:off x="3769560" y="4044240"/>
              <a:ext cx="935280" cy="873360"/>
            </a:xfrm>
            <a:prstGeom prst="pentagon">
              <a:avLst/>
            </a:prstGeom>
            <a:noFill/>
            <a:ln w="284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277800">
              <a:off x="2715120" y="3647160"/>
              <a:ext cx="935640" cy="873360"/>
            </a:xfrm>
            <a:prstGeom prst="pentagon">
              <a:avLst/>
            </a:prstGeom>
            <a:noFill/>
            <a:ln w="284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488000">
            <a:off x="3224160" y="4817880"/>
            <a:ext cx="625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Stylus BT"/>
              </a:rPr>
              <a:t>DE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79600">
            <a:off x="3560760" y="5335200"/>
            <a:ext cx="625320" cy="142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51280" y="5524560"/>
            <a:ext cx="679680" cy="1238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7400" y="5513400"/>
            <a:ext cx="19321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Stylus BT"/>
              </a:rPr>
              <a:t>FERIA DE PROYECTOS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79600">
            <a:off x="4183200" y="5446440"/>
            <a:ext cx="625320" cy="142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610800">
            <a:off x="6357600" y="1873080"/>
            <a:ext cx="419040" cy="25272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610320" y="1534680"/>
            <a:ext cx="82440" cy="4222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726600">
            <a:off x="6440040" y="1366560"/>
            <a:ext cx="927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cc"/>
                </a:solidFill>
                <a:latin typeface="Century Gothic"/>
              </a:rPr>
              <a:t>ZONA V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5:08:11Z</dcterms:created>
  <dc:creator>user</dc:creator>
  <dc:description/>
  <dc:language>en-US</dc:language>
  <cp:lastModifiedBy>Marhely</cp:lastModifiedBy>
  <dcterms:modified xsi:type="dcterms:W3CDTF">2007-09-04T23:19:57Z</dcterms:modified>
  <cp:revision>3</cp:revision>
  <dc:subject/>
  <dc:title>Diapositiva 1</dc:title>
</cp:coreProperties>
</file>