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9011-0E14-4877-9D03-691C0599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30AE-CB5C-4BC2-8B1E-0A91F4A0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63B8-0A51-4D7E-8739-0AC462E1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B2B0-166F-40C3-8E94-B837FD7A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8087-0044-4571-9326-17795850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1735-2655-4BB9-A318-DC26AA20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B3F4-BB14-4A68-A511-C2C4662A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D0CE-0902-4401-B0B4-72572FFD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070B-0848-4A49-9A37-7E5A21A5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2CC0-03BC-40DF-A988-D066E4FA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393E-3D97-42E0-A72E-52CC803A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DB28-273A-4937-9DEA-287023B3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C7A7-E3A9-48A9-A0D9-D59F689E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42CA-488C-4F6D-8B72-E661D7F0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A205-CA81-419A-A0A4-64C3B789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F69F-22AC-445C-A520-772094B4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A035-BFEC-4017-9187-5AFC60EE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3107-556E-45E4-8159-7BF629D6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20C5-AC5B-40DA-BFB1-0CC827FF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98FE-9A5B-4194-B4D6-C5294195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0B77-D7C7-4EA1-9449-40540CD4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4FD2-6D00-4B62-8602-EB2C495C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7960-1B15-46AA-871B-B755728E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6424-14B7-4D64-BE9E-244A69DF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3B9E-EFE5-4372-92A5-FD837F9D09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6563-DE40-45DC-A2CE-2A6013712D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27280" y="1483920"/>
            <a:ext cx="5905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cc"/>
                </a:solidFill>
                <a:latin typeface="Arial"/>
              </a:rPr>
              <a:t>PROPUESTA DE JORNADA DE PLANIFICACIÓN ESTRATÉGICA DE LA   RED SOCIAL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ra el lapso:                                   Octubre 2007 – Septiembre 200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63360"/>
            <a:ext cx="187308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Jornada de Planificación Estratégica de la Red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133720"/>
            <a:ext cx="71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ecedente: en enero y febrero de 2005 se realizó la Jornada de Planificación Estratégica de la Red Social para el perío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5 – 2007, en la cual se reformularon la Misión y la Visión y se establecieron 5 resultados para el desarrollo del Plan Estratégico y el correspondiente Plan Oper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96360" y="6093000"/>
            <a:ext cx="136836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Jornada de Planificación Estratégica de la Red Social para el lapso 2005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2060640"/>
            <a:ext cx="75614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sión:  Somos red de redes , reconocida por la efectiva articulación de esfuerzos, recursos, competencias y logros en pro de la inclusión so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sión: Consolidar capital social para el desarrollo humano, en un contexto globalizado, con prioridad en comunidades en desventaja, inspirada en los principios de equidad, solidaridad y justi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96360" y="6093000"/>
            <a:ext cx="136836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Jornada de Planificación Estratégica de la Red Social para el lapso 2005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17575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96360" y="6093000"/>
            <a:ext cx="1368360" cy="563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71640" y="231300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Los vínculos de la red son sólidos y generan tendencias para la agenda pública en inclus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36100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La red cuenta con un presupuesto producto de proyectos autosostenibles, aportes de proveedores y de las organizaciones afili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49784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Recursos Humanos de la red motivados y capacitados para dar respuestas adecuadas a la inclus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70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85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Jornada de Planificación Estratégica de la Red Social para el lapso 2005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19018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96360" y="6093000"/>
            <a:ext cx="1368360" cy="563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71640" y="253512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Organizaciones afiliadas fortalecidas en su capacidad de gestión para trabajar en 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375912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La confiabilidad en la gestión de la red increment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300"/>
                            </p:stCondLst>
                            <p:childTnLst>
                              <p:par>
                                <p:cTn id="1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Jornada de Planificación Estratégica de la Red Social para el lapso 2007-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227664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tivo: Misión y Visión de la Red Social reformuladas con su correspondiente Plan Estratégico Octubre 2007-Septiembre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386064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icip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esentantes de las ODS afiliadas con responsabilidades de planific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itados (¿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96360" y="6093000"/>
            <a:ext cx="136836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Jornada de Planificación Estratégica de la Red Social para el lapso 2007-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47640" y="2205000"/>
          <a:ext cx="6840720" cy="3684600"/>
        </p:xfrm>
        <a:graphic>
          <a:graphicData uri="http://schemas.openxmlformats.org/drawingml/2006/table">
            <a:tbl>
              <a:tblPr/>
              <a:tblGrid>
                <a:gridCol w="2444760"/>
                <a:gridCol w="2476800"/>
                <a:gridCol w="19191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Activ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prelimina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Lug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icación de Instrumentos para revisión de Misión y Visión de la Red So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6/09 al 13/09/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de de REDS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eño de las versiones preliminares de Misión y Vis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y 27 de Septiemb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6093000"/>
            <a:ext cx="136836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Jornada de Planificación Estratégica de la Red Social para el lapso 2007-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47640" y="2276640"/>
          <a:ext cx="6840720" cy="3404880"/>
        </p:xfrm>
        <a:graphic>
          <a:graphicData uri="http://schemas.openxmlformats.org/drawingml/2006/table">
            <a:tbl>
              <a:tblPr/>
              <a:tblGrid>
                <a:gridCol w="2408400"/>
                <a:gridCol w="2847960"/>
                <a:gridCol w="15843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Taller de Planificación Sistémic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Lug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era Ses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y 27 de septiembre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S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unda Ses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 y 05 de octubre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S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96360" y="6093000"/>
            <a:ext cx="136836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Jornada de Planificación Estratégica de la Red Social para el lapso 2007-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47640" y="2205000"/>
          <a:ext cx="6840720" cy="3384360"/>
        </p:xfrm>
        <a:graphic>
          <a:graphicData uri="http://schemas.openxmlformats.org/drawingml/2006/table">
            <a:tbl>
              <a:tblPr/>
              <a:tblGrid>
                <a:gridCol w="2265480"/>
                <a:gridCol w="2293920"/>
                <a:gridCol w="2281320"/>
              </a:tblGrid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Actividades de cierr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Lug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juste del Plan Estratég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ubre de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S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ación del Plan Estratégico en Asamblea de la Red So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 de Noviembre 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96360" y="6093000"/>
            <a:ext cx="136836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22:50:22Z</dcterms:created>
  <dc:creator>Pedro Luis</dc:creator>
  <dc:description/>
  <dc:language>en-US</dc:language>
  <cp:lastModifiedBy>PEEPadron</cp:lastModifiedBy>
  <dcterms:modified xsi:type="dcterms:W3CDTF">2007-09-05T14:09:35Z</dcterms:modified>
  <cp:revision>8</cp:revision>
  <dc:subject/>
  <dc:title>Diapositiva 1</dc:title>
</cp:coreProperties>
</file>