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B2F2-2ECB-4F5B-BCC1-7516BD160A45}" type="slidenum">
              <a:rPr b="0" lang="es-V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DF7-864E-45AA-8290-0B06F113C24E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93D-2774-43A5-9084-6A7C2B98D4FC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9D2F-AD69-4B62-A8F8-1C5ED531EDF7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8988-24A8-4048-AC37-3F1940B6FAFE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1C2C-27C6-4B15-8D88-13AE2C7F4774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0377-B7FE-47A3-94E4-13C4B7EBABB8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F3F6-5262-4A0F-AC42-56E39576DA60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E9E4-B34A-469D-A5CD-A28D1FC6F039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568-5401-4C16-B630-4D674C22336C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7245-3E86-4DEE-8528-4874A41D6DE2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C6CC-2486-41A8-AADF-2B109FCBB600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4C37-1659-4A5E-8E39-2953DD32E253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2427-C57C-4388-B962-8AF306F34A23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B9C1-E4FE-442E-9FBC-D7D4139EC03F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900-8588-4767-83DA-528495947388}" type="slidenum">
              <a:rPr b="1" lang="es-VE" sz="1200" spc="-1" strike="noStrike">
                <a:solidFill>
                  <a:srgbClr val="ffffff"/>
                </a:solidFill>
                <a:latin typeface="Modern No. 20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5535-48E4-45C0-ABCF-691A090F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EA01-4035-4AEB-9D2D-6834FE3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359A-6386-40F4-9C06-98BC1D5D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237A-3545-4516-9470-03BB8990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53F6-F307-4A69-9CC6-E46A4F3F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49A7-CBEE-4F49-A19B-DDA44D18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6734-1163-4694-BE6D-0FFD825D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4F85-76E4-4EF2-89EE-9C081214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DE3-8E85-4A44-9F08-BAFD1AF4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355C-55D9-4A12-8789-67F3D9DB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D15-739E-42AA-B84C-959F924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8770-0D2E-4938-AA62-DA97693B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815C-C123-4E29-90CA-7C0E32A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9D9-213E-483E-BC7F-6C8CC00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E35D-F3C8-45DA-8ACE-FE12E3EF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B53E-603D-4754-B819-401EF22D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7A4E-E5F7-4530-AD28-9A59746E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5B2C-9699-483D-BC13-50616FF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ED23-0758-49B5-A68A-B822ADEF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FEE7-0EDA-40FD-A44E-C4D4712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0A18-34EA-4F91-913A-1F19FEB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F4B16-FCE1-4F50-96F4-5C592E27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B090-43D9-4BA8-AB77-E578F2B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5BA2-E448-4042-A2EE-01E96A7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16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924C-353B-457D-97A4-C94251191F6F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8108c4"/>
                </a:gs>
                <a:gs pos="100000">
                  <a:srgbClr val="5416a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363ad"/>
                </a:gs>
                <a:gs pos="100000">
                  <a:srgbClr val="5416a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810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810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57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810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3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57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57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363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578c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363a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578c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3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16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8108c4"/>
                </a:gs>
                <a:gs pos="100000">
                  <a:srgbClr val="5416a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3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ffffff"/>
                </a:solidFill>
                <a:latin typeface="Modern No. 20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57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810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810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36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57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810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36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57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810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57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ffffff"/>
                  </a:solidFill>
                  <a:latin typeface="Modern No. 20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363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578c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363a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578c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3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F01C-F170-45C8-AF3D-53AFC90ACA68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6400"/>
            <a:ext cx="601992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Modern No. 20"/>
              </a:rPr>
              <a:t>LAS ONG´S EN VENEZUE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56360" y="4437000"/>
            <a:ext cx="20876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Modern No. 20"/>
              </a:rPr>
              <a:t>Presentado por:</a:t>
            </a:r>
            <a:endParaRPr b="1" lang="en-US" sz="20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Modern No. 20"/>
              </a:rPr>
              <a:t>De Sousa Astrid</a:t>
            </a:r>
            <a:endParaRPr b="1" lang="en-US" sz="20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Modern No. 20"/>
              </a:rPr>
              <a:t>Orco Neivi</a:t>
            </a:r>
            <a:endParaRPr b="1" lang="en-US" sz="20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Modern No. 20"/>
              </a:rPr>
              <a:t>Solano Jessica</a:t>
            </a:r>
            <a:endParaRPr b="1" lang="en-US" sz="20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268360" y="6033960"/>
            <a:ext cx="46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4360" y="609300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Modern No. 20"/>
              </a:rPr>
              <a:t>Caracas, Octubre de 2007</a:t>
            </a:r>
            <a:endParaRPr b="1" lang="en-US" sz="2000" spc="-1" strike="noStrike">
              <a:solidFill>
                <a:srgbClr val="ffffff"/>
              </a:solidFill>
              <a:latin typeface="Modern No. 20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rcRect l="0" t="0" r="10779" b="3881"/>
          <a:stretch/>
        </p:blipFill>
        <p:spPr>
          <a:xfrm>
            <a:off x="250920" y="260280"/>
            <a:ext cx="180000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47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Declaraciones estimadas de Impuesto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Art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ulo 74 de la Ley de Impuesto sobre la Renta; Art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ulo 20 de su Regl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Declaraciones definitivas de Impuesto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Art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ulo 71 de la Ley de Impuesto sobre la Renta; Art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ulo 2 de su Regl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Retenc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n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Decreto 1808 (Reglamento Parcial de la Ley de Impuesto Sobre la Ren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Modern No. 20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</a:rPr>
              <a:t>Enterar impuesto retenido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tres primeros d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as h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biles del mes siguiente luego del pago del impue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4995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Exención del pago del Impuesto Sobre la Renta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Requisitos para obtener la exenc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n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comunicaci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n, copia de  acta constitutiva, estatutos, reglamentos internos, documentos simi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ompromisos con el SENIAT una vez obtenida la exenc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dern No. 20"/>
              </a:rPr>
              <a:t>fiscalizaci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Modern No. 20"/>
              </a:rPr>
              <a:t>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Modern No. 20"/>
              </a:rPr>
              <a:t>libros de contabilidad y registros dispon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Exoneraciones en las Asociaciones Civiles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Impuesto Sobre Sucesiones, Donaciones y Dem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á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s Ramos Conex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Condiciones que deben cumplir las Asociaciones  Sin Fines de Lucro para gozar de la exonerac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Modern No. 20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El IVA en las Asociaciones Civiles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se ven obligadas al cumplimiento de la Ley del IVA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Las facturas deben emitirse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por la prestaci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n de servicios y por las dem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á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s operaciones grav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Obligaciones Parafiscales en las Sociedades Sin Fines de Lucro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5075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dern No. 20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Seguro Social Obligatorio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Reglamento General de la Ley del Seguro Social Obligatorio (art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culo  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Paro Forzoso: Normativa Accesoria a la Ley del Seguro Soci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Ley de Po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tica Habitacional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</a:rPr>
              <a:t>: art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</a:rPr>
              <a:t>culo 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6358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Los Tributos Municipales y las Asociaciones Civiles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Modern No. 20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Patente de Industria y Comercio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</a:rPr>
              <a:t>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conformidad de uso de la planta f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s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Derecho de Frente: aplicado a la prop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Publicidad y Espect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á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culos 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ú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blicos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tasas establecidas en las ordenanzas municip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80024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000000"/>
                </a:solidFill>
                <a:latin typeface="Modern No. 20"/>
              </a:rPr>
              <a:t>GRACIAS POR SU ATENCIÓ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ff"/>
                </a:solidFill>
                <a:latin typeface="Modern No. 20"/>
              </a:rPr>
              <a:t>Bases Conceptu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Modern No. 20"/>
              </a:rPr>
              <a:t>Definición de 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Modern No. 20"/>
                <a:ea typeface="Arial"/>
              </a:rPr>
              <a:t>Caracter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es-ES" sz="3200" spc="-1" strike="noStrike">
                <a:solidFill>
                  <a:srgbClr val="ffffff"/>
                </a:solidFill>
                <a:latin typeface="Modern No. 20"/>
                <a:ea typeface="Arial"/>
              </a:rPr>
              <a:t>sticas de las 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No Gubernamentales (Independientes del Esta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No lucr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Volunt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Modern No. 20"/>
                <a:ea typeface="Arial"/>
              </a:rPr>
              <a:t>Funciones de las principales ONG´s en el mundo.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Garant</a:t>
            </a:r>
            <a:r>
              <a:rPr b="0" lang="es-ES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a en la aplicaci</a:t>
            </a:r>
            <a:r>
              <a:rPr b="0" lang="es-ES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n de Tratados Internacionales Humanitarios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Promoci</a:t>
            </a:r>
            <a:r>
              <a:rPr b="0" lang="es-ES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n de los Derechos Humanos (DDHH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Denuncia de abusos a los DDH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Vivienda social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Ayuda humanitaria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Protecci</a:t>
            </a:r>
            <a:r>
              <a:rPr b="0" lang="es-ES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n del medio ambien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Cooperaci</a:t>
            </a:r>
            <a:r>
              <a:rPr b="0" lang="es-ES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n para el desarrollo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624"/>
              </a:spcBef>
              <a:buClr>
                <a:srgbClr val="3399ff"/>
              </a:buClr>
              <a:buSzPct val="80000"/>
              <a:buFont typeface="Modern No. 20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Modern No. 20"/>
                <a:ea typeface="Arial"/>
              </a:rPr>
              <a:t>Ayuda a la infancia</a:t>
            </a:r>
            <a:r>
              <a:rPr b="0" lang="es-ES" sz="2500" spc="-1" strike="noStrike">
                <a:solidFill>
                  <a:srgbClr val="ffffff"/>
                </a:solidFill>
                <a:latin typeface="Modern No. 20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456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Origen de las ONG´s: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55640" y="234936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341360"/>
            <a:ext cx="748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3399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Constitución: Carta de las Naciones Unidas (1958)</a:t>
            </a: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11280" y="2411280"/>
            <a:ext cx="770580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Modern No. 20"/>
              </a:rPr>
              <a:t>Organización de las Naciones Unidas y las ONG:</a:t>
            </a:r>
            <a:endParaRPr b="1" lang="en-US" sz="28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buClr>
                <a:srgbClr val="3399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</a:rPr>
              <a:t>Comité de Organizaciones No Gubernamentales</a:t>
            </a: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buClr>
                <a:srgbClr val="3399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Principios: relaciones de consulta, relaciones de asociación</a:t>
            </a: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buClr>
                <a:srgbClr val="3399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Condiciones: ONG sin fines de lucro</a:t>
            </a: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buClr>
                <a:srgbClr val="3399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Admisión: solicitudes</a:t>
            </a: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odern No. 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ONSTITUCIÓN DE UNA ONG  O ASOCIACIÓN CIVIL EN VENEZUELA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7988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9adff"/>
                </a:solidFill>
                <a:latin typeface="Modern No. 20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Requisitos para la existencia de una Asociac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n Civ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onstituc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n; instrumento ju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dico; fin 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ito;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rgano represen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- El Patrimonio: derechos y obligaciones le son propias </a:t>
            </a:r>
            <a:r>
              <a:rPr b="0" lang="es-CO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a la Asociaci</a:t>
            </a:r>
            <a:r>
              <a:rPr b="0" lang="es-C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CO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- Acta Constitutiva y Estatutos:  Art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culo 19 d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digo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La Asamblea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</a:rPr>
              <a:t>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m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xima instancia de decisi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n de una Asociaci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</a:rPr>
              <a:t>n Ci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- Convocatori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Por escr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Por la pren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Registro de los miembros de una Asociaci</a:t>
            </a:r>
            <a:r>
              <a:rPr b="0" lang="es-C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n Civil: 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Consultas anuales; Libro de Asoc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-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El control interno en las Asociaciones Civiles</a:t>
            </a:r>
            <a:r>
              <a:rPr b="0" lang="es-CO" sz="2800" spc="-1" strike="noStrike">
                <a:solidFill>
                  <a:srgbClr val="ffffff"/>
                </a:solidFill>
                <a:latin typeface="Modern No. 20"/>
                <a:ea typeface="Arial"/>
              </a:rPr>
              <a:t>: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El </a:t>
            </a: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Contralor ejerce la </a:t>
            </a:r>
            <a:r>
              <a:rPr b="0" lang="es-CO" sz="2400" spc="-1" strike="noStrike">
                <a:solidFill>
                  <a:srgbClr val="ffffff"/>
                </a:solidFill>
                <a:latin typeface="Modern No. 20"/>
                <a:ea typeface="Arial"/>
              </a:rPr>
              <a:t>inspección y vigilancia de las operaciones de la Aso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Modern No. 20"/>
                <a:ea typeface="Arial"/>
              </a:rPr>
              <a:t>DEBERES Y DERECHOS FISCALES DE LAS ONG´s EN VENEZUELA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Obligaciones establecidas en la Ley de Impuesto Sobre la Renta</a:t>
            </a:r>
            <a:r>
              <a:rPr b="0" lang="es-ES" sz="20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 :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Modern No. 20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Registro de Información Fiscal (RIF): Formato disponible en www.seniat.gov.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Registro de Activos Revaluados (RAR): </a:t>
            </a:r>
            <a:r>
              <a:rPr b="0" lang="es-CO" sz="20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Articulo 120° de la Ley de Impuesto Sobre la Ren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- Libros y registros contables: Articulo 31 del Reglamento de la Ley de Impuesto Sobre la R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Modern No. 20"/>
                <a:ea typeface="Times New Roman"/>
              </a:rPr>
              <a:t>LAS GESTIONES LAS REALIZA UN CONTADOR CALIFICADO E INSCRITO EN EL COLEGIO DE CONTADORES DE VENEZUELA, NO LA ASOCIACIÓN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0:34:10Z</dcterms:created>
  <dc:creator>Dayana&amp;Yeral</dc:creator>
  <dc:description/>
  <dc:language>en-US</dc:language>
  <cp:lastModifiedBy>Estella</cp:lastModifiedBy>
  <dcterms:modified xsi:type="dcterms:W3CDTF">2007-10-24T15:21:35Z</dcterms:modified>
  <cp:revision>39</cp:revision>
  <dc:subject/>
  <dc:title>LAS ONG´S EN VENEZUELA</dc:title>
</cp:coreProperties>
</file>