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C4B-D661-4C31-9308-50FD62399E0E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D042-FA55-4C07-AC71-6BA4476B59D0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8A46-B108-4408-AE8B-6C6DA063A387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9EDB-55E7-494E-B02D-A09363904806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31C6-E3D5-48A3-8D5F-4DE27A49D4DA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684D-929D-415C-A154-CA973113E6EB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205A-4167-4601-9AE1-7A298C879684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D420-3C89-4EC1-84B9-89856A315568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BFC2-1EC2-4596-99A2-4047D439E57C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4DE1-8707-425B-87C9-4D205B4D1B8E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0AFC-D0FC-46EC-9128-E3E1F8AD974E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63A0-054D-4C48-9687-FB53F51407E4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3E20-9586-40E5-9BEC-5291EDFE70DD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58E0-9092-42E3-A0D3-73F0B1607FF8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9D11-0F98-4824-B9F1-0B87C65AAAB4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8619-7499-4C9C-AD9D-D4173421CC6E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D6A7-3CDF-4386-8998-AE16C371BE35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0BA-8023-42DC-9FC0-5D5B014D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E97-E52E-48A4-9B25-6679306B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272-31E7-4B3E-A250-1D98AC11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30E-21B7-4257-9580-B22C256E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668-21EF-4AFD-B90A-EEB36FE7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663-1877-465C-AF9C-C15C1E49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F3A-FBAE-47E0-A519-B0F7AB95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047-66CE-4C42-B722-77496636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806-94B6-4F80-84EE-9BE808EE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46B-1882-4B56-B9A9-7300D9EA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698-14D5-4761-9DD7-D5545E0B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854-B539-4287-8E96-BCC82908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2D4C-0F77-4534-BCBA-9884A0B6D1F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Consideraciones introduc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Primera reforma co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Límites materiales del procedimiento de reforma (art. 342): estructura y principios fundamentales (Título I) de la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Carácter fundante de las normas constitucionales (efecto de irradi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Grandes propósit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avance sustancial del proceso revolucionario, pasando de la liberación de la sociedad política a la transformación de la sociedad civi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la construcción del socialismo en lo político, económico y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Times New Roman"/>
              </a:rPr>
              <a:t>El régimen económico y la propiedad </a:t>
            </a:r>
            <a:r>
              <a:rPr b="1" lang="es-VE" sz="2000" spc="-1" strike="noStrike">
                <a:solidFill>
                  <a:srgbClr val="000000"/>
                </a:solidFill>
                <a:latin typeface="Times New Roman"/>
              </a:rPr>
              <a:t>(arts. 87, 112, 113, 115, 156, num. 34, 300, 302, 305, 307, 318, 3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Supresión de la libertad económica (iniciativa personal, art. 2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Garantía de “las diferentes formas de propie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Gestión y administración de los ramos de la economía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Limitación de la protección de los derechos de autor y otros af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Transferencia de sectores agrícolas por razones de seguridad alimentaria y transferencia de latifundios al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Nuevos supuestos de confis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Plan Nacional de Desarrollo a cargo del Pres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Times New Roman"/>
              </a:rPr>
              <a:t>La administración pública y las finanzas públicas (arts. 141, 236, num. 12, 318, 3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La administración al servicio de los poderes públicos y no del ciudad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Las administraciones públicas burocráticas o tradicionales y las misiones (sistemas excepcionales y experi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Eliminación de la autonomía del B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Establecimiento y regulación de la política mon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Determinación de reservas excedentarias y de su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Times New Roman"/>
              </a:rPr>
              <a:t>Los estados de exce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Restablecimiento de la suspensión de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Posibilidad de afectar la libertad de información y el debido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Reducción de controle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Times New Roman"/>
              </a:rPr>
              <a:t>La autonomía universi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Inclusión de los trabajadores como miembros plenos de la comunidad universi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Democracia participativa y protag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Voto pari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Times New Roman"/>
              </a:rPr>
              <a:t>Derechos sociales y derecho a la igual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Reducción de la jornada lab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Seguridad social y protección laboral para trabajadores inde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Protección de la viviend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Ampliación de la cláusula antidiscrimin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4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Elección o remoción de Magistrados o titulares del Poder Ciudad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Integración de los Comités de Postu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Remoción por simple mayoría de miemb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Sin previa calificación de falta 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Times New Roman"/>
              </a:rPr>
              <a:t>Fuerza Armada Nacional o Fuerza Armada Bolivariana (arts. 11, 328 y 32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Times New Roman"/>
              </a:rPr>
              <a:t>Modificación de sus comet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Times New Roman"/>
              </a:rPr>
              <a:t>Reserva militar y Milicia Popular (Nacional) Bolivar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Times New Roman"/>
              </a:rPr>
              <a:t>Carácter esencialmente patriótico, popular y antiimperialista, profesional y sin militancia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Times New Roman"/>
              </a:rPr>
              <a:t>Guerra popular de re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Times New Roman"/>
              </a:rPr>
              <a:t>Regiones especiales mili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Referéndum constituyente 1999: Primera pregunta: ¿Convoca usted a una Asamblea Nacional Constituyente con el propósito de transformar el Estado y crear un nuevo ordenamiento jurídico que permita el funcionamiento efectivo de una </a:t>
            </a:r>
            <a:r>
              <a:rPr b="1" lang="es-VE" sz="2000" spc="-1" strike="noStrike">
                <a:solidFill>
                  <a:srgbClr val="000000"/>
                </a:solidFill>
                <a:latin typeface="Times New Roman"/>
              </a:rPr>
              <a:t>Democracia Social </a:t>
            </a: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y Participativ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Base comicial Octava: Una vez instalada la Asamblea Nacional Constituyente, como poder originario que recoge la soberanía popular, deberá dictar sus propios estatutos de funcionamiento, </a:t>
            </a:r>
            <a:r>
              <a:rPr b="1" lang="es-VE" sz="2000" spc="-1" strike="noStrike">
                <a:solidFill>
                  <a:srgbClr val="000000"/>
                </a:solidFill>
                <a:latin typeface="Times New Roman"/>
              </a:rPr>
              <a:t>teniendo como límites los valores y principios de nuestra historia republicana, así como el cumplimiento de los tratados internacionales, acuerdos y compromisos válidamente suscritos por la República, el carácter progresivo de los derechos fundamentales del hombre y las garantías democráticas dentro del mas absoluto respeto de los compromisos asumidos.</a:t>
            </a: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Constitución 1999, art. 6: El gobierno de la República Bolivariana de Venezuela y de las entidades políticas que la componen </a:t>
            </a:r>
            <a:r>
              <a:rPr b="1" lang="es-VE" sz="2000" spc="-1" strike="noStrike">
                <a:solidFill>
                  <a:srgbClr val="000000"/>
                </a:solidFill>
                <a:latin typeface="Times New Roman"/>
              </a:rPr>
              <a:t>es y será siempre democrático, </a:t>
            </a: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participativo</a:t>
            </a:r>
            <a:r>
              <a:rPr b="1" lang="es-VE" sz="2000" spc="-1" strike="noStrike">
                <a:solidFill>
                  <a:srgbClr val="000000"/>
                </a:solidFill>
                <a:latin typeface="Times New Roman"/>
              </a:rPr>
              <a:t>, electivo, descentralizado, alternativo, </a:t>
            </a: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responsable</a:t>
            </a:r>
            <a:r>
              <a:rPr b="1" lang="es-VE" sz="2000" spc="-1" strike="noStrike">
                <a:solidFill>
                  <a:srgbClr val="000000"/>
                </a:solidFill>
                <a:latin typeface="Times New Roman"/>
              </a:rPr>
              <a:t>, pluralista y </a:t>
            </a: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de mandatos revoc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</a:rPr>
              <a:t>Constitución 1999, art. 3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Times New Roman"/>
              </a:rPr>
              <a:t>La organización político-territorial (geometría del poder, art. 16) y la descentralización (arts. 16, 156, num. 36, 158, 167 y 18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Distrito Federal (Distrito Capital), Regiones Marítimas, </a:t>
            </a:r>
            <a:r>
              <a:rPr b="1" lang="es-VE" sz="2400" spc="-1" strike="noStrike">
                <a:solidFill>
                  <a:srgbClr val="000000"/>
                </a:solidFill>
                <a:latin typeface="Times New Roman"/>
              </a:rPr>
              <a:t>Municipios Federales, Territorios Federales (</a:t>
            </a: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no sujetos a referéndum</a:t>
            </a:r>
            <a:r>
              <a:rPr b="1" lang="es-V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, Distritos Ins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La ciudad (unidad política primaria), integrada por comunas y éstas por com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Ciudad comunal (referénd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Times New Roman"/>
              </a:rPr>
              <a:t>Provincias Federales (Vicepresidentes)</a:t>
            </a: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VE" sz="2400" spc="-1" strike="noStrike">
                <a:solidFill>
                  <a:srgbClr val="000000"/>
                </a:solidFill>
                <a:latin typeface="Times New Roman"/>
              </a:rPr>
              <a:t>Ciudades Federales</a:t>
            </a: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 (Misión local) y Distritos Funcionales (Misión Distrital) u otras e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Modificaciones en el situado 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Supresión de la descentralización como criterio rector de la organización político-territorial y polític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Afectación de algunas competencias estadales y de la competencia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1"/>
          <p:cNvSpPr/>
          <p:nvPr/>
        </p:nvSpPr>
        <p:spPr>
          <a:xfrm>
            <a:off x="468360" y="476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resión institucional sobre Estados y Muni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Organization Chart 12"/>
          <p:cNvGrpSpPr/>
          <p:nvPr/>
        </p:nvGrpSpPr>
        <p:grpSpPr>
          <a:xfrm>
            <a:off x="5219640" y="1628280"/>
            <a:ext cx="3687120" cy="4608360"/>
            <a:chOff x="5219640" y="1628280"/>
            <a:chExt cx="3687120" cy="4608360"/>
          </a:xfrm>
        </p:grpSpPr>
        <p:cxnSp>
          <p:nvCxnSpPr>
            <p:cNvPr id="57" name="_s1028"/>
            <p:cNvCxnSpPr>
              <a:stCxn id="58" idx="0"/>
              <a:endCxn id="59" idx="2"/>
            </p:cNvCxnSpPr>
            <p:nvPr/>
          </p:nvCxnSpPr>
          <p:spPr>
            <a:xfrm flipH="1" flipV="1" rot="5400000">
              <a:off x="6816600" y="4751640"/>
              <a:ext cx="497160" cy="3960"/>
            </a:xfrm>
            <a:prstGeom prst="bentConnector3">
              <a:avLst>
                <a:gd name="adj1" fmla="val 23043"/>
              </a:avLst>
            </a:prstGeom>
            <a:ln w="1047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60" name="_s1029"/>
            <p:cNvCxnSpPr>
              <a:stCxn id="61" idx="2"/>
              <a:endCxn id="59" idx="0"/>
            </p:cNvCxnSpPr>
            <p:nvPr/>
          </p:nvCxnSpPr>
          <p:spPr>
            <a:xfrm flipH="1" rot="16200000">
              <a:off x="6827040" y="3065040"/>
              <a:ext cx="476280" cy="3960"/>
            </a:xfrm>
            <a:prstGeom prst="bentConnector3">
              <a:avLst>
                <a:gd name="adj1" fmla="val 24054"/>
              </a:avLst>
            </a:prstGeom>
            <a:ln w="10476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61" name="_s1030"/>
            <p:cNvSpPr/>
            <p:nvPr/>
          </p:nvSpPr>
          <p:spPr>
            <a:xfrm>
              <a:off x="5219640" y="1628280"/>
              <a:ext cx="3687120" cy="1200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Distritos Funcionales,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Ciudades Federales y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Municipios Federa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31"/>
            <p:cNvSpPr/>
            <p:nvPr/>
          </p:nvSpPr>
          <p:spPr>
            <a:xfrm>
              <a:off x="5859000" y="3304800"/>
              <a:ext cx="2411640" cy="120096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Municipio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5219640" y="5002560"/>
              <a:ext cx="3687120" cy="123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Ciudades, Comunas </a:t>
              </a:r>
              <a:r>
                <a:rPr b="0" lang="es-VE" sz="2100" spc="-1" strike="noStrike">
                  <a:solidFill>
                    <a:srgbClr val="000000"/>
                  </a:solidFill>
                  <a:latin typeface="Arial"/>
                </a:rPr>
                <a:t>(y</a:t>
              </a: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000" spc="-1" strike="noStrike">
                  <a:solidFill>
                    <a:srgbClr val="000000"/>
                  </a:solidFill>
                  <a:latin typeface="Arial"/>
                </a:rPr>
                <a:t>confederaciones de comunas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Ciudades Comunales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Organization Chart 4"/>
          <p:cNvGrpSpPr/>
          <p:nvPr/>
        </p:nvGrpSpPr>
        <p:grpSpPr>
          <a:xfrm>
            <a:off x="250920" y="1628640"/>
            <a:ext cx="3687840" cy="4646880"/>
            <a:chOff x="250920" y="1628640"/>
            <a:chExt cx="3687840" cy="4646880"/>
          </a:xfrm>
        </p:grpSpPr>
        <p:cxnSp>
          <p:nvCxnSpPr>
            <p:cNvPr id="63" name="_s1035"/>
            <p:cNvCxnSpPr>
              <a:stCxn id="64" idx="0"/>
              <a:endCxn id="65" idx="2"/>
            </p:cNvCxnSpPr>
            <p:nvPr/>
          </p:nvCxnSpPr>
          <p:spPr>
            <a:xfrm flipH="1" flipV="1" rot="5400000">
              <a:off x="1849320" y="4823640"/>
              <a:ext cx="495720" cy="3960"/>
            </a:xfrm>
            <a:prstGeom prst="bentConnector3">
              <a:avLst>
                <a:gd name="adj1" fmla="val 28343"/>
              </a:avLst>
            </a:prstGeom>
            <a:ln w="10476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66" name="_s1036"/>
            <p:cNvCxnSpPr>
              <a:stCxn id="67" idx="2"/>
              <a:endCxn id="65" idx="0"/>
            </p:cNvCxnSpPr>
            <p:nvPr/>
          </p:nvCxnSpPr>
          <p:spPr>
            <a:xfrm flipH="1" rot="16200000">
              <a:off x="1823400" y="3102480"/>
              <a:ext cx="546480" cy="2160"/>
            </a:xfrm>
            <a:prstGeom prst="bentConnector3">
              <a:avLst>
                <a:gd name="adj1" fmla="val 20896"/>
              </a:avLst>
            </a:prstGeom>
            <a:ln w="104760">
              <a:solidFill>
                <a:srgbClr val="000000"/>
              </a:solidFill>
              <a:miter/>
              <a:tailEnd len="med" type="stealth" w="med"/>
            </a:ln>
          </p:spPr>
        </p:cxnSp>
        <p:sp>
          <p:nvSpPr>
            <p:cNvPr id="65" name="_s1037"/>
            <p:cNvSpPr/>
            <p:nvPr/>
          </p:nvSpPr>
          <p:spPr>
            <a:xfrm>
              <a:off x="890640" y="3376440"/>
              <a:ext cx="2411280" cy="120204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Estado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38"/>
            <p:cNvSpPr/>
            <p:nvPr/>
          </p:nvSpPr>
          <p:spPr>
            <a:xfrm>
              <a:off x="250920" y="5073480"/>
              <a:ext cx="3687840" cy="1202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Municipios Federa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y Comuna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1039"/>
            <p:cNvSpPr/>
            <p:nvPr/>
          </p:nvSpPr>
          <p:spPr>
            <a:xfrm>
              <a:off x="250920" y="1628640"/>
              <a:ext cx="3687840" cy="1202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Provincias Federa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100" spc="-1" strike="noStrike">
                  <a:solidFill>
                    <a:srgbClr val="000000"/>
                  </a:solidFill>
                  <a:latin typeface="Arial"/>
                </a:rPr>
                <a:t>Territorios Federa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Times New Roman"/>
              </a:rPr>
              <a:t>De la descentralización al apoderamiento com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55736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rt. 158 Constitución de 199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descentralización, como política nacional, debe profundizar la democracia, acercando el poder a la población y creando las mejores condiciones, tanto para el ejercicio de la democracia como para la prestación eficaz y eficiente de los cometidos estatale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rt. 158 Proyecto de Reforma Constitu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l Estado promoverá como política nacional, la participación protagónica del pueblo, restituyéndole el poder y creando las mejores condiciones para la construcción de una Democracia Social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Organization Chart 4"/>
          <p:cNvGrpSpPr/>
          <p:nvPr/>
        </p:nvGrpSpPr>
        <p:grpSpPr>
          <a:xfrm>
            <a:off x="685800" y="609480"/>
            <a:ext cx="7763040" cy="5484600"/>
            <a:chOff x="685800" y="609480"/>
            <a:chExt cx="7763040" cy="5484600"/>
          </a:xfrm>
        </p:grpSpPr>
        <p:cxnSp>
          <p:nvCxnSpPr>
            <p:cNvPr id="71" name="_s2052"/>
            <p:cNvCxnSpPr>
              <a:stCxn id="72" idx="0"/>
            </p:cNvCxnSpPr>
            <p:nvPr/>
          </p:nvCxnSpPr>
          <p:spPr>
            <a:xfrm flipH="1" flipV="1" rot="5400000">
              <a:off x="4174200" y="4495680"/>
              <a:ext cx="927360" cy="6120"/>
            </a:xfrm>
            <a:prstGeom prst="bentConnector3">
              <a:avLst>
                <a:gd name="adj1" fmla="val 11262"/>
              </a:avLst>
            </a:prstGeom>
            <a:ln w="114480">
              <a:solidFill>
                <a:srgbClr val="000000"/>
              </a:solidFill>
              <a:miter/>
              <a:tailEnd len="med" type="stealth" w="med"/>
            </a:ln>
          </p:spPr>
        </p:cxnSp>
        <p:cxnSp>
          <p:nvCxnSpPr>
            <p:cNvPr id="73" name="_s2053"/>
            <p:cNvCxnSpPr>
              <a:endCxn id="74" idx="2"/>
            </p:cNvCxnSpPr>
            <p:nvPr/>
          </p:nvCxnSpPr>
          <p:spPr>
            <a:xfrm flipV="1" rot="16200000">
              <a:off x="3745080" y="3076200"/>
              <a:ext cx="1776600" cy="3600"/>
            </a:xfrm>
            <a:prstGeom prst="bentConnector3">
              <a:avLst>
                <a:gd name="adj1" fmla="val 58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4"/>
            <p:cNvCxnSpPr>
              <a:stCxn id="74" idx="2"/>
            </p:cNvCxnSpPr>
            <p:nvPr/>
          </p:nvCxnSpPr>
          <p:spPr>
            <a:xfrm flipH="1" rot="16200000">
              <a:off x="3711240" y="3111120"/>
              <a:ext cx="1845360" cy="3600"/>
            </a:xfrm>
            <a:prstGeom prst="bentConnector3">
              <a:avLst>
                <a:gd name="adj1" fmla="val 5658"/>
              </a:avLst>
            </a:prstGeom>
            <a:ln w="63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</p:cxnSp>
        <p:sp>
          <p:nvSpPr>
            <p:cNvPr id="74" name="_s2055"/>
            <p:cNvSpPr/>
            <p:nvPr/>
          </p:nvSpPr>
          <p:spPr>
            <a:xfrm>
              <a:off x="2524320" y="609480"/>
              <a:ext cx="4218480" cy="158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000000"/>
                  </a:solidFill>
                  <a:latin typeface="Arial"/>
                </a:rPr>
                <a:t>Poder Nacional (Art. 156, Num. 3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685800" y="3177720"/>
              <a:ext cx="2588040" cy="8578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500" spc="-1" strike="noStrike">
                  <a:solidFill>
                    <a:srgbClr val="000000"/>
                  </a:solidFill>
                  <a:latin typeface="Arial"/>
                </a:rPr>
                <a:t>Asamblea de Ciudadan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5861520" y="3177720"/>
              <a:ext cx="2587320" cy="8506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500" spc="-1" strike="noStrike">
                  <a:solidFill>
                    <a:srgbClr val="000000"/>
                  </a:solidFill>
                  <a:latin typeface="Arial"/>
                </a:rPr>
                <a:t>Consejos Comuna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2058"/>
            <p:cNvSpPr/>
            <p:nvPr/>
          </p:nvSpPr>
          <p:spPr>
            <a:xfrm>
              <a:off x="3136320" y="4962600"/>
              <a:ext cx="2997000" cy="11314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500" spc="-1" strike="noStrike">
                  <a:solidFill>
                    <a:srgbClr val="000000"/>
                  </a:solidFill>
                  <a:latin typeface="Arial"/>
                </a:rPr>
                <a:t>Grupos Humanos Organizad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AutoShape 13"/>
            <p:cNvCxnSpPr>
              <a:endCxn id="76" idx="3"/>
            </p:cNvCxnSpPr>
            <p:nvPr/>
          </p:nvCxnSpPr>
          <p:spPr>
            <a:xfrm rot="10800000">
              <a:off x="3273120" y="3609360"/>
              <a:ext cx="1361880" cy="425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AutoShape 14"/>
            <p:cNvCxnSpPr>
              <a:endCxn id="77" idx="1"/>
            </p:cNvCxnSpPr>
            <p:nvPr/>
          </p:nvCxnSpPr>
          <p:spPr>
            <a:xfrm flipV="1">
              <a:off x="4635360" y="3602520"/>
              <a:ext cx="1226880" cy="433080"/>
            </a:xfrm>
            <a:prstGeom prst="bentConnector3">
              <a:avLst>
                <a:gd name="adj1" fmla="val 49926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Times New Roman"/>
              </a:rPr>
              <a:t>Democracia y participación (arts. 70, 136, 156, num. 35, 158, 1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Participación para la construcción del socialismo o de la Democracia Soci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Reducción a 16 años de la edad mínima para el sufragio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Requisitos más estrictos para la iniciativa pop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Poder Popular que no nace de elecciones (comunidades: Asamblea de ciudadanos y Consejo Comu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Diversos Consejos del Poder Popular. Fun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Transferencia de servicios a las comunidades con la finalidad, entre otras, de construir la economía soci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 propuesta de reforma constitu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Reelección indefinida o continuada del Presid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Times New Roman"/>
              </a:rPr>
              <a:t>Periodo presidencial de 7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evas competencias del Presidente de la República (organización territorial, ascensos militares, manejo de reservas internacionales, presidencia de cuerpos consultivos o coordinadores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nsuelo</dc:creator>
  <dc:description/>
  <dc:language>en-US</dc:language>
  <cp:lastModifiedBy>Consuelo</cp:lastModifiedBy>
  <dcterms:modified xsi:type="dcterms:W3CDTF">2007-11-15T18:51:59Z</dcterms:modified>
  <cp:revision>28</cp:revision>
  <dc:subject/>
  <dc:title>La propuesta de reforma constitucional</dc:title>
</cp:coreProperties>
</file>