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9D4-009C-4F85-846E-243FC0E8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849-30A5-4964-8A5F-548654FC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F00-5BA1-48A0-9127-4C89E35C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375-53E3-4051-B71D-DCA844A7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B480-9A13-4CA6-AB2B-E2FEFA4A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FE79-EE99-44EE-8DDE-3025E1D0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7BF2-36DE-46F6-A5DD-F1A771AF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1706-DCB6-4892-9EDF-10AC8C21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F84B-57C9-43AE-9229-0FE27428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8285-1DBF-4C45-AFA7-28E67006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73A2-AF03-4C2D-9E87-894504B3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BDC-3024-41ED-A817-D126CF62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C119-A8F4-43B7-9F79-503C597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357F-BDBA-4E15-AA32-F8B29BBB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6B2D-A4DE-4BB0-9C22-D34DA688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E8B3-17AE-4605-A73E-1618C3CE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F787-C4E3-4A60-9A10-4B60E8A2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E4F-A50A-4D89-B9DD-294C3318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3BB-7A1D-4CBA-8C1F-38E51653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6CA-1745-46B2-99F6-737AEFBE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0E5-3088-4A87-BBF1-A07CE119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EFE-1E77-4BB4-8DFD-8AC1707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D03-4103-4823-B94E-CCB73228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C68-B382-4596-A2E8-CF172F0A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AC3D-BB37-45BC-9347-AD16CA4EBB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3888-66AD-425B-85AE-F8E8B2ADC3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98720"/>
            <a:ext cx="77724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Red por los Derechos Humanos de los Niños, Niñas y Adolescentes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ezuela y el Comité de 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echos del Ni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nces y Desaf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bril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DHNN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pacio integrado p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ganizaciones de caracter social, comunitario, investigadores, profesion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ademicos y particula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 fundamenta en la Doctrina de Protección Integr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La Convención sobre los Derechos del Niñ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stablece la Creación de un Comité de Derech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stancia encargada de supervisar la situación de los pais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s un mecanismo de seguimiento de acciones y debe ser presentado cada cinco año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esentación Inform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mer informe en 1997 (cinco años mo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visado por el Comité en 19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6 Segundo Informe ofi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7 REDHHNA elaboró documento propio Informe Alternativo que amplia o complementa Informe del 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a elaboración del informe genero un espacio donde confluyeron ONGS, investigadores y profesionales en una coalición Nacio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osito     realizar investigaciones y otras acciones para garantizar cumplimiento derechos de los niñ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esión oficial del Comit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nebra Septiembre Octub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HHNA participa en calidad de observado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ria Perdom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riana Pon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 lue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ite produce una serie de Recomendaci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las que sugiere darle seguimien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omendaciones Comité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laborar Plan de Acción nacio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laborar presupuesto gene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ficar esfuerzos para difundir información sobre la Conven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pacitar grupos profesionales, agentes, magistrados, 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mentar matriculación (preescolar y enseñanza prima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talecer programas de desarrollo de primera infanc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ducir tasas deserción y repitenc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ver calidad enseñanz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luir educación sobre derechos human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omendaciones Comité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recer formación profesional a niños para ingresar mercado labo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jorar condiciones a adolescentes privados de libert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itar retrasos injustificables en los procesos de adop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lementar acciones que pueda reducir la violencia contra los niñ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lementar acciones para atención 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iños de la cal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plotación sexual, trata y venta de niñ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litica permanente de administración de justicia para adolescentes en conflicto con la L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02:00:52Z</dcterms:created>
  <dc:creator>donna civale</dc:creator>
  <dc:description/>
  <dc:language>en-US</dc:language>
  <cp:lastModifiedBy>FUNDACION EMPRESAS POLAR</cp:lastModifiedBy>
  <dcterms:modified xsi:type="dcterms:W3CDTF">2008-05-06T20:49:59Z</dcterms:modified>
  <cp:revision>7</cp:revision>
  <dc:subject/>
  <dc:title>Red por los Derechos Humanos de los Niños, Niñas y Adolescentes</dc:title>
</cp:coreProperties>
</file>