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9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2BA-8393-4314-9E5D-EFCDE87B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0C8-7EE3-424A-BC66-C20468E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786-1699-4FC2-B41E-04AB9A16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DAF-5791-4904-95EB-442BCF9A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01D-D8AD-4707-91EF-2AAE9D88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3F2-14E3-4A46-A920-AB1C25C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618-407F-4B86-9DD0-60C64B2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079-3924-4F7A-B2B5-8723DDE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408-3357-4DFC-8CF5-BF19F0B6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863-396F-41BD-870D-ABFF469C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5E8-1189-4587-96B3-6589D58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9F0-8177-4BB6-ADBB-7F880B4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3F94-522A-4BB6-86CA-FC1D720BA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cfievalladolid1.com/~primaria/construccion.htm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images.google.co.ve/imgres?imgurl=http://www.rel-uita.org/agricultura/ambiente/fotos/dia-mundial-agua.jpg&amp;imgrefurl=http://www.rel-uita.org/agricultura/ambiente/agua/anteriores-2.htm&amp;h=167&amp;w=250&amp;sz=21&amp;hl=es&amp;start=7&amp;tbnid=_UslF9YvCaYG1M:&amp;tbnh=74&amp;tbnw=111&amp;prev=/images%3Fq%3DD%25C3%25ADa%2BMundial%2Bdel%2Bagua%26gbv%3D2%26hl%3Des%26sa%3D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hyperlink" Target="http://images.google.co.ve/imgres?imgurl=http://www.espacioblog.com/myfiles/forestman/jun07mano-mundo_070605_300.jpg&amp;imgrefurl=http://www.espacioblog.com/forestman/post/2007/06/05/hoy-dia-mundial-del-medio-ambiente/2&amp;h=308&amp;w=410&amp;sz=35&amp;hl=es&amp;start=151&amp;tbnid=mCmkcDu89tbwMM:&amp;tbnh=94&amp;tbnw=125&amp;prev=/images%3Fq%3DD%25C3%25ADa%2BMundial%2Bde%2Bla%2BTierra%26start%3D140%26gbv%3D2%26ndsp%3D20%26hl%3Des%26sa%3DN" TargetMode="External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images.google.co.ve/imgres?imgurl=http://www.fiqma.org/res/tips/mundo.jpg&amp;imgrefurl=http://www.fiqma.org/DiaTierra.htm&amp;h=164&amp;w=164&amp;sz=14&amp;hl=es&amp;start=157&amp;tbnid=8BvIKPVyQRyNXM:&amp;tbnh=98&amp;tbnw=98&amp;prev=/images%3Fq%3DD%25C3%25ADa%2BMundial%2Bde%2Bla%2BTierra%26start%3D140%26gbv%3D2%26ndsp%3D20%26hl%3Des%26sa%3DN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images.google.co.ve/imgres?imgurl=http://www.fiqma.org/res/tips/mundo.jpg&amp;imgrefurl=http://www.fiqma.org/DiaTierra.htm&amp;h=164&amp;w=164&amp;sz=14&amp;hl=es&amp;start=157&amp;tbnid=8BvIKPVyQRyNXM:&amp;tbnh=98&amp;tbnw=98&amp;prev=/images%3Fq%3DD%25C3%25ADa%2BMundial%2Bde%2Bla%2BTierra%26start%3D140%26gbv%3D2%26ndsp%3D20%26hl%3Des%26sa%3DN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fievalladolid1.com/~primaria/construccion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ve/imgres?imgurl=http://i109.photobucket.com/albums/n57/chimbela/smyles/fotos/biosfera.jpg&amp;imgrefurl=http://www.chimbela.com.ar/%3Fm%3D200712&amp;h=265&amp;w=320&amp;sz=8&amp;hl=es&amp;start=32&amp;tbnid=mD5O4VjgRHrLRM:&amp;tbnh=98&amp;tbnw=118&amp;prev=/images%3Fq%3DD%25C3%25ADa%2BMundial%2Bde%2Bla%2BTierra%26start%3D20%26gbv%3D2%26ndsp%3D20%26hl%3Des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9640" y="1197000"/>
            <a:ext cx="4608720" cy="446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384720" cy="2782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9640" y="1128960"/>
            <a:ext cx="3780000" cy="52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2 de abril - Día Mundial de la Tierra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2 de abril - Día Mundial de la Tierra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13320" y="5661000"/>
            <a:ext cx="1535040" cy="112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5661000"/>
            <a:ext cx="1656000" cy="110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268360" y="5713560"/>
            <a:ext cx="28670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4038480" cy="493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403884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620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 urgente cambiar aquellos hábitos que aceleran el cambio clim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 necesario adherir a la acción concertada de todos los sectores en la búsqueda de una mejor calidad de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 importante sumar nuestro esfuerzo al de todos los habitantes de la Tierra que responsablemente actúan para que las presentes y futuras generaciones puedan vivir con dignidad, equidad y armon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445000"/>
            <a:ext cx="4038840" cy="64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16360" y="5108400"/>
            <a:ext cx="41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ticipación individual para cambiar la situación ambiental. Permite sumar tu apoyo y mostrar al mundo que estas cambiando tus costumbres hacia una forma de vida sust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005360"/>
            <a:ext cx="4176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ticipación institucional como parte de una decisión estratégica en polític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421000"/>
            <a:ext cx="41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Miembros de un colectivo o  comunidad organizada (escuela, empresa, asociacion civil, cooperativa, consejo comunal, etc.) por consenso asumen una acción ambien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18900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2360" y="-84960"/>
            <a:ext cx="583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odelo de Acuerdo)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Define las actividades y metas que se proponen alcanzar entre el 22 de abril de 2008 y el 22 de abril del 200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2565360"/>
            <a:ext cx="302436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cuela Quince de E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Anti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268280"/>
            <a:ext cx="2376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484280"/>
            <a:ext cx="2305080" cy="12240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4149720"/>
            <a:ext cx="208764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4560" y="4076640"/>
            <a:ext cx="1944720" cy="1081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34136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o Ambiental Integración y Coordinación del Acuerdo Ciudad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170028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uditoría Ambiental Diagnóstico pre Acuerdo Ciudad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4292640"/>
            <a:ext cx="22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de Acción Acuerdo Ciudad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720" y="4221000"/>
            <a:ext cx="21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miento y Evaluación de Efectos e Impactos del Acue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5157720"/>
            <a:ext cx="1944720" cy="15573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45000"/>
            <a:ext cx="1584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ción de      los Productos y Resultados del Acuerdo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arzo 2008      22 marz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2854440"/>
            <a:ext cx="2160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a escuela consume 1.000 kWh (según la media de los últimos 6 meses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5445000"/>
            <a:ext cx="208764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Una serie de acciones para lograr bajar el consumo a 900 kWh (media de los próximos 12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2492280"/>
            <a:ext cx="1944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Reúne a todos los alumnos, docentes, no docentes y directivos de la escuela y acuerdan el ACT del Ce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5229360"/>
            <a:ext cx="20894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Acordadas las actividades y metas, todos los integrantes de la comunidad educativa rinden cuenta del “Acuerdo Ciudadano con la Tierra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149720"/>
            <a:ext cx="1942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ezuela informa sus cifras del  Acuerdo Ciudadano con la Tier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 rot="21329400">
            <a:off x="825120" y="1265040"/>
            <a:ext cx="171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360" y="1268280"/>
            <a:ext cx="171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604360" y="4003560"/>
            <a:ext cx="171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4003560"/>
            <a:ext cx="171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51640" y="5299200"/>
            <a:ext cx="171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n 3" descr="C:\Users\Leonardo\Agenda Joven\Agua y Juventud\AcuerdoCiudadano\Diseños\Hojas\AC-1-Escuelas.jpg"/>
          <p:cNvPicPr/>
          <p:nvPr/>
        </p:nvPicPr>
        <p:blipFill>
          <a:blip r:embed="rId1"/>
          <a:stretch/>
        </p:blipFill>
        <p:spPr>
          <a:xfrm>
            <a:off x="179280" y="1484280"/>
            <a:ext cx="2880000" cy="482436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1" descr="C:\Users\Leonardo\Agenda Joven\Agua y Juventud\AcuerdoCiudadano\Diseños\Hojas\AC-2.jpg"/>
          <p:cNvPicPr/>
          <p:nvPr/>
        </p:nvPicPr>
        <p:blipFill>
          <a:blip r:embed="rId2"/>
          <a:stretch/>
        </p:blipFill>
        <p:spPr>
          <a:xfrm>
            <a:off x="3203640" y="1484280"/>
            <a:ext cx="2952720" cy="482436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2" descr="C:\Users\Leonardo\Agenda Joven\Agua y Juventud\AcuerdoCiudadano\Diseños\Hojas\AC-3.jpg"/>
          <p:cNvPicPr/>
          <p:nvPr/>
        </p:nvPicPr>
        <p:blipFill>
          <a:blip r:embed="rId3"/>
          <a:stretch/>
        </p:blipFill>
        <p:spPr>
          <a:xfrm>
            <a:off x="6227640" y="1484280"/>
            <a:ext cx="2808360" cy="4824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to del Acue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940360" cy="573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58920" y="4797360"/>
          <a:ext cx="2376360" cy="72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4797360"/>
                    <a:ext cx="2376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250920" y="5950080"/>
            <a:ext cx="165564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843280" y="5950080"/>
            <a:ext cx="1006560" cy="65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1143000" cy="1028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1413000"/>
            <a:ext cx="453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O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860640"/>
            <a:ext cx="403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ORES EN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1619280" y="1916280"/>
            <a:ext cx="1800360" cy="634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1403280" y="2924280"/>
            <a:ext cx="2376720" cy="72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72360" y="4581360"/>
            <a:ext cx="23763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5940360" cy="592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052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ERDO FIRM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1628640"/>
            <a:ext cx="49690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clubes Venez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CyD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DEP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club 23 de E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club Camatagua/Preescolar Mimad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AC Emprendiendo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NAMB-UCV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cuela Ecológica Cana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grafía V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BOREA-Consultores Ambi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Universidad Metropolitana-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yecto Ávila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Cooperativa Juleot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5940360" cy="592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052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ERDO FIRM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44364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628640"/>
            <a:ext cx="496908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FUNDEMIP/MINAMB/INPAR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Misión Cultura Camat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Escuela Bolivariana “Pastor Rodríguez Manz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CTN María de Nazareth (AP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Escuela 15 de E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Escuela Básica Camat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Escuela La Cande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Liceo Carmen de C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Liceo Ce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Liceo Francisco Linares Alcant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5940360" cy="59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052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H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58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9640" y="1628640"/>
            <a:ext cx="4608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BOREA-Consultores Ambi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undación Tierra Viva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presas ALCICLA de Venezuela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ociación VITALIS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436572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013360"/>
            <a:ext cx="4608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íctor Dí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semary Mercedes Qui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ría Liseth Qui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her Cas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692280"/>
            <a:ext cx="5940360" cy="5925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052640"/>
            <a:ext cx="367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S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906560"/>
            <a:ext cx="48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vistas y programas en me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es institu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de Plataform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y Medición de 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ompañamiento a acuerdos firmados y apoyo técnico a firma de nuevos a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y 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lización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ción de eventos efemérides ambientales y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07240" y="4508640"/>
            <a:ext cx="1365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052640"/>
            <a:ext cx="367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OS 22 abril 2008- C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529080" cy="2360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39640" y="4365720"/>
            <a:ext cx="3353040" cy="2243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859280" y="4365720"/>
            <a:ext cx="352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84720" cy="2783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9079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052640"/>
            <a:ext cx="367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OS PARA EL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1906560"/>
            <a:ext cx="482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ww.acuerdociudadano.org.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ww.acuerdociudadano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ww.aguayjuventu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ww.ecoclube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-mail: acuerdociudadano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léfonos: 212 5250415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04166241681 - 04164027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881080" cy="287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1125360"/>
            <a:ext cx="43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052640"/>
            <a:ext cx="540072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samblea General de las Naciones Unidas adoptó el 22 de diciembre de 1993 la resolución A/RES/47/193 por la que 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 de marzo de cada año fue declarado Día Mundial del Ag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conformidad con las recomendaciones de la Conferencia de la Naciones Unidas sobre Medio Ambiente y Desarrollo contenidas en el Capítulo 18 (Recursos de Agua Dulce) de la Agenda 2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NU decreta el 2008 como Año Internacional del planeta Tierra y Año Internacional para el Saneamiento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de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uerdo Ciudada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iere al preámbulo de la Carta de la Tierra como un modelo que ayude a guiar nuestras acciones, bajo principios y valores de justicia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149720"/>
            <a:ext cx="1967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881080" cy="287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48000" y="981000"/>
            <a:ext cx="554508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uesta original del “Acuerdo Ciudadano con la Tierra” surge en abril de 2006 de la reunión de “Agua y Juventud” (Argentina) que propuso realizar un esfuerzo mundial coordinado durante un año (2008-2009), para reducir causantes del Calentamient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 AGUA Y JUVENT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INTERNACIONAL DE ECOCL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 DE JOVENES ASOCIADOS EN    400 ORGANIZ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PAISES -5  CONTIN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EZUELA PARTICIPANDO CON                7 ECOCL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1348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537372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37372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Acuerdo Ciudadano con la Tierra compromiso de realizar variadas y diversas iniciativas de cambio ambiental y social, con vista al cumplimiento de los Objetivos y Metas de Desarrollo del Milenio, durante el lapso de un año entre el 22 de marzo de 2008 y el 22 de marzo de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4076640"/>
            <a:ext cx="1511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uerdo Ciudadano con la Tier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mover que en los espacios locales se firme un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Acuerdo Ciudadano con la Tierr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y se realicen acciones para difundir este compromis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porque creemos que es urgente cambiar aquellos hábitos que aceleran el cambio climático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581976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819920" y="5819760"/>
            <a:ext cx="1324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uerdo Ciudadano con la Tier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movemos la acción concertada de todos los sectores en la búsqueda de una mejor calidad de v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a que trabajamos para que los habitantes de la Tierra tengan acceso al agua en cantidad y calidad suficiente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581976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819920" y="5819760"/>
            <a:ext cx="1324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uerdo Ciudadano con la Tier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 Acuerdo Ciudadano con la Tierra será la manifestación de la decisión de muchas comunidades d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irse para respetar y manifestar su convicción del derecho que todos tenemos a vivir dignamente, sin perjudicar la vida de las generaciones futuras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581976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819920" y="5819760"/>
            <a:ext cx="1324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uerdo Ciudadano con la Tier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acciones que se promoverán en el Acuerdo son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) Reducir el uso de vehículos a combustible y promover el uso de transporte alternativ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) Reducir el consumo y mejorar la eficiencia energétic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3) Promover la producción de energías limpias y renovables en sustitución de las fósi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) Realizar el uso racional del agua, evitando su degradació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) Aumentar la cobertura arbórea y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6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ducir la generación de residuos y aumentar el reciclaj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581976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819920" y="5819760"/>
            <a:ext cx="1324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87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uerdo Ciudadano con la Tierr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920" y="261252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n cada ONG, ecoclub, empresa, escuela, insititución pública, etc. se fijarán porcentajes de </a:t>
            </a: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reducción de energí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de consumo de agu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600" spc="-1" strike="noStrike">
                <a:solidFill>
                  <a:srgbClr val="006600"/>
                </a:solidFill>
                <a:latin typeface="Arial"/>
              </a:rPr>
              <a:t>cantidad de árboles a planta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3600" spc="-1" strike="noStrike">
                <a:solidFill>
                  <a:srgbClr val="336699"/>
                </a:solidFill>
                <a:latin typeface="Arial"/>
              </a:rPr>
              <a:t>entrega de residuos para su reciclaj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comprometidos a realizar entre marzo 2008 y marzo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5819760"/>
            <a:ext cx="1324080" cy="1038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819920" y="5819760"/>
            <a:ext cx="1324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765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metas que se establezcan en cada instancia se compartirán con otras instituciones, empresas, organizaciones comunitarias, etc., y servirán para establecer la disminución de gases de efecto invernadero de la localidad, país y del mundo.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18900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"Acuerdo Ciudadano con la Tierra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87280" y="2060640"/>
          <a:ext cx="6624720" cy="410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6247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9:18:47Z</dcterms:created>
  <dc:creator>Papaterra</dc:creator>
  <dc:description/>
  <dc:language>en-US</dc:language>
  <cp:lastModifiedBy>USUARIO</cp:lastModifiedBy>
  <dcterms:modified xsi:type="dcterms:W3CDTF">2008-05-06T23:11:30Z</dcterms:modified>
  <cp:revision>70</cp:revision>
  <dc:subject/>
  <dc:title>Diapositiva 1</dc:title>
</cp:coreProperties>
</file>