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3EE-6D86-46A3-86C5-87207292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2EB-4926-4FA1-B998-7A91A8E1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1CB-174D-4B83-B914-9720AFE1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4EB-A399-45AB-B1A0-FE5E70CB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1895-779A-4E72-B37A-94BC5642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0533-763F-4384-A808-D47AB826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B31F-8A7E-4792-B737-1FD20AEC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A8CD-D0F4-4CF4-B14F-3170464B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AF5C-37CD-458A-869D-B02BC329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3801-9A15-4207-AED4-9CF71899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7AA5-9879-43F7-B822-A4C86075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106-4D69-4F8F-9EFD-4A7EB7BC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A257-E35E-43E2-A7D2-A052FBF6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C97B-D6AD-42C2-ACEB-6E4F93D8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D90D-9B90-4BC7-9E31-0E46BDF8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4C92-11A1-4A6E-99C9-3106FFD8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D50A-312B-4269-93A6-0234A4AA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8628C-7058-4029-B3E1-5EFB99A0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56195-676A-4400-9809-28E89B8B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E363B-B884-4CD6-A3D0-344B817F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16FAC-BDD5-4086-9B04-2D23DF81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7C86D-6701-4770-8000-E5B2FC89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A74-319E-4932-A67E-497B2655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F8B2F-809B-4784-86D8-FEA2B5E0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35DD4-52E1-4468-88BF-4D93ABC7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46A28-5EBB-4515-AC3C-2A978A44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A39C7-FD7C-4034-9DDD-10AAE4CF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56DDA-0C84-46F0-B125-74C06994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38C9A-EFBB-4586-9977-22C7F6B3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82ED9-C9C9-4177-820D-50BF2CE6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018FA4-EFA5-486A-8977-89A9E184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663565-BD1F-4ABE-A602-5908C38E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2D92E-A9E6-4FD7-8F46-E725FAB1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31F-BB76-4F77-A554-10AA4EFC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F6B6B9-F0DC-47D8-B844-EE227B0A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52D82C-A5E8-4570-AAC9-F3D91F90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AA29D0-9C26-4EBC-A107-F841471B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7D84F3-6BC0-4F6B-8623-9719C6DB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754EC9-41A1-4C3F-9736-D0669088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D0D78-20AB-411C-8997-2CCA8A0A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C20C81-DA67-4C13-815E-A236CDEC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FCE7E3-C3FB-4EA8-A341-BE22766E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21C7F4-8E61-4136-9F33-52468BF2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FFC15-B28E-4351-A387-C36B8B0E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96D-0853-41FB-8F29-0B891B9F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E496C4-1639-4A3B-B80B-761CF7F3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23485-D889-460C-B764-3A0163EB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849D1-0221-4BF7-8308-07277A56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4E796-E79C-4F5A-A852-6C7EB7DA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9F094-4987-4EAC-8CAB-A50CE5BB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83DF57-034C-4F1E-97D7-082C1E2C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B9CD7-D5F0-4DF6-8393-352E81BA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DA52F-EE67-43B4-88AA-04BD2E4B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72CC0-17DB-4198-B62E-D6A0AD3B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3E8D4-1CC8-4F2F-800E-3980B092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77E-784D-436E-8617-A54DFEE3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BC59E-C53F-49DC-9FEC-B5E1F0FC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88485-B162-4769-8C3A-D45A3672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08C52-7541-4161-98F3-7537C1E2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5C7FD-57D6-4103-AC2E-810ED1D5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20BCE-9EED-4031-943B-63C31B32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9803D-36E4-46CB-8530-A18A05E4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FB2F9-2B08-4DFB-8AB8-9EF670BB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9120D-36A9-4444-984B-07E19972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B5D77-6AC0-41E1-B51A-725CA62E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68A45-ABD0-4972-839F-A5EC8DC0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05B-7942-4B1F-A60A-BAA790C9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E851E-A551-4AF9-AE14-33EF7059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E333D-B8E5-44ED-99E4-FE1C4A4B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B2C86-A965-4D87-B14A-F9C07AB3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6CEDA-6D27-4B04-BBD5-2B0DEBED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90B8FF-C902-4A2A-875D-1CB90C75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E25B86-5270-49C3-AE70-88348CFB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4BE09-AC04-4212-B1FF-DC74FE9B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6AE19-BBF1-401A-B928-CEF6385D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9F5611-E514-4B3C-A274-F7385AE0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D6ECB3-BF17-4F6A-8344-67A4294F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BDB-B036-466D-83C0-E2CB6997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8D662D-4834-4816-9611-8C5BD14B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760BFC-E3CF-4AA9-8CA3-4ED0152A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DEE4F3-7669-4A79-B8DC-D64873BF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AF6BC-8225-4AFE-BD5C-39D1790F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B3411-E167-4DFB-9042-60904A6F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7C638-F941-4FB2-BFF7-1EFB9416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57576-FFE8-4FBB-B26A-D3A44284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9D972-ED1B-44F2-8D69-6E8D97A8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ABDF2-0944-4228-8790-9589E7E1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10D01-CCAE-4597-8EA3-8D3FD162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551-F11D-4CAD-BADF-C09F0EA1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50DC8-0704-44B8-B721-BBBB2B57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095F2-4990-448B-A09F-92CF062F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DC65B-6BA4-480E-B33D-9DFD0C52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B5E24-B7C8-4E4C-810E-236E8C9E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4C9C0-BBF3-4F2A-A634-2B816D48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25725-5955-44D6-B262-C7FD7A8A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7F7C3-6821-4F02-90B4-CC100825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E84D-22EA-4431-868A-8223F923A9E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2236-A546-4828-BF4D-21FD558FC29C}" type="slidenum">
              <a:rPr b="1" lang="es-E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7609-ED7F-42EB-82E7-B0BC1C574E6B}" type="slidenum"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3C67-A0C7-4E00-B447-D587C6FDB7B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3C72-9F12-435E-BBF7-37DDAA0D590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C045-7040-4B2E-8972-9E5618515F1E}" type="slidenum">
              <a:rPr b="1" lang="es-E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41C1-F82B-4114-A1D4-60F4EBD3B8EA}" type="slidenum"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C43B-B7DE-4C84-A5F5-42BE8A92DA0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1" descr="consorcio"/>
          <p:cNvPicPr/>
          <p:nvPr/>
        </p:nvPicPr>
        <p:blipFill>
          <a:blip r:embed="rId1"/>
          <a:stretch/>
        </p:blipFill>
        <p:spPr>
          <a:xfrm>
            <a:off x="2214720" y="500040"/>
            <a:ext cx="4252680" cy="18572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5"/>
          <p:cNvSpPr/>
          <p:nvPr/>
        </p:nvSpPr>
        <p:spPr>
          <a:xfrm>
            <a:off x="1214280" y="3357720"/>
            <a:ext cx="6500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auhaus 93"/>
              </a:rPr>
              <a:t>Programa Pequeñas Donaciones </a:t>
            </a:r>
            <a:r>
              <a:rPr b="0" lang="es-ES" sz="2800" spc="-1" strike="noStrike">
                <a:solidFill>
                  <a:srgbClr val="000000"/>
                </a:solidFill>
                <a:latin typeface="Bauhaus 93"/>
              </a:rPr>
              <a:t>(piloto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auhaus 93"/>
              </a:rPr>
              <a:t>Mayo 2008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04a7b"/>
                </a:solidFill>
                <a:latin typeface="Bauhaus 93"/>
              </a:rPr>
              <a:t>AC Consorcio  Desarrollo y Justicia</a:t>
            </a: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604a7b"/>
                </a:solidFill>
                <a:latin typeface="Berlin Sans FB"/>
              </a:rPr>
              <a:t>	</a:t>
            </a:r>
            <a:r>
              <a:rPr b="0" lang="es-ES" sz="2900" spc="-1" strike="noStrike">
                <a:solidFill>
                  <a:srgbClr val="604a7b"/>
                </a:solidFill>
                <a:latin typeface="Berlin Sans FB"/>
              </a:rPr>
              <a:t>Es una organización de desarrollo social cuya misión consiste en promover e incidir en la democratización del Sistema de Justicia venezolano, que privilegie el acceso y la participación de los ciudadanos, a través d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04a7b"/>
                </a:solidFill>
                <a:latin typeface="Berlin Sans FB"/>
              </a:rPr>
              <a:t> </a:t>
            </a:r>
            <a:r>
              <a:rPr b="0" lang="es-ES" sz="2600" spc="-1" strike="noStrike">
                <a:solidFill>
                  <a:srgbClr val="604a7b"/>
                </a:solidFill>
                <a:latin typeface="Berlin Sans FB"/>
              </a:rPr>
              <a:t>la producción de información 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04a7b"/>
                </a:solidFill>
                <a:latin typeface="Berlin Sans FB"/>
              </a:rPr>
              <a:t> </a:t>
            </a:r>
            <a:r>
              <a:rPr b="0" lang="es-ES" sz="2600" spc="-1" strike="noStrike">
                <a:solidFill>
                  <a:srgbClr val="604a7b"/>
                </a:solidFill>
                <a:latin typeface="Berlin Sans FB"/>
              </a:rPr>
              <a:t>la ejecución de proyectos destinados a lograr un Sistema de Justicia independiente y eficiente.</a:t>
            </a:r>
            <a:br>
              <a:rPr sz="2600"/>
            </a:b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04a7b"/>
                </a:solidFill>
                <a:latin typeface="Bauhaus 93"/>
              </a:rPr>
              <a:t>Consorcio  Desarrollo y Justicia</a:t>
            </a:r>
            <a:br>
              <a:rPr sz="2800"/>
            </a:br>
            <a:r>
              <a:rPr b="0" lang="es-ES" sz="2800" spc="-1" strike="noStrike">
                <a:solidFill>
                  <a:srgbClr val="604a7b"/>
                </a:solidFill>
                <a:latin typeface="Bauhaus 93"/>
              </a:rPr>
              <a:t>Programa Pequeñas Donaciones</a:t>
            </a: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604a7b"/>
                </a:solidFill>
                <a:latin typeface="Berlin Sans FB"/>
              </a:rPr>
              <a:t>La AC Consorcio Desarrollo y Justicia dispone de un fondo especial de pequeñas donaciones, para apoyar la ejecución de una o varias actividades, que coadyuven en el mejoramiento del tejido social de una comunidad determinada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604a7b"/>
                </a:solidFill>
                <a:latin typeface="Berlin Sans FB"/>
              </a:rPr>
              <a:t> </a:t>
            </a:r>
            <a:r>
              <a:rPr b="0" lang="es-ES" sz="2900" spc="-1" strike="noStrike">
                <a:solidFill>
                  <a:srgbClr val="604a7b"/>
                </a:solidFill>
                <a:latin typeface="Berlin Sans FB"/>
              </a:rPr>
              <a:t>El objetivo es </a:t>
            </a:r>
            <a:r>
              <a:rPr b="0" lang="es-ES_tradnl" sz="2900" spc="-1" strike="noStrike">
                <a:solidFill>
                  <a:srgbClr val="604a7b"/>
                </a:solidFill>
                <a:latin typeface="Berlin Sans FB"/>
              </a:rPr>
              <a:t>ofrecer un capital semilla a organizaciones incipientes o pequeñas, para apalancar la ejecución de proyectos relacionados con el fortalecimiento de derechos humanos y la justicia de paz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04a7b"/>
                </a:solidFill>
                <a:latin typeface="Bauhaus 93"/>
              </a:rPr>
              <a:t>Consorcio  Desarrollo y Justicia</a:t>
            </a:r>
            <a:br>
              <a:rPr sz="2800"/>
            </a:br>
            <a:r>
              <a:rPr b="0" lang="es-ES" sz="2800" spc="-1" strike="noStrike">
                <a:solidFill>
                  <a:srgbClr val="604a7b"/>
                </a:solidFill>
                <a:latin typeface="Bauhaus 93"/>
              </a:rPr>
              <a:t>Programa Pequeñas Donaciones</a:t>
            </a: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604a7b"/>
                </a:solidFill>
                <a:latin typeface="Berlin Sans FB"/>
              </a:rPr>
              <a:t>Temas a abordar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604a7b"/>
                </a:solidFill>
                <a:latin typeface="Berlin Sans FB"/>
              </a:rPr>
              <a:t>Derechos humanos, participación ciudadana, participación de la mujer, fortalecimiento de los derechos ciudadanos y los valores democráticos  en general, entre otr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604a7b"/>
                </a:solidFill>
                <a:latin typeface="Berlin Sans FB"/>
              </a:rPr>
              <a:t>Monto de la subvención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604a7b"/>
                </a:solidFill>
                <a:latin typeface="Berlin Sans FB"/>
              </a:rPr>
              <a:t>Bs. F.: 3.194,00 (Tres mil ciento noventa y cuatro  bolívares fuertes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04a7b"/>
                </a:solidFill>
                <a:latin typeface="Bauhaus 93"/>
              </a:rPr>
              <a:t>Consorcio  Desarrollo y Justicia</a:t>
            </a:r>
            <a:br>
              <a:rPr sz="2800"/>
            </a:br>
            <a:r>
              <a:rPr b="0" lang="es-ES" sz="2800" spc="-1" strike="noStrike">
                <a:solidFill>
                  <a:srgbClr val="604a7b"/>
                </a:solidFill>
                <a:latin typeface="Bauhaus 93"/>
              </a:rPr>
              <a:t>Programa Pequeñas Donaciones</a:t>
            </a: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04a7b"/>
                </a:solidFill>
                <a:latin typeface="Berlin Sans FB"/>
              </a:rPr>
              <a:t>Requisitos de los postulantes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04a7b"/>
                </a:solidFill>
                <a:latin typeface="Berlin Sans FB"/>
              </a:rPr>
              <a:t>Que sea una organización no gubernamental, consejo comunal, grupo cultural o religioso o cualquier organización social de base de origen comunitario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04a7b"/>
                </a:solidFill>
                <a:latin typeface="Berlin Sans FB"/>
              </a:rPr>
              <a:t>Que su área de trabajo y acción sea en estados del interior del país y preferiblemente en comunidades pobre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04a7b"/>
                </a:solidFill>
                <a:latin typeface="Berlin Sans FB"/>
              </a:rPr>
              <a:t>Que la organización tenga al menos un año de funcionamiento activo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04a7b"/>
                </a:solidFill>
                <a:latin typeface="Berlin Sans FB"/>
              </a:rPr>
              <a:t>Que la organización tenga una trayectoria reconocida en el sector donde ejerce sus accione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04a7b"/>
                </a:solidFill>
                <a:latin typeface="Berlin Sans FB"/>
              </a:rPr>
              <a:t>Que la organización esté vinculada de cierta manera a los temas de derechos humano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4293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04a7b"/>
                </a:solidFill>
                <a:latin typeface="Bauhaus 93"/>
              </a:rPr>
              <a:t>Consorcio  Desarrollo y Justicia</a:t>
            </a:r>
            <a:br>
              <a:rPr sz="2800"/>
            </a:br>
            <a:r>
              <a:rPr b="0" lang="es-ES" sz="2800" spc="-1" strike="noStrike">
                <a:solidFill>
                  <a:srgbClr val="604a7b"/>
                </a:solidFill>
                <a:latin typeface="Bauhaus 93"/>
              </a:rPr>
              <a:t>Programa Pequeñas Donaciones</a:t>
            </a: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42960" y="1357200"/>
            <a:ext cx="7786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04a7b"/>
                </a:solidFill>
                <a:latin typeface="Berlin Sans FB"/>
              </a:rPr>
              <a:t>Requisitos para presentar la propues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04a7b"/>
                </a:solidFill>
                <a:latin typeface="Berlin Sans FB"/>
              </a:rPr>
              <a:t>   </a:t>
            </a:r>
            <a:r>
              <a:rPr b="1" lang="es-ES_tradnl" sz="1800" spc="-1" strike="noStrike">
                <a:solidFill>
                  <a:srgbClr val="604a7b"/>
                </a:solidFill>
                <a:latin typeface="Berlin Sans FB"/>
              </a:rPr>
              <a:t>Identificación de la organizació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04a7b"/>
                </a:solidFill>
                <a:latin typeface="Berlin Sans FB"/>
              </a:rPr>
              <a:t>Título del proyect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04a7b"/>
                </a:solidFill>
                <a:latin typeface="Berlin Sans FB"/>
              </a:rPr>
              <a:t>Objetivos del proyect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04a7b"/>
                </a:solidFill>
                <a:latin typeface="Berlin Sans FB"/>
              </a:rPr>
              <a:t>Actividades del proyecto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04a7b"/>
                </a:solidFill>
                <a:latin typeface="Berlin Sans FB"/>
              </a:rPr>
              <a:t>Tiempo de ejecución y finalización del proyect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04a7b"/>
                </a:solidFill>
                <a:latin typeface="Berlin Sans FB"/>
              </a:rPr>
              <a:t>Principales resultados o logro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04a7b"/>
                </a:solidFill>
                <a:latin typeface="Berlin Sans FB"/>
              </a:rPr>
              <a:t>Población objetivo ( tipo y número estimado de beneficiario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04a7b"/>
                </a:solidFill>
                <a:latin typeface="Berlin Sans FB"/>
              </a:rPr>
              <a:t>	</a:t>
            </a:r>
            <a:r>
              <a:rPr b="1" lang="es-ES_tradnl" sz="1800" spc="-1" strike="noStrike">
                <a:solidFill>
                  <a:srgbClr val="604a7b"/>
                </a:solidFill>
                <a:latin typeface="Berlin Sans FB"/>
              </a:rPr>
              <a:t>del proyecto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04a7b"/>
                </a:solidFill>
                <a:latin typeface="Berlin Sans FB"/>
              </a:rPr>
              <a:t>Monto total del proyect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04a7b"/>
                </a:solidFill>
                <a:latin typeface="Berlin Sans FB"/>
              </a:rPr>
              <a:t>Monto solicitado como donación y su distribución por activida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04a7b"/>
                </a:solidFill>
                <a:latin typeface="Berlin Sans FB"/>
              </a:rPr>
              <a:t> </a:t>
            </a:r>
            <a:r>
              <a:rPr b="1" lang="es-ES_tradnl" sz="1800" spc="-1" strike="noStrike">
                <a:solidFill>
                  <a:srgbClr val="604a7b"/>
                </a:solidFill>
                <a:latin typeface="Berlin Sans FB"/>
              </a:rPr>
              <a:t>Indicar claramente los datos de la persona contacto, nombre completo, número de teléfono, correo electrónico etc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04a7b"/>
                </a:solidFill>
                <a:latin typeface="Berlin Sans FB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23:03:28Z</dcterms:created>
  <dc:creator>Meryana Dáger</dc:creator>
  <dc:description/>
  <dc:language>en-US</dc:language>
  <cp:lastModifiedBy>Meryana Dáger</cp:lastModifiedBy>
  <dcterms:modified xsi:type="dcterms:W3CDTF">2008-05-06T14:18:06Z</dcterms:modified>
  <cp:revision>2</cp:revision>
  <dc:subject/>
  <dc:title> </dc:title>
</cp:coreProperties>
</file>