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829-8411-4048-A7B4-A23E7978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EA0-8DFA-4364-A3C4-07DC6245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82F-A5EF-4AA3-A717-09E8E4E9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5F1-DE72-40F0-AEF8-A40AEA57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9D10-DD45-4A43-8FD4-E275EA22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D42A-CDDB-40B4-9CB0-07C5F4E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1539-E4F7-402E-B5B9-250EC8B6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7652-E4AD-4113-84F0-6406FA8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9939-B120-4BD6-A466-EE223F33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22DB-6D3D-44CD-BB9A-C8A2308F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BDF2-BD9D-4DDE-9487-18FA1C6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2A9-6A60-42C1-9470-9C89536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087C-0BF6-4667-8F33-0655411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761E-DE63-4C75-91B6-74A0677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6CCD-5E46-4691-9371-59FB148B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2624-F1AB-496C-9B15-B4DA1911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748E-0DAD-4AE3-9927-BC56DC62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578D-DC64-4366-B082-05EDDF0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51C2-545C-47BA-946A-64246DA8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6D62-2AF8-4C7C-A1BD-909C56E2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753B8-FF63-49C1-95A2-57C0890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1694-3FEB-43E1-A453-EE8B297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B2D-67C7-4306-932A-F526D842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9694-8AB6-44D8-BDDA-D41E560F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74EF-68FA-4D77-BC09-BE8809D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1D07-DC1F-4A09-B3EF-72752E44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FA04-DE7C-40D8-87EC-C2BB330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0B79-040A-437E-8CEF-B8CC1697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DA38-F150-4254-9C9B-EA1611D4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7659-42A8-44CC-AF04-F34A7909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F4C-8C6F-493D-BDD9-AFCA5BBE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E3F-2621-4019-9112-28326064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B65-3845-4425-8056-A13F116F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CF6-DC40-4617-B0A8-51428B3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D2D-903C-4AF9-B809-E43698E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A0F-3B82-4A5B-BD6D-9E0CC534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b7f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8A1C-411A-41D8-8520-0D14FB835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b7f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7766-8911-44D1-BC79-4CE15204CFAA}" type="slidenum">
              <a:rPr b="0" lang="en-US" sz="1200" spc="-1" strike="noStrike">
                <a:solidFill>
                  <a:srgbClr val="00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b7f7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99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99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ccb7f7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99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1730-05C7-4A8F-B054-DD7C8039AF4F}" type="slidenum">
              <a:rPr b="0" lang="en-US" sz="1200" spc="-1" strike="noStrike">
                <a:solidFill>
                  <a:srgbClr val="00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:/Mis%20documentos/Image20&apos;,&apos;&apos;,&apos;./images/enviar2.gif" TargetMode="External"/><Relationship Id="rId2" Type="http://schemas.openxmlformats.org/officeDocument/2006/relationships/hyperlink" Target="file:///C:/Mis%20documentos/Image21&apos;,&apos;&apos;,&apos;./images/imprimir2.gif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evele.com.ve/programas/indice/indice.php?rev=mujer&amp;vol=9&amp;n=23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revele.com.ve/programas/indice/indice.php?rev=mujer&amp;vol=9&amp;n=22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revele.com.ve/programas/indice/indice.php?rev=mujer&amp;vol=8&amp;n=21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revele.com.ve/programas/indice/indice.php?rev=mujer&amp;vol=8&amp;n=20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oalaweb.cl/redfem/sitio/default.asp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porrea.org/imprimir_noticia.php?docid=62849" TargetMode="External"/><Relationship Id="rId2" Type="http://schemas.openxmlformats.org/officeDocument/2006/relationships/hyperlink" Target="http://www.aporrea.org/imprimir_noticia.php?docid=62849" TargetMode="External"/><Relationship Id="rId3" Type="http://schemas.openxmlformats.org/officeDocument/2006/relationships/hyperlink" Target="http://www.aporrea.org/imprimir_noticia.php?docid=62849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hyperlink" Target="http://www.aporrea.org/imagenes/2005/07/sex0705a.jpg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838080"/>
            <a:ext cx="5327640" cy="5337360"/>
          </a:xfrm>
          <a:prstGeom prst="ellipse">
            <a:avLst/>
          </a:prstGeom>
          <a:noFill/>
          <a:ln w="9360">
            <a:solidFill>
              <a:srgbClr val="86c0c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00520" y="1398600"/>
            <a:ext cx="987120" cy="905040"/>
          </a:xfrm>
          <a:prstGeom prst="wedgeRoundRectCallout">
            <a:avLst>
              <a:gd name="adj1" fmla="val 81250"/>
              <a:gd name="adj2" fmla="val 9274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Revista Venezolana de Estudios de la Mujer</a:t>
            </a: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1197000"/>
            <a:ext cx="1515960" cy="704880"/>
          </a:xfrm>
          <a:prstGeom prst="wedgeRoundRectCallout">
            <a:avLst>
              <a:gd name="adj1" fmla="val -2986"/>
              <a:gd name="adj2" fmla="val 140541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Apoyo a Maestría en Estudios de la Mujer</a:t>
            </a: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1916280"/>
            <a:ext cx="1625760" cy="792000"/>
          </a:xfrm>
          <a:prstGeom prst="wedgeRoundRectCallout">
            <a:avLst>
              <a:gd name="adj1" fmla="val -55078"/>
              <a:gd name="adj2" fmla="val 83268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Centro de Documentación  e Información “Tecla Tofano</a:t>
            </a:r>
            <a:r>
              <a:rPr b="1" lang="es-ES" sz="1000" spc="-1" strike="noStrike">
                <a:solidFill>
                  <a:srgbClr val="0099ff"/>
                </a:solidFill>
                <a:latin typeface="Arial"/>
              </a:rPr>
              <a:t>”</a:t>
            </a: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2421000"/>
            <a:ext cx="1295280" cy="431640"/>
          </a:xfrm>
          <a:prstGeom prst="wedgeRoundRectCallout">
            <a:avLst>
              <a:gd name="adj1" fmla="val 90564"/>
              <a:gd name="adj2" fmla="val 10907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99"/>
                </a:solidFill>
                <a:latin typeface="Arial"/>
              </a:rPr>
              <a:t>Proyectos de Investigación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2781360"/>
            <a:ext cx="1224000" cy="1009440"/>
          </a:xfrm>
          <a:prstGeom prst="wedgeRoundRectCallout">
            <a:avLst>
              <a:gd name="adj1" fmla="val -82708"/>
              <a:gd name="adj2" fmla="val 23875"/>
              <a:gd name="adj3" fmla="val 16667"/>
            </a:avLst>
          </a:prstGeom>
          <a:solidFill>
            <a:srgbClr val="66ff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99"/>
                </a:solidFill>
                <a:latin typeface="Arial"/>
              </a:rPr>
              <a:t>Consultas: Orientación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99"/>
                </a:solidFill>
                <a:latin typeface="Arial"/>
              </a:rPr>
              <a:t>Violencia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99"/>
                </a:solidFill>
                <a:latin typeface="Arial"/>
              </a:rPr>
              <a:t>Psicoanálisis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99"/>
                </a:solidFill>
                <a:latin typeface="Arial"/>
              </a:rPr>
              <a:t>Psicología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99"/>
                </a:solidFill>
                <a:latin typeface="Arial"/>
              </a:rPr>
              <a:t>Legal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068640"/>
            <a:ext cx="1152360" cy="503280"/>
          </a:xfrm>
          <a:prstGeom prst="wedgeRoundRectCallout">
            <a:avLst>
              <a:gd name="adj1" fmla="val 86310"/>
              <a:gd name="adj2" fmla="val -10867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99ff"/>
                </a:solidFill>
                <a:latin typeface="Arial"/>
              </a:rPr>
              <a:t>Docencia en pre-grado.PPI</a:t>
            </a: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08720" y="3860640"/>
            <a:ext cx="1187280" cy="719280"/>
          </a:xfrm>
          <a:prstGeom prst="wedgeRoundRectCallout">
            <a:avLst>
              <a:gd name="adj1" fmla="val -97458"/>
              <a:gd name="adj2" fmla="val -8443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Participación en programas de</a:t>
            </a: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99"/>
                </a:solidFill>
                <a:latin typeface="Arial"/>
              </a:rPr>
              <a:t>Extensión </a:t>
            </a: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860640"/>
            <a:ext cx="1224000" cy="1152720"/>
          </a:xfrm>
          <a:prstGeom prst="wedgeRoundRectCallout">
            <a:avLst>
              <a:gd name="adj1" fmla="val 109143"/>
              <a:gd name="adj2" fmla="val -124495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99ff"/>
                </a:solidFill>
                <a:latin typeface="Arial"/>
              </a:rPr>
              <a:t>Promoción y defensa de los Derechos de las mujeres. POLÍTICAS PÚBLICAS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700280"/>
            <a:ext cx="1800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ccff"/>
                </a:solidFill>
                <a:latin typeface="Souvenir Lt BT"/>
              </a:rPr>
              <a:t>-</a:t>
            </a: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Rectorado 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Vicerrectorado Académico.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Secretaría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Consejo Central de Extensión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PCI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Comisiones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Facultades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Escuelas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04920" y="0"/>
            <a:ext cx="7377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UNIVERSIDAD CENTRAL DE VENEZUELA</a:t>
            </a: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Arial"/>
              </a:rPr>
              <a:t>VICERRECTORADO ACADEMICO. CENTRO DE ESTUDIOS DE LA MUJER (CEM-UCV)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Programas y relaciones interinstitucionales. 2007</a:t>
            </a:r>
            <a:endParaRPr b="0" lang="en-US" sz="1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1636560"/>
            <a:ext cx="17809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Arial"/>
              </a:rPr>
              <a:t>ESTADO: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 </a:t>
            </a: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INAMUJER,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BANMUJER, 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Ministerio Público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Defensorías,  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Asamblea Nacional                                                                                                                                                                         -Agencias de Naciones Unidas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ONG 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Otros Centros y Cátedras dirigidas a    Mujer/Género.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Redes: RedSoc, RedPob, 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REMTE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99"/>
                </a:solidFill>
                <a:latin typeface="Souvenir Lt BT"/>
              </a:rPr>
              <a:t>-CLACSO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81000"/>
            <a:ext cx="227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6699"/>
                </a:solidFill>
                <a:latin typeface="Arial Black"/>
              </a:rPr>
              <a:t>En la UCV trabajamos con: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5908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21520" y="981000"/>
            <a:ext cx="20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008080"/>
                </a:solidFill>
                <a:latin typeface="Arial Black"/>
              </a:rPr>
              <a:t>trabajamos con:</a:t>
            </a:r>
            <a:endParaRPr b="0" lang="en-US" sz="1400" spc="-1" strike="noStrike">
              <a:solidFill>
                <a:srgbClr val="0099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896760" cy="1150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635280" y="4437000"/>
            <a:ext cx="1152720" cy="503280"/>
          </a:xfrm>
          <a:prstGeom prst="wedgeRoundRectCallout">
            <a:avLst>
              <a:gd name="adj1" fmla="val 14462"/>
              <a:gd name="adj2" fmla="val -234541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99ff"/>
                </a:solidFill>
                <a:latin typeface="Arial"/>
              </a:rPr>
              <a:t>FORMACIÓN EN IGUALDAD DE GÉNERO 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4653000"/>
            <a:ext cx="1224000" cy="719280"/>
          </a:xfrm>
          <a:prstGeom prst="wedgeRoundRectCallout">
            <a:avLst>
              <a:gd name="adj1" fmla="val -45717"/>
              <a:gd name="adj2" fmla="val -193486"/>
              <a:gd name="adj3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99"/>
                </a:solidFill>
                <a:latin typeface="Arial"/>
              </a:rPr>
              <a:t>Conmemoración fechas claves M.M.I y Nacional</a:t>
            </a:r>
            <a:endParaRPr b="0" lang="en-US" sz="9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6699"/>
                </a:solidFill>
                <a:latin typeface="Verdana"/>
              </a:rPr>
              <a:t>CARACAS Concentración de mujeres este sábado en Chacaíto </a:t>
            </a:r>
            <a:br>
              <a:rPr sz="2000"/>
            </a:br>
            <a:r>
              <a:rPr b="1" lang="es-VE" sz="2000" spc="-1" strike="noStrike">
                <a:solidFill>
                  <a:srgbClr val="006699"/>
                </a:solidFill>
                <a:latin typeface="Verdana"/>
              </a:rPr>
              <a:t>ABN 03/03/2005</a:t>
            </a:r>
            <a:br>
              <a:rPr sz="2000"/>
            </a:br>
            <a:r>
              <a:rPr b="0" lang="es-VE" sz="2000" spc="-1" strike="noStrike">
                <a:solidFill>
                  <a:srgbClr val="0099ff"/>
                </a:solidFill>
                <a:latin typeface="Verdana"/>
              </a:rPr>
              <a:t>Distrito Capital</a:t>
            </a:r>
            <a:br>
              <a:rPr sz="2000"/>
            </a:br>
            <a:br>
              <a:rPr sz="2000"/>
            </a:br>
            <a:r>
              <a:rPr b="0" lang="es-VE" sz="2000" spc="-1" strike="noStrike">
                <a:solidFill>
                  <a:srgbClr val="0099ff"/>
                </a:solidFill>
                <a:latin typeface="Verdana"/>
              </a:rPr>
              <a:t>Una concentración en repudio a la violencia contra la mujer y en solidaridad con Linda Loaiza se realizará este sábado 5 de marzo en la Plaza Brión de Chacaíto. </a:t>
            </a:r>
            <a:br>
              <a:rPr sz="2000"/>
            </a:br>
            <a:br>
              <a:rPr sz="2000"/>
            </a:br>
            <a:r>
              <a:rPr b="0" lang="es-VE" sz="20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796000" y="2997360"/>
            <a:ext cx="2089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Presentan sus propuestas ante la Asamblea Nacional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86c0ce"/>
                </a:solidFill>
                <a:uFillTx/>
                <a:latin typeface="Verdana"/>
                <a:hlinkClick r:id="rId2"/>
              </a:rPr>
              <a:t> 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Verdana"/>
              </a:rPr>
              <a:t>Hoy, una representación de las mujeres venezolanas expresa su opinión sobre el Código Penal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23144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43588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Verdana"/>
              </a:rPr>
              <a:t>Carta del CEM de la UCV al CNE, 50 y 50 %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Ciudad Universitaria de Caracas, 28 de febrero de 2005 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Doctor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Jorge Rodríguez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Presidente y demás miembro/as del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Consejo Nacional Electoral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Presen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8569eb"/>
                </a:solidFill>
                <a:latin typeface="Verdana"/>
              </a:rPr>
              <a:t>El ejercicio de la ciudadanía no es algo que las mujeres tengan que ganarse antes de que soliciten igualdad y equidad. El ejercicio de la ciudadanía es un derecho consagrado a todas las mujeres por el artículo 21 de la Constitución de la República Bolivariana de Venezuel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8569eb"/>
                </a:solidFill>
                <a:latin typeface="Verdana"/>
              </a:rPr>
              <a:t>Señores, señoras, cumplan con su deber y hagan respetar la medida positiva en relación a la cuota de 50 % hombres y 50 % mujeres con alternabilidad de los puestos (un hombre, una mujer, un hombre, etc), en todas las listas electorales que los diversos partidos y grupos electorales les presenten. Fue una recomendación de todos los consejos electorales en Quito, Ecuador, que ha sido respaldada por el Instituto Nacional de la Mujer y todo el movimiento de mujeres de Venezuela. Así lo ratificamos hoy, en vísperas del Día Internacional de la Mujer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8569eb"/>
                </a:solidFill>
                <a:latin typeface="Verdana"/>
              </a:rPr>
              <a:t>Centro de Estudios de la Mujer de la Universidad Central de Venezuel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8569eb"/>
                </a:solidFill>
                <a:latin typeface="Verdana"/>
              </a:rPr>
              <a:t>Magdalena Valdivieso i Directora</a:t>
            </a:r>
            <a:br>
              <a:rPr sz="1600"/>
            </a:br>
            <a:r>
              <a:rPr b="0" lang="en-US" sz="1600" spc="-1" strike="noStrike">
                <a:solidFill>
                  <a:srgbClr val="8569eb"/>
                </a:solidFill>
                <a:latin typeface="Verdana"/>
              </a:rPr>
              <a:t>CC. Rectores y Rectoras Principales y suplentes CNE</a:t>
            </a:r>
            <a:br>
              <a:rPr sz="16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8569eb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2233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569eb"/>
                </a:solidFill>
                <a:latin typeface="Arial"/>
              </a:rPr>
              <a:t>Jornadas, eventos nacionales e internacionales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200400" cy="1752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Arial"/>
              </a:rPr>
              <a:t>Difusión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1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5050"/>
                </a:solidFill>
                <a:latin typeface="Verdana"/>
              </a:rPr>
              <a:t>Página WWW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5050"/>
                </a:solidFill>
                <a:latin typeface="Verdana"/>
              </a:rPr>
              <a:t>Participación en MCM.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5050"/>
                </a:solidFill>
                <a:latin typeface="Verdana"/>
              </a:rPr>
              <a:t>Revista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5050"/>
                </a:solidFill>
                <a:latin typeface="Verdana"/>
              </a:rPr>
              <a:t>Informes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5050"/>
                </a:solidFill>
                <a:latin typeface="Verdana"/>
              </a:rPr>
              <a:t>Boletines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227640" y="4365720"/>
            <a:ext cx="240048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569eb"/>
                </a:solidFill>
                <a:latin typeface="Arial"/>
              </a:rPr>
              <a:t>Revista en la RED….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pic>
        <p:nvPicPr>
          <p:cNvPr id="240" name="" descr="Ir al indice:Vol9-Nº23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91628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Ir al indice:Vol9-Nº22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3500280"/>
            <a:ext cx="914400" cy="1333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Ir al indice:Vol8-Nº21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36572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Ir al indice:Vol8-Nº20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35280" y="1844640"/>
            <a:ext cx="9525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b7f7"/>
                </a:solidFill>
                <a:latin typeface="Arial"/>
              </a:rPr>
              <a:t>Transversalización de los pensa de la UCV con género.</a:t>
            </a:r>
            <a:endParaRPr b="0" lang="en-US" sz="28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Se ha iniciado la sensibilización en el marco del PCI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La estrategia para impulsarlo ha sido a través de la oferta de seminarios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Se han presentado propuestas ante SADPRO y otras instancias.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247" name="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3399ff"/>
            </a:solidFill>
            <a:ln w="126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569eb"/>
                </a:solidFill>
                <a:latin typeface="Arial"/>
              </a:rPr>
              <a:t>Presencia en la comunidad de la ucevista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Seminarios PCI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Centro de prácticas de estudiantes Trabajo Social.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Campañas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Tutorías.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ff"/>
                </a:solidFill>
                <a:latin typeface="Verdana"/>
              </a:rPr>
              <a:t>Participación en Comisiones y Direcciones.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569eb"/>
                </a:solidFill>
                <a:latin typeface="Verdana"/>
              </a:rPr>
              <a:t>Proyectos realizados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Consulta a adolescentes sobre los contenidos programáticos de salud sexual y reproductiva y equidad de género en la Educación Básica. Cumana y Cd.Bolivar (6 talleres)Consultoría Unicef, 2003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royecto “Sensibilización y formación d ela comunidad ucevista en DSSR (11 talleres y una investigación)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royecto Formación Política de las mujeres. (Dos programas, 10 talleres)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Proyecto CEDAW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Verdana"/>
              </a:rPr>
              <a:t>Formación Comunidad Ucevista en DSSR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6699"/>
                </a:solidFill>
                <a:latin typeface="Verdana"/>
              </a:rPr>
              <a:t>Trabajo en comunidades educativas.</a:t>
            </a:r>
            <a:endParaRPr b="0" lang="en-US" sz="24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04560" y="1822320"/>
            <a:ext cx="5049360" cy="4298040"/>
            <a:chOff x="2104560" y="1822320"/>
            <a:chExt cx="5049360" cy="4298040"/>
          </a:xfrm>
        </p:grpSpPr>
        <p:sp>
          <p:nvSpPr>
            <p:cNvPr id="177" name="_s116742"/>
            <p:cNvSpPr/>
            <p:nvPr/>
          </p:nvSpPr>
          <p:spPr>
            <a:xfrm>
              <a:off x="3620880" y="2483640"/>
              <a:ext cx="2016360" cy="18900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78" name="_s116743"/>
            <p:cNvSpPr/>
            <p:nvPr/>
          </p:nvSpPr>
          <p:spPr>
            <a:xfrm>
              <a:off x="4307400" y="1822320"/>
              <a:ext cx="6440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79" name="_s116744"/>
            <p:cNvSpPr/>
            <p:nvPr/>
          </p:nvSpPr>
          <p:spPr>
            <a:xfrm>
              <a:off x="4350960" y="2980800"/>
              <a:ext cx="2016000" cy="18900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0" name="_s116745"/>
            <p:cNvSpPr/>
            <p:nvPr/>
          </p:nvSpPr>
          <p:spPr>
            <a:xfrm>
              <a:off x="6509880" y="3102840"/>
              <a:ext cx="6440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1" name="_s116746"/>
            <p:cNvSpPr/>
            <p:nvPr/>
          </p:nvSpPr>
          <p:spPr>
            <a:xfrm>
              <a:off x="4071960" y="3785400"/>
              <a:ext cx="2016360" cy="189000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2" name="_s116747"/>
            <p:cNvSpPr/>
            <p:nvPr/>
          </p:nvSpPr>
          <p:spPr>
            <a:xfrm>
              <a:off x="5791680" y="5648040"/>
              <a:ext cx="6440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3" name="_s116748"/>
            <p:cNvSpPr/>
            <p:nvPr/>
          </p:nvSpPr>
          <p:spPr>
            <a:xfrm>
              <a:off x="3169800" y="3785400"/>
              <a:ext cx="2016360" cy="189000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4" name="_s116749"/>
            <p:cNvSpPr/>
            <p:nvPr/>
          </p:nvSpPr>
          <p:spPr>
            <a:xfrm>
              <a:off x="2823120" y="5648040"/>
              <a:ext cx="6440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5" name="_s116750"/>
            <p:cNvSpPr/>
            <p:nvPr/>
          </p:nvSpPr>
          <p:spPr>
            <a:xfrm>
              <a:off x="2891160" y="2980800"/>
              <a:ext cx="2016000" cy="1890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6" name="_s116751"/>
            <p:cNvSpPr/>
            <p:nvPr/>
          </p:nvSpPr>
          <p:spPr>
            <a:xfrm>
              <a:off x="2104560" y="3103200"/>
              <a:ext cx="6440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93000" y="2783520"/>
              <a:ext cx="784080" cy="31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99ff"/>
                  </a:solidFill>
                  <a:latin typeface="Times New Roman"/>
                </a:rPr>
                <a:t>UCV</a:t>
              </a:r>
              <a:endParaRPr b="0" lang="en-US" sz="12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48760" y="3623760"/>
              <a:ext cx="1231920" cy="2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99ff"/>
                  </a:solidFill>
                  <a:latin typeface="Times New Roman"/>
                </a:rPr>
                <a:t> </a:t>
              </a:r>
              <a:r>
                <a:rPr b="0" lang="es-ES" sz="1100" spc="-1" strike="noStrike">
                  <a:solidFill>
                    <a:srgbClr val="0099ff"/>
                  </a:solidFill>
                  <a:latin typeface="Times New Roman"/>
                </a:rPr>
                <a:t>ONG,  ODS</a:t>
              </a:r>
              <a:endParaRPr b="0" lang="en-US" sz="11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3686400"/>
              <a:ext cx="1008720" cy="4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99ff"/>
                  </a:solidFill>
                  <a:latin typeface="Times New Roman"/>
                </a:rPr>
                <a:t>ESTADO</a:t>
              </a:r>
              <a:endParaRPr b="0" lang="en-US" sz="12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29240" y="4883760"/>
              <a:ext cx="1119960" cy="31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99ff"/>
                  </a:solidFill>
                  <a:latin typeface="Times New Roman"/>
                </a:rPr>
                <a:t>COMUNIDAD</a:t>
              </a:r>
              <a:endParaRPr b="0" lang="en-US" sz="10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96960" y="4988880"/>
              <a:ext cx="89604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99ff"/>
                  </a:solidFill>
                  <a:latin typeface="Times New Roman"/>
                </a:rPr>
                <a:t>ORG. Internacionales</a:t>
              </a:r>
              <a:endParaRPr b="0" lang="en-US" sz="900" spc="-1" strike="noStrike">
                <a:solidFill>
                  <a:srgbClr val="0099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05320" y="3833640"/>
              <a:ext cx="671760" cy="31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99ff"/>
                  </a:solidFill>
                  <a:latin typeface="Times New Roman"/>
                </a:rPr>
                <a:t>CEM</a:t>
              </a:r>
              <a:endParaRPr b="0" lang="en-US" sz="1200" spc="-1" strike="noStrike">
                <a:solidFill>
                  <a:srgbClr val="0099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60360" y="704880"/>
            <a:ext cx="5543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569eb"/>
                </a:solidFill>
                <a:latin typeface="Arial"/>
              </a:rPr>
              <a:t>Erradicación del lenguaje sexista de la UCV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31240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99"/>
                </a:solidFill>
                <a:latin typeface="Arial"/>
              </a:rPr>
              <a:t>Títulos de acuerdo al sexo de quien lo recibe.</a:t>
            </a:r>
            <a:endParaRPr b="0" lang="en-US" sz="20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514680" y="2492280"/>
            <a:ext cx="3505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3333600" cy="2765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798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569eb"/>
                </a:solidFill>
                <a:latin typeface="Arial"/>
              </a:rPr>
              <a:t>Investigación.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3891240" cy="164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3141720"/>
            <a:ext cx="633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DIVERSOS PROYECTOS DE INVESTIGACIÓN: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DERECHOS SEXUALES Y REPRODUCTIVOS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MUJER Y PODER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POBREZA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ESTADÍSTICAS DE GÉNERO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MUJER Y CONOCIMIENTO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569eb"/>
                </a:solidFill>
                <a:latin typeface="Arial"/>
              </a:rPr>
              <a:t>Promoción de políticas públicas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367200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92360" y="1628640"/>
          <a:ext cx="56163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616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580536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99"/>
                </a:solidFill>
                <a:latin typeface="Arial"/>
              </a:rPr>
              <a:t>Reunión para defender las Medidas cautelares Octubre 2003 </a:t>
            </a:r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569eb"/>
                </a:solidFill>
                <a:latin typeface="Arial"/>
              </a:rPr>
              <a:t>Entrega propuesta  para nuevo código penal</a:t>
            </a:r>
            <a:endParaRPr b="0" lang="en-US" sz="4000" spc="-1" strike="noStrike">
              <a:solidFill>
                <a:srgbClr val="ccb7f7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63640" y="1820880"/>
            <a:ext cx="5977080" cy="44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b7f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b7f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99ff"/>
                </a:solidFill>
                <a:latin typeface="Verdana"/>
              </a:rPr>
              <a:t>Martes, 21 de Octubre de 2003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99ff"/>
                </a:solidFill>
                <a:latin typeface="Verdana"/>
              </a:rPr>
              <a:t>Venezuela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Verdana"/>
              </a:rPr>
              <a:t>MUJERES EN ACCIÓN 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Verdana"/>
              </a:rPr>
              <a:t>Contra la reforma de la Ley sobre la Violencia hacia la Mujer y la Familia introducida por el Fiscal General de la República.</a:t>
            </a: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765000"/>
            <a:ext cx="2305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210960" y="496800"/>
            <a:ext cx="868680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spAutoFit/>
          </a:bodyPr>
          <a:p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76360" y="981000"/>
          <a:ext cx="6637320" cy="2103480"/>
        </p:xfrm>
        <a:graphic>
          <a:graphicData uri="http://schemas.openxmlformats.org/drawingml/2006/table">
            <a:tbl>
              <a:tblPr/>
              <a:tblGrid>
                <a:gridCol w="4767840"/>
                <a:gridCol w="216000"/>
                <a:gridCol w="216000"/>
                <a:gridCol w="216000"/>
                <a:gridCol w="1005840"/>
                <a:gridCol w="2160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VE" sz="1800" spc="-1" strike="noStrike">
                          <a:solidFill>
                            <a:srgbClr val="8569eb"/>
                          </a:solidFill>
                          <a:latin typeface="Arial"/>
                          <a:ea typeface="Arial"/>
                        </a:rPr>
                        <a:t>INAMUJER y el CEM proponen hacer un boicot en contra de publicidad discriminadora </a:t>
                      </a: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VE" sz="1800" spc="-1" strike="noStrike">
                          <a:solidFill>
                            <a:srgbClr val="8569eb"/>
                          </a:solidFill>
                          <a:latin typeface="Arial"/>
                          <a:ea typeface="Arial"/>
                        </a:rPr>
                        <a:t>Por: Mabel Sarmiento Garmendia / Ultimas Noticias </a:t>
                      </a:r>
                      <a:br>
                        <a:rPr sz="1800"/>
                      </a:br>
                      <a:r>
                        <a:rPr b="0" i="1" lang="es-VE" sz="1800" spc="-1" strike="noStrike">
                          <a:solidFill>
                            <a:srgbClr val="8569eb"/>
                          </a:solidFill>
                          <a:latin typeface="Arial"/>
                          <a:ea typeface="Arial"/>
                        </a:rPr>
                        <a:t>Publicado el Miércoles, 06/07/05 11:09am</a:t>
                      </a:r>
                      <a:r>
                        <a:rPr b="0" i="1" lang="es-VE" sz="1800" spc="-1" strike="noStrike">
                          <a:solidFill>
                            <a:srgbClr val="ccb7f7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-210960" y="3330720"/>
          <a:ext cx="311040" cy="63972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  </a:t>
                      </a:r>
                      <a:br>
                        <a:rPr sz="0"/>
                      </a:b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-210960" y="496800"/>
            <a:ext cx="9144000" cy="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99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236000" y="506520"/>
          <a:ext cx="2118960" cy="2465280"/>
        </p:xfrm>
        <a:graphic>
          <a:graphicData uri="http://schemas.openxmlformats.org/drawingml/2006/table">
            <a:tbl>
              <a:tblPr/>
              <a:tblGrid>
                <a:gridCol w="819000"/>
                <a:gridCol w="12999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86c0ce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23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       </a:t>
                      </a: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86c0ce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imprímelo </a:t>
                      </a:r>
                      <a:endParaRPr b="0" lang="en-US" sz="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                </a:t>
                      </a:r>
                      <a:endParaRPr b="0" lang="en-US" sz="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VE" sz="8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mándaselo a tus panas  </a:t>
                      </a:r>
                      <a:endParaRPr b="0" lang="en-US" sz="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1068480"/>
            <a:ext cx="466560" cy="371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7356600" y="2084400"/>
            <a:ext cx="495000" cy="276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-55440" y="3011400"/>
            <a:ext cx="19080" cy="9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-55440" y="33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763640" y="2997360"/>
            <a:ext cx="23814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0T12:31:29Z</dcterms:created>
  <dc:creator>MAGDALENA VALDIVIESO</dc:creator>
  <dc:description/>
  <dc:language>en-US</dc:language>
  <cp:lastModifiedBy>ADMIN</cp:lastModifiedBy>
  <dcterms:modified xsi:type="dcterms:W3CDTF">2007-05-02T13:10:46Z</dcterms:modified>
  <cp:revision>17</cp:revision>
  <dc:subject/>
  <dc:title>Diapositiva 1</dc:title>
</cp:coreProperties>
</file>