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B9D-68CC-410F-94D9-74561630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E86D-3451-4411-B098-FADA6839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226-C983-4126-B7DC-645C6266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264-C2A8-4D75-928A-3B8E0B3F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572F-F724-44D8-B5B4-711E5367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12BC-4349-4992-AF51-90A88DE8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A499-AB3A-4140-B23D-88AEEA79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D36F-53F2-4F53-9448-91D6D926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3E65-A825-4D49-AFA4-3FDFD501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0AD9-00FF-4029-8130-E7D98E63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4635-4DAE-4635-A47B-11483163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BB5-4E89-420F-8084-E90490DF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4E5F-727A-4E4F-977F-26E2FD65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0EDB-BD89-4FE2-A4BA-7A5C3248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558F-2ADC-4602-8EEF-99E0C950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9F68-C652-4A0E-9D77-DEE4784F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2938-5B6B-456A-82C8-52FD2298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008-40D1-443D-9603-EDA53755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E53-4115-42D1-8CF2-C478A14A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579-690B-44BA-9D85-B25FDB9D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ECF-6F02-4283-A934-5E75EE2F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C6D-A346-4ACE-BDA2-F601DB26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237-636D-4508-9070-2D377DCC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2CC-035D-45CD-8D2E-26163D12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8A78-3E75-46D7-93BE-BC2C98331B2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6FA8-CCBA-43A2-A848-9BF2A8DA58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</a:rPr>
              <a:t>UNIVERSIDAD CENTRAL DE VENEZUELA</a:t>
            </a:r>
            <a:br>
              <a:rPr sz="2400"/>
            </a:br>
            <a:r>
              <a:rPr b="0" lang="es-ES_tradnl" sz="2400" spc="-1" strike="noStrike">
                <a:solidFill>
                  <a:srgbClr val="ffff99"/>
                </a:solidFill>
                <a:latin typeface="Arial"/>
              </a:rPr>
              <a:t>DIRECCIÓN DE EXTENSIÓN UNIVERSITARIA</a:t>
            </a:r>
            <a:br>
              <a:rPr sz="2400"/>
            </a:br>
            <a:r>
              <a:rPr b="0" lang="es-ES_tradnl" sz="2400" spc="-1" strike="noStrike">
                <a:solidFill>
                  <a:srgbClr val="ffff99"/>
                </a:solidFill>
                <a:latin typeface="Arial"/>
              </a:rPr>
              <a:t>DIVISIÓN DE EDUCACIÓN</a:t>
            </a:r>
            <a:br>
              <a:rPr sz="2400"/>
            </a:br>
            <a:r>
              <a:rPr b="0" lang="es-ES_tradnl" sz="2400" spc="-1" strike="noStrike">
                <a:solidFill>
                  <a:srgbClr val="ffff99"/>
                </a:solidFill>
                <a:latin typeface="Arial"/>
              </a:rPr>
              <a:t>OFERTA DE PROYECTOS Y PROGRAMA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4005360"/>
            <a:ext cx="431928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PROF. JAIME ZALCHE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JEFE DE LA DIV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49520" cy="965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885080" y="1557360"/>
            <a:ext cx="106848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OBJETIVOS</a:t>
            </a: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Ofrecer a la comunidad universitaria y al país programas y proyectos orientados haci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Formación y mejoramiento profesion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reación de proyectos soci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Apoyo a programas soci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reación de programas de formación laboral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Otr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Formación y mejoramiento profesional.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Taller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ursos de actualización profesiona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Programas de diplomado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Creación de proyectos sociales.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La división de educación ha preparado una oferta de programas que pueden ser desarrollados conjuntamente con la sociedad civil enmarcados en el cumplimiento de las leyes recientemente establecidas para servicio comunitari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Algunas ide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APACITACIÓN LABO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ENTRO DE ATENCIÓN INTEGRAL PARA VIVIR CON DIABE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ENTRO MULTIDISCIPLINARIO DE ARTE Y CIENC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URSO DE VERANO PARA NIÑOS DE BAJOS RECURS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DESARROLLO JUVENI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DUCACIÓN COMUNITARIA A TRAVÉS DE LOS MEDIOS DE COMUNICACIÓ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FORMACIÓN DE MEDIADORES ESCOLARES PARA LA CONVIVENCIA Y LA PA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INCLUSIÓN EDUCATIV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INFORMÁTICA PARA TOD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ULA DE APOYO PARA NIÑOS ESPECI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ROGRAMA DE ACOMPAÑAMIENTO E INCLUSIÓN SOCIAL PARA NIÑOS Y NIÑAS DE BAJOS RECURS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Algunas ide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ROYECTO PARA REHABILITACIÓN DE JÓVENES CON ADICCIÓ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HABILITACIÓN PARA DISCAPACIT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ERVICIOS DE CAPACITACIÓN IN COMPAN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-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POYO A SOBREVIVIENTES AL SUICID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FORMACIÓN PARA MUJERES DESPLAZADAS POR ACCIDENTES NATURA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OTR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PROGRAMAS DE DIPLOMADO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DIPLOMADO EN ATENCIÓN PRIMARIA Y SALUD FAMILI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DIPLOMADO EN GERENCIA TRIBUTA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DIPLOMADO EN ARTE EN CREACIÓN GRÁF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DIPLOMADO EN ADMINISTRACIÓN PARA NO ADMINISTRAD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DIPLOMADO EN PREVENCIÓN Y PROMOCIÓN DE LA SALU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DIPLOMADO EN GERENCIA DE RECURSOS HUMAN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DIPLOMADO EN NEGOCIACIÓN Y RESOLUCIÓN DE CONFLICT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DIPLOMADO EN VISITA MÉDICA PROFESION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DIPLOMADO EN FORMACIÓN DE CONSUL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DIPLOMADO EN BIOÉT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DIPLOMADO EN DISEÑO Y CONSTRUCCIÓN SOSTENIB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DIPLOMADO EN GESTIÓN DEL DESARROLLO HUMAN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DIPLOMADO ESTATUTO CONTEMPORÁNEO DEL CONOCIMI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DIPLOMADO EN CONSULTORIA ORGANIZACION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ALIANZ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INSTITUCIONALES (CEP –FACE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N ONG (PUNTO DE ENCUENTRO,  FUNDACIONES, ETC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885080" y="1197000"/>
            <a:ext cx="1057320" cy="1542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RECURS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ORTAL DE EDUCACIÓN A DISTAN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INFRAESTRUCTURA Y PERSONAL UC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INFRAESTRUCTURA  Y PERSONAL D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9:58:19Z</dcterms:created>
  <dc:creator>jaime</dc:creator>
  <dc:description/>
  <dc:language>en-US</dc:language>
  <cp:lastModifiedBy>jaime</cp:lastModifiedBy>
  <dcterms:modified xsi:type="dcterms:W3CDTF">2007-05-02T10:29:07Z</dcterms:modified>
  <cp:revision>5</cp:revision>
  <dc:subject/>
  <dc:title>UNIVERSIDAD CENTRAL DE VENEZUELA DIRECCIÓN DE EXTENSIÓN UNIVERSITARIA DIVISIÓN DE EDUCACIÓN OFERTA DE PROYECTOS Y PROGRAMAS</dc:title>
</cp:coreProperties>
</file>