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0789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554-A91C-4B02-A1A6-94FD5615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C05F-F19B-4DBE-A095-A0E03292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600-3A20-4557-A60F-966B5B91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7E99-92AD-4F8E-95A7-AC6BBF25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6B84-1B88-4899-9840-48295F23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1D1B-4157-401F-94A7-E0B09A5B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AA28-C14F-405A-8A5A-32FEF47B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0938-ABD9-4C60-9D02-C54BB264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6855-3015-4980-AE22-92BAEC25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D9D9-A9AA-4440-A56D-F90E782C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F35C-0F1D-4520-8506-CAAA80D3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F4B-D975-4577-958F-06E964E2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824B-3DED-4019-9439-4499DE1F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2EA5-88D2-483A-B92D-197AC329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8FB2-9B95-427B-8D54-A07D9A10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D0DD-9BDB-40CD-B210-708BB674B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C5F6-7277-48D9-8213-D89DE8A2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8A0-BEAB-4148-A081-3DDDC143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F34-56B9-4B7A-AE17-82C2FA5A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44A-3FC2-4F49-A9DE-8D88EB86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547-A180-40B2-8DBE-7B30B56F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FFF-E6F8-4CB3-A2E9-A93751ED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9D7-6191-4E13-A81F-25B03937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BD6-A9A9-429D-828B-87EC65F6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391A-9805-41B2-AD03-63958331C885}" type="slidenum">
              <a:rPr b="0" lang="nl-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44687" t="21645" r="33465" b="7478"/>
          <a:stretch/>
        </p:blipFill>
        <p:spPr>
          <a:xfrm>
            <a:off x="6480000" y="0"/>
            <a:ext cx="26640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68360" y="1052640"/>
            <a:ext cx="5904000" cy="0"/>
          </a:xfrm>
          <a:prstGeom prst="line">
            <a:avLst/>
          </a:prstGeom>
          <a:ln w="57240">
            <a:solidFill>
              <a:srgbClr val="9999ff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F01A-4D0B-441A-83C1-922C5C646657}" type="slidenum">
              <a:rPr b="0" lang="nl-NL" sz="1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peratec.org.ve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B2wxk8hc14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200" y="189000"/>
            <a:ext cx="2810160" cy="1360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1600" y="2276640"/>
            <a:ext cx="29682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forme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ERATEC A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006-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arilyn de Sil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3357720"/>
            <a:ext cx="3743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Anteced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692000"/>
            <a:ext cx="52560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SUPERATEC A.C. es una organización sin fines de lucro cuya misión es promover cambios en la vida de jóvenes de escasos recursos económicos y su entorno, a través de la formación humana, tecnológica y la inserción labor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El objetivo general del programa es mejorar la formación integral de los jóvenes, facilitarles y promover el uso de destrezas tanto tecnológicas como personales que incrementen sus posibilidades de incorporarse en el mercado laboral. De esta manera su potencial de ingreso mejorará y consecuentemente resultará en mejoras de su condición de vida y la de sus familia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9120" y="215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177-EAFC-4C85-8157-1B31829D60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Comic Sans MS"/>
              </a:rPr>
              <a:t>Centros de Formació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2676600" cy="2009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564000" y="1484280"/>
            <a:ext cx="2676600" cy="2019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11280" y="3933720"/>
            <a:ext cx="2800080" cy="209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492360" y="3933720"/>
            <a:ext cx="2800440" cy="2105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8640" y="3500280"/>
            <a:ext cx="58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Superatec UCAB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Superatec La Prad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1560" y="6165720"/>
            <a:ext cx="60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Superatec CECCA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Superatec Titán - Cag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A2E-745A-4992-86CD-EBE01F553D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Comic Sans MS"/>
              </a:rPr>
              <a:t>Objetivo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enerar programas de educación no convencionales para jóvenes y adultos de escasos recursos económicos.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rear un modelo de programa en Formación Tecnológica, Humana e Inserción Laboral que pueda ser replicado en alianza con comunidades organizadas interesadas. Difundir la iniciativa y ofrecer soporte a los grupos comunitarios que decidan organizar, implementar y apoyar dichos Centros de Formación.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solidar una Bolsa de Empleo que sirva de enlace entre Superatec y el entorno económico de sectores de servicio y producción. 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6460-300A-4D19-BE1E-46AB1B6EB0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480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Resultados del Período 2006-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52640"/>
            <a:ext cx="9144000" cy="627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Atención a más de </a:t>
            </a:r>
            <a:r>
              <a:rPr b="1" lang="es-VE" sz="1600" spc="-1" strike="noStrike">
                <a:solidFill>
                  <a:srgbClr val="000000"/>
                </a:solidFill>
                <a:latin typeface="Verdana"/>
              </a:rPr>
              <a:t>793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 personas directas y más de 3200 personas de manera in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Verdana"/>
              </a:rPr>
              <a:t>793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 personas certific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Verdana"/>
              </a:rPr>
              <a:t>100% 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de efectividad para la Bolsa de empleo en el primer período, para un total de </a:t>
            </a:r>
            <a:r>
              <a:rPr b="1" lang="es-VE" sz="1600" spc="-1" strike="noStrike">
                <a:solidFill>
                  <a:srgbClr val="000000"/>
                </a:solidFill>
                <a:latin typeface="Verdana"/>
              </a:rPr>
              <a:t>168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 colocados en el perío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 empresas coope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Inauguración del cuarto Centro de Formación en el Centro Comunal Catia, en Propat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Desarrollo del programa de formación humana en alianza con FUNDAPROC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Desarrollo del programa de Banca y Finanzas en alianza con CITIBA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Formación de jóvenes en alianza con Colombb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Formación de jóvenes de Christel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Formación de docentes en Carayaca, en alianza con el DV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Automatización de todos los procesos claves de la organización a través del sistema SIMEDIMOS, con la generación de indicadores y reportes de gest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 ediciones del Boletín Electrónico Superatec en Lí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Formalización de alianzas con la Acumuladores Duncan para el Centro de Formación Superatec Titán en Cagua y con el Centro Comunal Catia, para el Centro de Formación Superatec CEC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Lanzamiento de nuestra página web: </a:t>
            </a:r>
            <a:r>
              <a:rPr b="0" lang="es-VE" sz="1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superatec.org.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LLER DE PENSAMIENTO ESTRATEGICO DIC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4336-2A71-4BF8-8930-1A6A9EC86B2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Comic Sans MS"/>
              </a:rPr>
              <a:t>Fuente de Informació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Datos “vaciados” en el sistema automatizado de proceso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Definición de indicadores relevante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Consulta de los indicadores en el sistem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Análisis de la información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1598" t="25599" r="2377" b="11793"/>
          <a:stretch/>
        </p:blipFill>
        <p:spPr>
          <a:xfrm>
            <a:off x="0" y="2924280"/>
            <a:ext cx="6480000" cy="316872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0" y="1557360"/>
            <a:ext cx="755640" cy="1584360"/>
            <a:chOff x="0" y="1557360"/>
            <a:chExt cx="755640" cy="1584360"/>
          </a:xfrm>
        </p:grpSpPr>
        <p:sp>
          <p:nvSpPr>
            <p:cNvPr id="107" name=""/>
            <p:cNvSpPr/>
            <p:nvPr/>
          </p:nvSpPr>
          <p:spPr>
            <a:xfrm>
              <a:off x="0" y="2838600"/>
              <a:ext cx="755640" cy="3031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50560" y="1557360"/>
              <a:ext cx="360360" cy="1295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0" y="1916280"/>
            <a:ext cx="1907640" cy="2160360"/>
            <a:chOff x="0" y="1916280"/>
            <a:chExt cx="1907640" cy="2160360"/>
          </a:xfrm>
        </p:grpSpPr>
        <p:sp>
          <p:nvSpPr>
            <p:cNvPr id="110" name=""/>
            <p:cNvSpPr/>
            <p:nvPr/>
          </p:nvSpPr>
          <p:spPr>
            <a:xfrm>
              <a:off x="0" y="3284640"/>
              <a:ext cx="1332000" cy="7920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042560" y="1916280"/>
              <a:ext cx="865080" cy="144144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476360" y="2205000"/>
            <a:ext cx="791640" cy="1008000"/>
            <a:chOff x="1476360" y="2205000"/>
            <a:chExt cx="791640" cy="1008000"/>
          </a:xfrm>
        </p:grpSpPr>
        <p:sp>
          <p:nvSpPr>
            <p:cNvPr id="113" name=""/>
            <p:cNvSpPr/>
            <p:nvPr/>
          </p:nvSpPr>
          <p:spPr>
            <a:xfrm>
              <a:off x="1476360" y="2924280"/>
              <a:ext cx="755640" cy="28872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907640" y="2205000"/>
              <a:ext cx="360360" cy="719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332000" y="2565360"/>
            <a:ext cx="5040360" cy="3262320"/>
            <a:chOff x="1332000" y="2565360"/>
            <a:chExt cx="5040360" cy="3262320"/>
          </a:xfrm>
        </p:grpSpPr>
        <p:sp>
          <p:nvSpPr>
            <p:cNvPr id="116" name=""/>
            <p:cNvSpPr/>
            <p:nvPr/>
          </p:nvSpPr>
          <p:spPr>
            <a:xfrm>
              <a:off x="1332000" y="3284640"/>
              <a:ext cx="5040360" cy="254304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6360" y="2565360"/>
              <a:ext cx="576000" cy="7192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BAC-DD59-42B0-9BA9-1332F8C91F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Resumen Gestión Oper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869000"/>
            <a:ext cx="5400720" cy="43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4280" y="4869000"/>
            <a:ext cx="51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209680"/>
                <a:tab algn="l" pos="2577960"/>
                <a:tab algn="l" pos="2946240"/>
                <a:tab algn="l" pos="3314880"/>
                <a:tab algn="l" pos="3683160"/>
                <a:tab algn="l" pos="4051440"/>
                <a:tab algn="l" pos="4419720"/>
                <a:tab algn="l" pos="4788000"/>
                <a:tab algn="l" pos="5156280"/>
                <a:tab algn="l" pos="5524560"/>
                <a:tab algn="l" pos="5892840"/>
                <a:tab algn="l" pos="6261120"/>
                <a:tab algn="l" pos="6629400"/>
                <a:tab algn="l" pos="6997680"/>
                <a:tab algn="l" pos="7365960"/>
                <a:tab algn="l" pos="7734240"/>
                <a:tab algn="l" pos="8102520"/>
                <a:tab algn="l" pos="8470800"/>
                <a:tab algn="l" pos="8839080"/>
                <a:tab algn="l" pos="920736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Verdana"/>
              </a:rPr>
              <a:t>Nro de Centros: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  2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  3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VE" sz="1600" spc="-1" strike="noStrike">
                <a:solidFill>
                  <a:srgbClr val="000000"/>
                </a:solidFill>
                <a:latin typeface="Verdana"/>
              </a:rPr>
              <a:t>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8360" y="1268280"/>
          <a:ext cx="5543640" cy="359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5543640" cy="35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978480" y="5677560"/>
            <a:ext cx="3967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Total Egresados Cohorte 2006-2007: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Verdana"/>
              </a:rPr>
              <a:t>793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Total colocados a la fecha: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Verdana"/>
              </a:rPr>
              <a:t>17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F4A0-6BAA-4F6D-A978-84F1A94D0A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Resumen de la Bolsa de Empl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6480" y="5101200"/>
            <a:ext cx="3987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Total colocados Cohorte 2006-2007:168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</a:rPr>
              <a:t>Total colocados a la fecha: 4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1628640"/>
          <a:ext cx="5667480" cy="33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56674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894-5870-462A-8316-D5534C3E7C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Comic Sans MS"/>
              </a:rPr>
              <a:t>Testimonia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Verdana"/>
              </a:rPr>
              <a:t>Haber realizado el programa de formación estándar de SUPERATEC, ha sido para todos nosotros una experiencia gratificante, de enriquecimiento personal e intelectual, siendo de gran importancia, si no lo más resaltante, las buenas relaciones de amistad, que hemos establecido con todos y  cada uno de los integrantes, del equipo de trabajo de Superatec CECCA, que a lo largo de estos meses nos proporcionaron su ayuda y conocimientos, no solo para cuestiones netamente académicas, por lo cual ahora, podemos decir: que por encima de cualquier otra cosa somos amigos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 u="sng">
                <a:solidFill>
                  <a:srgbClr val="ccccff"/>
                </a:solidFill>
                <a:uFillTx/>
                <a:latin typeface="Book Antiqua"/>
                <a:hlinkClick r:id="rId1"/>
              </a:rPr>
              <a:t>http://www.youtube.com/watch?v=SB2wxk8hc14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2E60-1B8E-4904-A9A8-515F11BF75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5:58:00Z</dcterms:created>
  <dc:creator>William De Baets</dc:creator>
  <dc:description/>
  <dc:language>en-US</dc:language>
  <cp:lastModifiedBy>Preferred Customer</cp:lastModifiedBy>
  <dcterms:modified xsi:type="dcterms:W3CDTF">2008-03-04T23:56:53Z</dcterms:modified>
  <cp:revision>455</cp:revision>
  <dc:subject/>
  <dc:title>PowerPoint Presentation</dc:title>
</cp:coreProperties>
</file>