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jpeg" ContentType="image/jpeg"/>
  <Override PartName="/ppt/media/image36.gif" ContentType="image/gif"/>
  <Override PartName="/ppt/media/image19.jpeg" ContentType="image/jpeg"/>
  <Override PartName="/ppt/media/image32.gif" ContentType="image/gif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28.gif" ContentType="image/gif"/>
  <Override PartName="/ppt/media/image30.gif" ContentType="image/gif"/>
  <Override PartName="/ppt/media/image8.png" ContentType="image/png"/>
  <Override PartName="/ppt/media/image29.gif" ContentType="image/gif"/>
  <Override PartName="/ppt/media/image24.png" ContentType="image/png"/>
  <Override PartName="/ppt/media/image31.gif" ContentType="image/gif"/>
  <Override PartName="/ppt/media/image13.png" ContentType="image/png"/>
  <Override PartName="/ppt/media/image33.gif" ContentType="image/gif"/>
  <Override PartName="/ppt/media/image34.gif" ContentType="image/gif"/>
  <Override PartName="/ppt/media/image9.png" ContentType="image/png"/>
  <Override PartName="/ppt/media/image39.png" ContentType="image/png"/>
  <Override PartName="/ppt/media/image35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7.png" ContentType="image/png"/>
  <Override PartName="/ppt/media/image27.gif" ContentType="image/gif"/>
  <Override PartName="/ppt/media/image10.wmf" ContentType="image/x-wmf"/>
  <Override PartName="/ppt/media/image6.png" ContentType="image/png"/>
  <Override PartName="/ppt/media/image26.gif" ContentType="image/gif"/>
  <Override PartName="/ppt/media/image20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3AF3-8B5D-46CD-958F-E785DD8B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B6C20-E3D7-4668-B84E-98569C2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660A-CD64-40DF-9F97-206D2F91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9BB4C-2F03-47CD-8506-49CC2A91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79E8-C6CF-4661-ADD2-A6D7A5CE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6D73B-AB89-4659-A3D2-7BBEB247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3F98F-0A64-4D6B-B833-BD8BF9FD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4D5A0-1431-4BE5-8C47-2EEB139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DE9A-A755-40B9-806A-72938A9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95EA8-809B-4DCD-A260-F1399E57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4B7A5-93CC-4F3E-9E2B-02651AF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B026-EF18-4AF3-9E27-D7A5D87A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DB8AE-7D17-4723-9ACF-7934EE22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20684-F7F4-4931-B72F-DB7806C0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829E3-D20D-487E-AC42-95721A5C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BAF8F-EFD1-44C6-8A4B-0F063E7F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0576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4840" y="165276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0576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4840" y="3802320"/>
            <a:ext cx="2417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987A3-9E5C-496B-BF99-AED3B3AA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6FDA-6102-4405-AAE1-8AB7BF74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0573A-E80F-426C-9C14-CEA8CFC7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DED1-E134-453B-A8B4-6A3BFA93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596000" cy="38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D88DE-65E1-458E-BDA8-8BA429BF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30BF-1141-45A5-8977-59412CB5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14360" y="380232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6895-485F-4939-ACDB-0D2D486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14360" y="1652760"/>
            <a:ext cx="3664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3802320"/>
            <a:ext cx="7508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F0B57-AA23-44A0-987D-206B18AE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66680" y="1652760"/>
            <a:ext cx="7508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08D8-FE7B-405C-8F6A-3EA7B690B7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62120" y="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 rot="16200000">
            <a:off x="-510480" y="552960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42840" y="0"/>
            <a:ext cx="1289160" cy="134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837720" y="6508440"/>
            <a:ext cx="7402680" cy="304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5"/>
          </p:nvPr>
        </p:nvSpPr>
        <p:spPr>
          <a:xfrm>
            <a:off x="7718040" y="6562800"/>
            <a:ext cx="13352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C6A-159D-4E24-85B2-08FAC4EC3DC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title"/>
          </p:nvPr>
        </p:nvSpPr>
        <p:spPr>
          <a:xfrm>
            <a:off x="1418760" y="1509480"/>
            <a:ext cx="5745240" cy="7491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6"/>
          </p:nvPr>
        </p:nvSpPr>
        <p:spPr>
          <a:xfrm rot="16200000">
            <a:off x="-510480" y="5529600"/>
            <a:ext cx="2360520" cy="21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evedi.org.ve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evedi.org.ve/leer.php/270" TargetMode="External"/><Relationship Id="rId2" Type="http://schemas.openxmlformats.org/officeDocument/2006/relationships/hyperlink" Target="mailto:fevedi@gmail.co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evedi.org.ve/leer.php/29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evedi.org.ve/leer.php/233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982800"/>
            <a:ext cx="640872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9999"/>
                </a:solidFill>
                <a:latin typeface="Arial Black"/>
              </a:rPr>
              <a:t>	</a:t>
            </a:r>
            <a:r>
              <a:rPr b="1" lang="es-ES" sz="3600" spc="-1" strike="noStrike">
                <a:solidFill>
                  <a:srgbClr val="009999"/>
                </a:solidFill>
                <a:latin typeface="Arial Black"/>
              </a:rPr>
              <a:t>¿Qué es  la </a:t>
            </a:r>
            <a:br>
              <a:rPr sz="3600"/>
            </a:br>
            <a:r>
              <a:rPr b="1" lang="es-ES" sz="3600" spc="-1" strike="noStrike">
                <a:solidFill>
                  <a:srgbClr val="009999"/>
                </a:solidFill>
                <a:latin typeface="Arial Black"/>
              </a:rPr>
              <a:t>discapacidad intelectual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154400"/>
            <a:ext cx="14763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812000" y="0"/>
            <a:ext cx="108756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720" y="1557360"/>
            <a:ext cx="1619280" cy="117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61440" y="2492280"/>
            <a:ext cx="1618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99"/>
                </a:solidFill>
                <a:latin typeface="Times New Roman"/>
              </a:rPr>
              <a:t>SOVE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13720" y="3933720"/>
            <a:ext cx="1251000" cy="1236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53240" y="494172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Times New Roman"/>
              </a:rPr>
              <a:t>SOVEPS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835280" y="5157720"/>
            <a:ext cx="2736720" cy="4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380360" y="5516640"/>
          <a:ext cx="1700280" cy="11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5516640"/>
                    <a:ext cx="170028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3840" y="2690640"/>
            <a:ext cx="1298520" cy="1098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1280" y="5570640"/>
            <a:ext cx="1548000" cy="131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99"/>
                </a:solidFill>
                <a:latin typeface="Times New Roman"/>
              </a:rPr>
              <a:t>A.V.E.S.I.D</a:t>
            </a:r>
            <a:r>
              <a:rPr b="0" lang="es-E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266760" y="5532480"/>
            <a:ext cx="1065240" cy="106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250920" y="436392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0" y="15840"/>
            <a:ext cx="1398600" cy="1397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1"/>
          <a:stretch/>
        </p:blipFill>
        <p:spPr>
          <a:xfrm>
            <a:off x="216000" y="3656160"/>
            <a:ext cx="2555640" cy="63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407360" y="2924280"/>
            <a:ext cx="1773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OVEP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ociación Venezola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ADER - WIL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1979640" y="5802480"/>
            <a:ext cx="1512720" cy="1011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logo_fundacionas.gif"/>
          <p:cNvPicPr/>
          <p:nvPr/>
        </p:nvPicPr>
        <p:blipFill>
          <a:blip r:embed="rId13"/>
          <a:stretch/>
        </p:blipFill>
        <p:spPr>
          <a:xfrm>
            <a:off x="5435640" y="5591160"/>
            <a:ext cx="1724040" cy="1266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1413000"/>
            <a:ext cx="129060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3851280" y="5742000"/>
            <a:ext cx="1341360" cy="111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5292720" y="5084640"/>
            <a:ext cx="1700280" cy="542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3419640" y="2276640"/>
            <a:ext cx="2628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619280"/>
            <a:ext cx="57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hecho que quien padece este problema, puede aprender y desarrollar al máximo su capacidad de aprendizaje, siempre y cuando cuente con el apoyo, el estímulo y la educación que se requier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00720" y="2695680"/>
            <a:ext cx="1954440" cy="26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 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050920"/>
            <a:ext cx="8893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vel de afectación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v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 desarrollo intelectual es lento y 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bilidades de educación académica limitad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con un programa adecuado de estimul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, el paciente alcanza una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iente y produc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AN1151.gif (17031 bytes)"/>
          <p:cNvPicPr/>
          <p:nvPr/>
        </p:nvPicPr>
        <p:blipFill>
          <a:blip r:embed="rId1"/>
          <a:stretch/>
        </p:blipFill>
        <p:spPr>
          <a:xfrm>
            <a:off x="7161120" y="4167360"/>
            <a:ext cx="165888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 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7640" y="19782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vel de afectación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uien la padece puede aprender a satisfacer sus necesidades, cuidar de sí mism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var una vida laboral productiva bajo condicion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jbellhop.gif (14585 bytes)"/>
          <p:cNvPicPr/>
          <p:nvPr/>
        </p:nvPicPr>
        <p:blipFill>
          <a:blip r:embed="rId1"/>
          <a:stretch/>
        </p:blipFill>
        <p:spPr>
          <a:xfrm>
            <a:off x="6475320" y="3860640"/>
            <a:ext cx="1559160" cy="30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7640" y="1797120"/>
            <a:ext cx="7056360" cy="49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vel de afectación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ver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se presenta un retraso en el desarrollo del movimiento y del lenguaje,aunque logran aprender a cuidarse y algunas destrezas fundamentales que les permiten adaptarse a la sociedad. Su productividad económica es limit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 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fa101.gif (8505 bytes)"/>
          <p:cNvPicPr/>
          <p:nvPr/>
        </p:nvPicPr>
        <p:blipFill>
          <a:blip r:embed="rId1"/>
          <a:stretch/>
        </p:blipFill>
        <p:spPr>
          <a:xfrm>
            <a:off x="5580000" y="4581360"/>
            <a:ext cx="30607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5616360" cy="49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vel de afectación pue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undo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requieren de cuidados y atenciones constantes para sobrevivir; la coordinación motriz y el desarrollo de sus sentidos son muy pobres y a menudo sufren impedimentos fí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enden totalmente de s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id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979280" y="333360"/>
            <a:ext cx="716436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 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19.gif (19831 bytes)"/>
          <p:cNvPicPr/>
          <p:nvPr/>
        </p:nvPicPr>
        <p:blipFill>
          <a:blip r:embed="rId1"/>
          <a:stretch/>
        </p:blipFill>
        <p:spPr>
          <a:xfrm>
            <a:off x="7308720" y="1916280"/>
            <a:ext cx="1362240" cy="2016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wheel.gif (10606 bytes)"/>
          <p:cNvPicPr/>
          <p:nvPr/>
        </p:nvPicPr>
        <p:blipFill>
          <a:blip r:embed="rId2"/>
          <a:stretch/>
        </p:blipFill>
        <p:spPr>
          <a:xfrm>
            <a:off x="6156360" y="4238640"/>
            <a:ext cx="20160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79280" y="865080"/>
            <a:ext cx="716436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 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Alzheimer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4920" y="1618920"/>
            <a:ext cx="8064360" cy="26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5000"/>
          </a:bodyPr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S PERSONAS MAYORES SON L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S SUSCEPTIBLES DE SUFRIR D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DIDA DE MEM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con el Alzheimer además sufre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000000"/>
                </a:solidFill>
                <a:latin typeface="Arial"/>
              </a:rPr>
              <a:t>Desori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000000"/>
                </a:solidFill>
                <a:latin typeface="Arial"/>
              </a:rPr>
              <a:t>Creciente depen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-156960">
              <a:spcBef>
                <a:spcPts val="700"/>
              </a:spcBef>
              <a:buClr>
                <a:srgbClr val="cc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000000"/>
                </a:solidFill>
                <a:latin typeface="Arial"/>
              </a:rPr>
              <a:t>Predominio de síntomas psíquicos y de comport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ero ante todo son seres humano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accionan a una sonrisa, al amor y buen trato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040920_butterly_rose.gif (14657 bytes)"/>
          <p:cNvPicPr/>
          <p:nvPr/>
        </p:nvPicPr>
        <p:blipFill>
          <a:blip r:embed="rId1"/>
          <a:stretch/>
        </p:blipFill>
        <p:spPr>
          <a:xfrm>
            <a:off x="6912000" y="1557360"/>
            <a:ext cx="21067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3640" y="1823760"/>
            <a:ext cx="5400360" cy="52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s personas con Autis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ienen grandes dificultades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comprensión del lengua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 verbal, como en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tendimiento de la mira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 los gestos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demás tienen problemas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selección y priorización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ímul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195280" y="8362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Discapacidad Intelectual 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Autism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butt3Red.gif (6509 bytes)"/>
          <p:cNvPicPr/>
          <p:nvPr/>
        </p:nvPicPr>
        <p:blipFill>
          <a:blip r:embed="rId1"/>
          <a:stretch/>
        </p:blipFill>
        <p:spPr>
          <a:xfrm>
            <a:off x="6084720" y="270972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 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Retardo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2000" y="233856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 término retardo mental alude a limitaciones sustanciales en el funcionamiento actual de la person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84720" y="1700280"/>
            <a:ext cx="2333880" cy="3109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867280" y="4724280"/>
            <a:ext cx="266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embarg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oy en capac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 devol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afecto que me 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 y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Retardo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080" y="1484280"/>
            <a:ext cx="92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caracteriza por un funcionamiento intelectual significativamente inferior a la media, que generalmente coexiste junto a limitaciones en dos o más de las siguientes áreas de habilidades de adapt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-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a en el ho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ción de l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dire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2997360"/>
            <a:ext cx="468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ud y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lidades Académicas fun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li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!cid_3DDCBAB9-1BBA-4463-ABC5-C5FAC3651980.gif (7282 bytes)"/>
          <p:cNvPicPr/>
          <p:nvPr/>
        </p:nvPicPr>
        <p:blipFill>
          <a:blip r:embed="rId1"/>
          <a:stretch/>
        </p:blipFill>
        <p:spPr>
          <a:xfrm>
            <a:off x="3789360" y="5877000"/>
            <a:ext cx="5175360" cy="13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52400"/>
            <a:ext cx="5400720" cy="52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son capaces de compartir 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ntimientos y experiencias, lo c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 quiere decir, de ninguna mane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no los vivan, y no desarrollan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bilidad del eng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mente, las personas 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ardo mental encuentran se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icultades para utilizar los teléfo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inarios por su capacidad ver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itada y por la falta de soporte vis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l mensaje verb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Retardo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Aliens1.gif (3465 bytes)"/>
          <p:cNvPicPr/>
          <p:nvPr/>
        </p:nvPicPr>
        <p:blipFill>
          <a:blip r:embed="rId1"/>
          <a:stretch/>
        </p:blipFill>
        <p:spPr>
          <a:xfrm>
            <a:off x="5797440" y="2835360"/>
            <a:ext cx="30956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2476440" cy="323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867280" y="6480"/>
            <a:ext cx="3276720" cy="2555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1966680" cy="295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556000" y="4465800"/>
            <a:ext cx="3528720" cy="23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6099120" y="2598840"/>
            <a:ext cx="3044880" cy="4259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101680" cy="2954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0" y="3213000"/>
            <a:ext cx="276084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2700360" y="1946160"/>
            <a:ext cx="3456000" cy="3071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708360" y="2924280"/>
            <a:ext cx="1440000" cy="115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No n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Black"/>
              </a:rPr>
              <a:t>excluy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920" y="1652400"/>
            <a:ext cx="4897440" cy="52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ara dificultad para util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ositivos complejos. Ademá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eden tener problemas p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pretar adecuadamente 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nguaje simbólico que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lea en Internet (por ejempl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iconos) y pueden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perderse”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structura de navegación 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le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os se encuent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ompañados por sus cuid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979280" y="433080"/>
            <a:ext cx="7164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Retardo M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04_26_w.gif (27133 bytes)"/>
          <p:cNvPicPr/>
          <p:nvPr/>
        </p:nvPicPr>
        <p:blipFill>
          <a:blip r:embed="rId1"/>
          <a:stretch/>
        </p:blipFill>
        <p:spPr>
          <a:xfrm>
            <a:off x="6175440" y="2781360"/>
            <a:ext cx="214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-36720" y="1484280"/>
            <a:ext cx="755964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A medida que avanza la enfermedad, el enfermo exige  gradualmente atención y dedicación exclusiva, para mantener sus condiciones de higiene, dignidad y respeto a su condición human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Esto puede provocar esfuerzo continuo, dolor y depresión que afecta la vida familiar, más aún cuando no se han aceptado los cambios de comportamiento y al encontrarse el familiar impotente para resolver la situació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Muchas veces nos encontramos con familiares que no aceptan la enfermedad y empiezan a desarrollar este sentimiento de culpa o de vic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050560" y="577800"/>
            <a:ext cx="709308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En el Alzheimer ( y otras DI) 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también hay que apoyar al Cuidador y a la fami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407360" y="3789360"/>
            <a:ext cx="1736640" cy="2316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739280" y="1844640"/>
            <a:ext cx="1137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id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amil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ambié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eces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001960" y="14846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48428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Times New Roman"/>
              </a:rPr>
              <a:t>Vea en </a:t>
            </a:r>
            <a:r>
              <a:rPr b="0" lang="es-ES" sz="8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fevedi.org.ve</a:t>
            </a:r>
            <a:r>
              <a:rPr b="0" lang="es-E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000000"/>
                </a:solidFill>
                <a:latin typeface="Times New Roman"/>
              </a:rPr>
              <a:t>Ponga “videos”en “buscador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6920" y="0"/>
            <a:ext cx="83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ara una mayor compren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de la Discapacidad Intele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376280"/>
            <a:ext cx="914400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3600" y="24098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CONGRESO FEVEDI 200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Discapacidad y Comunidad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0000"/>
                </a:solidFill>
                <a:latin typeface="Arial"/>
              </a:rPr>
              <a:t>26 y 27 de Abril de 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evedi.org.ve/leer.php/270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fevedi@gmail.com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428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invitamos a partici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mo ponentes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sistentes en 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236000" y="-28440"/>
            <a:ext cx="1908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1628640"/>
            <a:ext cx="84978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 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rar el Plan Nacional de Atención Integral a las personas con discapa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reación del Fondo de proyectos para personas con discapacida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er Concurso Nacional de proyectos CONAPDIS 2008 para Organizaciones y Comités Comunitarios para personas con discapacidad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37880" y="433080"/>
            <a:ext cx="666612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do Encuentro de Organizaciones de y para personas con discapacidad y el CONAPDI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652400"/>
            <a:ext cx="8324640" cy="520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Orientar las relaciones con las organizaciones de y para personas con discapacidad hacia un modelo GANAR GANAR, donde el CONAPDIS pueda solventar, como órgano ejecutor de las políticas públicas relativas a la discapacidad, algunas de las necesidades que presenta ésta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blación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Orientar una estrategia que permita la capacitación en la formulación (evaluación y seguimiento) de proyectos que coadyuven a satisfacer las necesidades de las comunidades y conseguir sus respectivos financiamientos por parte de entes creditic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43280" y="793440"/>
            <a:ext cx="558648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MATICAS :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1652400"/>
            <a:ext cx="7891200" cy="46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inanciamientos disponibles y procedimientos para proyectos sustentables. 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FUENTES DISPONIBLES DE FINANCIAMIENTO PARA DESARROLLAR PROYECTOS Y PROGRAMAS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SE AJUSTAN A LAS NECESIDADES DE LA COMUNIDAD?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4360" y="1652760"/>
            <a:ext cx="8076960" cy="49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yectos y Programas exitosos de 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s Preventivas , Estimulación Cognitiva, Integración e Inserción laboral , Rehabilitación , Formación de Recursos Humanos, Cooperativismo y otros . 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PROYECTOS O PROGRAMAS QUE SE HAN DESARROLLADO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MUESTRAN RESULTADOS SATISFACTORIOS Y DE IMPACTO EN SU COMUNIDAD?.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 FUE LA METODOLOGIA USADA PARA DESARROLLAR ESTOS PROYECTOS O PROGRAMAS?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UALES SON LAS NECESIDADES PARA SU SUSTENTABILID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843280" y="1153800"/>
            <a:ext cx="558648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MATICAS :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(Continuación…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151272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PORTE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 CALIDAD DE VIDA DE LAS PERSONAS CON DISCAPACIDAD Y SUS FAMILIAS EN NUEST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COMUN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707920"/>
            <a:ext cx="9144000" cy="194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UCHISIMAS GRACI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OR SU PARTICIPAC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93816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Arial Black"/>
              </a:rPr>
              <a:t>La Discapacidad Intelectu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640720" cy="46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zhe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ardo Mental (Sindrome de Down y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isis Cereb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der W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o de accidentes y 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evedi.org.ve/leer.php/2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165400" y="1679400"/>
          <a:ext cx="4813200" cy="2376360"/>
        </p:xfrm>
        <a:graphic>
          <a:graphicData uri="http://schemas.openxmlformats.org/drawingml/2006/table">
            <a:tbl>
              <a:tblPr/>
              <a:tblGrid>
                <a:gridCol w="481320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 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93816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Arial Black"/>
              </a:rPr>
              <a:t>La Discapacidad Intelectu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799308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iste una clasificación del MPP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pacidad Intele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pacidad Psico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mos que las DI detallad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mente se ubican tanto en la discapacid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ectual propiamente dicha como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pacidad psicosocial, por el alto impac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gene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165400" y="1679400"/>
          <a:ext cx="4813200" cy="2376360"/>
        </p:xfrm>
        <a:graphic>
          <a:graphicData uri="http://schemas.openxmlformats.org/drawingml/2006/table">
            <a:tbl>
              <a:tblPr/>
              <a:tblGrid>
                <a:gridCol w="4813200"/>
              </a:tblGrid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 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60280"/>
            <a:ext cx="75960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Poblaciones vuln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26692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iños nacidos con D.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población de adultos mayores esta en continuo crecimiento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tercio o la mitad necesitan de cuidado la mayor parte del tiempo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la población con mayor riesgo de discapacidad ( a medida que avanzan en edad) y ante un diagnóstico de Alzheim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18920" y="620640"/>
            <a:ext cx="7273800" cy="835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¿Como es la vida de una persona con </a:t>
            </a:r>
            <a:r>
              <a:rPr b="0" lang="es-VE" sz="2800" spc="-1" strike="noStrike">
                <a:solidFill>
                  <a:srgbClr val="000000"/>
                </a:solidFill>
                <a:latin typeface="Arial Black"/>
              </a:rPr>
              <a:t> Discapacidad Intelectual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n derecho a vivir como todos nosotr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mayoría de los casos dependen de un cuidador en su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tidiana en mayor o en menor cuantía dependiendo de su deter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lectual.  El cuidador es otra victima de la D.I si no es at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ltidisciplinariamente  su ca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porcentaje de inserción laboral (independiente) es muy bajo, un 2%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or ello estamos proponiendo los Centros Comunitarios de Cuidad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tención Social Integral, Recreativa, Cultural y Deportiv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ersonas con Discapacidad Intelectual, y personas dependientes,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s familias (CEDEP)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fevedi.org.ve/leer.php/233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SON CENTROS EDUCATIVOS, NI CENTROS DE ATENCIÓN MÉDICA (O ASISTENCI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793440"/>
            <a:ext cx="759636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Nuestra Meta, que lo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 Black"/>
              </a:rPr>
              <a:t>CEDEP sean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grales: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la solución del problema de la Discapacidad Intelectual o dependencia, sea desde un punto de vista integral, aportando al mismo tiempo, soluciones de salud pública y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ales: 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idar en todos sus diseños y estructuras, la materialización de ambientes de fácil utilización e identificación, tanto por la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cD.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como por sus cuidadores y famili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amiliares: 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curar reproducir en cada unidad de convivencia (concebida para ser usada por 40 personas con D.I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/o Personas Dependientes,) lo más próximo a un ambiente hogareño, con espacios abiertos, saludables e integrados a la naturaleza, con identificaciones claras de referencias personales y familiares, teniendo en cuenta que la atención debe ser desde el punto de vista cualitativo y no cuantitativo, cada caso es particular y “único” y como tal deberá ser tra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ulares: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concepción es por unidades modulares con capacidad para 40 personas (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0 personas por cada grupo de DI y/o Personas Dependi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2920" y="793440"/>
            <a:ext cx="748980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Black"/>
              </a:rPr>
              <a:t>Dentro de la nueva Ley de personas con Discapacidad, se pretende corregir situaciones presentes como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2013120"/>
            <a:ext cx="7848720" cy="444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 diversidad de discapacidad intelectual que no esta siendo atendida adecuadamente desde sus in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encia en el diseño de políticas publicas a nivel nacional en 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ioro o disfuncionalidad del núcleo familiar, sobre todo en la población de los segmentos C,D y E, lo cual ha generado, por carencia de las herramientas necesarias, el deterioro físico – mental paulatino de esta población, convirtiendo esta situación en un problema de Estad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8000" y="433080"/>
            <a:ext cx="7164720" cy="834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La Discapacidad Intelectual</a:t>
            </a:r>
            <a:br>
              <a:rPr sz="3600"/>
            </a:br>
            <a:r>
              <a:rPr b="1" lang="es-VE" sz="3600" spc="-1" strike="noStrike">
                <a:solidFill>
                  <a:srgbClr val="000000"/>
                </a:solidFill>
                <a:latin typeface="Arial"/>
              </a:rPr>
              <a:t>Ámbitos y Característ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720" y="1484280"/>
            <a:ext cx="705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nudo, junto a limitaciones especificas coexisten potencialidades en otras áreas adaptativas o capacidades pers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persona con deficiencia intelectual es quien desde su infancia se desarrolla en grado inferior al normal, y presenta dificultades en el aprendizaje, la adaptación social y productividad económ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el Alzheimer es un D.I adquirida por enferm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1978200" cy="2637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769080" y="2133720"/>
            <a:ext cx="2266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in embarg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 pes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 nuestra dis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odemos dar amo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8:34:29Z</dcterms:created>
  <dc:creator>MIRA JOSIK</dc:creator>
  <dc:description/>
  <cp:keywords/>
  <dc:language>en-US</dc:language>
  <cp:lastModifiedBy> </cp:lastModifiedBy>
  <cp:lastPrinted>1996-09-10T13:20:06Z</cp:lastPrinted>
  <dcterms:modified xsi:type="dcterms:W3CDTF">2008-03-04T02:37:33Z</dcterms:modified>
  <cp:revision>154</cp:revision>
  <dc:subject/>
  <dc:title>Información general de la organiz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503082</vt:lpwstr>
  </property>
</Properties>
</file>