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C6E4A-3D22-4AF8-A28C-AAE5C1D42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D7B98-B79E-44ED-B463-AF920BCDC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48829-D2DE-4BB5-A477-158CC8E39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F9020-7D2E-4BA6-A218-09D2044B4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6F1C0-2C89-4A39-8ED2-9E7437D85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DDCB7-C910-459B-8FBA-8CE864817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B4EF7-836A-415B-A2BC-655A928D5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E2F7F-4A0B-4D57-9FF0-9DED5EAF5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63335-2E24-4625-831F-EB03D0815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2C867-B932-48C3-B93F-6DB908436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A5DFA-84CB-48ED-9327-4C60DE354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00B73-C0A3-48F1-9948-ECE8EFC11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2FAD-153E-4E4C-A49D-EE0447E8692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95280" y="260280"/>
            <a:ext cx="2592360" cy="1552680"/>
          </a:xfrm>
          <a:prstGeom prst="rect">
            <a:avLst/>
          </a:prstGeom>
          <a:ln w="0">
            <a:noFill/>
          </a:ln>
        </p:spPr>
      </p:pic>
      <p:sp>
        <p:nvSpPr>
          <p:cNvPr id="42" name=""/>
          <p:cNvSpPr/>
          <p:nvPr/>
        </p:nvSpPr>
        <p:spPr>
          <a:xfrm>
            <a:off x="3276720" y="404640"/>
            <a:ext cx="5543280" cy="15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quipo de Formación, Información y Publicaciones</a:t>
            </a:r>
            <a:endParaRPr b="0" lang="en-US" sz="2800" spc="-1" strike="noStrike">
              <a:solidFill>
                <a:srgbClr val="000000"/>
              </a:solidFill>
              <a:latin typeface="Arial"/>
            </a:endParaRPr>
          </a:p>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Fundado en 1972</a:t>
            </a:r>
            <a:endParaRPr b="0" lang="en-US" sz="1500" spc="-1" strike="noStrike">
              <a:solidFill>
                <a:srgbClr val="000000"/>
              </a:solidFill>
              <a:latin typeface="Arial"/>
            </a:endParaRPr>
          </a:p>
        </p:txBody>
      </p:sp>
      <p:sp>
        <p:nvSpPr>
          <p:cNvPr id="43" name=""/>
          <p:cNvSpPr/>
          <p:nvPr/>
        </p:nvSpPr>
        <p:spPr>
          <a:xfrm>
            <a:off x="468360" y="2492280"/>
            <a:ext cx="7991280" cy="27752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RLA:</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áles son los nuevos escenarios para el trabajo comunitario en Venezuela?</a:t>
            </a:r>
            <a:endParaRPr b="0" lang="en-US" sz="4400" spc="-1" strike="noStrike">
              <a:solidFill>
                <a:srgbClr val="000000"/>
              </a:solidFill>
              <a:latin typeface="Arial"/>
            </a:endParaRPr>
          </a:p>
        </p:txBody>
      </p:sp>
      <p:sp>
        <p:nvSpPr>
          <p:cNvPr id="44" name=""/>
          <p:cNvSpPr/>
          <p:nvPr/>
        </p:nvSpPr>
        <p:spPr>
          <a:xfrm>
            <a:off x="539640" y="573408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mblea de REDSOC. Marzo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000000"/>
                </a:solidFill>
                <a:latin typeface="Arial"/>
              </a:rPr>
              <a:t>Características de los </a:t>
            </a:r>
            <a:br>
              <a:rPr sz="4000"/>
            </a:br>
            <a:r>
              <a:rPr b="0" lang="es-VE" sz="4000" spc="-1" strike="noStrike">
                <a:solidFill>
                  <a:srgbClr val="000000"/>
                </a:solidFill>
                <a:latin typeface="Arial"/>
              </a:rPr>
              <a:t>nuevos escenarios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uevas organizaciones </a:t>
            </a:r>
            <a:br>
              <a:rPr sz="4000"/>
            </a:br>
            <a:r>
              <a:rPr b="0" lang="en-US" sz="4000" spc="-1" strike="noStrike">
                <a:solidFill>
                  <a:srgbClr val="000000"/>
                </a:solidFill>
                <a:latin typeface="Arial"/>
              </a:rPr>
              <a:t>para viejas situaciones …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uevas necesidades </a:t>
            </a:r>
            <a:br>
              <a:rPr sz="4000"/>
            </a:br>
            <a:r>
              <a:rPr b="0" lang="en-US" sz="4000" spc="-1" strike="noStrike">
                <a:solidFill>
                  <a:srgbClr val="000000"/>
                </a:solidFill>
                <a:latin typeface="Arial"/>
              </a:rPr>
              <a:t>para diferentes funciones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uevos desafíos </a:t>
            </a:r>
            <a:br>
              <a:rPr sz="4000"/>
            </a:br>
            <a:r>
              <a:rPr b="0" lang="en-US" sz="4000" spc="-1" strike="noStrike">
                <a:solidFill>
                  <a:srgbClr val="000000"/>
                </a:solidFill>
                <a:latin typeface="Arial"/>
              </a:rPr>
              <a:t>para visiones compartid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Nuevas organizaciones </a:t>
            </a:r>
            <a:br>
              <a:rPr sz="4000"/>
            </a:br>
            <a:r>
              <a:rPr b="0" lang="en-US" sz="4000" spc="-1" strike="noStrike">
                <a:solidFill>
                  <a:srgbClr val="ffffff"/>
                </a:solidFill>
                <a:latin typeface="Arial"/>
              </a:rPr>
              <a:t>para viejas situaciones …</a:t>
            </a:r>
            <a:endParaRPr b="0" lang="en-US" sz="4000" spc="-1" strike="noStrike">
              <a:solidFill>
                <a:srgbClr val="000000"/>
              </a:solidFill>
              <a:latin typeface="Arial"/>
            </a:endParaRPr>
          </a:p>
        </p:txBody>
      </p:sp>
      <p:sp>
        <p:nvSpPr>
          <p:cNvPr id="48" name="PlaceHolder 2"/>
          <p:cNvSpPr>
            <a:spLocks noGrp="1"/>
          </p:cNvSpPr>
          <p:nvPr>
            <p:ph/>
          </p:nvPr>
        </p:nvSpPr>
        <p:spPr>
          <a:xfrm>
            <a:off x="468000" y="1628640"/>
            <a:ext cx="8218440" cy="4708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os de organizaciones actua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ités de Tierra (CT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ités de Salu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as técnicas de agu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as técnicas de energí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ités de Vivienda y Hábit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bes de Abuel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perativ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jos Comunales. Bancos comunales</a:t>
            </a:r>
            <a:endParaRPr b="0" lang="en-US" sz="2400" spc="-1" strike="noStrike">
              <a:solidFill>
                <a:srgbClr val="000000"/>
              </a:solidFill>
              <a:latin typeface="Arial"/>
            </a:endParaRPr>
          </a:p>
          <a:p>
            <a:pPr lvl="4" marL="2057400" indent="-228600">
              <a:lnSpc>
                <a:spcPct val="9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organizaciones comunitarias participan en políticas o programas gubernamentales, y reciben apoyo y financiamiento de ministerios, gobernaciones, alcaldías, etc.</a:t>
            </a:r>
            <a:endParaRPr b="0" lang="en-US" sz="16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Nuevas necesidades </a:t>
            </a:r>
            <a:br>
              <a:rPr sz="4000"/>
            </a:br>
            <a:r>
              <a:rPr b="0" lang="en-US" sz="4000" spc="-1" strike="noStrike">
                <a:solidFill>
                  <a:srgbClr val="ffffff"/>
                </a:solidFill>
                <a:latin typeface="Arial"/>
              </a:rPr>
              <a:t>para diferentes funciones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rganizació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unicación, diálogo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derazgo y trabajo en equipo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rPr>
              <a:t>debate polític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estión social comunitaria (física y financier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etencias administrativas y de contro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bilidades gerenciales y sociales (negociación, manejo de conflictos, planificación y evaluación…)</a:t>
            </a:r>
            <a:endParaRPr b="0" lang="en-US" sz="24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rganizaciones comunitarias de hoy ya no sólo reivindican derechos, sino que asumen deberes y corresponsabilidades con el Estado en el diseño, ejecución, seguimiento, control y evaluación de la gestión pública, y en particular de programas soci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Nuevos desafíos </a:t>
            </a:r>
            <a:br>
              <a:rPr sz="4000"/>
            </a:br>
            <a:r>
              <a:rPr b="0" lang="en-US" sz="4000" spc="-1" strike="noStrike">
                <a:solidFill>
                  <a:srgbClr val="ffffff"/>
                </a:solidFill>
                <a:latin typeface="Arial"/>
              </a:rPr>
              <a:t>para visiones compartidas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utonomía</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utogestión</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ación acelerada de nuevos liderazgo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evo generacional</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Arial"/>
              </a:rPr>
              <a:t>Gestión eficaz</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000000"/>
                </a:solidFill>
                <a:latin typeface="Arial"/>
              </a:rPr>
              <a:t>Logros y resultado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36520" indent="-22608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entidades que pretendan trabajar con las organizaciones comunitarias de hoy, deben tener una visión compartida con estas organizaciones. Una visión basada en la constitución nacional de 1999 donde se describe un modelo de democracia particip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rategias para actuar en estos escenarios y relacionarse con las organizaciones comunitarias</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buen comienzo puede ser participar en ellas … hay una cerca de su domicili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ecer relaciones de confianz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r modelos alternativos de relación, apoyo, formación y asistencia técnica, asesorí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mpetencia no es por ofrecer recursos (oferta saturada) sino por la calidad de la oferta …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s allá de las leyes y de los programas gubernamentales, comprometernos junto con ellas con la transformación social de Venezuel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5T02:53:56Z</dcterms:created>
  <dc:creator>User</dc:creator>
  <dc:description/>
  <dc:language>en-US</dc:language>
  <cp:lastModifiedBy>VICENTE</cp:lastModifiedBy>
  <dcterms:modified xsi:type="dcterms:W3CDTF">2007-03-07T14:04:04Z</dcterms:modified>
  <cp:revision>9</cp:revision>
  <dc:subject/>
  <dc:title>Diapositiva 1</dc:title>
</cp:coreProperties>
</file>