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352-137E-4B0F-A012-B3FE7399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802-0DF4-4527-B770-BF0F5B0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DDF-7DA8-4D32-9BDF-6EBC3FB1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EEA-EE18-42B1-BA27-3718248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715-C1F7-4703-9043-3D26D031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D8C-FA2D-4A34-9258-0E867C4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F12-F38E-4FC6-8240-B34BB29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7DE-2576-4E56-95C9-D796ED2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5CA-67F2-4474-8017-F79569A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9A0-2B75-4316-8B6D-39732B75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66A-DB93-44FD-8F32-095D347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72D-4974-481E-84B8-F49F1FF0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18EE-347E-4CBF-A306-13F44D06A7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oxKidsAlphaOnAirL"/>
              </a:rPr>
              <a:t>Federación de Ateneos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979560"/>
            <a:ext cx="3335400" cy="3673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00720" y="119844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lmagro"/>
              </a:rPr>
              <a:t>“</a:t>
            </a:r>
            <a:r>
              <a:rPr b="0" lang="es-ES" sz="7200" spc="-1" strike="noStrike">
                <a:solidFill>
                  <a:srgbClr val="000000"/>
                </a:solidFill>
                <a:latin typeface="Almagro"/>
              </a:rPr>
              <a:t>Cultura en accion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9840" y="5736960"/>
            <a:ext cx="4646520" cy="1120680"/>
            <a:chOff x="69840" y="5736960"/>
            <a:chExt cx="4646520" cy="1120680"/>
          </a:xfrm>
        </p:grpSpPr>
        <p:grpSp>
          <p:nvGrpSpPr>
            <p:cNvPr id="45" name=""/>
            <p:cNvGrpSpPr/>
            <p:nvPr/>
          </p:nvGrpSpPr>
          <p:grpSpPr>
            <a:xfrm>
              <a:off x="3975840" y="6113160"/>
              <a:ext cx="740520" cy="740880"/>
              <a:chOff x="3975840" y="6113160"/>
              <a:chExt cx="740520" cy="740880"/>
            </a:xfrm>
          </p:grpSpPr>
          <p:sp>
            <p:nvSpPr>
              <p:cNvPr id="46" name=""/>
              <p:cNvSpPr/>
              <p:nvPr/>
            </p:nvSpPr>
            <p:spPr>
              <a:xfrm rot="16200000">
                <a:off x="4160880" y="61131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6200000">
                <a:off x="3975840" y="61131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4160880" y="62985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6200000">
                <a:off x="4346280" y="64839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4346280" y="62985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6200000">
                <a:off x="4531320" y="64839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4160880" y="666900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411720" y="6116760"/>
              <a:ext cx="740520" cy="740880"/>
              <a:chOff x="3411720" y="6116760"/>
              <a:chExt cx="740520" cy="740880"/>
            </a:xfrm>
          </p:grpSpPr>
          <p:sp>
            <p:nvSpPr>
              <p:cNvPr id="54" name=""/>
              <p:cNvSpPr/>
              <p:nvPr/>
            </p:nvSpPr>
            <p:spPr>
              <a:xfrm rot="16200000">
                <a:off x="3596760" y="61167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6200000">
                <a:off x="3411720" y="61167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3596760" y="63021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6200000">
                <a:off x="3782160" y="64875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3782160" y="63021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3967200" y="64875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3596760" y="667260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852280" y="5908320"/>
              <a:ext cx="740520" cy="740880"/>
              <a:chOff x="2852280" y="5908320"/>
              <a:chExt cx="740520" cy="740880"/>
            </a:xfrm>
          </p:grpSpPr>
          <p:sp>
            <p:nvSpPr>
              <p:cNvPr id="62" name=""/>
              <p:cNvSpPr/>
              <p:nvPr/>
            </p:nvSpPr>
            <p:spPr>
              <a:xfrm rot="5400000">
                <a:off x="3222720" y="64641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3407760" y="64641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3222720" y="62787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400000">
                <a:off x="3037320" y="60933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400000">
                <a:off x="3037320" y="62787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2852280" y="60933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00000">
                <a:off x="3222720" y="590832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288160" y="6089040"/>
              <a:ext cx="740520" cy="740880"/>
              <a:chOff x="2288160" y="6089040"/>
              <a:chExt cx="740520" cy="740880"/>
            </a:xfrm>
          </p:grpSpPr>
          <p:sp>
            <p:nvSpPr>
              <p:cNvPr id="70" name=""/>
              <p:cNvSpPr/>
              <p:nvPr/>
            </p:nvSpPr>
            <p:spPr>
              <a:xfrm rot="5400000">
                <a:off x="2658600" y="664488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2843640" y="664488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2658600" y="645948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5400000">
                <a:off x="2473200" y="627408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2473200" y="645948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5400000">
                <a:off x="2288160" y="627408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5400000">
                <a:off x="2658600" y="608904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rot="10800000">
              <a:off x="1924200" y="647784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2109240" y="629280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1924200" y="629280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2109240" y="610740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2294640" y="6458760"/>
              <a:ext cx="185040" cy="1850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371240" y="5736960"/>
              <a:ext cx="740520" cy="740880"/>
              <a:chOff x="1371240" y="5736960"/>
              <a:chExt cx="740520" cy="740880"/>
            </a:xfrm>
          </p:grpSpPr>
          <p:sp>
            <p:nvSpPr>
              <p:cNvPr id="83" name=""/>
              <p:cNvSpPr/>
              <p:nvPr/>
            </p:nvSpPr>
            <p:spPr>
              <a:xfrm rot="10800000">
                <a:off x="1371240" y="61077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0800000">
                <a:off x="1371240" y="629280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0800000">
                <a:off x="1556640" y="61077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1741680" y="59223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0800000">
                <a:off x="1556640" y="59223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0800000">
                <a:off x="1741680" y="57369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0800000">
                <a:off x="1926720" y="610776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rot="10800000">
              <a:off x="1739160" y="647784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1739160" y="666324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67280" y="647028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7560" y="6280200"/>
              <a:ext cx="185040" cy="1850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55920" y="648396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55920" y="666432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28560" y="6102360"/>
              <a:ext cx="740520" cy="740880"/>
              <a:chOff x="628560" y="6102360"/>
              <a:chExt cx="740520" cy="740880"/>
            </a:xfrm>
          </p:grpSpPr>
          <p:sp>
            <p:nvSpPr>
              <p:cNvPr id="97" name=""/>
              <p:cNvSpPr/>
              <p:nvPr/>
            </p:nvSpPr>
            <p:spPr>
              <a:xfrm rot="16200000">
                <a:off x="813600" y="61023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628560" y="61023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00000">
                <a:off x="813600" y="62877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999000" y="64731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999000" y="62877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1184040" y="64731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813600" y="665820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9840" y="6113160"/>
              <a:ext cx="740520" cy="740880"/>
              <a:chOff x="69840" y="6113160"/>
              <a:chExt cx="740520" cy="74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25320" y="629820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5320" y="61131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20" y="629820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880" y="648360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920" y="648360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880" y="666900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840" y="629820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500720" y="5733720"/>
            <a:ext cx="4646520" cy="1120680"/>
            <a:chOff x="4500720" y="5733720"/>
            <a:chExt cx="4646520" cy="1120680"/>
          </a:xfrm>
        </p:grpSpPr>
        <p:grpSp>
          <p:nvGrpSpPr>
            <p:cNvPr id="113" name=""/>
            <p:cNvGrpSpPr/>
            <p:nvPr/>
          </p:nvGrpSpPr>
          <p:grpSpPr>
            <a:xfrm>
              <a:off x="8406720" y="6109920"/>
              <a:ext cx="740520" cy="740880"/>
              <a:chOff x="8406720" y="6109920"/>
              <a:chExt cx="740520" cy="740880"/>
            </a:xfrm>
          </p:grpSpPr>
          <p:sp>
            <p:nvSpPr>
              <p:cNvPr id="114" name=""/>
              <p:cNvSpPr/>
              <p:nvPr/>
            </p:nvSpPr>
            <p:spPr>
              <a:xfrm rot="16200000">
                <a:off x="8591760" y="61099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200000">
                <a:off x="8406720" y="61099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8591760" y="62953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200000">
                <a:off x="8777160" y="64807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8777160" y="62953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6200000">
                <a:off x="8962200" y="64807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8591760" y="666576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842600" y="6113520"/>
              <a:ext cx="740520" cy="740880"/>
              <a:chOff x="7842600" y="6113520"/>
              <a:chExt cx="740520" cy="740880"/>
            </a:xfrm>
          </p:grpSpPr>
          <p:sp>
            <p:nvSpPr>
              <p:cNvPr id="122" name=""/>
              <p:cNvSpPr/>
              <p:nvPr/>
            </p:nvSpPr>
            <p:spPr>
              <a:xfrm rot="16200000">
                <a:off x="8027640" y="61135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7842600" y="61135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8027640" y="62989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8213040" y="64843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8213040" y="62989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8398080" y="64843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8027640" y="666936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83160" y="5905080"/>
              <a:ext cx="740520" cy="740880"/>
              <a:chOff x="7283160" y="5905080"/>
              <a:chExt cx="740520" cy="74088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7653600" y="64609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7838640" y="64609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5400000">
                <a:off x="7653600" y="62755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400000">
                <a:off x="7468200" y="60901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5400000">
                <a:off x="7468200" y="62755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400000">
                <a:off x="7283160" y="60901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5400000">
                <a:off x="7653600" y="590508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19040" y="6085800"/>
              <a:ext cx="740520" cy="740880"/>
              <a:chOff x="6719040" y="6085800"/>
              <a:chExt cx="740520" cy="740880"/>
            </a:xfrm>
          </p:grpSpPr>
          <p:sp>
            <p:nvSpPr>
              <p:cNvPr id="138" name=""/>
              <p:cNvSpPr/>
              <p:nvPr/>
            </p:nvSpPr>
            <p:spPr>
              <a:xfrm rot="5400000">
                <a:off x="7089480" y="664164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7274520" y="664164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7089480" y="645624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6904080" y="627084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6904080" y="645624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00000">
                <a:off x="6719040" y="627084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7089480" y="608580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00000">
              <a:off x="6355080" y="647460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6540120" y="628956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6355080" y="628956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6540120" y="610416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725520" y="6455520"/>
              <a:ext cx="185040" cy="1850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02120" y="5733720"/>
              <a:ext cx="740520" cy="740880"/>
              <a:chOff x="5802120" y="5733720"/>
              <a:chExt cx="740520" cy="740880"/>
            </a:xfrm>
          </p:grpSpPr>
          <p:sp>
            <p:nvSpPr>
              <p:cNvPr id="151" name=""/>
              <p:cNvSpPr/>
              <p:nvPr/>
            </p:nvSpPr>
            <p:spPr>
              <a:xfrm rot="10800000">
                <a:off x="5802120" y="61045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5802120" y="62895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0800000">
                <a:off x="5987520" y="61045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0800000">
                <a:off x="6172560" y="59191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0800000">
                <a:off x="5987520" y="59191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0800000">
                <a:off x="6172560" y="57337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6357600" y="610452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rot="10800000">
              <a:off x="6170040" y="647460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6170040" y="666000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8160" y="646704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08440" y="6276960"/>
              <a:ext cx="185040" cy="1850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86800" y="6480720"/>
              <a:ext cx="185040" cy="185040"/>
            </a:xfrm>
            <a:prstGeom prst="rect">
              <a:avLst/>
            </a:prstGeom>
            <a:solidFill>
              <a:srgbClr val="cc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6800" y="6661080"/>
              <a:ext cx="185040" cy="185040"/>
            </a:xfrm>
            <a:prstGeom prst="rect">
              <a:avLst/>
            </a:prstGeom>
            <a:solidFill>
              <a:srgbClr val="99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059440" y="6099120"/>
              <a:ext cx="740520" cy="740880"/>
              <a:chOff x="5059440" y="6099120"/>
              <a:chExt cx="740520" cy="740880"/>
            </a:xfrm>
          </p:grpSpPr>
          <p:sp>
            <p:nvSpPr>
              <p:cNvPr id="165" name=""/>
              <p:cNvSpPr/>
              <p:nvPr/>
            </p:nvSpPr>
            <p:spPr>
              <a:xfrm rot="16200000">
                <a:off x="5244480" y="60991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6200000">
                <a:off x="5059440" y="60991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5244480" y="62845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5429880" y="64699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200000">
                <a:off x="5429880" y="62845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00000">
                <a:off x="5614920" y="646992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5244480" y="665496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500720" y="6109920"/>
              <a:ext cx="740520" cy="740880"/>
              <a:chOff x="4500720" y="6109920"/>
              <a:chExt cx="740520" cy="740880"/>
            </a:xfrm>
          </p:grpSpPr>
          <p:sp>
            <p:nvSpPr>
              <p:cNvPr id="173" name=""/>
              <p:cNvSpPr/>
              <p:nvPr/>
            </p:nvSpPr>
            <p:spPr>
              <a:xfrm>
                <a:off x="5056200" y="62949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56200" y="610992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70800" y="62949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5760" y="6480360"/>
                <a:ext cx="185040" cy="185040"/>
              </a:xfrm>
              <a:prstGeom prst="rect">
                <a:avLst/>
              </a:prstGeom>
              <a:solidFill>
                <a:srgbClr val="cce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70800" y="64803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85760" y="6665760"/>
                <a:ext cx="185040" cy="185040"/>
              </a:xfrm>
              <a:prstGeom prst="rect">
                <a:avLst/>
              </a:prstGeom>
              <a:solidFill>
                <a:srgbClr val="99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00720" y="6294960"/>
                <a:ext cx="185040" cy="1850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0" y="-27000"/>
            <a:ext cx="9144000" cy="405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34131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laddin"/>
              </a:rPr>
              <a:t>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16000" y="1125360"/>
            <a:ext cx="7128000" cy="3544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4604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s-ES" sz="3000" spc="-1" strike="noStrike">
                <a:solidFill>
                  <a:srgbClr val="003399"/>
                </a:solidFill>
                <a:latin typeface="Georgia"/>
              </a:rPr>
              <a:t>Desde el año 1990, la Federación de Ateneos de Venezuela creó el centro de Investigación  y Formación  Ateneísta (CIFA), a fin de integrar y generar unas líneas comunes para el fortalecimiento  y preparación  de toda la comunidad ateneísta agremiada a la federación. En el 2005, la nueva Junta Directiva de Fedeateneos, retoma el proyecto CIFA para adecuarlo a los nuevos modos y necesidades del quehacer cultural del paí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4000" y="6021360"/>
            <a:ext cx="8638920" cy="647640"/>
            <a:chOff x="324000" y="6021360"/>
            <a:chExt cx="8638920" cy="647640"/>
          </a:xfrm>
        </p:grpSpPr>
        <p:sp>
          <p:nvSpPr>
            <p:cNvPr id="221" name=""/>
            <p:cNvSpPr/>
            <p:nvPr/>
          </p:nvSpPr>
          <p:spPr>
            <a:xfrm>
              <a:off x="8244000" y="6021360"/>
              <a:ext cx="718920" cy="647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1640" y="6021360"/>
              <a:ext cx="719280" cy="647640"/>
            </a:xfrm>
            <a:prstGeom prst="rect">
              <a:avLst/>
            </a:prstGeom>
            <a:solidFill>
              <a:srgbClr val="00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1080" y="6021360"/>
              <a:ext cx="719280" cy="647640"/>
            </a:xfrm>
            <a:prstGeom prst="rect">
              <a:avLst/>
            </a:prstGeom>
            <a:solidFill>
              <a:srgbClr val="0033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9080" y="6021360"/>
              <a:ext cx="718920" cy="647640"/>
            </a:xfrm>
            <a:prstGeom prst="rect">
              <a:avLst/>
            </a:prstGeom>
            <a:solidFill>
              <a:srgbClr val="0033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5280" y="6021360"/>
              <a:ext cx="718920" cy="647640"/>
            </a:xfrm>
            <a:prstGeom prst="rect">
              <a:avLst/>
            </a:prstGeom>
            <a:solidFill>
              <a:srgbClr val="00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6021360"/>
              <a:ext cx="719280" cy="647640"/>
            </a:xfrm>
            <a:prstGeom prst="rect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90920" y="6021360"/>
              <a:ext cx="719280" cy="647640"/>
            </a:xfrm>
            <a:prstGeom prst="rect">
              <a:avLst/>
            </a:prstGeom>
            <a:solidFill>
              <a:srgbClr val="0033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8920" y="6021360"/>
              <a:ext cx="718920" cy="647640"/>
            </a:xfrm>
            <a:prstGeom prst="rect">
              <a:avLst/>
            </a:prstGeom>
            <a:solidFill>
              <a:srgbClr val="0033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6560" y="6021360"/>
              <a:ext cx="719280" cy="647640"/>
            </a:xfrm>
            <a:prstGeom prst="rect">
              <a:avLst/>
            </a:prstGeom>
            <a:solidFill>
              <a:srgbClr val="0033c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4560" y="6021360"/>
              <a:ext cx="718920" cy="647640"/>
            </a:xfrm>
            <a:prstGeom prst="rect">
              <a:avLst/>
            </a:prstGeom>
            <a:solidFill>
              <a:srgbClr val="0033c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00" y="6021360"/>
              <a:ext cx="718920" cy="647640"/>
            </a:xfrm>
            <a:prstGeom prst="rect">
              <a:avLst/>
            </a:prstGeom>
            <a:solidFill>
              <a:srgbClr val="0033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16000" y="1125360"/>
            <a:ext cx="7128000" cy="35449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Georgia"/>
              </a:rPr>
              <a:t>  </a:t>
            </a:r>
            <a:r>
              <a:rPr b="1" lang="es-ES" sz="2400" spc="-1" strike="noStrike">
                <a:solidFill>
                  <a:srgbClr val="003399"/>
                </a:solidFill>
                <a:latin typeface="Georgia"/>
              </a:rPr>
              <a:t>Misión:</a:t>
            </a:r>
            <a:r>
              <a:rPr b="0" lang="es-ES" sz="2400" spc="-1" strike="noStrike">
                <a:solidFill>
                  <a:srgbClr val="00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Georgia"/>
              </a:rPr>
              <a:t>    </a:t>
            </a:r>
            <a:r>
              <a:rPr b="0" lang="es-ES" sz="3000" spc="-1" strike="noStrike">
                <a:solidFill>
                  <a:srgbClr val="003399"/>
                </a:solidFill>
                <a:latin typeface="Georgia"/>
              </a:rPr>
              <a:t>El CIFA  tiene como propósito fundamental el fortalecimiento de la red de ateneos en el ámbito nacional, articulando políticas, métodos y propuestas de formación gerencial para lograr un desarrollo sólido y de alta calidad que permita, a los vinculados a la red ateneísta, una mayor incidencia en los procesos sociales, culturales y de participación ciudada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4000" y="6094440"/>
            <a:ext cx="8638920" cy="647640"/>
            <a:chOff x="324000" y="6094440"/>
            <a:chExt cx="8638920" cy="647640"/>
          </a:xfrm>
        </p:grpSpPr>
        <p:sp>
          <p:nvSpPr>
            <p:cNvPr id="235" name=""/>
            <p:cNvSpPr/>
            <p:nvPr/>
          </p:nvSpPr>
          <p:spPr>
            <a:xfrm>
              <a:off x="8244000" y="6094440"/>
              <a:ext cx="718920" cy="647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51640" y="6094440"/>
              <a:ext cx="719280" cy="647640"/>
            </a:xfrm>
            <a:prstGeom prst="rect">
              <a:avLst/>
            </a:prstGeom>
            <a:solidFill>
              <a:srgbClr val="00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1080" y="6094440"/>
              <a:ext cx="719280" cy="647640"/>
            </a:xfrm>
            <a:prstGeom prst="rect">
              <a:avLst/>
            </a:prstGeom>
            <a:solidFill>
              <a:srgbClr val="0033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69080" y="6094440"/>
              <a:ext cx="718920" cy="647640"/>
            </a:xfrm>
            <a:prstGeom prst="rect">
              <a:avLst/>
            </a:prstGeom>
            <a:solidFill>
              <a:srgbClr val="0033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75280" y="6094440"/>
              <a:ext cx="718920" cy="647640"/>
            </a:xfrm>
            <a:prstGeom prst="rect">
              <a:avLst/>
            </a:prstGeom>
            <a:solidFill>
              <a:srgbClr val="00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82920" y="6094440"/>
              <a:ext cx="719280" cy="647640"/>
            </a:xfrm>
            <a:prstGeom prst="rect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90920" y="6094440"/>
              <a:ext cx="719280" cy="647640"/>
            </a:xfrm>
            <a:prstGeom prst="rect">
              <a:avLst/>
            </a:prstGeom>
            <a:solidFill>
              <a:srgbClr val="0033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98920" y="6094440"/>
              <a:ext cx="718920" cy="647640"/>
            </a:xfrm>
            <a:prstGeom prst="rect">
              <a:avLst/>
            </a:prstGeom>
            <a:solidFill>
              <a:srgbClr val="0033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6560" y="6094440"/>
              <a:ext cx="719280" cy="647640"/>
            </a:xfrm>
            <a:prstGeom prst="rect">
              <a:avLst/>
            </a:prstGeom>
            <a:solidFill>
              <a:srgbClr val="0033c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14560" y="6094440"/>
              <a:ext cx="718920" cy="647640"/>
            </a:xfrm>
            <a:prstGeom prst="rect">
              <a:avLst/>
            </a:prstGeom>
            <a:solidFill>
              <a:srgbClr val="0033c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4000" y="6094440"/>
              <a:ext cx="718920" cy="647640"/>
            </a:xfrm>
            <a:prstGeom prst="rect">
              <a:avLst/>
            </a:prstGeom>
            <a:solidFill>
              <a:srgbClr val="0033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164360" y="301680"/>
            <a:ext cx="165744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47880" y="571680"/>
            <a:ext cx="724824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5734080"/>
            <a:ext cx="890640" cy="981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508720" y="623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lmagro"/>
              </a:rPr>
              <a:t>“</a:t>
            </a:r>
            <a:r>
              <a:rPr b="0" lang="es-ES" sz="2000" spc="-1" strike="noStrike">
                <a:solidFill>
                  <a:srgbClr val="003399"/>
                </a:solidFill>
                <a:latin typeface="Almagro"/>
              </a:rPr>
              <a:t>Cultura en acc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2720" y="623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Aladdin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lmagro"/>
              </a:rPr>
              <a:t>La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49240" y="2133720"/>
            <a:ext cx="1635120" cy="1800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60720" y="2492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3399"/>
                </a:solidFill>
                <a:latin typeface="FoxKidsAlphaOnAir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398840" y="2276640"/>
            <a:ext cx="3845160" cy="151596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360" y="-360"/>
            <a:ext cx="8638920" cy="647640"/>
            <a:chOff x="360" y="-360"/>
            <a:chExt cx="8638920" cy="647640"/>
          </a:xfrm>
        </p:grpSpPr>
        <p:sp>
          <p:nvSpPr>
            <p:cNvPr id="256" name=""/>
            <p:cNvSpPr/>
            <p:nvPr/>
          </p:nvSpPr>
          <p:spPr>
            <a:xfrm rot="10800000">
              <a:off x="360" y="-360"/>
              <a:ext cx="718920" cy="647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800000">
              <a:off x="792360" y="-360"/>
              <a:ext cx="719280" cy="647640"/>
            </a:xfrm>
            <a:prstGeom prst="rect">
              <a:avLst/>
            </a:prstGeom>
            <a:solidFill>
              <a:srgbClr val="00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0800000">
              <a:off x="1582920" y="-360"/>
              <a:ext cx="719280" cy="647640"/>
            </a:xfrm>
            <a:prstGeom prst="rect">
              <a:avLst/>
            </a:prstGeom>
            <a:solidFill>
              <a:srgbClr val="0033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0800000">
              <a:off x="2375280" y="-360"/>
              <a:ext cx="718920" cy="647640"/>
            </a:xfrm>
            <a:prstGeom prst="rect">
              <a:avLst/>
            </a:prstGeom>
            <a:solidFill>
              <a:srgbClr val="0033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0800000">
              <a:off x="3169080" y="-360"/>
              <a:ext cx="718920" cy="647640"/>
            </a:xfrm>
            <a:prstGeom prst="rect">
              <a:avLst/>
            </a:prstGeom>
            <a:solidFill>
              <a:srgbClr val="00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3961080" y="-360"/>
              <a:ext cx="719280" cy="647640"/>
            </a:xfrm>
            <a:prstGeom prst="rect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4753080" y="-360"/>
              <a:ext cx="719280" cy="647640"/>
            </a:xfrm>
            <a:prstGeom prst="rect">
              <a:avLst/>
            </a:prstGeom>
            <a:solidFill>
              <a:srgbClr val="0033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0800000">
              <a:off x="5545440" y="-360"/>
              <a:ext cx="718920" cy="647640"/>
            </a:xfrm>
            <a:prstGeom prst="rect">
              <a:avLst/>
            </a:prstGeom>
            <a:solidFill>
              <a:srgbClr val="0033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6337440" y="-360"/>
              <a:ext cx="719280" cy="647640"/>
            </a:xfrm>
            <a:prstGeom prst="rect">
              <a:avLst/>
            </a:prstGeom>
            <a:solidFill>
              <a:srgbClr val="0033c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7129800" y="-360"/>
              <a:ext cx="718920" cy="647640"/>
            </a:xfrm>
            <a:prstGeom prst="rect">
              <a:avLst/>
            </a:prstGeom>
            <a:solidFill>
              <a:srgbClr val="0033c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7920360" y="-360"/>
              <a:ext cx="718920" cy="647640"/>
            </a:xfrm>
            <a:prstGeom prst="rect">
              <a:avLst/>
            </a:prstGeom>
            <a:solidFill>
              <a:srgbClr val="0033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4720" y="6210360"/>
            <a:ext cx="8638920" cy="647640"/>
            <a:chOff x="504720" y="6210360"/>
            <a:chExt cx="8638920" cy="647640"/>
          </a:xfrm>
        </p:grpSpPr>
        <p:sp>
          <p:nvSpPr>
            <p:cNvPr id="268" name=""/>
            <p:cNvSpPr/>
            <p:nvPr/>
          </p:nvSpPr>
          <p:spPr>
            <a:xfrm>
              <a:off x="8424720" y="6210360"/>
              <a:ext cx="718920" cy="647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2360" y="6210360"/>
              <a:ext cx="719280" cy="647640"/>
            </a:xfrm>
            <a:prstGeom prst="rect">
              <a:avLst/>
            </a:prstGeom>
            <a:solidFill>
              <a:srgbClr val="00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1800" y="6210360"/>
              <a:ext cx="719280" cy="647640"/>
            </a:xfrm>
            <a:prstGeom prst="rect">
              <a:avLst/>
            </a:prstGeom>
            <a:solidFill>
              <a:srgbClr val="0033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9800" y="6210360"/>
              <a:ext cx="718920" cy="647640"/>
            </a:xfrm>
            <a:prstGeom prst="rect">
              <a:avLst/>
            </a:prstGeom>
            <a:solidFill>
              <a:srgbClr val="0033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6000" y="6210360"/>
              <a:ext cx="718920" cy="647640"/>
            </a:xfrm>
            <a:prstGeom prst="rect">
              <a:avLst/>
            </a:prstGeom>
            <a:solidFill>
              <a:srgbClr val="00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3640" y="6210360"/>
              <a:ext cx="719280" cy="647640"/>
            </a:xfrm>
            <a:prstGeom prst="rect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71640" y="6210360"/>
              <a:ext cx="719280" cy="647640"/>
            </a:xfrm>
            <a:prstGeom prst="rect">
              <a:avLst/>
            </a:prstGeom>
            <a:solidFill>
              <a:srgbClr val="0033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9640" y="6210360"/>
              <a:ext cx="718920" cy="647640"/>
            </a:xfrm>
            <a:prstGeom prst="rect">
              <a:avLst/>
            </a:prstGeom>
            <a:solidFill>
              <a:srgbClr val="0033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7280" y="6210360"/>
              <a:ext cx="719280" cy="647640"/>
            </a:xfrm>
            <a:prstGeom prst="rect">
              <a:avLst/>
            </a:prstGeom>
            <a:solidFill>
              <a:srgbClr val="0033c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95280" y="6210360"/>
              <a:ext cx="718920" cy="647640"/>
            </a:xfrm>
            <a:prstGeom prst="rect">
              <a:avLst/>
            </a:prstGeom>
            <a:solidFill>
              <a:srgbClr val="0033c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720" y="6210360"/>
              <a:ext cx="718920" cy="647640"/>
            </a:xfrm>
            <a:prstGeom prst="rect">
              <a:avLst/>
            </a:prstGeom>
            <a:solidFill>
              <a:srgbClr val="0033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347640" y="2852280"/>
            <a:ext cx="54831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magro"/>
              </a:rPr>
              <a:t>Por FEDEATENE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magro"/>
              </a:rPr>
              <a:t>Ing. Lorena Liendo 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magro"/>
              </a:rPr>
              <a:t>Dir. Ejec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magro"/>
              </a:rPr>
              <a:t>www.fedeateneo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oxKidsAlphaOnAirL"/>
              </a:rPr>
              <a:t>Federación de Ateneos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ESEÑA HISTO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a federación de Ateneos de Venezuela es una asociación Civil de estricto carácter sociocultural, conformada por 167 ateneos agremiados y diseminados por todo el territori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tiende, entre usuarios y beneficiarios, cerca del 2% de la población Venezola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2280" y="5734080"/>
            <a:ext cx="890640" cy="981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08720" y="623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lmagro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lmagro"/>
              </a:rPr>
              <a:t>Cultura en acc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2720" y="6237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laddin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Trebuchet MS"/>
              </a:rPr>
              <a:t>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VE" sz="2200" spc="-1" strike="noStrike">
                <a:solidFill>
                  <a:srgbClr val="000000"/>
                </a:solidFill>
                <a:latin typeface="Trebuchet MS"/>
              </a:rPr>
              <a:t>Somos una institución que, partiendo de nuestros valores de unidad y pluralidad, busca ser un organismo de cooperación y fortalecimiento gremial que trabaja para consolidarse e internacionalizarse, a través de una gestión centrada en la responsabilidad, la proactividad y la confiabi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Trebuchet MS"/>
              </a:rPr>
              <a:t>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VE" sz="2200" spc="-1" strike="noStrike">
                <a:solidFill>
                  <a:srgbClr val="000000"/>
                </a:solidFill>
                <a:latin typeface="Trebuchet MS"/>
              </a:rPr>
              <a:t>Una Federación consolidada en toda la red de ateneos, que está abierta a escuchar y responder a las necesidades de la comunidad cultural, desde la apertura a todas las corrientes y desde la interacción con las comunidades. Reconociéndonos aliados y responsables del crecimiento social, cooperando activamente  en el desarrollo de nuestro país y en todos los valores genuinos del espíritu humano, a través de la formación de líderes culturales y de gerentes para el desarrollo cult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Encuentro regionales con los ateneos para generar las líneas de acción  para el desarrollo del proyec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alleres sobre derechos humanos dirigidos a la sociedad civil y a la comunidad cultural agremi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alleres de pintura, danza, y actuación centrados en la expresión del arte como medio para la formación y defensa de los derechos hum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Foro nacional sobre cultura y su papel en la defensa de los derechos hum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Exposiciones itinerantes de trabajos comunitarios interregion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eatro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rmativo</a:t>
            </a: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 dirigido a los cuerpos de seguri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alleres de sensibilización artística dirigida a cuerpos de segurida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Encuentro nacional de voces infantiles en defensa por los derechos hum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rograma de ayuda cultural para los miembros de cuerpos de seguridad incursos en sospecha por violación de derechos human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712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Trebuchet MS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ormación y capacitación se implementaran y ejecutaran cursos, talleres, foros, etc. Para optimizar la gerencia cultural ateneí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el área de la Investigación se creo el centro de Investigación y formación ateneísta. (CIFA) con el fin de consolidar la base de datos de los aten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nsolidación de la plataforma de comunicación a través del sistema de información y comunicación ateneísta (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ormación en Cultura de Paz: Proyecto “Creando Espacios para la Pa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340000" y="4005360"/>
            <a:ext cx="2087640" cy="2087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65440" y="476280"/>
            <a:ext cx="575928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5803920"/>
            <a:ext cx="720720" cy="720720"/>
          </a:xfrm>
          <a:prstGeom prst="ellipse">
            <a:avLst/>
          </a:prstGeom>
          <a:solidFill>
            <a:srgbClr val="99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011560"/>
            <a:ext cx="1440000" cy="1440000"/>
          </a:xfrm>
          <a:prstGeom prst="ellipse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50920" y="5372280"/>
            <a:ext cx="1873080" cy="1296720"/>
            <a:chOff x="250920" y="5372280"/>
            <a:chExt cx="1873080" cy="1296720"/>
          </a:xfrm>
        </p:grpSpPr>
        <p:sp>
          <p:nvSpPr>
            <p:cNvPr id="195" name=""/>
            <p:cNvSpPr/>
            <p:nvPr/>
          </p:nvSpPr>
          <p:spPr>
            <a:xfrm>
              <a:off x="1187280" y="5372280"/>
              <a:ext cx="936720" cy="9349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920" y="6093000"/>
              <a:ext cx="649080" cy="576000"/>
            </a:xfrm>
            <a:prstGeom prst="ellipse">
              <a:avLst/>
            </a:prstGeom>
            <a:solidFill>
              <a:srgbClr val="99cc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60" y="5803920"/>
              <a:ext cx="718920" cy="649440"/>
            </a:xfrm>
            <a:prstGeom prst="ellipse">
              <a:avLst/>
            </a:pr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47772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rebuchet MS"/>
              </a:rPr>
              <a:t>EL SISTEMA DE INFORMACIÓN ATENE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El sistema de información y 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Ateneísta (SICA)  es un proyecto conceb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para integrar las comunicaciones medi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el ambiente de internet. Siendo  su 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estratégico el contribuir con un sistema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comunicación, manejo y consulta de los datos 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los ateneos,  como también datos culturale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permita su correlación y comunicación mediante 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808080"/>
                </a:solidFill>
                <a:latin typeface="Trebuchet MS"/>
              </a:rPr>
              <a:t>Diseño de un portal en la We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50920" y="5372280"/>
            <a:ext cx="1873080" cy="1296720"/>
            <a:chOff x="250920" y="5372280"/>
            <a:chExt cx="1873080" cy="1296720"/>
          </a:xfrm>
        </p:grpSpPr>
        <p:sp>
          <p:nvSpPr>
            <p:cNvPr id="200" name=""/>
            <p:cNvSpPr/>
            <p:nvPr/>
          </p:nvSpPr>
          <p:spPr>
            <a:xfrm>
              <a:off x="1187280" y="5372280"/>
              <a:ext cx="936720" cy="9349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0920" y="6093000"/>
              <a:ext cx="649080" cy="576000"/>
            </a:xfrm>
            <a:prstGeom prst="ellipse">
              <a:avLst/>
            </a:prstGeom>
            <a:solidFill>
              <a:srgbClr val="99cc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4360" y="5803920"/>
              <a:ext cx="718920" cy="649440"/>
            </a:xfrm>
            <a:prstGeom prst="ellipse">
              <a:avLst/>
            </a:prstGeom>
            <a:solidFill>
              <a:srgbClr val="99c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99cc00"/>
                </a:solidFill>
                <a:latin typeface="Arial"/>
              </a:rPr>
              <a:t>WE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9cc00"/>
                </a:solidFill>
                <a:latin typeface="Arial"/>
              </a:rPr>
              <a:t>www.fedeateneos.o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9cc00"/>
                </a:solidFill>
                <a:latin typeface="Arial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9cc00"/>
                </a:solidFill>
                <a:latin typeface="Arial"/>
              </a:rPr>
              <a:t>Blog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9cc00"/>
                </a:solidFill>
                <a:latin typeface="Arial"/>
              </a:rPr>
              <a:t>fedeateneosvenezuela.blogspot.com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86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40072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324000" y="6021360"/>
            <a:ext cx="8638920" cy="647640"/>
            <a:chOff x="324000" y="6021360"/>
            <a:chExt cx="8638920" cy="647640"/>
          </a:xfrm>
        </p:grpSpPr>
        <p:sp>
          <p:nvSpPr>
            <p:cNvPr id="207" name=""/>
            <p:cNvSpPr/>
            <p:nvPr/>
          </p:nvSpPr>
          <p:spPr>
            <a:xfrm>
              <a:off x="8244000" y="6021360"/>
              <a:ext cx="718920" cy="647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51640" y="6021360"/>
              <a:ext cx="719280" cy="647640"/>
            </a:xfrm>
            <a:prstGeom prst="rect">
              <a:avLst/>
            </a:prstGeom>
            <a:solidFill>
              <a:srgbClr val="0033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61080" y="6021360"/>
              <a:ext cx="719280" cy="647640"/>
            </a:xfrm>
            <a:prstGeom prst="rect">
              <a:avLst/>
            </a:prstGeom>
            <a:solidFill>
              <a:srgbClr val="0033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9080" y="6021360"/>
              <a:ext cx="718920" cy="647640"/>
            </a:xfrm>
            <a:prstGeom prst="rect">
              <a:avLst/>
            </a:prstGeom>
            <a:solidFill>
              <a:srgbClr val="0033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6021360"/>
              <a:ext cx="718920" cy="647640"/>
            </a:xfrm>
            <a:prstGeom prst="rect">
              <a:avLst/>
            </a:prstGeom>
            <a:solidFill>
              <a:srgbClr val="00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82920" y="6021360"/>
              <a:ext cx="719280" cy="647640"/>
            </a:xfrm>
            <a:prstGeom prst="rect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0920" y="6021360"/>
              <a:ext cx="719280" cy="647640"/>
            </a:xfrm>
            <a:prstGeom prst="rect">
              <a:avLst/>
            </a:prstGeom>
            <a:solidFill>
              <a:srgbClr val="0033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98920" y="6021360"/>
              <a:ext cx="718920" cy="647640"/>
            </a:xfrm>
            <a:prstGeom prst="rect">
              <a:avLst/>
            </a:prstGeom>
            <a:solidFill>
              <a:srgbClr val="0033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6560" y="6021360"/>
              <a:ext cx="719280" cy="647640"/>
            </a:xfrm>
            <a:prstGeom prst="rect">
              <a:avLst/>
            </a:prstGeom>
            <a:solidFill>
              <a:srgbClr val="0033c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14560" y="6021360"/>
              <a:ext cx="718920" cy="647640"/>
            </a:xfrm>
            <a:prstGeom prst="rect">
              <a:avLst/>
            </a:prstGeom>
            <a:solidFill>
              <a:srgbClr val="0033c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000" y="6021360"/>
              <a:ext cx="718920" cy="647640"/>
            </a:xfrm>
            <a:prstGeom prst="rect">
              <a:avLst/>
            </a:prstGeom>
            <a:solidFill>
              <a:srgbClr val="0033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2:34:40Z</dcterms:created>
  <dc:creator>VICENTE</dc:creator>
  <dc:description/>
  <dc:language>en-US</dc:language>
  <cp:lastModifiedBy>VICENTE</cp:lastModifiedBy>
  <dcterms:modified xsi:type="dcterms:W3CDTF">2007-03-07T13:47:27Z</dcterms:modified>
  <cp:revision>11</cp:revision>
  <dc:subject/>
  <dc:title>Federación de Ateneos de Venezuela</dc:title>
</cp:coreProperties>
</file>