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B8B7-B6A1-4757-AFAB-FFBF2209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E03A-BA80-4B3F-980F-7F92B82F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03C-B3B7-4CD2-A099-0B7F99AE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686-69A6-45EE-A827-796E3122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8FE0-A0FC-4C29-9C97-FA1EE739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D343-33D2-4E11-AB29-A67E79D2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276E-84CB-4D47-B858-D2C56E99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7971-8FB7-4678-8ABE-31E374FF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FC78-DFD2-4F09-BDAC-1B68EF4F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9F95-9346-488F-9639-370BECA4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3D3E-FCEF-4FAC-B037-EC702BC6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DDB4-B187-4F1D-A48D-BE907BC3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4696-B475-415C-A42B-FF7EE380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C8EB-03FB-4E9D-97CB-8B7E0F57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1D8F-0DAD-4168-A8BD-328FB326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146D-70AE-412E-8EFD-9C9395A8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5BDA-0FE3-4908-816A-143B2ED7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19B60-0B99-47F6-A9DA-DA2EE2DE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ACFCD-A7D2-40AF-8723-0565D546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CAFFA-D2F4-4AC7-8B79-313D95A2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905AA-E0EB-4C07-A3F3-1B13F21C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17147-0873-43DC-B51A-69B9CAB8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6357-4580-4AE8-94DB-2FC4D339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6414F-8F29-42B1-A6EC-D5552DAD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E88BC-2208-49C2-A574-DE8C1AED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CADEB-9F31-4B8E-9935-BA08563F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46B64-DF5C-45AC-B9C4-30C8F86D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54D5D-A85C-448B-90BF-38791AA5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58767-68FE-4580-A636-5D857DA3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2583E-E44A-40BE-818E-855730B2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881C0-5668-4AAE-A01E-EFF9731E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E10A4-7C10-4F87-8FCA-1708D8BA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BAFD6-14BE-4B68-B287-EB489193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70F-A7F1-47BD-AB09-686F3CD6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A296C-0D38-46DE-8AC1-AA1C5B7A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8A3F9-CCBC-4390-8235-050D0284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13EF7-02C3-45FF-96AA-A448A41B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378C5-031B-4B08-9E19-9259A76E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395CA-03F8-4C85-A48F-8AF74ECA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E71A3-B0DB-4B83-9832-6CE1A427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7B2C8-E32F-4D8E-B1B5-562E19B1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A19EE-7CB4-49EC-90D2-818AA165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FA1C2-EA19-496D-86FD-6AA4D907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B4E1-E357-47D8-8792-3CB99F67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B93B-EBD1-4918-881B-0388B5BF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5600-8873-43E8-92B2-CA33354B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FD46-FC05-41C7-B14D-D2DBAB1E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AD1-60DA-4207-BC4B-68AB5893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F13D-E642-4B6C-ADD4-D81333661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557E-DC0D-46BA-867B-30C61DBB2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7F24-565B-4310-81DD-5AD123A7C70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6ECA-F344-4CA7-8B5D-FA44E75EF66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2420640"/>
            <a:ext cx="7313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Plan Operativo de la Red Social</a:t>
            </a:r>
            <a:br>
              <a:rPr sz="4000"/>
            </a:b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Enero – Septiembre 2007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826920" y="3573000"/>
            <a:ext cx="73137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samblea 07/03/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2076480" cy="819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68360" y="6093000"/>
            <a:ext cx="8064360" cy="512640"/>
            <a:chOff x="468360" y="6093000"/>
            <a:chExt cx="8064360" cy="512640"/>
          </a:xfrm>
        </p:grpSpPr>
        <p:sp>
          <p:nvSpPr>
            <p:cNvPr id="167" name=""/>
            <p:cNvSpPr/>
            <p:nvPr/>
          </p:nvSpPr>
          <p:spPr>
            <a:xfrm>
              <a:off x="468360" y="6093000"/>
              <a:ext cx="806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41000" y="6237360"/>
              <a:ext cx="637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800" spc="-1" strike="noStrike">
                  <a:solidFill>
                    <a:srgbClr val="ffffff"/>
                  </a:solidFill>
                  <a:latin typeface="Arial"/>
                </a:rPr>
                <a:t>Red Venezolana de Organizaciones para el Desarrollo 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e5ffff"/>
                </a:solidFill>
                <a:latin typeface="Tahoma"/>
              </a:rPr>
              <a:t>PROPÓSITOS DE LA ACTIVIDA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ahoma"/>
              </a:rPr>
              <a:t>Presentar la versión definitiva del Plan Operativo, período enero – septiembre 200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ahoma"/>
              </a:rPr>
              <a:t>Informar acerca de los avan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ahoma"/>
              </a:rPr>
              <a:t>Obtener información sobre las iniciativas de las ODS en las estrategias del Pl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ff"/>
                </a:solidFill>
                <a:latin typeface="Tahoma"/>
              </a:rPr>
              <a:t>Acordar los compromisos mensuales de las ODS con relación a las estrategi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076480" cy="8190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468360" y="6093000"/>
            <a:ext cx="8064360" cy="512640"/>
            <a:chOff x="468360" y="6093000"/>
            <a:chExt cx="8064360" cy="512640"/>
          </a:xfrm>
        </p:grpSpPr>
        <p:sp>
          <p:nvSpPr>
            <p:cNvPr id="173" name=""/>
            <p:cNvSpPr/>
            <p:nvPr/>
          </p:nvSpPr>
          <p:spPr>
            <a:xfrm>
              <a:off x="468360" y="6093000"/>
              <a:ext cx="806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41000" y="6237360"/>
              <a:ext cx="637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800" spc="-1" strike="noStrike">
                  <a:solidFill>
                    <a:srgbClr val="ffffff"/>
                  </a:solidFill>
                  <a:latin typeface="Arial"/>
                </a:rPr>
                <a:t>Red Venezolana de Organizaciones para el Desarrollo 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5:17:46Z</dcterms:created>
  <dc:creator>MVillasmil</dc:creator>
  <dc:description/>
  <cp:keywords/>
  <dc:language>en-US</dc:language>
  <cp:lastModifiedBy>jmejia</cp:lastModifiedBy>
  <dcterms:modified xsi:type="dcterms:W3CDTF">2007-03-06T13:09:14Z</dcterms:modified>
  <cp:revision>4</cp:revision>
  <dc:subject/>
  <dc:title>Plan Operativo de la Red Soc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