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A9D-7760-4AA9-997C-15D73DE3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0292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62F-8E9F-4F37-9BF6-8C84837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7175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BA1-8DE6-4D79-A1EC-CAD42D5D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250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097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02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250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7097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EC4-695D-47E7-A1F9-BC2776D8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E193-8FC4-4CDA-B091-1992017C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28A-69C3-478C-9E3F-EA9368A9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14B-79BF-4B12-AFFB-8066B8C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A8A3-B44A-4B35-ABDE-49442321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DA3-6580-4CA1-ABDD-3579B55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2380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359-42EA-41CE-A1BB-DBBC1CA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7589-D50B-4659-9230-10CC894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D7C-789E-4969-82EB-5FCB9A37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175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A466-8CA9-4F46-A7BC-A8BFD89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2A8-DC00-4FA3-9942-A59CB0F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ED1A-521D-41B9-B749-C07C83EE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7175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7B7-5DDD-49BC-A433-42F2ED55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50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097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250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097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975E-8DB9-4CC4-AAB6-00C67FA6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882-46A0-4AFB-9D71-930594E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B06-AC29-4C03-A589-17085CD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FE6-9BDC-4FFF-95F1-2390889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380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65D-96AB-48F0-990D-B171751A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095-5E2D-4F08-93E2-952C324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752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DA1-ADC3-4F25-98D4-0919C95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752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292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494-C722-4CCE-847C-5020B2E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5480" y="6400800"/>
            <a:ext cx="90788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029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4496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ED9-7112-4896-B022-4F0BEF57D8A5}" type="slidenum"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155240" cy="6856560"/>
            <a:chOff x="0" y="0"/>
            <a:chExt cx="115524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29240" cy="6856560"/>
              <a:chOff x="0" y="0"/>
              <a:chExt cx="102924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81828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04480" y="380880"/>
                <a:ext cx="61380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81828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10840" y="685800"/>
                <a:ext cx="15264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623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623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623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15240" y="3587760"/>
                <a:ext cx="41400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15524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25480" y="0"/>
              <a:ext cx="3297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825480" y="1474920"/>
            <a:ext cx="90788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399320" y="-734040"/>
            <a:ext cx="11302920" cy="9214920"/>
            <a:chOff x="-1399320" y="-734040"/>
            <a:chExt cx="11302920" cy="9214920"/>
          </a:xfrm>
        </p:grpSpPr>
        <p:grpSp>
          <p:nvGrpSpPr>
            <p:cNvPr id="56" name=""/>
            <p:cNvGrpSpPr/>
            <p:nvPr/>
          </p:nvGrpSpPr>
          <p:grpSpPr>
            <a:xfrm>
              <a:off x="-1399320" y="-734040"/>
              <a:ext cx="9578520" cy="9214920"/>
              <a:chOff x="-1399320" y="-734040"/>
              <a:chExt cx="9578520" cy="92149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399320" y="-734040"/>
                <a:ext cx="9578520" cy="9214920"/>
                <a:chOff x="-1399320" y="-734040"/>
                <a:chExt cx="9578520" cy="92149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321120" y="556920"/>
                  <a:ext cx="74221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91960" y="1909440"/>
                  <a:ext cx="439596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866400" y="3966840"/>
                  <a:ext cx="111600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rot="10800000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220480" y="4074840"/>
                  <a:ext cx="98028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rot="10800000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4079880" y="3249360"/>
                  <a:ext cx="76680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rot="10800000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312360" y="4874760"/>
                  <a:ext cx="76500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 rot="10800000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221200" y="3553200"/>
                  <a:ext cx="12452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34880" y="2181240"/>
                  <a:ext cx="17798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209120" y="2873520"/>
                <a:ext cx="55728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319760" y="1143000"/>
              <a:ext cx="85838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19040" y="1218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652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5DF-2BA6-43A3-AA85-FD5D7A78F663}" type="slidenum">
              <a:rPr b="0" lang="ja-JP" sz="1400" spc="-1" strike="noStrike">
                <a:solidFill>
                  <a:srgbClr val="eaeaea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19040" y="1218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ecff"/>
                </a:solidFill>
                <a:latin typeface="Arial Black"/>
                <a:ea typeface="MS PGothic"/>
              </a:rPr>
              <a:t>Fondo Japonés para la Reducción de la Pobreza (JPO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117760" y="2819520"/>
            <a:ext cx="46227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Preparado por el Equipo del Fondo Especial de Japón (JSF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Noviembre, 200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28760" y="2895480"/>
            <a:ext cx="2229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182480" y="-304920"/>
            <a:ext cx="2749680" cy="4572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932200" y="3200400"/>
          <a:ext cx="1035000" cy="12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3200400"/>
                    <a:ext cx="10350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269E-D88A-4F8D-BCED-E3E59EC2E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Requisitos de Elegibilidad CBP</a:t>
            </a:r>
            <a:r>
              <a:rPr b="0" lang="es-ES_tradnl" sz="4400" spc="-1" strike="noStrike">
                <a:solidFill>
                  <a:srgbClr val="ccec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8572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oblación beneficiaria: pobre y vulnera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spectiva de G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Arial"/>
              </a:rPr>
              <a:t>é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ero (apreciable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elación con la Estrategia de País del BI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ateriales &amp; Equipo : &lt; 30% del costo total del JP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trapartida Local: un mínimo de 10% (en efectivo, preferentemente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Agencias Ejecutoras: ONGs, Sociedad Civil Organizada, o Gobiernos Local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36C-E337-49BA-AD9B-A23F3A81E2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CBP: Criterios de Selección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mpacto directo en el alivio a la pobrez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eneficiarios claramente definidos (qui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é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es son, en d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de est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, cu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tos son, cu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l es su condici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ctividades espec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í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ficas por cada componen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pacidad de la Agencia Ejecutor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ustentabilida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apacidad de monitore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Visibilidad (apoyo del JPO a trav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é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 del BID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laboraci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 con otras Agencias de Cooperaci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n Japones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F90-74D1-47E1-AF7C-F1E5A8107D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Arial Black"/>
              </a:rPr>
              <a:t>Perfil del Proyecto JPO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Fondo Japon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s para la Reducci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n de la Pobreza (JPO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s-ES_tradnl" sz="1900" spc="-1" strike="noStrike">
                <a:solidFill>
                  <a:srgbClr val="eaeaea"/>
                </a:solidFill>
                <a:latin typeface="Arial"/>
              </a:rPr>
              <a:t>Programa Basado en la Comunidad (CBP) / Programa de Aumento de Pr</a:t>
            </a:r>
            <a:r>
              <a:rPr b="0" lang="es-ES_tradnl" sz="1900" spc="-1" strike="noStrike">
                <a:solidFill>
                  <a:srgbClr val="eaeaea"/>
                </a:solidFill>
                <a:latin typeface="Arial"/>
                <a:ea typeface="Arial"/>
              </a:rPr>
              <a:t>é</a:t>
            </a:r>
            <a:r>
              <a:rPr b="0" lang="es-ES_tradnl" sz="1900" spc="-1" strike="noStrike">
                <a:solidFill>
                  <a:srgbClr val="eaeaea"/>
                </a:solidFill>
                <a:latin typeface="Arial"/>
              </a:rPr>
              <a:t>stamo (LEP)</a:t>
            </a: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           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.   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Informaci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n B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 Unicode MS"/>
              </a:rPr>
              <a:t>sica del Proyec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           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I.    Antecedentes y Planteamiento del Proble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II.   Objetivos y Descripci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 del Progra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           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V.   Costo y Financiamien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     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V.   Agencia Ejecutora y Estructura de la Ejecuci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           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VI.    Temas Especial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            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VII.    Plan de Acci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529-4E80-4A44-AA17-F46B8202CB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 Black"/>
              </a:rPr>
              <a:t>Consejos para aprobación CBP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eneficiarios objetivo </a:t>
            </a:r>
            <a:r>
              <a:rPr b="0" lang="es-ES_tradnl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 pobres y grupos vulnerabl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Justificar los objetivos de reducción de la pobreza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specificar las actividades de la cooperación técnic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Asegurar que los gastos para inversión en equipo sea de hasta 30%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Buscar la colaboración/participación del personal de la Sed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municación continua con el Equipo del JSF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nformación de aprobación y ejecución eficiente (# de CT etc.)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Establecer un esquema de seguimiento/monitoreo efica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0EC-CCA5-4480-9C71-F30D78436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efinir actividades en todos los sectores o campos de acción del JPO en una misma propuest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templar un número de beneficiarios muy pequeñ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ear componentes sin relación algun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ebasar especificaciones en los forma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nviar directamente las propuestas al Fon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28600"/>
            <a:ext cx="1905120" cy="1066680"/>
          </a:xfrm>
          <a:prstGeom prst="ellipse">
            <a:avLst/>
          </a:prstGeom>
          <a:solidFill>
            <a:srgbClr val="0066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Black"/>
              </a:rPr>
              <a:t>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80880"/>
            <a:ext cx="1295280" cy="7621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BF0-CFE2-4E68-B32B-5E30C07C6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 Black"/>
              </a:rPr>
              <a:t>Lecciones Aprendida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iodo de Aprob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eriodo de Ejecu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arencia de posesión de proye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ajo desempeño en monitoreo y evalu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E83-200F-4750-BB8C-BD169EC267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ccecff"/>
                </a:solidFill>
                <a:latin typeface="Arial Black"/>
              </a:rPr>
              <a:t>Plazo para Presentar Propuestas al Coordinador JSF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nales de Marz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nales de Juni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nales de Septiemb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nales de Diciemb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EB9-857F-432D-BD7A-8109D3158D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ccecff"/>
                </a:solidFill>
                <a:latin typeface="Arial Black"/>
              </a:rPr>
              <a:t>Monto de los Proyectos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gramas Comunitarios (CBP): Monto inferior a US$150,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grama de Apoyo a Préstamos (LEP): Montos inferiores a US$ 2,000,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raparte Loc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10% en efectivo o especi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A99-3181-4D24-86CF-024E2FCB1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  <a:ea typeface="MS PGothic"/>
              </a:rPr>
              <a:t>Objetivo JPO</a:t>
            </a:r>
            <a:r>
              <a:rPr b="0" lang="es-ES_tradnl" sz="4400" spc="-1" strike="noStrike">
                <a:solidFill>
                  <a:srgbClr val="ccecff"/>
                </a:solidFill>
                <a:latin typeface="Arial Black"/>
                <a:ea typeface="MS PGothic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295280"/>
            <a:ext cx="837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  <a:ea typeface="MS PGothic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  <a:ea typeface="MS PGothic"/>
              </a:rPr>
              <a:t>   </a:t>
            </a:r>
            <a:r>
              <a:rPr b="0" lang="es-ES_tradnl" sz="3200" spc="-1" strike="noStrike">
                <a:solidFill>
                  <a:srgbClr val="eaeaea"/>
                </a:solidFill>
                <a:latin typeface="Arial"/>
                <a:ea typeface="MS PGothic"/>
              </a:rPr>
              <a:t>Apoyar actividades enfocadas a reducir la pobreza de manera sustantiva en los grupos de gente pobre y vulnerable con desventajas sociales y/o económica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808-4D61-4013-A1BE-70BD0FB8D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  <a:ea typeface="MS PGothic"/>
              </a:rPr>
              <a:t>JPO Información Básica</a:t>
            </a:r>
            <a:r>
              <a:rPr b="0" lang="es-ES_tradnl" sz="3600" spc="-1" strike="noStrike">
                <a:solidFill>
                  <a:srgbClr val="ccecff"/>
                </a:solidFill>
                <a:latin typeface="Arial Black"/>
                <a:ea typeface="MS PGothic"/>
              </a:rPr>
              <a:t>  </a:t>
            </a:r>
            <a:r>
              <a:rPr b="0" lang="es-ES_tradnl" sz="4400" spc="-1" strike="noStrike">
                <a:solidFill>
                  <a:srgbClr val="ccecff"/>
                </a:solidFill>
                <a:latin typeface="Arial Black"/>
                <a:ea typeface="MS PGothic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Establecido en el año 2001: 30 millones de US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Fondo No At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Disponible US$16.5 millones aprox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Dos ventanas de oportunida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Iniciativa COFs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	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  <a:ea typeface="MS PGothic"/>
              </a:rPr>
              <a:t>Iniciativa Se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809880"/>
            <a:ext cx="2590560" cy="990720"/>
          </a:xfrm>
          <a:prstGeom prst="rect">
            <a:avLst/>
          </a:prstGeom>
          <a:solidFill>
            <a:srgbClr val="0066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CB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rograma Basado 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a Comunid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809880"/>
            <a:ext cx="3124080" cy="990720"/>
          </a:xfrm>
          <a:prstGeom prst="rect">
            <a:avLst/>
          </a:prstGeom>
          <a:solidFill>
            <a:srgbClr val="0066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rograma de Mejora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de Préstam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800600"/>
            <a:ext cx="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4800600"/>
            <a:ext cx="0" cy="45720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74C-5CBE-4673-8EEF-0392CF093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Programa</a:t>
            </a:r>
            <a:r>
              <a:rPr b="0" lang="es-ES_tradnl" sz="40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Comunitario</a:t>
            </a:r>
            <a:r>
              <a:rPr b="0" lang="es-ES_tradnl" sz="4000" spc="-1" strike="noStrike">
                <a:solidFill>
                  <a:srgbClr val="ccecff"/>
                </a:solidFill>
                <a:latin typeface="Arial Black"/>
              </a:rPr>
              <a:t> (</a:t>
            </a: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CBP</a:t>
            </a:r>
            <a:r>
              <a:rPr b="0" lang="es-ES_tradnl" sz="4000" spc="-1" strike="noStrike">
                <a:solidFill>
                  <a:srgbClr val="ccecff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rovee asistencia a los pobres y a los grupos más vulnerables de la pobl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plica principios de consulta y participación comunitari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Financia asistencia técnica para el desarrollo de capacidades locales, con el fin de fortalecer las comunidades objetivo, ONGs,OSC, Gob. Municipales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EE7-3CB4-4933-9A0C-7BA0FDDD9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Performance de la Aprobación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yectos aprobados por el Gobierno de Jap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: 3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medio de cantidad financiada por proyecto: $140,00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romedio de periodo de ejecuci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Arial"/>
              </a:rPr>
              <a:t>ó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: 17.5 me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fil de agencia ejecutor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GO = 3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Gob Local = 6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OSC = 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4AB-445A-4604-98A8-E57DDF2DB8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223920"/>
          <a:ext cx="8153280" cy="59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920"/>
                    <a:ext cx="815328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AE2-04B7-4312-AD58-2008969EE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Campos de Acción JPO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Capacitación para el trabajo y programas de generación de   ingreso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Mejorar el acceso al sistema de salud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Mecanismos de capacitación para mujeres e indígena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Programas para aumentar el acceso a la educación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Formación Vocacional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Protección a la Infancia y educación para la juventud marginada.         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Desarrollo y renovación de las comunidades de bajos ingreso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Desarrollo asociativo de ONGs y comunidad urbana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Desarrollo Comunitario Rural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aea"/>
                </a:solidFill>
                <a:latin typeface="Arial"/>
                <a:ea typeface="Times New Roman"/>
              </a:rPr>
              <a:t>Fortalecimiento Institucional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1E7-C1D3-495C-BB41-9D2AE7D9B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  <a:ea typeface="MS PGothic"/>
              </a:rPr>
              <a:t>Proceso de Aprobación del CBP</a:t>
            </a:r>
            <a:r>
              <a:rPr b="0" lang="es-ES_tradnl" sz="3600" spc="-1" strike="noStrike">
                <a:solidFill>
                  <a:srgbClr val="ccecff"/>
                </a:solidFill>
                <a:latin typeface="Arial"/>
                <a:ea typeface="MS PGothic"/>
              </a:rPr>
              <a:t> </a:t>
            </a:r>
            <a:br>
              <a:rPr sz="3600"/>
            </a:br>
            <a:r>
              <a:rPr b="0" lang="es-ES_tradnl" sz="2000" spc="-1" strike="noStrike">
                <a:solidFill>
                  <a:srgbClr val="ccecff"/>
                </a:solidFill>
                <a:latin typeface="Arial"/>
                <a:ea typeface="MS PGothic"/>
              </a:rPr>
              <a:t>(4 rondas por año)</a:t>
            </a:r>
            <a:endParaRPr b="0" lang="en-US" sz="2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86000"/>
            <a:ext cx="914400" cy="838080"/>
          </a:xfrm>
          <a:prstGeom prst="ellipse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CO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105520"/>
            <a:ext cx="16002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Vo.Bo. JSF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666880"/>
            <a:ext cx="2514600" cy="38124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Director Ejecutivo Jap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600200"/>
            <a:ext cx="25146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Comit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é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 de Selecci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886200"/>
            <a:ext cx="16002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Vo.Bo. Rep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3886200"/>
            <a:ext cx="25146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Aprobaci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 Gob. Jap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105520"/>
            <a:ext cx="25146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Aprobaci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 BI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371600"/>
            <a:ext cx="1600200" cy="380880"/>
          </a:xfrm>
          <a:prstGeom prst="rect">
            <a:avLst/>
          </a:prstGeom>
          <a:solidFill>
            <a:srgbClr val="00008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Preparaci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ó</a:t>
            </a:r>
            <a:r>
              <a:rPr b="1" lang="es-ES_tradnl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8288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3526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4956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105520"/>
            <a:ext cx="16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276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4956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1143000"/>
            <a:ext cx="1904760" cy="6094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1782" y="10519"/>
                </a:moveTo>
                <a:arcTo wR="-9022" hR="-9022" stAng="-10692915" swAng="-11400326"/>
                <a:lnTo>
                  <a:pt x="111" y="12344"/>
                </a:lnTo>
                <a:arcTo wR="10800" hR="10800" stAng="10306759" swAng="11400326"/>
                <a:lnTo>
                  <a:pt x="24293" y="11220"/>
                </a:lnTo>
                <a:lnTo>
                  <a:pt x="20594" y="14696"/>
                </a:lnTo>
                <a:lnTo>
                  <a:pt x="17119" y="10997"/>
                </a:lnTo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5715000"/>
            <a:ext cx="2971800" cy="457200"/>
          </a:xfrm>
          <a:custGeom>
            <a:avLst/>
            <a:gdLst>
              <a:gd name="textAreaLeft" fmla="*/ 628920 w 2971800"/>
              <a:gd name="textAreaRight" fmla="*/ 2020680 w 2971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4" hR="21600" stAng="10800000" swAng="-5400000"/>
                <a:lnTo>
                  <a:pt x="10114" y="21600"/>
                </a:lnTo>
                <a:arcTo wR="9144" hR="21600" stAng="5400000" swAng="-3595492"/>
                <a:lnTo>
                  <a:pt x="21337" y="5143"/>
                </a:lnTo>
                <a:lnTo>
                  <a:pt x="18773" y="0"/>
                </a:lnTo>
                <a:lnTo>
                  <a:pt x="15683" y="5143"/>
                </a:lnTo>
                <a:lnTo>
                  <a:pt x="18025" y="5143"/>
                </a:lnTo>
                <a:arcTo wR="9144" hR="21600" stAng="1804508" swAng="3518206"/>
                <a:lnTo>
                  <a:pt x="9629" y="21570"/>
                </a:lnTo>
                <a:arcTo wR="9144" hR="21600" stAng="5477286" swAng="5322714"/>
                <a:close/>
              </a:path>
              <a:path fill="darkenLess" w="21600" h="21600">
                <a:moveTo>
                  <a:pt x="0" y="0"/>
                </a:moveTo>
                <a:arcTo wR="9144" hR="21600" stAng="10800000" swAng="-5400000"/>
                <a:lnTo>
                  <a:pt x="10114" y="21600"/>
                </a:lnTo>
                <a:arcTo wR="9144" hR="21600" stAng="5400000" swAng="77286"/>
                <a:lnTo>
                  <a:pt x="9629" y="21570"/>
                </a:lnTo>
                <a:arcTo wR="9144" hR="21600" stAng="5477286" swAng="5322714"/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198800">
            <a:off x="4719960" y="1829160"/>
            <a:ext cx="457200" cy="303120"/>
          </a:xfrm>
          <a:custGeom>
            <a:avLst/>
            <a:gdLst>
              <a:gd name="textAreaLeft" fmla="*/ 71280 w 457200"/>
              <a:gd name="textAreaRight" fmla="*/ 400320 w 45720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055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886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74320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ffff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AB8-0262-484D-A1D2-9F330A08D0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 Black"/>
              </a:rPr>
              <a:t>CBP: Documentación Requerida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Comité de Selección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erfil del Proyecto de Asistencia Técnic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4-6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ginas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inopsis del Proyecto de Asistencia Técnic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ginas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  <a:ea typeface="MS PGothic"/>
              </a:rPr>
              <a:t>Aprobación del BID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lan de Oper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rta no-objeción del país beneficiari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DB/RE2/FSS/JS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840-8F46-46A8-AB12-AAC0EB69A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5:46:52Z</dcterms:created>
  <dc:creator>Ginya A. Truitt Nakata</dc:creator>
  <dc:description/>
  <dc:language>en-US</dc:language>
  <cp:lastModifiedBy>COF/CVE</cp:lastModifiedBy>
  <cp:lastPrinted>2000-09-29T16:33:58Z</cp:lastPrinted>
  <dcterms:modified xsi:type="dcterms:W3CDTF">2007-06-06T11:23:44Z</dcterms:modified>
  <cp:revision>313</cp:revision>
  <dc:subject/>
  <dc:title>JSF &amp; JCF</dc:title>
</cp:coreProperties>
</file>