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2A8-14E5-4E63-A945-98DFA9FF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E0B-DF5D-4E65-B2E3-807242DC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710-7016-4EA6-A110-E8D12495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E4DA-3100-46D8-8785-D874B84A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6EB-A272-4D34-8142-54917236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1B9-BED4-47E0-ADAB-3F69A075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6A9-21C2-4E10-B0C7-E0E5A4EF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510-B0EE-4B05-B62C-66B305FB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26A-7DD3-44A3-93C3-8D2EE408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B11-4663-47EB-AE09-ED15A4CF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239-FBAB-43D8-94C9-DA60AB3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590-3473-4282-B470-5553A114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89D1-EE7A-4580-9399-5A9195D8D0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3600" spc="-1" strike="noStrike">
                <a:solidFill>
                  <a:srgbClr val="000099"/>
                </a:solidFill>
                <a:latin typeface="Arial"/>
              </a:rPr>
              <a:t>Alianza CANIA-UCA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99"/>
                </a:solidFill>
                <a:latin typeface="Arial"/>
              </a:rPr>
              <a:t>en el marco de la Ley de Servicio Comunitario del Estudi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VE" sz="3600" spc="-1" strike="noStrike">
                <a:solidFill>
                  <a:srgbClr val="000099"/>
                </a:solidFill>
                <a:latin typeface="Arial"/>
              </a:rPr>
              <a:t>de Educación Super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800" spc="-1" strike="noStrike">
                <a:solidFill>
                  <a:srgbClr val="000099"/>
                </a:solidFill>
                <a:latin typeface="Arial"/>
              </a:rPr>
              <a:t>Comunicaciones C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800" spc="-1" strike="noStrike">
                <a:solidFill>
                  <a:srgbClr val="000099"/>
                </a:solidFill>
                <a:latin typeface="Arial"/>
              </a:rPr>
              <a:t>Febrero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9920" y="685800"/>
          <a:ext cx="22478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685800"/>
                    <a:ext cx="22478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14800" y="457200"/>
            <a:ext cx="112068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3388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685800"/>
          <a:ext cx="267660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685800"/>
                    <a:ext cx="2676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99"/>
                </a:solidFill>
                <a:latin typeface="Arial"/>
              </a:rPr>
              <a:t>www.cania.org.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90720" y="838080"/>
          <a:ext cx="1600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1600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629400" y="5486400"/>
          <a:ext cx="183816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5486400"/>
                    <a:ext cx="18381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99"/>
                </a:solidFill>
                <a:latin typeface="Arial"/>
              </a:rPr>
              <a:t>C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 u="sng">
                <a:solidFill>
                  <a:srgbClr val="000099"/>
                </a:solidFill>
                <a:uFillTx/>
                <a:latin typeface="Arial"/>
              </a:rPr>
              <a:t>Misión:</a:t>
            </a:r>
            <a:r>
              <a:rPr b="1" lang="es-ES" sz="32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Centro de Atención Nutricional Infantil Antímano CANIA, es una asociación civil sin fines de lucro, financiada por Empresas Polar, dedicada a la atención integral y efectiva de la malnutrición en la población pediátrica y en mujeres embarazadas, como instrumento para el desarrollo social sostenible, la producción de conocimiento y la formación de recursos humanos en 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685800"/>
          <a:ext cx="152424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15242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23388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781680" y="5715000"/>
          <a:ext cx="19051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15000"/>
                    <a:ext cx="19051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VE" sz="4400" spc="-1" strike="noStrike">
                <a:solidFill>
                  <a:srgbClr val="000099"/>
                </a:solidFill>
                <a:latin typeface="Arial"/>
              </a:rPr>
              <a:t>Areas de 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2408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99"/>
                </a:solidFill>
                <a:latin typeface="Arial"/>
              </a:rPr>
              <a:t>Atención al usu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99"/>
                </a:solidFill>
                <a:latin typeface="Arial"/>
              </a:rPr>
              <a:t>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99"/>
                </a:solidFill>
                <a:latin typeface="Arial"/>
              </a:rPr>
              <a:t>Doc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99"/>
                </a:solidFill>
                <a:latin typeface="Arial"/>
              </a:rPr>
              <a:t>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99"/>
                </a:solidFill>
                <a:latin typeface="Arial"/>
              </a:rPr>
              <a:t>Ext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6680" y="914400"/>
          <a:ext cx="152424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15242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3388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705720" y="5694480"/>
          <a:ext cx="1981080" cy="70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5694480"/>
                    <a:ext cx="198108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99"/>
                </a:solidFill>
                <a:latin typeface="Arial"/>
              </a:rPr>
              <a:t>Comunicaciones CANIA</a:t>
            </a:r>
            <a:br>
              <a:rPr sz="4000"/>
            </a:br>
            <a:r>
              <a:rPr b="1" lang="es-VE" sz="4000" spc="-1" strike="noStrike">
                <a:solidFill>
                  <a:srgbClr val="000099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3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Divulgar el quehacer científico-educativo-asistencial de CANIA en los medios de comunicación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Sensibilizar y orientar al gran público sobre la buena ali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480" y="838080"/>
          <a:ext cx="1600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1600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23388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696000" y="5670720"/>
          <a:ext cx="1838520" cy="65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6000" y="5670720"/>
                    <a:ext cx="183852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000" spc="-1" strike="noStrike">
                <a:solidFill>
                  <a:srgbClr val="000099"/>
                </a:solidFill>
                <a:latin typeface="Arial"/>
              </a:rPr>
              <a:t>Comunicaciones CANIA</a:t>
            </a:r>
            <a:br>
              <a:rPr sz="4000"/>
            </a:br>
            <a:r>
              <a:rPr b="1" lang="es-VE" sz="4000" spc="-1" strike="noStrike">
                <a:solidFill>
                  <a:srgbClr val="000099"/>
                </a:solidFill>
                <a:latin typeface="Arial"/>
              </a:rPr>
              <a:t>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Página web  www.cania.org.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Notic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Periódico Vecinal Cania en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Campañas Educativa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Videos educativos para públicos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Boletín de Nutrición Inf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Promotores Comunitarios en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Eventos CANIA-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685800"/>
          <a:ext cx="152388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1523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772320" y="5823000"/>
          <a:ext cx="183816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2320" y="5823000"/>
                    <a:ext cx="18381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99"/>
                </a:solidFill>
                <a:latin typeface="Arial"/>
              </a:rPr>
              <a:t>Antecedentes Alianza </a:t>
            </a:r>
            <a:br>
              <a:rPr sz="3600"/>
            </a:br>
            <a:r>
              <a:rPr b="1" lang="es-VE" sz="3600" spc="-1" strike="noStrike">
                <a:solidFill>
                  <a:srgbClr val="000099"/>
                </a:solidFill>
                <a:latin typeface="Arial"/>
              </a:rPr>
              <a:t>CANIA-UC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56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99"/>
                </a:solidFill>
                <a:latin typeface="Arial"/>
              </a:rPr>
              <a:t>Estudio de la ley y su aplicación en el entorno geo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99"/>
                </a:solidFill>
                <a:latin typeface="Arial"/>
              </a:rPr>
              <a:t>Diagnóstico de necesidades en ambas instit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99"/>
                </a:solidFill>
                <a:latin typeface="Arial"/>
              </a:rPr>
              <a:t>Planteamiento de posi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s-VE" sz="2800" spc="-1" strike="noStrike">
                <a:solidFill>
                  <a:srgbClr val="000099"/>
                </a:solidFill>
                <a:latin typeface="Arial"/>
              </a:rPr>
              <a:t>de trabajo comun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90720" y="685800"/>
          <a:ext cx="1600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1600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772320" y="5823000"/>
          <a:ext cx="183816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2320" y="5823000"/>
                    <a:ext cx="18381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99"/>
                </a:solidFill>
                <a:latin typeface="Arial"/>
              </a:rPr>
              <a:t>Alianza CANIA-UC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30 estudiantes de Comunicación Social de las menciones de Periodismo, Audiovisual y Publicidad realizarán trabajos en CANIA de acuerdo a la Ley de Servicio Comunitario del Estudi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120 horas deberá cubrir cada estudiante, en un tiempo no menor a 3 m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Esta alianza es perdurable en el tiempo. Una vez que cada estudiante cumple con sus horas reglamentarias y su correspondiente entrega de productos, le hac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relevo otros estudi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Este servicio es un requisito para la obtención del título universitario, no crea derechos u obligaciones de carácter laboral y debe prestarse sin remuneración alg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762120"/>
          <a:ext cx="144756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14475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772320" y="5746680"/>
          <a:ext cx="183816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2320" y="5746680"/>
                    <a:ext cx="18381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99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Estudiantes de Periodismo, Audiovisual y Publicidad participan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"/>
              </a:rPr>
              <a:t>Campaña Educativa Instituciona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"/>
              </a:rPr>
              <a:t>Programa de Nutrición Com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"/>
              </a:rPr>
              <a:t>Ext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90720" y="685800"/>
          <a:ext cx="1600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85800"/>
                    <a:ext cx="1600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772320" y="5594400"/>
          <a:ext cx="183816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2320" y="5594400"/>
                    <a:ext cx="18381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99"/>
                </a:solidFill>
                <a:latin typeface="Arial"/>
              </a:rPr>
              <a:t>¿Cómo particip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"/>
              </a:rPr>
              <a:t>Campaña Educativa Instituci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Elaboración de videos, micros de radio, reportajes y material POP para ser divulgados en los M.C.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"/>
              </a:rPr>
              <a:t>Programa de Nutrición Comunitaria:</a:t>
            </a: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   Periódico vecinal “CANIA en Comunidad”,  trípticos, afiches, volantes. Cobertura de eventos con la comun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"/>
              </a:rPr>
              <a:t>Extens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s-VE" sz="2000" spc="-1" strike="noStrike">
                <a:solidFill>
                  <a:srgbClr val="000099"/>
                </a:solidFill>
                <a:latin typeface="Arial"/>
              </a:rPr>
              <a:t>Elaboración de material educativo de apoyo para los convenios de exten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38080" y="838080"/>
          <a:ext cx="144792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1447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48640" y="5899320"/>
          <a:ext cx="1838160" cy="65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8640" y="5899320"/>
                    <a:ext cx="183816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2:37Z</dcterms:created>
  <dc:creator>Mariangel Hurtado</dc:creator>
  <dc:description/>
  <dc:language>en-US</dc:language>
  <cp:lastModifiedBy>Estudiante</cp:lastModifiedBy>
  <dcterms:modified xsi:type="dcterms:W3CDTF">2007-02-07T15:14:27Z</dcterms:modified>
  <cp:revision>17</cp:revision>
  <dc:subject/>
  <dc:title>Objetivos</dc:title>
</cp:coreProperties>
</file>