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06E-5B0A-4B77-9450-0FF562BC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F7E-3B2C-421C-8A94-C1B0B8BE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07E-7507-4E33-A339-47D74517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E0FD-DEBA-458D-8C3C-E083436B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1C5-1681-4E53-A0D3-E244B226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167-65E6-48BB-A6AF-98574A33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978-9084-4BC6-952A-DA41249F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15A-6597-451D-BD83-51F0C888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534-AC20-4ED6-8243-5DFCABAD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906-4575-48BA-B09B-6641020F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113-9F91-4E2B-8E61-8C2E2661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735-2587-438E-BE36-91BAD3FE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EBBD-8ECA-4F1C-8631-F71AC43F0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3241440" cy="163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333360"/>
            <a:ext cx="4535640" cy="2314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284040"/>
            <a:ext cx="266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360" y="1990800"/>
            <a:ext cx="8424720" cy="316692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0 años promoviendo 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26920" y="4508640"/>
            <a:ext cx="6842160" cy="20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 PAZ mundial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003640" y="1052640"/>
            <a:ext cx="3960720" cy="2807280"/>
            <a:chOff x="5003640" y="1052640"/>
            <a:chExt cx="3960720" cy="28072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5003640" y="1150920"/>
              <a:ext cx="3960720" cy="27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003640" y="1052640"/>
              <a:ext cx="3960720" cy="28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860640"/>
            <a:ext cx="8424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000" spc="-1" strike="noStrike">
                <a:solidFill>
                  <a:srgbClr val="336699"/>
                </a:solidFill>
                <a:latin typeface="Maiandra GD"/>
              </a:rPr>
              <a:t>Alemania – Austria – Bélgica – Canadá – Dinamarca – Eslovaquia – Finlandia – Francia – Holanda – Islandia – Italia – Japón – Letonia – Noruega – Nueva Zelanda – República Checa – Suecia – Suiza – Tailandia – Estados Un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77880" y="1838160"/>
            <a:ext cx="4181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Paíse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2708280"/>
            <a:ext cx="4181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de Intercambio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5364000" y="260280"/>
            <a:ext cx="3240000" cy="2016000"/>
            <a:chOff x="5364000" y="260280"/>
            <a:chExt cx="3240000" cy="20160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64000" y="330840"/>
              <a:ext cx="3240000" cy="19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64000" y="260280"/>
              <a:ext cx="3240000" cy="2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1557360"/>
            <a:ext cx="4181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Contacto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8424720" cy="3868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908000" y="6137280"/>
            <a:ext cx="46850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latin typeface="High Tower Text"/>
              </a:rPr>
              <a:t>www.afs.org.ve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5364000" y="260280"/>
            <a:ext cx="3240000" cy="2016000"/>
            <a:chOff x="5364000" y="260280"/>
            <a:chExt cx="3240000" cy="201600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5364000" y="330840"/>
              <a:ext cx="3240000" cy="19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364000" y="260280"/>
              <a:ext cx="3240000" cy="2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1557360"/>
            <a:ext cx="4181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Contacto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rcRect l="12245" t="1641" r="15305" b="3282"/>
          <a:stretch/>
        </p:blipFill>
        <p:spPr>
          <a:xfrm>
            <a:off x="3421080" y="2779560"/>
            <a:ext cx="5111640" cy="3818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5360" y="2349360"/>
            <a:ext cx="4381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Barquisim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Caracas (Este &amp; La Trin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Cuma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99cc"/>
                </a:solidFill>
                <a:latin typeface="Maiandra GD"/>
              </a:rPr>
              <a:t>Guasip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Maracai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Margar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Mé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Paragua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Puerto La Cr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Puerto Ord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San Cristó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Maiandra GD"/>
              </a:rPr>
              <a:t>Sur del L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99cc"/>
                </a:solidFill>
                <a:latin typeface="Maiandra GD"/>
              </a:rPr>
              <a:t>Val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99cc"/>
                </a:solidFill>
                <a:latin typeface="Maiandra GD"/>
              </a:rPr>
              <a:t>Va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5580000" y="260280"/>
            <a:ext cx="2808000" cy="1584000"/>
            <a:chOff x="5580000" y="260280"/>
            <a:chExt cx="2808000" cy="158400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5580000" y="315720"/>
              <a:ext cx="280800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580000" y="260280"/>
              <a:ext cx="2808000" cy="16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5280" y="1341360"/>
            <a:ext cx="4181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Alianza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0920" y="2205000"/>
            <a:ext cx="273672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219640" y="2060640"/>
            <a:ext cx="3095640" cy="787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50920" y="3832200"/>
            <a:ext cx="2427120" cy="925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826920" y="4865760"/>
            <a:ext cx="2089440" cy="7617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417840" y="3789360"/>
            <a:ext cx="5114880" cy="1295280"/>
            <a:chOff x="3417840" y="3789360"/>
            <a:chExt cx="5114880" cy="1295280"/>
          </a:xfrm>
        </p:grpSpPr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3417840" y="3789360"/>
              <a:ext cx="511488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427640" y="4149720"/>
              <a:ext cx="4105080" cy="93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4859280" y="5627520"/>
            <a:ext cx="3589560" cy="82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539640" y="5805360"/>
            <a:ext cx="41817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latin typeface="High Tower Text"/>
              </a:rPr>
              <a:t>Asociación Venezolana de Campamentos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latin typeface="High Tower Text"/>
              <a:ea typeface="High Tower Tex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711680" y="4724280"/>
            <a:ext cx="4181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latin typeface="High Tower Text"/>
              </a:rPr>
              <a:t>Organizaciones Programa de Servicio Comunitario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latin typeface="High Tower Text"/>
              <a:ea typeface="High Tower Text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1403280" y="2997360"/>
            <a:ext cx="54864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5580000" y="260280"/>
            <a:ext cx="2808000" cy="1584000"/>
            <a:chOff x="5580000" y="260280"/>
            <a:chExt cx="2808000" cy="158400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5580000" y="315720"/>
              <a:ext cx="280800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80000" y="260280"/>
              <a:ext cx="2808000" cy="16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9280" y="1528920"/>
            <a:ext cx="504036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¿Qué podemos ofrecer?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179" name=""/>
          <p:cNvSpPr/>
          <p:nvPr/>
        </p:nvSpPr>
        <p:spPr>
          <a:xfrm>
            <a:off x="34920" y="2421000"/>
            <a:ext cx="3673440" cy="1728720"/>
          </a:xfrm>
          <a:custGeom>
            <a:avLst/>
            <a:gdLst>
              <a:gd name="textAreaLeft" fmla="*/ 0 w 3673440"/>
              <a:gd name="textAreaRight" fmla="*/ 3673800 w 3673440"/>
              <a:gd name="textAreaTop" fmla="*/ 223920 h 1728720"/>
              <a:gd name="textAreaBottom" fmla="*/ 150480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Maiandra GD"/>
              </a:rPr>
              <a:t>Talleres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Maiandra GD"/>
              </a:rPr>
              <a:t>Capac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349360"/>
            <a:ext cx="4032360" cy="2016360"/>
          </a:xfrm>
          <a:custGeom>
            <a:avLst/>
            <a:gdLst>
              <a:gd name="textAreaLeft" fmla="*/ 0 w 4032360"/>
              <a:gd name="textAreaRight" fmla="*/ 4032720 w 4032360"/>
              <a:gd name="textAreaTop" fmla="*/ 261360 h 2016360"/>
              <a:gd name="textAreaBottom" fmla="*/ 17550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400" spc="-1" strike="noStrike">
                <a:solidFill>
                  <a:srgbClr val="000000"/>
                </a:solidFill>
                <a:latin typeface="Maiandra GD"/>
              </a:rPr>
              <a:t>Voluntarios pa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400" spc="-1" strike="noStrike">
                <a:solidFill>
                  <a:srgbClr val="000000"/>
                </a:solidFill>
                <a:latin typeface="Maiandra GD"/>
              </a:rPr>
              <a:t>Servicio Comunita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24280"/>
            <a:ext cx="2771640" cy="1584360"/>
          </a:xfrm>
          <a:custGeom>
            <a:avLst/>
            <a:gdLst>
              <a:gd name="textAreaLeft" fmla="*/ 0 w 2771640"/>
              <a:gd name="textAreaRight" fmla="*/ 2771640 w 277164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400" spc="-1" strike="noStrike">
                <a:solidFill>
                  <a:srgbClr val="000000"/>
                </a:solidFill>
                <a:latin typeface="Maiandra GD"/>
              </a:rPr>
              <a:t>Pasantí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400" spc="-1" strike="noStrike">
                <a:solidFill>
                  <a:srgbClr val="000000"/>
                </a:solidFill>
                <a:latin typeface="Maiandra GD"/>
              </a:rPr>
              <a:t>universita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9440" y="4940280"/>
            <a:ext cx="2735280" cy="1368360"/>
          </a:xfrm>
          <a:custGeom>
            <a:avLst/>
            <a:gdLst>
              <a:gd name="textAreaLeft" fmla="*/ 0 w 2735280"/>
              <a:gd name="textAreaRight" fmla="*/ 2735640 w 273528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Maiandra GD"/>
              </a:rPr>
              <a:t>Ley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Maiandra GD"/>
              </a:rPr>
              <a:t>Comuni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3573360"/>
            <a:ext cx="3313080" cy="1513080"/>
          </a:xfrm>
          <a:custGeom>
            <a:avLst/>
            <a:gdLst>
              <a:gd name="textAreaLeft" fmla="*/ 0 w 3313080"/>
              <a:gd name="textAreaRight" fmla="*/ 3313440 w 3313080"/>
              <a:gd name="textAreaTop" fmla="*/ 195840 h 1513080"/>
              <a:gd name="textAreaBottom" fmla="*/ 13172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Maiandra GD"/>
              </a:rPr>
              <a:t>Programa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Maiandra GD"/>
              </a:rPr>
              <a:t>Inter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4797360"/>
            <a:ext cx="3313080" cy="1513080"/>
          </a:xfrm>
          <a:custGeom>
            <a:avLst/>
            <a:gdLst>
              <a:gd name="textAreaLeft" fmla="*/ 0 w 3313080"/>
              <a:gd name="textAreaRight" fmla="*/ 3313440 w 3313080"/>
              <a:gd name="textAreaTop" fmla="*/ 195840 h 1513080"/>
              <a:gd name="textAreaBottom" fmla="*/ 13172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Maiandra GD"/>
              </a:rPr>
              <a:t>Operación “Kil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5580000" y="260280"/>
            <a:ext cx="2808000" cy="1584000"/>
            <a:chOff x="5580000" y="260280"/>
            <a:chExt cx="2808000" cy="158400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5580000" y="315720"/>
              <a:ext cx="280800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580000" y="260280"/>
              <a:ext cx="2808000" cy="16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413000"/>
            <a:ext cx="55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¿Qué necesitamos de la RED?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637000"/>
            <a:ext cx="3888000" cy="2016000"/>
          </a:xfrm>
          <a:custGeom>
            <a:avLst/>
            <a:gdLst>
              <a:gd name="textAreaLeft" fmla="*/ 0 w 3888000"/>
              <a:gd name="textAreaRight" fmla="*/ 3888360 w 3888000"/>
              <a:gd name="textAreaTop" fmla="*/ 261360 h 2016000"/>
              <a:gd name="textAreaBottom" fmla="*/ 17546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7e7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Talleres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Capac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565360"/>
            <a:ext cx="4248000" cy="2376360"/>
          </a:xfrm>
          <a:custGeom>
            <a:avLst/>
            <a:gdLst>
              <a:gd name="textAreaLeft" fmla="*/ 0 w 4248000"/>
              <a:gd name="textAreaRight" fmla="*/ 4248000 w 4248000"/>
              <a:gd name="textAreaTop" fmla="*/ 307800 h 2376360"/>
              <a:gd name="textAreaBottom" fmla="*/ 206856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7e7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Organizaciones p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Servicio Comunit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365720"/>
            <a:ext cx="3887640" cy="2016000"/>
          </a:xfrm>
          <a:custGeom>
            <a:avLst/>
            <a:gdLst>
              <a:gd name="textAreaLeft" fmla="*/ 0 w 3887640"/>
              <a:gd name="textAreaRight" fmla="*/ 3888000 w 3887640"/>
              <a:gd name="textAreaTop" fmla="*/ 261360 h 2016000"/>
              <a:gd name="textAreaBottom" fmla="*/ 17546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7e7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Pasantí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universit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4581360"/>
            <a:ext cx="3888000" cy="2016360"/>
          </a:xfrm>
          <a:custGeom>
            <a:avLst/>
            <a:gdLst>
              <a:gd name="textAreaLeft" fmla="*/ 0 w 3888000"/>
              <a:gd name="textAreaRight" fmla="*/ 3888360 w 3888000"/>
              <a:gd name="textAreaTop" fmla="*/ 261360 h 2016360"/>
              <a:gd name="textAreaBottom" fmla="*/ 17550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7e7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Ley de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Maiandra GD"/>
              </a:rPr>
              <a:t>Comunit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1700280"/>
            <a:ext cx="849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336699"/>
                </a:solidFill>
                <a:latin typeface="Maiandra GD"/>
              </a:rPr>
              <a:t>Únase a la celebración de los 60 años de AF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s-ES" sz="24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s-ES" sz="2400" spc="-1" strike="noStrike">
                <a:solidFill>
                  <a:srgbClr val="336699"/>
                </a:solidFill>
                <a:latin typeface="Maiandra GD"/>
              </a:rPr>
              <a:t>Firmando la petición para promover la PAZ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ff3300"/>
                </a:solidFill>
                <a:latin typeface="Maiandra GD"/>
              </a:rPr>
              <a:t>w</a:t>
            </a:r>
            <a:r>
              <a:rPr b="0" lang="es-VE" sz="4000" spc="-1" strike="noStrike">
                <a:solidFill>
                  <a:srgbClr val="ff3300"/>
                </a:solidFill>
                <a:latin typeface="Maiandra GD"/>
              </a:rPr>
              <a:t>ww.exchanges4peace.or</a:t>
            </a:r>
            <a:r>
              <a:rPr b="0" lang="es-VE" sz="3600" spc="-1" strike="noStrike">
                <a:solidFill>
                  <a:srgbClr val="ff3300"/>
                </a:solidFill>
                <a:latin typeface="Maiandra GD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681200" y="4808520"/>
            <a:ext cx="57704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700280"/>
            <a:ext cx="8496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Maiandra GD"/>
              </a:rPr>
              <a:t>Únase a la celebración de los 60 años de AF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n-US" sz="24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Maiandra GD"/>
              </a:rPr>
              <a:t>Abriéndonos las puertas de su organización en la semana aniversario en noviembre para una labor social.</a:t>
            </a:r>
            <a:r>
              <a:rPr b="0" lang="en-US" sz="2400" spc="-1" strike="noStrike">
                <a:solidFill>
                  <a:srgbClr val="336699"/>
                </a:solidFill>
                <a:latin typeface="Maiandra G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4280" y="71280"/>
            <a:ext cx="8991720" cy="6670800"/>
            <a:chOff x="44280" y="71280"/>
            <a:chExt cx="8991720" cy="6670800"/>
          </a:xfrm>
        </p:grpSpPr>
        <p:sp>
          <p:nvSpPr>
            <p:cNvPr id="48" name=""/>
            <p:cNvSpPr/>
            <p:nvPr/>
          </p:nvSpPr>
          <p:spPr>
            <a:xfrm>
              <a:off x="44280" y="71280"/>
              <a:ext cx="8991720" cy="667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971640" y="260280"/>
              <a:ext cx="2735280" cy="13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5580000" y="284040"/>
              <a:ext cx="2664000" cy="1408320"/>
              <a:chOff x="5580000" y="284040"/>
              <a:chExt cx="2664000" cy="1408320"/>
            </a:xfrm>
          </p:grpSpPr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80000" y="333360"/>
                <a:ext cx="266400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5580000" y="284040"/>
                <a:ext cx="266400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952560" y="2786040"/>
              <a:ext cx="568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26920" y="1773360"/>
              <a:ext cx="6553440" cy="46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26920" y="3645000"/>
              <a:ext cx="6553440" cy="100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00000" y="3789360"/>
              <a:ext cx="6337440" cy="24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3600" spc="-1" strike="noStrike">
                  <a:solidFill>
                    <a:srgbClr val="336699"/>
                  </a:solidFill>
                  <a:latin typeface="Maiandra GD"/>
                </a:rPr>
                <a:t>AFS</a:t>
              </a:r>
              <a:r>
                <a:rPr b="0" lang="es-VE" sz="2400" spc="-1" strike="noStrike">
                  <a:solidFill>
                    <a:srgbClr val="336699"/>
                  </a:solidFill>
                  <a:latin typeface="Maiandra GD"/>
                </a:rPr>
                <a:t> significó entre 1914 y 1945 ayuda humanitaria en los campos de batalla. Hoy es la organización sin fines de lucro y de base voluntaria líder en intercambios cul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4280" y="71280"/>
            <a:ext cx="8991720" cy="7489080"/>
            <a:chOff x="44280" y="71280"/>
            <a:chExt cx="8991720" cy="7489080"/>
          </a:xfrm>
        </p:grpSpPr>
        <p:sp>
          <p:nvSpPr>
            <p:cNvPr id="58" name=""/>
            <p:cNvSpPr/>
            <p:nvPr/>
          </p:nvSpPr>
          <p:spPr>
            <a:xfrm>
              <a:off x="44280" y="71280"/>
              <a:ext cx="8991720" cy="667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971640" y="260280"/>
              <a:ext cx="2735280" cy="13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5580000" y="284040"/>
              <a:ext cx="2664000" cy="1408320"/>
              <a:chOff x="5580000" y="284040"/>
              <a:chExt cx="2664000" cy="1408320"/>
            </a:xfrm>
          </p:grpSpPr>
          <p:pic>
            <p:nvPicPr>
              <p:cNvPr id="6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80000" y="333360"/>
                <a:ext cx="266400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5580000" y="284040"/>
                <a:ext cx="266400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952560" y="2786040"/>
              <a:ext cx="568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1116000" y="1773360"/>
              <a:ext cx="6769080" cy="48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116000" y="4724280"/>
              <a:ext cx="6769080" cy="1009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58920" y="4724280"/>
              <a:ext cx="6337440" cy="28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6699"/>
                  </a:solidFill>
                  <a:latin typeface="Maiandra GD"/>
                </a:rPr>
                <a:t>Miles de jóvenes, familias y voluntarios en </a:t>
              </a:r>
              <a:r>
                <a:rPr b="1" lang="es-VE" sz="3200" spc="-1" strike="noStrike">
                  <a:solidFill>
                    <a:srgbClr val="336699"/>
                  </a:solidFill>
                  <a:latin typeface="Maiandra GD"/>
                </a:rPr>
                <a:t>56 países</a:t>
              </a:r>
              <a:r>
                <a:rPr b="0" lang="es-VE" sz="2800" spc="-1" strike="noStrike">
                  <a:solidFill>
                    <a:srgbClr val="336699"/>
                  </a:solidFill>
                  <a:latin typeface="Maiandra GD"/>
                </a:rPr>
                <a:t> contribuyen anualmente al reconocimiento y a la apreciación de las diversas culturas.</a:t>
              </a:r>
              <a:r>
                <a:rPr b="0" lang="es-VE" sz="3200" spc="-1" strike="noStrike">
                  <a:solidFill>
                    <a:srgbClr val="336699"/>
                  </a:solidFill>
                  <a:latin typeface="Maiandra GD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44280" y="71280"/>
            <a:ext cx="8991720" cy="6670800"/>
            <a:chOff x="44280" y="71280"/>
            <a:chExt cx="8991720" cy="6670800"/>
          </a:xfrm>
        </p:grpSpPr>
        <p:sp>
          <p:nvSpPr>
            <p:cNvPr id="68" name=""/>
            <p:cNvSpPr/>
            <p:nvPr/>
          </p:nvSpPr>
          <p:spPr>
            <a:xfrm>
              <a:off x="44280" y="71280"/>
              <a:ext cx="8991720" cy="6670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971640" y="260280"/>
              <a:ext cx="2735280" cy="13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5580000" y="284040"/>
              <a:ext cx="2664000" cy="1408320"/>
              <a:chOff x="5580000" y="284040"/>
              <a:chExt cx="2664000" cy="1408320"/>
            </a:xfrm>
          </p:grpSpPr>
          <p:pic>
            <p:nvPicPr>
              <p:cNvPr id="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80000" y="333360"/>
                <a:ext cx="266400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580000" y="284040"/>
                <a:ext cx="266400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952560" y="2786040"/>
              <a:ext cx="568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042920" y="1800360"/>
              <a:ext cx="6408720" cy="4748040"/>
              <a:chOff x="1042920" y="1800360"/>
              <a:chExt cx="6408720" cy="4748040"/>
            </a:xfrm>
          </p:grpSpPr>
          <p:pic>
            <p:nvPicPr>
              <p:cNvPr id="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2920" y="1800360"/>
                <a:ext cx="6408720" cy="474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1042920" y="3645000"/>
                <a:ext cx="6408720" cy="100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042920" y="2133720"/>
              <a:ext cx="6337440" cy="30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3600" spc="-1" strike="noStrike">
                  <a:solidFill>
                    <a:srgbClr val="336699"/>
                  </a:solidFill>
                  <a:latin typeface="Maiandra GD"/>
                </a:rPr>
                <a:t>AFS</a:t>
              </a:r>
              <a:r>
                <a:rPr b="0" lang="es-VE" sz="3200" spc="-1" strike="noStrike">
                  <a:solidFill>
                    <a:srgbClr val="336699"/>
                  </a:solidFill>
                  <a:latin typeface="Maiandra GD"/>
                </a:rPr>
                <a:t> tiene posición consultiva en el Consejo Económico y Social de las Naciones Unidas y la ONU la ha distinguido por su labor a fav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42920" y="4106880"/>
              <a:ext cx="403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3200" spc="-1" strike="noStrike">
                  <a:solidFill>
                    <a:srgbClr val="336699"/>
                  </a:solidFill>
                  <a:latin typeface="Maiandra GD"/>
                </a:rPr>
                <a:t>de la educación de los jóvenes del mun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746440"/>
            <a:ext cx="7704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Maiandra GD"/>
              </a:rPr>
              <a:t>AFS</a:t>
            </a:r>
            <a:r>
              <a:rPr b="0" lang="en-US" sz="2800" spc="-1" strike="noStrike">
                <a:solidFill>
                  <a:srgbClr val="336699"/>
                </a:solidFill>
                <a:latin typeface="Maiandra GD"/>
              </a:rPr>
              <a:t> es una organización internacional, voluntaria, no gubernamental, sin fines de lucro, que provee oportunidades de aprendizaje intercultural para ayudar a las personas en el desarrollo de sus  conocimientos, habilidades y entendimiento necesarios para la creación de un mundo más justo y pa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77880" y="1557360"/>
            <a:ext cx="4181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La Misión de AF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746440"/>
            <a:ext cx="7704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Maiandra GD"/>
              </a:rPr>
              <a:t>AFS</a:t>
            </a:r>
            <a:r>
              <a:rPr b="0" lang="en-US" sz="2800" spc="-1" strike="noStrike">
                <a:solidFill>
                  <a:srgbClr val="336699"/>
                </a:solidFill>
                <a:latin typeface="Maiandra GD"/>
              </a:rPr>
              <a:t> busca afirmar la fe en la dignidad y el valor de  cada ser humano y de todas las naciones y culturas.   Promueve el respeto por los derechos humanos y las libertades fundamentales sin distinción de raza, sexo, idioma, religión o nivel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77880" y="1557360"/>
            <a:ext cx="4181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Valore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746440"/>
            <a:ext cx="770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s-ES" sz="28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s-ES" sz="2800" spc="-1" strike="noStrike">
                <a:solidFill>
                  <a:srgbClr val="336699"/>
                </a:solidFill>
                <a:latin typeface="Maiandra GD"/>
              </a:rPr>
              <a:t>Estudian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Servicio Comuni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Voc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Edu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6699"/>
                </a:solidFill>
                <a:latin typeface="Maiandra GD"/>
              </a:rPr>
              <a:t>Intensivos de Idio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77880" y="1557360"/>
            <a:ext cx="4181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Programa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3027240"/>
            <a:ext cx="77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99"/>
                </a:solidFill>
                <a:latin typeface="Wingdings"/>
                <a:ea typeface="Wingdings"/>
              </a:rPr>
              <a:t></a:t>
            </a:r>
            <a:r>
              <a:rPr b="0" lang="en-US" sz="5400" spc="-1" strike="noStrike">
                <a:solidFill>
                  <a:srgbClr val="336699"/>
                </a:solidFill>
                <a:latin typeface="Maiandra GD"/>
              </a:rPr>
              <a:t> </a:t>
            </a:r>
            <a:r>
              <a:rPr b="0" lang="en-US" sz="5400" spc="-1" strike="noStrike">
                <a:solidFill>
                  <a:srgbClr val="336699"/>
                </a:solidFill>
                <a:latin typeface="Maiandra GD"/>
              </a:rPr>
              <a:t>Hospede un participa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7880" y="1838160"/>
            <a:ext cx="41814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igh Tower Text"/>
              </a:rPr>
              <a:t>Programas</a:t>
            </a:r>
            <a:endParaRPr b="0" lang="en-US" sz="4400" spc="1" strike="noStrike">
              <a:ln w="0">
                <a:noFill/>
              </a:ln>
              <a:solidFill>
                <a:srgbClr val="0099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280" y="71280"/>
            <a:ext cx="8991720" cy="6670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273528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5580000" y="284040"/>
            <a:ext cx="2664000" cy="1408320"/>
            <a:chOff x="5580000" y="284040"/>
            <a:chExt cx="2664000" cy="14083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5580000" y="333360"/>
              <a:ext cx="266400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580000" y="284040"/>
              <a:ext cx="266400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52560" y="2786040"/>
            <a:ext cx="568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2133720"/>
            <a:ext cx="6697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Maiandra GD"/>
              </a:rPr>
              <a:t>El </a:t>
            </a:r>
            <a:r>
              <a:rPr b="1" lang="en-US" sz="3600" spc="-1" strike="noStrike">
                <a:solidFill>
                  <a:srgbClr val="336699"/>
                </a:solidFill>
                <a:latin typeface="Maiandra GD"/>
              </a:rPr>
              <a:t>impacto de la experiencia</a:t>
            </a:r>
            <a:r>
              <a:rPr b="0" lang="en-US" sz="3200" spc="-1" strike="noStrike">
                <a:solidFill>
                  <a:srgbClr val="336699"/>
                </a:solidFill>
                <a:latin typeface="Maiandra GD"/>
              </a:rPr>
              <a:t> de AFS en los jóvenes se denota en una expansión de sus capacidades, un desarrollo de nuevas habilidades, una aceleración en el proceso de maduración y un marcado aumento en el entendimiento de las personas y cultu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4106880"/>
            <a:ext cx="403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8:40:14Z</dcterms:created>
  <dc:creator>AFS Direccion</dc:creator>
  <dc:description/>
  <dc:language>en-US</dc:language>
  <cp:lastModifiedBy>Familia</cp:lastModifiedBy>
  <dcterms:modified xsi:type="dcterms:W3CDTF">2007-09-05T01:00:58Z</dcterms:modified>
  <cp:revision>51</cp:revision>
  <dc:subject/>
  <dc:title>Diapositiva 1</dc:title>
</cp:coreProperties>
</file>