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8C3-4D58-41B6-BD22-28EF7596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4EF-AF12-4706-8072-0575C8CF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BB9-73AA-456E-AEA9-D69659A9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9D2-D2B4-4443-9055-09C27CE2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A80-9374-471E-BE30-145FBE4E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7BB-74C6-414F-B9AC-B8F3C61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7E9-172A-4FD4-B7E3-FA5F3D4F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08C-25FA-43D3-9502-AE3C6494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42B-21F5-468C-8DC6-B122D7A6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B5D-408E-4476-AA4C-A8C4C381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847-EA8F-4583-AC7B-9A0E2FDF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3F5-0B52-4C5D-AB28-3B3E8FC4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edba8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D90E-2DA6-4880-B6DC-746DA800736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edba8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396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yecto de reglamento de la ley de los consejos comu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609480"/>
            <a:ext cx="0" cy="601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09480"/>
            <a:ext cx="842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S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7-02-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edba8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32520" y="27000"/>
            <a:ext cx="4075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ción y co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609480"/>
            <a:ext cx="5867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7480" y="6534000"/>
            <a:ext cx="44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yecto de reglamento de la Ley de los Consejos Comu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9880"/>
            <a:ext cx="65530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38120" y="547560"/>
            <a:ext cx="7772400" cy="581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: ..permiten al pueblo organizado ejercer directamente la gestión de las políticas públicas (Art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a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amblea de ciudadanos y ciudadan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áxima instancia de decis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 integran los miembros de la comunidad mayores de 15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cide por mayoría sim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ige a los integrantes de todos los órganos funcion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 Promotor Provisional (art. 5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grado por un representante de la Comisión Local Presidencial del Poder Popular y cinco ciudadanos residentes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o queda claro quien designa a dichos ciudadan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o se establece que deben ser mayores de 15 años y con al menos 6 meses de residencia en la comunidad (art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es (Art.7) : En 15 días elabora censo y en no más de 30 días convoca la Asamblea para elegir a la comisión promotora y a las comisión electoral. Cesa al conformarse la Comisión Promot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edba8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32520" y="27000"/>
            <a:ext cx="4075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ción y co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609480"/>
            <a:ext cx="5867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7480" y="6534000"/>
            <a:ext cx="44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yecto de reglamento de la Ley de los Consejos Comu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19880"/>
            <a:ext cx="65530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8120" y="547560"/>
            <a:ext cx="7772400" cy="581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isión Promotora (ar.t 9.): Elegida por la asamblea la integran entre 5 y 9 ciudadanos. Disponen de 90 dí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formar, historia, informe socioeconómico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vocar la Asamblea Constituyente Comunitaria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esa al conformarse el Consejo Comu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Asamblea Constituyente es la Asamblea de Ciudadanos en la cual se eligen por primera vez los integrantes de las distintas instancias del consejo. Se conforma con un mínimo de 20% de miembros de la comunidad mayores de 15 a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isión Electoral (Art. 11): La componen 5 ciudadanos electos por la Asamblea. Atribu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aborar el registro electoral en base al Censo realizado por el Equipo Promo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fundir lo relativo a los voceros y demás integrantes del Consejo Comu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vocar a los ciudadanos para constituir la Asamblea Constituyen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rganizar la elección de voceros y demás cargos ele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constancia de residencia la emite la jefatura u oficina correspondi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Órgano Ejecutivo (Art.16): Lo integran voceros de acuerdo a los requerimientos establecidos por la asamblea de ciudadanos. Pueden ser revocados a solicitud de cualquier ciudadano si así lo decide la asamblea, instancia que nombrara a los 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edba8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32520" y="27000"/>
            <a:ext cx="4075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ción y co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09480"/>
            <a:ext cx="5867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7480" y="6534000"/>
            <a:ext cx="44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yecto de reglamento de la Ley de los Consejos Comu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419880"/>
            <a:ext cx="65530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38120" y="547560"/>
            <a:ext cx="7772400" cy="581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dad de Gestión Financiera: Los miembros deben presentar constancia de buena conducta emitida por la prefectura o jefatura civil. No pueden mantener parentesco con miembros de las demás unidades del Conse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enominara Banco Com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 conforman 5 Socios con sus supl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es: Administrar los recursos. Realizar intermediación financier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sta de 4 instancias: Administrativa, control, financiera y educ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créditos personales pueden ascender hasta 300 UT y los socio productivos hasta 900 Ut. La tasa no puede ser mayor a 9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dad de Contraloría Social (Art. 30): Control, fiscalización y vigilancia. La integran cinco habitantes electos por la asamb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ndo de Funcionamiento del Consejo Comunal: Los gastos anuales no podrán exceder las 240 UT , los fondos provienen del Fondo Nacional de Consejos Comunales ente adscrito al Ministerio de Finanz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edba8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32520" y="27000"/>
            <a:ext cx="4075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ción y co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609480"/>
            <a:ext cx="5867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7480" y="6534000"/>
            <a:ext cx="44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yecto de reglamento de la Ley de los Consejos Comu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419880"/>
            <a:ext cx="65530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8120" y="547560"/>
            <a:ext cx="7772400" cy="581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isión Nacional Presidencial del Poder Popular: La integran 4 ministros, tres presidentes de organismos financieros del gobierno central y el presidente de Fundacomú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ienta, coordina y evalúa el desarrollo de los Consejos Comunales a todos los niveles. Recaba los proyectos y tramita los recursos. Crea en comunidades donde lo considere necesario equipos promotores externos para impulsar la conformación de los consejos comun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stula a los integrantes de las Comisiones Regional y Local Presidencial del Poder Pop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timación de los Consejos Comun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tar la historia de la comunidad, croquis del área geográfica, censo demográfico y socioeconómico y aprobación de al menos el 20% de los miembros de la comunidad.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edba8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32520" y="27000"/>
            <a:ext cx="4075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ción y co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09480"/>
            <a:ext cx="5867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7480" y="6534000"/>
            <a:ext cx="44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yecto de reglamento de la Ley de los Consejos Comu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419880"/>
            <a:ext cx="65530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8120" y="547560"/>
            <a:ext cx="7772400" cy="581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úmero de Consej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acuerdo al Ministerio de Participación se han constituido más de 18 mil Consejos Comunales, de los cuales 14 mil han presentado proyectos y recibido asignaciones. El FIDES tiene registrados 13 mil Consejos y 3.000 en proceso de aprob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cursos Presupues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recursos para los consejos comunales aumentarán este año 70% por lo menos. De 2,8 billones de bolívares que había en 2006, el presupuesto llega a una cifra de 11 billones, que aún no incluyen los excedentes de las reservas internacionales, los recaudos del impuesto al patrimonio y los excesos del recorte de salarios de los funcionarios públicos que, de acuerdo con Chávez, también serán destinados al Poder Comu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onsejos comunales, manejarán por lo menos 46% del presupuesto de las regiones, casi la mitad del dinero que destinan a las gobernaciones.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sibles camb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corporación del área comunal, zona, subzona, federación y confede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ansformación de la unidad de gestión financiera y su relación con las coopera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gunos problem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encia de un marco legal-institucional claro a nivel macro y mic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lación con Alcaldías y Gobernaciones en términos de competencias y coope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fusión respecto del ámbito geográf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putas políticas y clien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ecesidad de fortalecer la cultura comunit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rtalecimiento de la capacidad técn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rte dependencia del gobierno cen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.Urquijo</dc:creator>
  <dc:description/>
  <dc:language>en-US</dc:language>
  <cp:lastModifiedBy>Comunicaciones REDSOC</cp:lastModifiedBy>
  <cp:lastPrinted>2002-10-16T21:57:45Z</cp:lastPrinted>
  <dcterms:modified xsi:type="dcterms:W3CDTF">2007-02-08T20:46:01Z</dcterms:modified>
  <cp:revision>156</cp:revision>
  <dc:subject/>
  <dc:title>Sin título de diapositiva</dc:title>
</cp:coreProperties>
</file>