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7020-02F6-4B95-9E69-9144CD563E59}" type="slidenum">
              <a:rPr b="0" lang="es-V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42B9-6236-47C1-9485-76637B4A1595}" type="slidenum">
              <a:rPr b="0" lang="es-V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1757-D11D-4C79-B202-28D82858DB55}" type="slidenum">
              <a:rPr b="0" lang="es-V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FF1E-AF2C-47B5-AE0B-99E8B5E2130C}" type="slidenum">
              <a:rPr b="0" lang="es-V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BEB1-BE50-4096-8CB5-5FC2965A9CCE}" type="slidenum">
              <a:rPr b="0" lang="es-V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7A84-1F71-4F66-854F-D040655F6E04}" type="slidenum">
              <a:rPr b="0" lang="es-V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62E4-5A30-4E3F-AC9B-A6501CEE5898}" type="slidenum">
              <a:rPr b="0" lang="es-V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2B9D-2A40-451A-9DBD-356F04913FBD}" type="slidenum">
              <a:rPr b="0" lang="es-V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C636-E052-4591-8FA9-DF5F0FEE571F}" type="slidenum">
              <a:rPr b="0" lang="es-V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DFDC-3929-4B8F-AFB8-F26EFEE0705E}" type="slidenum">
              <a:rPr b="0" lang="es-V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AACA-5A55-4AF0-89FD-E584198DC3EE}" type="slidenum">
              <a:rPr b="0" lang="es-V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B8EE-EB31-4C04-88D9-6B0357E42857}" type="slidenum">
              <a:rPr b="0" lang="es-V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2A9B-BC35-4D26-A4AD-3EC9CC8E9A55}" type="slidenum">
              <a:rPr b="0" lang="es-V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BFF-5BA2-4C9A-8AB7-EE037FA2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A79-B9FB-4317-8515-739B8DE8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C2E-3224-49CA-A1E0-2B048B92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256-A800-4EDC-8968-3CA5E4FB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FD82-8B57-489F-B1B7-E79955AF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0A9F-3D09-4794-8EE2-87F9D7BD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A401-B070-4E71-86A3-3CD89297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C15A-6698-4918-AA64-AF90DF67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B1B5-B6F8-4129-AA0A-0C245519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FBFC-BDFE-4FE7-83E0-1A25A643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E99E-BA5E-4FBE-92D3-84981E11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390-A949-46A9-BCDD-F1B1B952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139D-6668-47BB-AC03-098E04A0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CA98-2DF7-40E5-8183-6019A88D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BEF1-56A1-4E08-9865-9BA6082F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EC00-7DAE-48B9-9A58-EBCD2478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ACE4-786C-4017-98AD-3BA9F264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1568D-A88D-462A-BB5C-06712BA7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2D0DD-0A52-4A44-B28B-500D1C1A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AE64-9795-4EC3-B714-301E0EC8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34337-A5BF-4627-AF3F-BCAF3573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9316D-56CB-48C6-B282-D67DBB96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B43-7AF4-4009-8DC0-63A41D0A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EC4D-0C91-4088-9DB1-890F58A3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028C-D88D-4E0D-9547-D41B94C5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3D50E-EEBB-4FCF-99BA-03D68BEF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9516-7DBC-4043-8277-FC3792A7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314DE-1C5F-4CD6-92ED-BC55EFD3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06478-499F-4A64-AF14-1F69E96B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9E7FA-5B65-412B-988E-73EFD74D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C6723-3C0B-48D5-B271-DC20CA91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EDD4A-8E27-43CC-B408-F43E7FE8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855B6-2183-4971-A76F-39D175DE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F5C-FA5B-47DC-A4A0-326DDC1A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0C0D5-2451-4CDF-9E34-352E6E01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C0B8D-B318-4EB6-A20E-D0D2A47F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72D4A-2334-4B26-B350-3099C640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6BEEA-2B61-41ED-A710-C5E228AF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CD85D-5A0A-4349-9AA2-C6654F89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AC8D8-9A2A-43C8-BC23-F9C8B08A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FC140-097F-4591-A391-90DB0BFA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A12FA-418E-4A16-A1AA-70A8101B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3F8A0-34F0-400D-AA82-582CC8C0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4AE8B-0E3A-4F87-8FBB-5AF20DBF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49E-AB3D-456B-A617-97D28091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C5513-0A36-4E09-9AB1-194521C6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15201-DCB9-44B5-99F8-34B983E2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576D4-C652-49D0-92AE-B6277D70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270FC-9CC0-4C30-81A3-DC5BC959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A52DD-2512-4E5C-9F9A-B3699FFD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4C03F-5788-4A57-94EA-D2CFAEA0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94004-8F08-4C39-A938-7531CE1C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7E407-6F20-4B59-9CF1-20E0C385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DC5B4-4DDC-4953-A79D-50585D99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FDC1B-E406-4A9B-BDB6-15764DC3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055-8C47-4042-A667-F2521F4A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71AF9-BB90-4D49-8EFD-D00EDE0E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ECA-2403-41C7-A6ED-4D99D48D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31B-D302-4E13-BFC6-CA316E98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274-25E5-4C53-92D1-031AEC8D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7AC0-506C-4F30-962B-8F7A7E71F308}" type="slidenum">
              <a:rPr b="0" lang="es-V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8476-88C6-4AF6-82F9-6D1E739435DF}" type="slidenum">
              <a:rPr b="0" lang="es-V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DEDA-6AFE-4C41-A7AB-B57E6B0E60CF}" type="slidenum">
              <a:rPr b="0" lang="es-V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BB7A-5AAF-47B2-9915-5203DA253EF1}" type="slidenum">
              <a:rPr b="0" lang="es-V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3912-D04C-4E69-98D1-FAC4673D4564}" type="slidenum">
              <a:rPr b="0" lang="es-VE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dpingo@un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n.org/dpi/ngosection" TargetMode="External"/><Relationship Id="rId2" Type="http://schemas.openxmlformats.org/officeDocument/2006/relationships/hyperlink" Target="http://www.un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n.org/dpi/ngosectio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911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900" spc="-1" strike="noStrike">
                <a:solidFill>
                  <a:srgbClr val="ff8d3e"/>
                </a:solidFill>
                <a:latin typeface="Verdana"/>
                <a:ea typeface="Verdana"/>
              </a:rPr>
              <a:t>DPI·NGO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076960" cy="15001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79766f"/>
                </a:solidFill>
                <a:latin typeface="Verdana"/>
                <a:ea typeface="Verdana"/>
              </a:rPr>
              <a:t>Departamento de Información Pública de Naciones Unidas · Organizaciones No Gubernamentales</a:t>
            </a:r>
            <a:r>
              <a:rPr b="0" lang="en-US" sz="3200" spc="-1" strike="noStrike">
                <a:solidFill>
                  <a:srgbClr val="79766f"/>
                </a:solidFill>
                <a:latin typeface="Verdana"/>
                <a:ea typeface="Verdana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609480" y="57150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nidos tomados y traducidos d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United Nations. NGOs and the United Nations Department of Public Information: Some questions and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“…</a:t>
            </a: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Aunque mucho de mi trabajo diario implica contactos con Gobiernos, es con la sociedad civil con la que siento una especial afinidad, particularmente cuando se refiere a asuntos de ambiente y desarrollo.”</a:t>
            </a:r>
            <a:br>
              <a:rPr sz="2800"/>
            </a:b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Kofi Annan, Secretario General de NU.</a:t>
            </a:r>
            <a:br>
              <a:rPr sz="2800"/>
            </a:b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Mensaje a Foro de la Sociedad Civil, Johanesburgo, Sur Africa, septiembre 2002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PI/NGO Resource Centre</a:t>
            </a:r>
            <a:br>
              <a:rPr sz="3600"/>
            </a:b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oom L-1B-31, Naciones Unidas,</a:t>
            </a:r>
            <a:br>
              <a:rPr sz="3600"/>
            </a:b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New York, NY 10017</a:t>
            </a:r>
            <a:br>
              <a:rPr sz="3600"/>
            </a:b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elf. (001 212) 963.7233</a:t>
            </a:r>
            <a:br>
              <a:rPr sz="3600"/>
            </a:b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ax: (001 212) 963.2819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NGO Section</a:t>
            </a:r>
            <a:br>
              <a:rPr sz="2800"/>
            </a:b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Department of Public Information</a:t>
            </a:r>
            <a:br>
              <a:rPr sz="2800"/>
            </a:b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Room S-1070L, </a:t>
            </a:r>
            <a:br>
              <a:rPr sz="2800"/>
            </a:b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Naciones Unidas,</a:t>
            </a:r>
            <a:br>
              <a:rPr sz="2800"/>
            </a:b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New York, NY 10017</a:t>
            </a:r>
            <a:br>
              <a:rPr sz="2800"/>
            </a:b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Telf. (001 212) 963.8070</a:t>
            </a:r>
            <a:br>
              <a:rPr sz="2800"/>
            </a:b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Fax: (001 212) 963.6914/2819</a:t>
            </a:r>
            <a:br>
              <a:rPr sz="2800"/>
            </a:b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E/mail: </a:t>
            </a:r>
            <a:r>
              <a:rPr b="1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dpingo@un.org</a:t>
            </a:r>
            <a:br>
              <a:rPr sz="2800"/>
            </a:b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Website: www.un.org/dpi/ngosection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952880"/>
            <a:ext cx="8183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¿Qué es una ONG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8377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Verdana"/>
              </a:rPr>
              <a:t>Grupo de ciudadanos voluntarios, sin fines de lucro, organizado en un nivel local, nacional o internacional, orientados a tratar asuntos en apoyo al bien p</a:t>
            </a:r>
            <a:r>
              <a:rPr b="0" lang="es-VE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ú</a:t>
            </a:r>
            <a:r>
              <a:rPr b="0" lang="es-VE" sz="2200" spc="-1" strike="noStrike">
                <a:solidFill>
                  <a:srgbClr val="000000"/>
                </a:solidFill>
                <a:latin typeface="Verdana"/>
              </a:rPr>
              <a:t>bli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Verdana"/>
              </a:rPr>
              <a:t>Cerca de 1.400 ONG con fuertes programas de información sobre temas del interés de las NU están asociadas con el DPI, proporcionando a las UN valiosos enlaces con la gente en todo el mun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200" spc="-1" strike="noStrike">
                <a:solidFill>
                  <a:srgbClr val="000000"/>
                </a:solidFill>
                <a:latin typeface="Verdana"/>
              </a:rPr>
              <a:t>DPI las ayuda a tener acceso y diseminar información para que el publico comprenda mejor los fines y objetivos de la Organización mundial y apoye su trabaj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¿Cómo cooperan las ONG y el DPI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533160"/>
            <a:ext cx="8183520" cy="5105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La Sección de ONG del DPI actúa como enlace con las N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Provee servicios de información a la sociedad civil y otros aliados, incluyendo la comunidad académica, instituciones educativas y el publico en gener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El Programa de la Sección de ONG incluy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Reuniones preparatorias semanales de 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Conferencia Anual DPI/NG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Talleres de Comunica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Programa Anual de Orienta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Procesos de asociación y evalua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Mantenimiento del Centro de Recursos de 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E-mails mensua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Directorio y website DPI/NGO (</a:t>
            </a:r>
            <a:r>
              <a:rPr b="0" lang="es-VE" sz="1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un.org/dpi/ngosection</a:t>
            </a: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VE" sz="18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www.un.org</a:t>
            </a: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 )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bsite de la Conferencia Annual del DPI/NG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¿Cómo asiste el DPI a las ONG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 cumplir su mis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, la Sec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 de ONG del DPI supervisa un extensivo programa de inform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 que incluy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30 reuniones anuales de O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3 talleres de comunicación (para profesionalizar su capacidad de comunicación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1 Programa de Orientación de dos días para representantes de ONG recién acreditad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Conferencia Anual DPI/NGO de 3 dí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Mantenimiento del website: </a:t>
            </a:r>
            <a:r>
              <a:rPr b="0" lang="es-VE" sz="1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www.un.org/dpi/ngosection</a:t>
            </a: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Pases para representantes de ONG que desean obtener acceso al Edificio del Secretariado en Nueva Yor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Acceso a documentos oficiales del sistema de N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Boletín electrónico semanal y boletín en copia impres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DPI/NGO Lin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¿Cómo asiste el DPI a las ONG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30280"/>
            <a:ext cx="8183520" cy="472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 cumplir su mis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 la Sec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 de ONG del DPI supervisa un extensivo programa de inform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 que incluy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Calendario Mensual de Even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Directorio de ONG asociadas con DPI (impreso bi-anual, versión electrónica en el website de la Sección de O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Centro de Recursos DPI/NGO en las Oficinas de Naciones Unidas, donde representantes de las ONG pueden reunirse y trabajar.  Dicho Centro ofrec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Acceso a documentos actuales de NU y notas de prens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Envío por mail de materiales de información de NU. remitidos a las oficinas de todas las ONG asociad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Una biblioteca de prestamos de videos con una extensa colección de películas de NU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</a:rPr>
              <a:t>Una selección actualizada de publicaciones del sistema de U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¿Cuáles son las responsabilidades de las ONG asociadas con el DPI</a:t>
            </a:r>
            <a:r>
              <a:rPr b="1" lang="en-US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 espera que las ONG asociadas dediquen una por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de sus programas de informacion para promover conocimiento de los principios y actividades de las N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icionalmente un proceso de evalua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y revis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fue establecido en 2002, en el cual se espera que las ONG asociadas con DPI mantengan la Sec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NG/DPI al tanto de sus actividades suministrando un corto resumen cuatrienal de sus actividades relacionadas con las NU y muestras de sus materiales informativos relativos al trabajo de NU.  Los materiales de informa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tambien disponibles  para su examen en el Centro de Recursos del DPI/N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¿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Qu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  <a:ea typeface="Times New Roman"/>
              </a:rPr>
              <a:t>é e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s el status consultivo ante el Consejo Econ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  <a:ea typeface="Times New Roman"/>
              </a:rPr>
              <a:t>ó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mico y Social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ticulo 71 de la Carta de NU preve que “… el Consejo Economico y Social  puede hacer arreglos para consultas con ONG involucradas con asuntos dentro de su compe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oluc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 del ECOSOC 1296 (XLIV) del 23 de mayo de 1968 regula tales arreglos para que ONG puedan tener status consultivo con el ECOSOC asi como consultas con su secretari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Resolución de ECOSOC</a:t>
            </a:r>
            <a:r>
              <a:rPr b="0" lang="es-VE" sz="1800" spc="-1" strike="noStrike">
                <a:solidFill>
                  <a:srgbClr val="000000"/>
                </a:solidFill>
                <a:latin typeface="Verdana"/>
                <a:ea typeface="Verdana"/>
              </a:rPr>
              <a:t> 1996/31: después de una revisión estandarizó los procedimientos para acreditar ONG ante Conferencias de NU, delineó los procesos para solicitud de las ONG y decidió que las ONG serian elegibles para aplicar 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Status general” es concedido a ONG grandes, internacionales, que trabajan en casi todos los </a:t>
            </a:r>
            <a:r>
              <a:rPr b="0" lang="es-VE" sz="1800" spc="-1" strike="noStrike">
                <a:solidFill>
                  <a:srgbClr val="000000"/>
                </a:solidFill>
                <a:latin typeface="Verdana"/>
                <a:ea typeface="Verdana"/>
              </a:rPr>
              <a:t>temas de la agenda del ECOSO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  <a:ea typeface="Verdana"/>
              </a:rPr>
              <a:t>”</a:t>
            </a:r>
            <a:r>
              <a:rPr b="0" lang="es-VE" sz="1800" spc="-1" strike="noStrike">
                <a:solidFill>
                  <a:srgbClr val="000000"/>
                </a:solidFill>
                <a:latin typeface="Verdana"/>
                <a:ea typeface="Verdana"/>
              </a:rPr>
              <a:t>Status consultivo especial” es concedido a ONG que tienen competencia en algunos temas de las áreas del ECOSO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lang="es-VE" sz="1800" spc="-1" strike="noStrike">
                <a:solidFill>
                  <a:srgbClr val="000000"/>
                </a:solidFill>
                <a:latin typeface="Verdana"/>
                <a:ea typeface="Verdana"/>
              </a:rPr>
              <a:t>Roster Status” es concedido a ONG que el ECOSOC considera podrían hacer ocasionalmente contribuciones </a:t>
            </a:r>
            <a:r>
              <a:rPr b="0" lang="es-VE" sz="2000" spc="-1" strike="noStrike">
                <a:solidFill>
                  <a:srgbClr val="000000"/>
                </a:solidFill>
                <a:latin typeface="Verdana"/>
                <a:ea typeface="Verdana"/>
              </a:rPr>
              <a:t>útiles a su trabaj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itle 1"/>
          <p:cNvSpPr/>
          <p:nvPr/>
        </p:nvSpPr>
        <p:spPr>
          <a:xfrm>
            <a:off x="609480" y="49528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¿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Qu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  <a:ea typeface="Times New Roman"/>
              </a:rPr>
              <a:t>é e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s el status consultivo ante el Consejo Econ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  <a:ea typeface="Times New Roman"/>
              </a:rPr>
              <a:t>ó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mico y So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  <a:ea typeface="Times New Roman"/>
              </a:rPr>
              <a:t>¿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Qu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 es el status consultivo ante el Consejo Econ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  <a:ea typeface="Times New Roman"/>
              </a:rPr>
              <a:t>ó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mico y Social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838080"/>
            <a:ext cx="8183520" cy="251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ECOSOC decide sobre el status consultivo para ONG basado en la recomendacion del Comite Intergubernamental de ONG, compuesto por 19 miembros de Estados y se reune anualm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3:26:03Z</dcterms:created>
  <dc:creator>Estella</dc:creator>
  <dc:description/>
  <dc:language>en-US</dc:language>
  <cp:lastModifiedBy>Estella</cp:lastModifiedBy>
  <dcterms:modified xsi:type="dcterms:W3CDTF">2008-01-16T03:41:32Z</dcterms:modified>
  <cp:revision>52</cp:revision>
  <dc:subject/>
  <dc:title>DPI</dc:title>
</cp:coreProperties>
</file>