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809-1097-4447-9438-25F53283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763-F578-47C3-8331-FF9016D9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EB00-5AFC-4BBB-B012-A6C0BFA3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601-1998-4CA6-A184-C54A73B4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1FE-505C-4C29-9E56-290B3B73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BC9-AE02-4E54-BADB-67732841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792-317D-4D56-9DA8-30CD303B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C16-3A7F-4733-B83A-F24AAEF7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F7C-99D5-4336-8651-96EA393E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8835-04FB-410B-A470-127504AB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3C1-15C6-4CEC-84B7-8C926790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4A5-BC14-4434-A70F-B68699ED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C438-705D-408D-B82A-7B6BB7036B0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hyperlink" Target="http://by124w.bay124.mail.live.com/mail/ReadMessageLight.aspx?Action=ScanAttachment&amp;AllowUnsafeContentOverride=False&amp;AttachmentIndex=9&amp;AttachmentDepth=9&amp;FolderID=00000000-0000-0000-0000-000000000001&amp;InboxSortAscending=False&amp;InboxSortBy=Date&amp;IsMessageSafe=True&amp;MessageCodePage=20127&amp;ReadMessageId=1d015ab3-f235-4e69-9f9c-b2d81a1e825e&amp;n=1722955077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LAN OPERATIVO RED SOCIAL Enero- Septiembre 2.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3745080" cy="1143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5076720" y="1557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Nuestras Alianz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059280" y="3789360"/>
            <a:ext cx="31622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4360" y="404640"/>
            <a:ext cx="7864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ALINEACIÓN 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CORRESPONSABI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903400">
            <a:off x="684000" y="1557000"/>
            <a:ext cx="2160360" cy="792000"/>
          </a:xfrm>
          <a:custGeom>
            <a:avLst/>
            <a:gdLst>
              <a:gd name="textAreaLeft" fmla="*/ 378000 w 2160360"/>
              <a:gd name="textAreaRight" fmla="*/ 1566360 w 216036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469147"/>
                <a:lnTo>
                  <a:pt x="20034" y="8438"/>
                </a:lnTo>
                <a:lnTo>
                  <a:pt x="17280" y="21600"/>
                </a:lnTo>
                <a:lnTo>
                  <a:pt x="11394" y="8438"/>
                </a:lnTo>
                <a:lnTo>
                  <a:pt x="13554" y="8438"/>
                </a:lnTo>
                <a:arcTo wR="7560" hR="21600" stAng="-3930853" swAng="-111171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9cbdfe"/>
              </a:gs>
              <a:gs pos="50000">
                <a:srgbClr val="6699ff"/>
              </a:gs>
              <a:gs pos="100000">
                <a:srgbClr val="9cbd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rot="2437800">
            <a:off x="899640" y="4076640"/>
            <a:ext cx="1447920" cy="603360"/>
          </a:xfrm>
          <a:custGeom>
            <a:avLst/>
            <a:gdLst>
              <a:gd name="textAreaLeft" fmla="*/ 227520 w 1447920"/>
              <a:gd name="textAreaRight" fmla="*/ 1076040 w 1447920"/>
              <a:gd name="textAreaTop" fmla="*/ 80640 h 603360"/>
              <a:gd name="textAreaBottom" fmla="*/ 522720 h 60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84" hR="21600" stAng="10800000" swAng="-5400000"/>
                <a:lnTo>
                  <a:pt x="12656" y="21600"/>
                </a:lnTo>
                <a:arcTo wR="6784" hR="21600" stAng="5400000" swAng="-2017318"/>
                <a:lnTo>
                  <a:pt x="20950" y="9225"/>
                </a:lnTo>
                <a:lnTo>
                  <a:pt x="16504" y="0"/>
                </a:lnTo>
                <a:lnTo>
                  <a:pt x="10758" y="9225"/>
                </a:lnTo>
                <a:lnTo>
                  <a:pt x="12918" y="9225"/>
                </a:lnTo>
                <a:arcTo wR="6784" hR="21600" stAng="3382682" swAng="1502858"/>
                <a:lnTo>
                  <a:pt x="9720" y="19472"/>
                </a:lnTo>
                <a:arcTo wR="6784" hR="21600" stAng="5914461" swAng="4885539"/>
                <a:close/>
              </a:path>
              <a:path fill="darkenLess" w="21600" h="21600">
                <a:moveTo>
                  <a:pt x="0" y="0"/>
                </a:moveTo>
                <a:arcTo wR="6784" hR="21600" stAng="10800000" swAng="-5400000"/>
                <a:lnTo>
                  <a:pt x="12656" y="21600"/>
                </a:lnTo>
                <a:arcTo wR="6784" hR="21600" stAng="5400000" swAng="514461"/>
                <a:lnTo>
                  <a:pt x="9720" y="19472"/>
                </a:lnTo>
                <a:arcTo wR="6784" hR="21600" stAng="5914461" swAng="4885539"/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50000">
                <a:srgbClr val="9cbdfe"/>
              </a:gs>
              <a:gs pos="100000">
                <a:srgbClr val="66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rot="18398400">
            <a:off x="5168160" y="2977200"/>
            <a:ext cx="1812600" cy="1131840"/>
          </a:xfrm>
          <a:custGeom>
            <a:avLst/>
            <a:gdLst>
              <a:gd name="textAreaLeft" fmla="*/ 280800 w 1812600"/>
              <a:gd name="textAreaRight" fmla="*/ 1368000 w 1812600"/>
              <a:gd name="textAreaTop" fmla="*/ 151560 h 1131840"/>
              <a:gd name="textAreaBottom" fmla="*/ 98028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03" hR="21600" stAng="10800000" swAng="-5400000"/>
                <a:lnTo>
                  <a:pt x="12954" y="21600"/>
                </a:lnTo>
                <a:arcTo wR="6703" hR="21600" stAng="5400000" swAng="-1913697"/>
                <a:lnTo>
                  <a:pt x="20896" y="9639"/>
                </a:lnTo>
                <a:lnTo>
                  <a:pt x="16532" y="0"/>
                </a:lnTo>
                <a:lnTo>
                  <a:pt x="10759" y="9639"/>
                </a:lnTo>
                <a:lnTo>
                  <a:pt x="12702" y="9639"/>
                </a:lnTo>
                <a:arcTo wR="6703" hR="21600" stAng="3486303" swAng="1356323"/>
                <a:lnTo>
                  <a:pt x="9828" y="19108"/>
                </a:lnTo>
                <a:arcTo wR="6703" hR="21600" stAng="5957374" swAng="4842626"/>
                <a:close/>
              </a:path>
              <a:path fill="darkenLess" w="21600" h="21600">
                <a:moveTo>
                  <a:pt x="0" y="0"/>
                </a:moveTo>
                <a:arcTo wR="6703" hR="21600" stAng="10800000" swAng="-5400000"/>
                <a:lnTo>
                  <a:pt x="12954" y="21600"/>
                </a:lnTo>
                <a:arcTo wR="6703" hR="21600" stAng="5400000" swAng="557374"/>
                <a:lnTo>
                  <a:pt x="9828" y="19108"/>
                </a:lnTo>
                <a:arcTo wR="6703" hR="21600" stAng="5957374" swAng="4842626"/>
                <a:close/>
              </a:path>
            </a:pathLst>
          </a:custGeom>
          <a:gradFill rotWithShape="0">
            <a:gsLst>
              <a:gs pos="0">
                <a:srgbClr val="cadbfe"/>
              </a:gs>
              <a:gs pos="50000">
                <a:srgbClr val="6699ff"/>
              </a:gs>
              <a:gs pos="100000">
                <a:srgbClr val="cadb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1989000"/>
            <a:ext cx="19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22766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4292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31622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140000" y="1773360"/>
            <a:ext cx="4679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 Fundación Tierra V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En el marco del Proyecto en el Delta de la Fundación se incorpora el tema de prevención de Embarazos en Adolescentes, para la elaboración de Folleto estilo Com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456000" cy="1054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0" y="4046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lianzas Intersecto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042920" y="1844640"/>
            <a:ext cx="2525760" cy="3981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" name=""/>
          <p:cNvSpPr/>
          <p:nvPr/>
        </p:nvSpPr>
        <p:spPr>
          <a:xfrm>
            <a:off x="3851280" y="4653000"/>
            <a:ext cx="4681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enido: PRO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eño y Diagramación: Fund Tierra V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mpresión: Tierra Viva + PRO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fusión: Tierra Viva + PRO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2560" y="2565360"/>
            <a:ext cx="6769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 AFS Programas Interculturale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Realización de Charla informativa a sus beneficiarios/as sobre Salud Sexual y Reprodu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456000" cy="1054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52" name=""/>
          <p:cNvSpPr/>
          <p:nvPr/>
        </p:nvSpPr>
        <p:spPr>
          <a:xfrm>
            <a:off x="0" y="4046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lianzas Intersecto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4437000"/>
            <a:ext cx="6769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 Asociación Damas Universitar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Realización de Charlas sobre Salud Sexual y Reproductiva a Adolescentes becarios/as y a Padres/Madres y represen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 Centro Comunal Cat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Visita institucional, conocimiento de actividades mutuas, fortalecimiento con material educativo de Prosalud. Participación en actividades a la comunidad del Centro Com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456000" cy="1054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0" y="4046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lianzas Intersecto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148360" y="4149720"/>
            <a:ext cx="3240000" cy="2432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39640" y="4076640"/>
            <a:ext cx="2808360" cy="2108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276720" y="3429000"/>
            <a:ext cx="28080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87280" y="3284640"/>
            <a:ext cx="6769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 Servicio Social Interna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Visita institucional, conocimiento de actividades mutuas. Participación en Jornadas Aniversario por el 50 Aniversario del Servic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456000" cy="1054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62" name=""/>
          <p:cNvSpPr/>
          <p:nvPr/>
        </p:nvSpPr>
        <p:spPr>
          <a:xfrm>
            <a:off x="0" y="4046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lianzas Intersecto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003640" y="1628280"/>
            <a:ext cx="3456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 CMDNA SUC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Proyecto para la prevención de embarazos no deseados e infecciones de transmisión sexual en 15 institutos escolares del Municipio Suc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456000" cy="1054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65" name=""/>
          <p:cNvSpPr/>
          <p:nvPr/>
        </p:nvSpPr>
        <p:spPr>
          <a:xfrm>
            <a:off x="0" y="4046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lianzas con el Gobi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71640" y="1557360"/>
            <a:ext cx="3321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5257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 UCV: Jornadas O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456000" cy="1054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69" name=""/>
          <p:cNvSpPr/>
          <p:nvPr/>
        </p:nvSpPr>
        <p:spPr>
          <a:xfrm>
            <a:off x="0" y="4046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lianzas con la Acad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059280" y="2205000"/>
            <a:ext cx="2232000" cy="1798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8360" y="2205000"/>
            <a:ext cx="1728720" cy="208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1835280" y="4005360"/>
            <a:ext cx="2303280" cy="143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508720" y="2133720"/>
            <a:ext cx="33112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Actividades informativas y educativas en las distintas facultades de la Univers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Se presentó ante la coordinación de OBE la posibilidad de incorporar a otras ODS de la RedS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79912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n el Marco de la Ley del Servicio Comunit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456000" cy="1054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76" name=""/>
          <p:cNvSpPr/>
          <p:nvPr/>
        </p:nvSpPr>
        <p:spPr>
          <a:xfrm>
            <a:off x="0" y="4046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lianzas con la Acad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2708280"/>
            <a:ext cx="7416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UCAB: Escuela de Contadu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Escuela de Comunic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ISUM: Estudiantes de Infor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456000" cy="1054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79" name=""/>
          <p:cNvSpPr/>
          <p:nvPr/>
        </p:nvSpPr>
        <p:spPr>
          <a:xfrm>
            <a:off x="0" y="4046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Futuras Alianz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7417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Escuela Taller La Gua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Superat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Voluntariado U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CMDNA San Diego- Val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Instituto de la Mujer de Ar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03:13:39Z</dcterms:created>
  <dc:creator>Presidencia</dc:creator>
  <dc:description/>
  <dc:language>en-US</dc:language>
  <cp:lastModifiedBy>PEEPadron</cp:lastModifiedBy>
  <dcterms:modified xsi:type="dcterms:W3CDTF">2007-08-01T14:33:46Z</dcterms:modified>
  <cp:revision>9</cp:revision>
  <dc:subject/>
  <dc:title>Diapositiva 1</dc:title>
</cp:coreProperties>
</file>