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8ED-FE8D-41B5-9DB1-B6447478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E80-E697-4720-82FD-9C384A4B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0B1-A2B2-448B-BDD4-9E23D509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84F6-009F-4339-AD37-D162934C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5A8-741D-413D-AE62-F53655E7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EDBE-73CB-4870-B1DA-7040D587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05C-313A-4AC7-8862-862E4282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EC3-182E-4215-B40F-12031CB2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76F2-C057-470E-8B89-5CBF4D3C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E39-4CA2-4A59-A588-84BC39D9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060-282E-4E6E-8539-97A1CA19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4D61-C0AB-4E9C-A419-38784E6B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D175-25D3-4B89-8D0B-B4683D4E60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dex@usb.ve" TargetMode="External"/><Relationship Id="rId3" Type="http://schemas.openxmlformats.org/officeDocument/2006/relationships/hyperlink" Target="mailto:usidex@usb.ve" TargetMode="External"/><Relationship Id="rId4" Type="http://schemas.openxmlformats.org/officeDocument/2006/relationships/hyperlink" Target="http://www.dex.usb.ve/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0320"/>
            <a:ext cx="1562040" cy="933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349360"/>
            <a:ext cx="914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333399"/>
                </a:solidFill>
                <a:latin typeface="Arial"/>
              </a:rPr>
              <a:t>LEY DE SERVICIO COM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33399"/>
                </a:solidFill>
                <a:latin typeface="Arial"/>
              </a:rPr>
              <a:t>Reflexiones y Balance a un año de su aplicación y dos de su promul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530064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Maiandra GD"/>
              </a:rPr>
              <a:t>III Encuentro de Sab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5300640"/>
            <a:ext cx="44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Maiandra GD"/>
              </a:rPr>
              <a:t>Semana de las Organizaciones Estudiantiles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6237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33399"/>
                </a:solidFill>
                <a:latin typeface="Century Gothic"/>
              </a:rPr>
              <a:t>DIDE - D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79640" y="907920"/>
            <a:ext cx="630072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562040" cy="933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1413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33399"/>
                </a:solidFill>
                <a:latin typeface="Century Gothic"/>
              </a:rPr>
              <a:t>OBJETIVO GENERAL</a:t>
            </a:r>
            <a:r>
              <a:rPr b="0" lang="es-VE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lang="es-VE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1768320"/>
            <a:ext cx="7632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Century Gothic"/>
              </a:rPr>
              <a:t>Promover un espacio de encuentro para el intercambio de experiencias, que refleje el balance de los aciertos y desaciertos en las diversas estrategias diseñadas para el cumplimiento de la Ley de Servicio Comunitari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3357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33399"/>
                </a:solidFill>
                <a:latin typeface="Century Gothic"/>
              </a:rPr>
              <a:t>OBJETIVOS ESPECÍ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3789360"/>
            <a:ext cx="7632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VE" sz="1600" spc="-1" strike="noStrike">
                <a:solidFill>
                  <a:srgbClr val="000000"/>
                </a:solidFill>
                <a:latin typeface="Century Gothic"/>
              </a:rPr>
              <a:t>Identificar y difundir modelos conceptuales que elevarían los conocimientos, logrando fortalecer a las instituciones (Universidades, ODS, Empresas, Estudiantes y Comunidad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Century Gothic"/>
              </a:rPr>
              <a:t>Identificar y difundir experiencias en el cumplimiento de la Ley de Servicio Comunitario de las Universidades, estudiantes,  Organizaciones Públicas y Privadas, y de las Organizaciones de Desarrollo Social (OD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Century Gothic"/>
              </a:rPr>
              <a:t>Promover formas de negociación y acuerdos entre los diferentes sectores participantes en el Encuen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469200" y="387360"/>
            <a:ext cx="237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latin typeface="Century Gothic"/>
              </a:rPr>
              <a:t>INFORMACIÓN BÁSICA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189000"/>
            <a:ext cx="9180360" cy="5927760"/>
            <a:chOff x="0" y="189000"/>
            <a:chExt cx="9180360" cy="59277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156204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124000" y="5084640"/>
              <a:ext cx="669600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600" spc="-1" strike="noStrike">
                  <a:solidFill>
                    <a:srgbClr val="000000"/>
                  </a:solidFill>
                  <a:latin typeface="Arial"/>
                </a:rPr>
                <a:t>Del martes 23 hasta el jueves 25 de Octubre de 20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600" spc="-1" strike="noStrike">
                  <a:solidFill>
                    <a:srgbClr val="000000"/>
                  </a:solidFill>
                  <a:latin typeface="Century Gothic"/>
                </a:rPr>
                <a:t>US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16000" y="1197000"/>
              <a:ext cx="26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333399"/>
                  </a:solidFill>
                  <a:latin typeface="Century Gothic"/>
                </a:rPr>
                <a:t>DIRIGIDO A </a:t>
              </a:r>
              <a:r>
                <a:rPr b="0" lang="es-VE" sz="2400" spc="-1" strike="noStrike">
                  <a:solidFill>
                    <a:srgbClr val="333399"/>
                  </a:solidFill>
                  <a:latin typeface="Century Gothic"/>
                </a:rPr>
                <a:t> </a:t>
              </a:r>
              <a:r>
                <a:rPr b="1" lang="es-VE" sz="2400" spc="-1" strike="noStrike">
                  <a:solidFill>
                    <a:srgbClr val="333399"/>
                  </a:solidFill>
                  <a:latin typeface="Century Gothi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78160" y="1716120"/>
              <a:ext cx="4641840" cy="37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600" spc="-1" strike="noStrike">
                  <a:solidFill>
                    <a:srgbClr val="000000"/>
                  </a:solidFill>
                  <a:latin typeface="Century Gothic"/>
                </a:rPr>
                <a:t>Comunidad universitaria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es-VE" sz="1600" spc="-1" strike="noStrike">
                  <a:solidFill>
                    <a:srgbClr val="000000"/>
                  </a:solidFill>
                  <a:latin typeface="Century Gothic"/>
                </a:rPr>
                <a:t>Estudiantes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es-VE" sz="1600" spc="-1" strike="noStrike">
                  <a:solidFill>
                    <a:srgbClr val="000000"/>
                  </a:solidFill>
                  <a:latin typeface="Century Gothic"/>
                </a:rPr>
                <a:t>Profesores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es-VE" sz="1600" spc="-1" strike="noStrike">
                  <a:solidFill>
                    <a:srgbClr val="000000"/>
                  </a:solidFill>
                  <a:latin typeface="Century Gothic"/>
                </a:rPr>
                <a:t>Personal administrativ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6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es-VE" sz="1600" spc="-1" strike="noStrike">
                  <a:solidFill>
                    <a:srgbClr val="000000"/>
                  </a:solidFill>
                  <a:latin typeface="Century Gothic"/>
                </a:rPr>
                <a:t>Personal obrer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600" spc="-1" strike="noStrike">
                  <a:solidFill>
                    <a:srgbClr val="000000"/>
                  </a:solidFill>
                  <a:latin typeface="Century Gothic"/>
                </a:rPr>
                <a:t>Comunidades aledaña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600" spc="-1" strike="noStrike">
                  <a:solidFill>
                    <a:srgbClr val="000000"/>
                  </a:solidFill>
                  <a:latin typeface="Century Gothic"/>
                </a:rPr>
                <a:t>Universidades Nacional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600" spc="-1" strike="noStrike">
                  <a:solidFill>
                    <a:srgbClr val="000000"/>
                  </a:solidFill>
                  <a:latin typeface="Century Gothic"/>
                </a:rPr>
                <a:t>Organizaciones de Desarrollo Social (ODs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600" spc="-1" strike="noStrike">
                  <a:solidFill>
                    <a:srgbClr val="000000"/>
                  </a:solidFill>
                  <a:latin typeface="Century Gothic"/>
                </a:rPr>
                <a:t>Empresas Privad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Century Gothic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87280" y="507852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 u="sng">
                  <a:solidFill>
                    <a:srgbClr val="333399"/>
                  </a:solidFill>
                  <a:uFillTx/>
                  <a:latin typeface="Century Gothic"/>
                </a:rPr>
                <a:t>FECH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87280" y="573408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 u="sng">
                  <a:solidFill>
                    <a:srgbClr val="333399"/>
                  </a:solidFill>
                  <a:uFillTx/>
                  <a:latin typeface="Century Gothic"/>
                </a:rPr>
                <a:t>L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6469200" y="387360"/>
              <a:ext cx="237636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333399"/>
                  </a:solidFill>
                  <a:latin typeface="Century Gothic"/>
                </a:rPr>
                <a:t>INFORMACIÓN BÁSICA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latin typeface="Century Gothic"/>
                <a:ea typeface="Century Gothic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79640" y="907920"/>
              <a:ext cx="6300720" cy="73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79640" y="907920"/>
            <a:ext cx="630072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562040" cy="933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6732720" y="476280"/>
            <a:ext cx="21128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latin typeface="Century Gothic"/>
              </a:rPr>
              <a:t>ACTIVIDADES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latin typeface="Century Gothic"/>
              <a:ea typeface="Century Gothic"/>
            </a:endParaRPr>
          </a:p>
        </p:txBody>
      </p:sp>
      <p:sp>
        <p:nvSpPr>
          <p:cNvPr id="65" name=""/>
          <p:cNvSpPr/>
          <p:nvPr/>
        </p:nvSpPr>
        <p:spPr>
          <a:xfrm>
            <a:off x="625320" y="3763800"/>
            <a:ext cx="18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33399"/>
                </a:solidFill>
                <a:latin typeface="Century Gothic"/>
              </a:rPr>
              <a:t>MÓDULO 1 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08160" y="3835440"/>
            <a:ext cx="601344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Century Gothic"/>
              </a:rPr>
              <a:t>Módulos dedicados a la  presentación de experiencias de Extens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720" y="419580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000000"/>
                </a:solidFill>
                <a:latin typeface="Century Gothic"/>
              </a:rPr>
              <a:t>Espacio del auditorio dedicado a conferencias magistrales y a difundir las diferentes estrategias que se han diseñado para el cumplimiento de la Ley de Servicio Comunitario. De igual manera, servirá de espacio para desarrollar debates interinstituciona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11280" y="5229360"/>
            <a:ext cx="8136000" cy="1106640"/>
            <a:chOff x="611280" y="5229360"/>
            <a:chExt cx="8136000" cy="1106640"/>
          </a:xfrm>
        </p:grpSpPr>
        <p:sp>
          <p:nvSpPr>
            <p:cNvPr id="69" name=""/>
            <p:cNvSpPr/>
            <p:nvPr/>
          </p:nvSpPr>
          <p:spPr>
            <a:xfrm>
              <a:off x="611280" y="5300640"/>
              <a:ext cx="4103640" cy="6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333399"/>
                  </a:solidFill>
                  <a:latin typeface="Century Gothic"/>
                </a:rPr>
                <a:t>FERIA DE PROYECT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333399"/>
                  </a:solidFill>
                  <a:latin typeface="Century Gothic"/>
                </a:rPr>
                <a:t>SOCI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30480" y="5229360"/>
              <a:ext cx="547200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Century Gothic"/>
                </a:rPr>
                <a:t>Ofertas de proyectos de las ODS para que los estudiantes puedan cumplir el Servicio Comunitario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Century Gothic"/>
                </a:rPr>
                <a:t>Situadas en un espacio junto al Conjunto de Auditorio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1280" y="5877000"/>
              <a:ext cx="813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Century Gothic"/>
                </a:rPr>
                <a:t>Dar a conocer diferentes opciones para cumplir la Ley de Servicio Comunitario ofreciendo proyectos sociales sólidos, desarrollados y comprometido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68440" y="1762200"/>
            <a:ext cx="8136000" cy="1538280"/>
            <a:chOff x="568440" y="1762200"/>
            <a:chExt cx="8136000" cy="1538280"/>
          </a:xfrm>
        </p:grpSpPr>
        <p:sp>
          <p:nvSpPr>
            <p:cNvPr id="73" name=""/>
            <p:cNvSpPr/>
            <p:nvPr/>
          </p:nvSpPr>
          <p:spPr>
            <a:xfrm>
              <a:off x="568440" y="1762200"/>
              <a:ext cx="3816360" cy="105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333399"/>
                  </a:solidFill>
                  <a:latin typeface="Century Gothic"/>
                </a:rPr>
                <a:t>FERIA DE L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333399"/>
                  </a:solidFill>
                  <a:latin typeface="Century Gothic"/>
                </a:rPr>
                <a:t>ORGANIZ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800" spc="-1" strike="noStrike">
                  <a:solidFill>
                    <a:srgbClr val="333399"/>
                  </a:solidFill>
                  <a:latin typeface="Century Gothic"/>
                </a:rPr>
                <a:t>ESTUDIANT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44800" y="1833480"/>
              <a:ext cx="468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Century Gothic"/>
                </a:rPr>
                <a:t>Exposición de Organizaciones Estudiantiles de la USB. Situada alrededor del Conjunto de Auditorios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8440" y="2841480"/>
              <a:ext cx="813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000000"/>
                  </a:solidFill>
                  <a:latin typeface="Century Gothic"/>
                </a:rPr>
                <a:t>Conjunto de stands dispuesto para todas las Organizaciones Estudiantiles de la USB, en donde podrán exponer las actividades que día a día realiz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79640" y="476280"/>
            <a:ext cx="630072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44280"/>
            <a:ext cx="140328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549360"/>
            <a:ext cx="914400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Century Gothic"/>
              </a:rPr>
              <a:t>MARTES 23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333399"/>
                </a:solidFill>
                <a:latin typeface="Century Gothic"/>
              </a:rPr>
              <a:t>Identificar y difundir modelos conceptuales que enriquecen los conocimientos, logrando fortalecer a las instituciones (Universidades, ODS, Empresas, Estudiantes y Comunidad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8:00 a.m. / 9:00 a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Inscripción en el ev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Entrega de Mate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9:00 a.m. / 9:30 a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INSTALACIÓN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Prof. William Colmenares – Decano de Extens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Conferencia Magistr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9:30 a.m. / 11:00 p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*Prof. FRANCOIS VALLEYS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Asesor en Responsabilidad Social Universitaria – Universidad Católica del Per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11:00 a.m./12:00m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ETICA Y RESPONSABILIDAD SOCIAL EMPRES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*Dr. Víctor Guedez – Responsabilidad Social Empres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MODERADOR/COMENTARISTA: Lic. Elías Santana – Coordinador de la Escuela de 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Ciudadan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12:00 p.m. / 1:00 p.m. </a:t>
            </a: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ALMUERZO LIBR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Century Gothic"/>
              </a:rPr>
              <a:t>1:00 p.m. / 2:30 p.m. </a:t>
            </a:r>
            <a:r>
              <a:rPr b="0" lang="en-U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n-U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VE" sz="1100" spc="-1" strike="noStrike">
                <a:solidFill>
                  <a:srgbClr val="333399"/>
                </a:solidFill>
                <a:latin typeface="Century Gothic"/>
              </a:rPr>
              <a:t>INAUGURACIÓN</a:t>
            </a:r>
            <a:r>
              <a:rPr b="1" lang="es-ES" sz="1100" spc="-1" strike="noStrike">
                <a:solidFill>
                  <a:srgbClr val="333399"/>
                </a:solidFill>
                <a:latin typeface="Century Gothic"/>
              </a:rPr>
              <a:t> DE LA FERIA DE ORGANIZACIONES ESTUDIANTILES Y LA </a:t>
            </a:r>
            <a:r>
              <a:rPr b="1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" sz="1100" spc="-1" strike="noStrike">
                <a:solidFill>
                  <a:srgbClr val="333399"/>
                </a:solidFill>
                <a:latin typeface="Century Gothic"/>
              </a:rPr>
              <a:t>FERIA DE PROYECTOS SOCIAL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Prof. Benjamín Scharifker – Rector US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Prof. William Colmenares – Decano de Extensión US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Prof.  Beatriz Girón – Directora de DIDE - US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2:30 p.m./4:00 p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CONFERENCIA A LAS AUTORIDADES UNIVERSITARI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Prof. FRANCOIS VALLEYS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Asesor en Responsabilidad Social Universitaria – Universidad Católica del Per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MODERADOR: PROF. Lorenzo González Casas-US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4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400" spc="-1" strike="noStrike">
                <a:solidFill>
                  <a:srgbClr val="333399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732720" y="44280"/>
            <a:ext cx="2112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latin typeface="Century Gothic"/>
              </a:rPr>
              <a:t>PROGRAMA TENTATIVO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latin typeface="Century Gothic"/>
              <a:ea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92280"/>
            <a:ext cx="864072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4465800"/>
            <a:ext cx="8569080" cy="217440"/>
            <a:chOff x="0" y="4465800"/>
            <a:chExt cx="8569080" cy="217440"/>
          </a:xfrm>
        </p:grpSpPr>
        <p:sp>
          <p:nvSpPr>
            <p:cNvPr id="82" name=""/>
            <p:cNvSpPr/>
            <p:nvPr/>
          </p:nvSpPr>
          <p:spPr>
            <a:xfrm>
              <a:off x="0" y="4465800"/>
              <a:ext cx="8569080" cy="0"/>
            </a:xfrm>
            <a:prstGeom prst="line">
              <a:avLst/>
            </a:prstGeom>
            <a:ln w="64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4683240"/>
              <a:ext cx="85690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79640" y="476280"/>
            <a:ext cx="630072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642160" cy="68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Century Gothic"/>
              </a:rPr>
              <a:t>MIERCOLES 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333399"/>
                </a:solidFill>
                <a:latin typeface="Century Gothic"/>
              </a:rPr>
              <a:t>Identificar y difundir experiencias en el cumplimiento de la Ley de Servicio Comunitario de las Univers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8:00 a.m. / 9:00 a.m.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RESPONSABILIDAD SOCIAL UNIVERSITAR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* Rector Benjamín Scharifk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9:00 a.m. / 10:00 a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ETICA Y CAPITAL SOC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* Dr. Román Mayorga – Banco Interamericano de Desarroll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MODERAD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10:00 a.m./ 11:00 a.m.</a:t>
            </a: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TEMA:</a:t>
            </a: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¿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QUÉ ES LA RESPONSABILIDAD SOCIAL UNIVERSITARIA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*Prof. FRANCOIS VALLEYS  - Asesor en Responsabilidad Social Universitaria  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Universidad Católica del Per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11:00 a.m. / 12:30 m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CONSTRUYENDO LA EXPERIENCIA DE LA COOPERACIÓN UNIVERSITARIA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* 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Universidad Centroccidental “Lisandro Alvarado” Instituto Universitario de 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Tecnología “Andrés Eloy Blanco”. Edo. Lar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Lic. Eglee Herrera/</a:t>
            </a:r>
            <a:r>
              <a:rPr b="0" i="1" lang="es-ES" sz="1100" spc="-1" strike="noStrike">
                <a:solidFill>
                  <a:srgbClr val="333399"/>
                </a:solidFill>
                <a:latin typeface="Century Gothic"/>
              </a:rPr>
              <a:t>Coordinadora Servicio Comunitario IUETAEB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Lic. Michelly Vivas/</a:t>
            </a:r>
            <a:r>
              <a:rPr b="0" i="1" lang="es-ES" sz="1100" spc="-1" strike="noStrike">
                <a:solidFill>
                  <a:srgbClr val="333399"/>
                </a:solidFill>
                <a:latin typeface="Century Gothic"/>
              </a:rPr>
              <a:t>Coordinadora Unidad de Promoción Social IUETAEB</a:t>
            </a:r>
            <a:r>
              <a:rPr b="0" i="1" lang="es-ES" sz="11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s-ES" sz="11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12:30 m. /  1:30 p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ALMUERZO LIB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1:30 p.m./4:00 p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BALANCE DE EXPERIENCIAS DE LAS UNIVERSIDADES EN EL CUMPLIMIENTO DE LA 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LEY DE SERVICIO COMUNITARI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UNIVERSIDAD CATÓLICA ANDRÉS BELL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UNIVERSIDAD PEDAGÓGICA EXPERIMENTAL LIBERTAD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UNIVERSIDAD RAFAEL BELLOSO CHA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UNIVERSIDAD CENTRAL DE VENEZUE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UNIVERSIDAD SIMÓN BOLÍV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UNIVERSIDAD METROPOLITA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UNIVERSIDAD SIMÓN RODRÍGUE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UNIVERSIDAD DEL ZUL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UNIVERSIDAD NACIONAL ABIER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MODERADOR: Prof. Pedro A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Panel de expertos: </a:t>
            </a:r>
            <a:r>
              <a:rPr b="0" i="1" lang="es-ES_tradnl" sz="1100" spc="-1" strike="noStrike">
                <a:solidFill>
                  <a:srgbClr val="333399"/>
                </a:solidFill>
                <a:latin typeface="Arial"/>
              </a:rPr>
              <a:t>DR. Francois Valleys, Dra. Consuelo Morillo-REDSOC, Br. Alexis </a:t>
            </a:r>
            <a:r>
              <a:rPr b="0" i="1" lang="es-ES_tradnl" sz="1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Arial"/>
              </a:rPr>
              <a:t>Cabrera-Representante Estudiantil USB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732720" y="44280"/>
            <a:ext cx="2112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latin typeface="Century Gothic"/>
              </a:rPr>
              <a:t>PROGRAMA TENTAIVO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latin typeface="Century Gothic"/>
              <a:ea typeface="Century Gothic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44280"/>
            <a:ext cx="1403280" cy="838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1341360"/>
            <a:ext cx="8640720" cy="0"/>
          </a:xfrm>
          <a:prstGeom prst="line">
            <a:avLst/>
          </a:prstGeom>
          <a:ln w="64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50920" y="4192560"/>
            <a:ext cx="8640720" cy="174600"/>
            <a:chOff x="250920" y="4192560"/>
            <a:chExt cx="8640720" cy="174600"/>
          </a:xfrm>
        </p:grpSpPr>
        <p:sp>
          <p:nvSpPr>
            <p:cNvPr id="90" name=""/>
            <p:cNvSpPr/>
            <p:nvPr/>
          </p:nvSpPr>
          <p:spPr>
            <a:xfrm>
              <a:off x="250920" y="4192560"/>
              <a:ext cx="864072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4367160"/>
              <a:ext cx="864072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79640" y="476280"/>
            <a:ext cx="630072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732720" y="44280"/>
            <a:ext cx="2112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latin typeface="Century Gothic"/>
              </a:rPr>
              <a:t>PROGRAMA TENTAIVO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latin typeface="Century Gothic"/>
              <a:ea typeface="Century Gothic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44280"/>
            <a:ext cx="1403280" cy="838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7080" y="6021360"/>
            <a:ext cx="8640720" cy="0"/>
          </a:xfrm>
          <a:prstGeom prst="line">
            <a:avLst/>
          </a:prstGeom>
          <a:ln w="64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08000" y="3400560"/>
            <a:ext cx="8640720" cy="174600"/>
            <a:chOff x="108000" y="3400560"/>
            <a:chExt cx="8640720" cy="174600"/>
          </a:xfrm>
        </p:grpSpPr>
        <p:sp>
          <p:nvSpPr>
            <p:cNvPr id="97" name=""/>
            <p:cNvSpPr/>
            <p:nvPr/>
          </p:nvSpPr>
          <p:spPr>
            <a:xfrm>
              <a:off x="108000" y="3400560"/>
              <a:ext cx="864072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8000" y="3575160"/>
              <a:ext cx="864072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6360" y="692280"/>
            <a:ext cx="914400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Century Gothic"/>
              </a:rPr>
              <a:t>JUEVES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i="1" lang="es-VE" sz="1400" spc="-1" strike="noStrike">
                <a:solidFill>
                  <a:srgbClr val="333399"/>
                </a:solidFill>
                <a:latin typeface="Arial"/>
              </a:rPr>
              <a:t>Identificar y difundir experiencias en el cumplimiento de las ODS y la Ley de Servicio Comunitario de los Estudiantes</a:t>
            </a:r>
            <a:r>
              <a:rPr b="0" i="1" lang="es-VE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9:00 a.m. /  10:00 a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 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LAS ODS Y SU RELACIÓN CON EL SERVICIO COMUNITAR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* Padre Jannsen - CESAP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10:00 a.m. / 11:00 a.m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.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Arial"/>
              </a:rPr>
              <a:t>LAS REDES SOCIALES Y SU VÍNCULO CON LA LEY DE SERVICIO COMUNITARIO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* </a:t>
            </a:r>
            <a:r>
              <a:rPr b="0" i="1" lang="es-ES_tradnl" sz="1100" spc="-1" strike="noStrike">
                <a:solidFill>
                  <a:srgbClr val="333399"/>
                </a:solidFill>
                <a:latin typeface="Century Gothic"/>
              </a:rPr>
              <a:t>Dra. Consuelo Morillo - REDSOC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11:00 a.m. / 12:00 p.m.</a:t>
            </a:r>
            <a:r>
              <a:rPr b="0" lang="es-ES_tradnl" sz="1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0" lang="es-ES_tradnl" sz="1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EXPERIENCIA DE INTEGRACIÓN COMUNIDAD Y UNIVERSIDAD SIMÓN BOLÍV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Ing. Verónica Rodríguez de Guruceag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Asociación Civil Comunidad Camuri Gran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MODERADOR: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 Soc. Danilo Linares - US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PANEL DE DISCUSIÓN: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 Prof. Luís Rojas-USB, Soc. Dolys Hurtado- Centro Médico Docente la 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Trinidad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12:00 m. / 1:00 p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ALMUERZO LIB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1:00 p.m. / 2:00 p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ESPACIO DE LOS ESTUDIA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2:00 p.m. / 2:30 p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TEMA: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EXPERIENCIA DESDE LA EMPRESA PRIVADA Y SU VINCULACIÓN CON LA LEY DE SERVICIO 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COMUNITARIO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Soc. Dolys Hurtado – Centro Médico Docente la Trin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2:30 p.m. / 3:00 p.m.            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Lic. Betsi Romero – Microsof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3:00 p.m. / 3:30 p.m.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* Lic. Irene Hardí – Fundación Cisne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MODERADOR: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 Prof. Beatriz Girón , Br. Mineyomar Rome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1" lang="es-ES_tradnl" sz="1100" spc="-1" strike="noStrike">
                <a:solidFill>
                  <a:srgbClr val="333399"/>
                </a:solidFill>
                <a:latin typeface="Century Gothic"/>
              </a:rPr>
              <a:t>PANEL DE DISCUSIÓN: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 Br. Rafael Torrealba (Prótesis), Prof., Carlos Graciano-USB, Dr. Alejandro 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Osorio</a:t>
            </a:r>
            <a:r>
              <a:rPr b="0" lang="es-ES" sz="1100" spc="-1" strike="noStrike">
                <a:solidFill>
                  <a:srgbClr val="333399"/>
                </a:solidFill>
                <a:latin typeface="Century Gothic"/>
              </a:rPr>
              <a:t>-</a:t>
            </a: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Coordinador del Ambulatorio de Ojo de Agua, Prof. Henry Caballero-USB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99"/>
                </a:solidFill>
                <a:latin typeface="Century Gothic"/>
              </a:rPr>
              <a:t>3:30 p.m. / 4:00 p.m.</a:t>
            </a:r>
            <a:r>
              <a:rPr b="0" lang="es-ES_tradnl" sz="1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1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s-ES_tradnl" sz="1100" spc="-1" strike="noStrike">
                <a:solidFill>
                  <a:srgbClr val="333399"/>
                </a:solidFill>
                <a:latin typeface="Century Gothic"/>
              </a:rPr>
              <a:t>Cierre  del event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79640" y="907920"/>
            <a:ext cx="630072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562040" cy="933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1413000"/>
            <a:ext cx="8642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entury Gothic"/>
              </a:rPr>
              <a:t>INFORMACIÓN:</a:t>
            </a: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Unidad de Sistema de Información – Decanato de Extensi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dificio de Comunicaciones, piso 2, Ofic. 212. Teléfonos: 9063157 a la 6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-mail: </a:t>
            </a:r>
            <a:r>
              <a:rPr b="0" lang="es-ES_tradnl" sz="14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dex@usb.ve</a:t>
            </a: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  /  </a:t>
            </a:r>
            <a:r>
              <a:rPr b="0" lang="es-ES_tradnl" sz="14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usidex@usb.ve</a:t>
            </a: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009999"/>
                </a:solidFill>
                <a:uFillTx/>
                <a:latin typeface="Century Gothic"/>
                <a:hlinkClick r:id="rId4"/>
              </a:rPr>
              <a:t>www.dex.usb.ve</a:t>
            </a: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Transporte grat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(Saliendo de la parada de transporte que se encuentra al lado de McDonald del Rosal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entury Gothic"/>
              </a:rPr>
              <a:t>ORGANIZACIÓN DEL EVEN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Prof. William Colmenares – Decano de Extens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Psc. Beatriz Troconis Elorga - Jefe Unidad de Sistema de Información (USIDE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Lic. Marhely Vivas – Asistente USI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Lic. Maricely Sánchez – Comunicador Social USI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0000"/>
                </a:solidFill>
                <a:latin typeface="Century Gothic"/>
              </a:rPr>
              <a:t>* Programa preliminar. Sujeto a camb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732720" y="476280"/>
            <a:ext cx="21128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latin typeface="Century Gothic"/>
              </a:rPr>
              <a:t>PROGRAMA TENTAIVO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333399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7:43:45Z</dcterms:created>
  <dc:creator>user</dc:creator>
  <dc:description/>
  <dc:language>en-US</dc:language>
  <cp:lastModifiedBy>/</cp:lastModifiedBy>
  <dcterms:modified xsi:type="dcterms:W3CDTF">2007-07-26T00:09:04Z</dcterms:modified>
  <cp:revision>87</cp:revision>
  <dc:subject/>
  <dc:title>Diapositiva 1</dc:title>
</cp:coreProperties>
</file>