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3CEF-DA40-462B-8A4D-E076FFBF3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5FF2-16CA-472C-8E1B-E573B2963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59B1-D003-4CCD-9F20-A5B0FF4D4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BB81-F9A7-4223-854A-A66F52658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B091-0EF0-4731-BCCD-FBD86FB56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BA55-97EC-497D-A358-2DC502D92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F1A1-B06F-41DB-854C-B541ECD09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6F97-68AD-4989-BE32-C161644DF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14BA-B9D3-4C24-84D9-384866D4F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4053-82E1-4425-A22A-3992CFC7A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DB75-DCA0-4564-966F-B080224D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E0A7-7A68-44A3-8850-68FA142F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63EE5-3450-4165-A719-63FD3660E0B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348000" y="1511280"/>
          <a:ext cx="1603440" cy="234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48000" y="1511280"/>
                    <a:ext cx="1603440" cy="23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3641760" y="49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533232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00"/>
                </a:solidFill>
                <a:latin typeface="Century Gothic"/>
              </a:rPr>
              <a:t>INLAC – VENEZUE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26160" y="4019400"/>
            <a:ext cx="2241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300" spc="-1" strike="noStrike">
                <a:solidFill>
                  <a:srgbClr val="ffff00"/>
                </a:solidFill>
                <a:latin typeface="Franklin Gothic Medium"/>
              </a:rPr>
              <a:t>LIAISON MEMBER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300" spc="-1" strike="noStrike">
                <a:solidFill>
                  <a:srgbClr val="ffff00"/>
                </a:solidFill>
                <a:latin typeface="Franklin Gothic Medium"/>
              </a:rPr>
              <a:t>ISO- TC-176  E ISO- TC-20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6360" y="101520"/>
            <a:ext cx="7772400" cy="9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0" lang="es-MX" sz="3600" spc="-1" strike="noStrike">
                <a:solidFill>
                  <a:srgbClr val="ffffff"/>
                </a:solidFill>
                <a:latin typeface="Century Gothic"/>
              </a:rPr>
              <a:t>Versión en español de la serie ISO 9.000 Y 14.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03240" y="205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Century Gothic"/>
              </a:rPr>
              <a:t>La versión en español de la serie de normas ISO 9000:2000, ISO 9001:2000 e ISO 9004:2000  e ISO-14001, fue realizada por el grupo de trabajo “Spanish Translation Task Group”(STTG) y el  “Spanish Translation Task Force” (STTF) de los comités técnico ISO/TC 176 y TC/207, en el que participarón representantes de los organismos nacionales de normalización y representantes del sector empresarial de  diversos países. </a:t>
            </a:r>
            <a:br>
              <a:rPr sz="2400"/>
            </a:br>
            <a:r>
              <a:rPr b="0" lang="es-MX" sz="2400" spc="-1" strike="noStrike">
                <a:solidFill>
                  <a:srgbClr val="ffff00"/>
                </a:solidFill>
                <a:latin typeface="Century Gothic"/>
              </a:rPr>
              <a:t>Igualmente participaron representantes de COPANT(Comisión Panamericana de Normas Técnicas) y </a:t>
            </a:r>
            <a:r>
              <a:rPr b="1" lang="es-MX" sz="2400" spc="-1" strike="noStrike">
                <a:solidFill>
                  <a:srgbClr val="ffff00"/>
                </a:solidFill>
                <a:latin typeface="Century Gothic"/>
              </a:rPr>
              <a:t>de INLAC(Instituto Latinoamericano de la Calidad A.C.).</a:t>
            </a:r>
            <a:br>
              <a:rPr sz="2400"/>
            </a:br>
            <a:r>
              <a:rPr b="1" lang="es-MX" sz="2400" spc="-1" strike="noStrike">
                <a:solidFill>
                  <a:srgbClr val="ffff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Century Gothic"/>
              </a:rPr>
              <a:t>ALIANZAS Y CONVEN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3302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Century Gothic"/>
                <a:ea typeface="Times New Roman"/>
              </a:rPr>
              <a:t>EOQ- European Organization for Qu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Century Gothic"/>
                <a:ea typeface="Times New Roman"/>
              </a:rPr>
              <a:t>ASQ-American Society for Quality-EE.U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Century Gothic"/>
                <a:ea typeface="Times New Roman"/>
              </a:rPr>
              <a:t>IQA-Institute of Quality Assurance-Reino Uni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Century Gothic"/>
                <a:ea typeface="Times New Roman"/>
              </a:rPr>
              <a:t>NEN-Nederlands Normalisatie Instituut-Holan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Century Gothic"/>
                <a:ea typeface="Times New Roman"/>
              </a:rPr>
              <a:t>ISTO-International Standardization Testing Organiz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Century Gothic"/>
                <a:ea typeface="Times New Roman"/>
              </a:rPr>
              <a:t>CONOCER-Méx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Century Gothic"/>
                <a:ea typeface="Times New Roman"/>
              </a:rPr>
              <a:t>FIRA-BANCO DE MÉXICO-Méx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Century Gothic"/>
                <a:ea typeface="Times New Roman"/>
              </a:rPr>
              <a:t>UPIICSA-IPN-Méx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Century Gothic"/>
                <a:ea typeface="Times New Roman"/>
              </a:rPr>
              <a:t>DGQ-Alemania- en proces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PUBLICACIONES ESPECIALIZA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entury Gothic"/>
                <a:ea typeface="Times New Roman"/>
              </a:rPr>
              <a:t>Guía de bolsillo para la serie ISO 9000:2000</a:t>
            </a:r>
            <a:r>
              <a:rPr b="1" lang="es-MX" sz="2000" spc="-1" strike="noStrike">
                <a:solidFill>
                  <a:srgbClr val="ffff00"/>
                </a:solidFill>
                <a:latin typeface="Century Gothic"/>
                <a:ea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entury Gothic"/>
                <a:ea typeface="Times New Roman"/>
              </a:rPr>
              <a:t>Guía de interpretación para la norma ISO 9001: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entury Gothic"/>
                <a:ea typeface="Times New Roman"/>
              </a:rPr>
              <a:t>Las 100 preguntas más frecuentes sobre la serie ISO 9000: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entury Gothic"/>
                <a:ea typeface="Times New Roman"/>
              </a:rPr>
              <a:t>ISO-9001 comentada-  Jack Wets  AS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Century Gothic"/>
                <a:ea typeface="Times New Roman"/>
              </a:rPr>
              <a:t>Revista INL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Century Gothic"/>
                <a:ea typeface="Times New Roman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Century Gothic"/>
              </a:rPr>
              <a:t>ENL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42920" y="2638440"/>
            <a:ext cx="8785080" cy="2394000"/>
            <a:chOff x="142920" y="2638440"/>
            <a:chExt cx="8785080" cy="2394000"/>
          </a:xfrm>
        </p:grpSpPr>
        <p:cxnSp>
          <p:nvCxnSpPr>
            <p:cNvPr id="137" name="_s735237"/>
            <p:cNvCxnSpPr>
              <a:stCxn id="138" idx="0"/>
              <a:endCxn id="139" idx="2"/>
            </p:cNvCxnSpPr>
            <p:nvPr/>
          </p:nvCxnSpPr>
          <p:spPr>
            <a:xfrm flipV="1" rot="16200000">
              <a:off x="6208920" y="2531160"/>
              <a:ext cx="160920" cy="3508200"/>
            </a:xfrm>
            <a:prstGeom prst="bentConnector3">
              <a:avLst>
                <a:gd name="adj1" fmla="val 49327"/>
              </a:avLst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40" name="_s735238"/>
            <p:cNvCxnSpPr>
              <a:stCxn id="141" idx="0"/>
              <a:endCxn id="139" idx="2"/>
            </p:cNvCxnSpPr>
            <p:nvPr/>
          </p:nvCxnSpPr>
          <p:spPr>
            <a:xfrm flipV="1" rot="16200000">
              <a:off x="5507280" y="3232800"/>
              <a:ext cx="160920" cy="2104560"/>
            </a:xfrm>
            <a:prstGeom prst="bentConnector3">
              <a:avLst>
                <a:gd name="adj1" fmla="val 49327"/>
              </a:avLst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42" name="_s735239"/>
            <p:cNvCxnSpPr>
              <a:stCxn id="143" idx="0"/>
              <a:endCxn id="139" idx="2"/>
            </p:cNvCxnSpPr>
            <p:nvPr/>
          </p:nvCxnSpPr>
          <p:spPr>
            <a:xfrm flipV="1" rot="16200000">
              <a:off x="4806000" y="3934080"/>
              <a:ext cx="160920" cy="702000"/>
            </a:xfrm>
            <a:prstGeom prst="bentConnector3">
              <a:avLst>
                <a:gd name="adj1" fmla="val 49327"/>
              </a:avLst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44" name="_s735240"/>
            <p:cNvCxnSpPr>
              <a:stCxn id="145" idx="0"/>
              <a:endCxn id="139" idx="2"/>
            </p:cNvCxnSpPr>
            <p:nvPr/>
          </p:nvCxnSpPr>
          <p:spPr>
            <a:xfrm flipH="1" flipV="1" rot="5400000">
              <a:off x="4103640" y="3934080"/>
              <a:ext cx="160920" cy="702720"/>
            </a:xfrm>
            <a:prstGeom prst="bentConnector3">
              <a:avLst>
                <a:gd name="adj1" fmla="val 49327"/>
              </a:avLst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46" name="_s735241"/>
            <p:cNvCxnSpPr>
              <a:stCxn id="147" idx="0"/>
              <a:endCxn id="139" idx="2"/>
            </p:cNvCxnSpPr>
            <p:nvPr/>
          </p:nvCxnSpPr>
          <p:spPr>
            <a:xfrm flipH="1" flipV="1" rot="5400000">
              <a:off x="3402720" y="3232440"/>
              <a:ext cx="160920" cy="2105640"/>
            </a:xfrm>
            <a:prstGeom prst="bentConnector3">
              <a:avLst>
                <a:gd name="adj1" fmla="val 49327"/>
              </a:avLst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48" name="_s735242"/>
            <p:cNvCxnSpPr>
              <a:stCxn id="149" idx="0"/>
              <a:endCxn id="139" idx="2"/>
            </p:cNvCxnSpPr>
            <p:nvPr/>
          </p:nvCxnSpPr>
          <p:spPr>
            <a:xfrm flipH="1" flipV="1" rot="5400000">
              <a:off x="2700000" y="2529720"/>
              <a:ext cx="160920" cy="3511080"/>
            </a:xfrm>
            <a:prstGeom prst="bentConnector3">
              <a:avLst>
                <a:gd name="adj1" fmla="val 49327"/>
              </a:avLst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50" name="_s735243"/>
            <p:cNvCxnSpPr>
              <a:stCxn id="151" idx="0"/>
              <a:endCxn id="152" idx="2"/>
            </p:cNvCxnSpPr>
            <p:nvPr/>
          </p:nvCxnSpPr>
          <p:spPr>
            <a:xfrm flipV="1" rot="16200000">
              <a:off x="5941440" y="1971360"/>
              <a:ext cx="160920" cy="2973240"/>
            </a:xfrm>
            <a:prstGeom prst="bentConnector3">
              <a:avLst>
                <a:gd name="adj1" fmla="val 49327"/>
              </a:avLst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53" name="_s735244"/>
            <p:cNvCxnSpPr>
              <a:stCxn id="139" idx="0"/>
              <a:endCxn id="152" idx="2"/>
            </p:cNvCxnSpPr>
            <p:nvPr/>
          </p:nvCxnSpPr>
          <p:spPr>
            <a:xfrm flipV="1">
              <a:off x="4536000" y="3377520"/>
              <a:ext cx="1440" cy="16092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54" name="_s735245"/>
            <p:cNvCxnSpPr>
              <a:stCxn id="155" idx="0"/>
              <a:endCxn id="152" idx="2"/>
            </p:cNvCxnSpPr>
            <p:nvPr/>
          </p:nvCxnSpPr>
          <p:spPr>
            <a:xfrm flipH="1" flipV="1" rot="5400000">
              <a:off x="2969280" y="1971720"/>
              <a:ext cx="160920" cy="2972520"/>
            </a:xfrm>
            <a:prstGeom prst="bentConnector3">
              <a:avLst>
                <a:gd name="adj1" fmla="val 49327"/>
              </a:avLst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156" name=""/>
            <p:cNvSpPr/>
            <p:nvPr/>
          </p:nvSpPr>
          <p:spPr>
            <a:xfrm>
              <a:off x="142920" y="2638440"/>
              <a:ext cx="5856840" cy="42300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00"/>
                  </a:solidFill>
                  <a:latin typeface="Arial"/>
                </a:rPr>
                <a:t>El Enlace de la Calida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_s735247"/>
            <p:cNvSpPr/>
            <p:nvPr/>
          </p:nvSpPr>
          <p:spPr>
            <a:xfrm>
              <a:off x="4136760" y="3058920"/>
              <a:ext cx="797040" cy="319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200" rIns="43200" tIns="21600" bIns="21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_s735248"/>
            <p:cNvSpPr/>
            <p:nvPr/>
          </p:nvSpPr>
          <p:spPr>
            <a:xfrm>
              <a:off x="142920" y="3538800"/>
              <a:ext cx="2839680" cy="66672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200" rIns="43200" tIns="21600" bIns="21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00"/>
                  </a:solidFill>
                  <a:latin typeface="Century Gothic"/>
                </a:rPr>
                <a:t>ISO/TC 17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00"/>
                  </a:solidFill>
                  <a:latin typeface="Century Gothic"/>
                </a:rPr>
                <a:t>Responsab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00"/>
                  </a:solidFill>
                  <a:latin typeface="Century Gothic"/>
                </a:rPr>
                <a:t>Normatividad ISO 9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_s735249"/>
            <p:cNvSpPr/>
            <p:nvPr/>
          </p:nvSpPr>
          <p:spPr>
            <a:xfrm>
              <a:off x="3115440" y="3538800"/>
              <a:ext cx="2839680" cy="66672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200" rIns="43200" tIns="21600" bIns="21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00"/>
                  </a:solidFill>
                  <a:latin typeface="Century Gothic"/>
                </a:rPr>
                <a:t>INLA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00"/>
                  </a:solidFill>
                  <a:latin typeface="Century Gothic"/>
                </a:rPr>
                <a:t>INSTITUTO LATINOAMERICANO DE LA CALIDA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00"/>
                  </a:solidFill>
                  <a:latin typeface="Century Gothic"/>
                </a:rPr>
                <a:t>Organismo de Enla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00"/>
                  </a:solidFill>
                  <a:latin typeface="Century Gothic"/>
                </a:rPr>
                <a:t>ISO/TC 17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_s735250"/>
            <p:cNvSpPr/>
            <p:nvPr/>
          </p:nvSpPr>
          <p:spPr>
            <a:xfrm>
              <a:off x="6088320" y="3538800"/>
              <a:ext cx="2839680" cy="66672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200" rIns="43200" tIns="21600" bIns="21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00"/>
                  </a:solidFill>
                  <a:latin typeface="Century Gothic"/>
                </a:rPr>
                <a:t>Organismo Nacion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00"/>
                  </a:solidFill>
                  <a:latin typeface="Century Gothic"/>
                </a:rPr>
                <a:t>De Normalizacion  del paí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_s735251"/>
            <p:cNvSpPr/>
            <p:nvPr/>
          </p:nvSpPr>
          <p:spPr>
            <a:xfrm>
              <a:off x="390600" y="4366080"/>
              <a:ext cx="1270440" cy="66636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200" rIns="43200" tIns="21600" bIns="21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00"/>
                  </a:solidFill>
                  <a:latin typeface="Century Gothic"/>
                </a:rPr>
                <a:t>Enlac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00"/>
                  </a:solidFill>
                  <a:latin typeface="Century Gothic"/>
                </a:rPr>
                <a:t>NIÑ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00"/>
                  </a:solidFill>
                  <a:latin typeface="Century Gothic"/>
                </a:rPr>
                <a:t>Induc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00"/>
                  </a:solidFill>
                  <a:latin typeface="Century Gothic"/>
                </a:rPr>
                <a:t>Formación y Valor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_s735252"/>
            <p:cNvSpPr/>
            <p:nvPr/>
          </p:nvSpPr>
          <p:spPr>
            <a:xfrm>
              <a:off x="1793880" y="4366080"/>
              <a:ext cx="1270440" cy="66636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200" rIns="43200" tIns="21600" bIns="21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00"/>
                  </a:solidFill>
                  <a:latin typeface="Century Gothic"/>
                </a:rPr>
                <a:t>Enla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00"/>
                  </a:solidFill>
                  <a:latin typeface="Century Gothic"/>
                </a:rPr>
                <a:t>Joven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00"/>
                  </a:solidFill>
                  <a:latin typeface="Century Gothic"/>
                </a:rPr>
                <a:t>Forma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00"/>
                  </a:solidFill>
                  <a:latin typeface="Century Gothic"/>
                </a:rPr>
                <a:t>Apoyo Profesion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_s735253"/>
            <p:cNvSpPr/>
            <p:nvPr/>
          </p:nvSpPr>
          <p:spPr>
            <a:xfrm>
              <a:off x="3197520" y="4366080"/>
              <a:ext cx="1270440" cy="66636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200" rIns="43200" tIns="21600" bIns="21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00"/>
                  </a:solidFill>
                  <a:latin typeface="Century Gothic"/>
                </a:rPr>
                <a:t>Enla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00"/>
                  </a:solidFill>
                  <a:latin typeface="Century Gothic"/>
                </a:rPr>
                <a:t>Industri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00"/>
                  </a:solidFill>
                  <a:latin typeface="Century Gothic"/>
                </a:rPr>
                <a:t>Orienta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00"/>
                  </a:solidFill>
                  <a:latin typeface="Century Gothic"/>
                </a:rPr>
                <a:t>Planeación-Recurs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_s735254"/>
            <p:cNvSpPr/>
            <p:nvPr/>
          </p:nvSpPr>
          <p:spPr>
            <a:xfrm>
              <a:off x="4601520" y="4366080"/>
              <a:ext cx="1270440" cy="66636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200" rIns="43200" tIns="21600" bIns="21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00"/>
                  </a:solidFill>
                  <a:latin typeface="Century Gothic"/>
                </a:rPr>
                <a:t>Enla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00"/>
                  </a:solidFill>
                  <a:latin typeface="Century Gothic"/>
                </a:rPr>
                <a:t>Profesional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00"/>
                  </a:solidFill>
                  <a:latin typeface="Century Gothic"/>
                </a:rPr>
                <a:t>Apoy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00"/>
                  </a:solidFill>
                  <a:latin typeface="Century Gothic"/>
                </a:rPr>
                <a:t>Orienta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_s735255"/>
            <p:cNvSpPr/>
            <p:nvPr/>
          </p:nvSpPr>
          <p:spPr>
            <a:xfrm>
              <a:off x="6005160" y="4366080"/>
              <a:ext cx="1270440" cy="66636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200" rIns="43200" tIns="21600" bIns="21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00"/>
                  </a:solidFill>
                  <a:latin typeface="Century Gothic"/>
                </a:rPr>
                <a:t>Comunica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00"/>
                  </a:solidFill>
                  <a:latin typeface="Century Gothic"/>
                </a:rPr>
                <a:t>Organizacion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00"/>
                  </a:solidFill>
                  <a:latin typeface="Century Gothic"/>
                </a:rPr>
                <a:t>Especializad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_s735256"/>
            <p:cNvSpPr/>
            <p:nvPr/>
          </p:nvSpPr>
          <p:spPr>
            <a:xfrm>
              <a:off x="7408800" y="4366080"/>
              <a:ext cx="1270440" cy="66636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200" rIns="43200" tIns="21600" bIns="21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00"/>
                  </a:solidFill>
                  <a:latin typeface="Century Gothic"/>
                </a:rPr>
                <a:t>Alianz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00"/>
                  </a:solidFill>
                  <a:latin typeface="Century Gothic"/>
                </a:rPr>
                <a:t>Organism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00"/>
                  </a:solidFill>
                  <a:latin typeface="Century Gothic"/>
                </a:rPr>
                <a:t>Nacional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00"/>
                  </a:solidFill>
                  <a:latin typeface="Century Gothic"/>
                </a:rPr>
                <a:t>Internacional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Century Gothic"/>
              </a:rPr>
              <a:t>¿Porque los niño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Century Gothic"/>
              </a:rPr>
              <a:t>El planteamiento de la serie ISO 9000:2000 se basa en el ciclo de De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Century Gothic"/>
              </a:rPr>
              <a:t>Debemos planear el futu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Century Gothic"/>
              </a:rPr>
              <a:t>Los niños son el futu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Century Gothic"/>
              </a:rPr>
              <a:t>Debemos darles herrami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Century Gothic"/>
              </a:rPr>
              <a:t>que los ayuden a tener una 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Century Gothic"/>
              </a:rPr>
              <a:t>solida basada en valores y en princip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Century Gothic"/>
              </a:rPr>
              <a:t>Debemos cambi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5715000" y="2590920"/>
            <a:ext cx="2742120" cy="1675440"/>
            <a:chOff x="5715000" y="2590920"/>
            <a:chExt cx="2742120" cy="1675440"/>
          </a:xfrm>
        </p:grpSpPr>
        <p:sp>
          <p:nvSpPr>
            <p:cNvPr id="160" name=""/>
            <p:cNvSpPr/>
            <p:nvPr/>
          </p:nvSpPr>
          <p:spPr>
            <a:xfrm>
              <a:off x="7088760" y="2593440"/>
              <a:ext cx="4320" cy="834480"/>
            </a:xfrm>
            <a:prstGeom prst="lin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088760" y="3428280"/>
              <a:ext cx="1368360" cy="3240"/>
            </a:xfrm>
            <a:prstGeom prst="lin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7088760" y="2593440"/>
              <a:ext cx="1367280" cy="834120"/>
              <a:chOff x="7088760" y="2593440"/>
              <a:chExt cx="1367280" cy="834120"/>
            </a:xfrm>
          </p:grpSpPr>
          <p:sp>
            <p:nvSpPr>
              <p:cNvPr id="163" name=""/>
              <p:cNvSpPr/>
              <p:nvPr/>
            </p:nvSpPr>
            <p:spPr>
              <a:xfrm>
                <a:off x="7088760" y="2593440"/>
                <a:ext cx="1367280" cy="834120"/>
              </a:xfrm>
              <a:custGeom>
                <a:avLst/>
                <a:gdLst/>
                <a:ahLst/>
                <a:rect l="l" t="t" r="r" b="b"/>
                <a:pathLst>
                  <a:path w="553" h="529">
                    <a:moveTo>
                      <a:pt x="0" y="0"/>
                    </a:moveTo>
                    <a:lnTo>
                      <a:pt x="28" y="1"/>
                    </a:lnTo>
                    <a:lnTo>
                      <a:pt x="56" y="3"/>
                    </a:lnTo>
                    <a:lnTo>
                      <a:pt x="84" y="6"/>
                    </a:lnTo>
                    <a:lnTo>
                      <a:pt x="111" y="11"/>
                    </a:lnTo>
                    <a:lnTo>
                      <a:pt x="138" y="16"/>
                    </a:lnTo>
                    <a:lnTo>
                      <a:pt x="165" y="24"/>
                    </a:lnTo>
                    <a:lnTo>
                      <a:pt x="190" y="32"/>
                    </a:lnTo>
                    <a:lnTo>
                      <a:pt x="215" y="42"/>
                    </a:lnTo>
                    <a:lnTo>
                      <a:pt x="240" y="52"/>
                    </a:lnTo>
                    <a:lnTo>
                      <a:pt x="264" y="64"/>
                    </a:lnTo>
                    <a:lnTo>
                      <a:pt x="309" y="90"/>
                    </a:lnTo>
                    <a:lnTo>
                      <a:pt x="352" y="121"/>
                    </a:lnTo>
                    <a:lnTo>
                      <a:pt x="392" y="155"/>
                    </a:lnTo>
                    <a:lnTo>
                      <a:pt x="427" y="193"/>
                    </a:lnTo>
                    <a:lnTo>
                      <a:pt x="459" y="233"/>
                    </a:lnTo>
                    <a:lnTo>
                      <a:pt x="473" y="254"/>
                    </a:lnTo>
                    <a:lnTo>
                      <a:pt x="486" y="276"/>
                    </a:lnTo>
                    <a:lnTo>
                      <a:pt x="498" y="299"/>
                    </a:lnTo>
                    <a:lnTo>
                      <a:pt x="511" y="323"/>
                    </a:lnTo>
                    <a:lnTo>
                      <a:pt x="520" y="347"/>
                    </a:lnTo>
                    <a:lnTo>
                      <a:pt x="528" y="371"/>
                    </a:lnTo>
                    <a:lnTo>
                      <a:pt x="536" y="396"/>
                    </a:lnTo>
                    <a:lnTo>
                      <a:pt x="542" y="422"/>
                    </a:lnTo>
                    <a:lnTo>
                      <a:pt x="547" y="448"/>
                    </a:lnTo>
                    <a:lnTo>
                      <a:pt x="550" y="475"/>
                    </a:lnTo>
                    <a:lnTo>
                      <a:pt x="552" y="501"/>
                    </a:lnTo>
                    <a:lnTo>
                      <a:pt x="553" y="529"/>
                    </a:lnTo>
                    <a:lnTo>
                      <a:pt x="0" y="52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088760" y="2593440"/>
                <a:ext cx="1367280" cy="834120"/>
              </a:xfrm>
              <a:custGeom>
                <a:avLst/>
                <a:gdLst/>
                <a:ahLst/>
                <a:rect l="l" t="t" r="r" b="b"/>
                <a:pathLst>
                  <a:path w="553" h="529">
                    <a:moveTo>
                      <a:pt x="0" y="0"/>
                    </a:moveTo>
                    <a:lnTo>
                      <a:pt x="28" y="1"/>
                    </a:lnTo>
                    <a:lnTo>
                      <a:pt x="56" y="3"/>
                    </a:lnTo>
                    <a:lnTo>
                      <a:pt x="84" y="6"/>
                    </a:lnTo>
                    <a:lnTo>
                      <a:pt x="111" y="11"/>
                    </a:lnTo>
                    <a:lnTo>
                      <a:pt x="138" y="16"/>
                    </a:lnTo>
                    <a:lnTo>
                      <a:pt x="165" y="24"/>
                    </a:lnTo>
                    <a:lnTo>
                      <a:pt x="190" y="32"/>
                    </a:lnTo>
                    <a:lnTo>
                      <a:pt x="215" y="42"/>
                    </a:lnTo>
                    <a:lnTo>
                      <a:pt x="240" y="52"/>
                    </a:lnTo>
                    <a:lnTo>
                      <a:pt x="264" y="64"/>
                    </a:lnTo>
                    <a:lnTo>
                      <a:pt x="309" y="90"/>
                    </a:lnTo>
                    <a:lnTo>
                      <a:pt x="352" y="121"/>
                    </a:lnTo>
                    <a:lnTo>
                      <a:pt x="392" y="155"/>
                    </a:lnTo>
                    <a:lnTo>
                      <a:pt x="427" y="193"/>
                    </a:lnTo>
                    <a:lnTo>
                      <a:pt x="459" y="233"/>
                    </a:lnTo>
                    <a:lnTo>
                      <a:pt x="473" y="254"/>
                    </a:lnTo>
                    <a:lnTo>
                      <a:pt x="486" y="276"/>
                    </a:lnTo>
                    <a:lnTo>
                      <a:pt x="498" y="299"/>
                    </a:lnTo>
                    <a:lnTo>
                      <a:pt x="511" y="323"/>
                    </a:lnTo>
                    <a:lnTo>
                      <a:pt x="520" y="347"/>
                    </a:lnTo>
                    <a:lnTo>
                      <a:pt x="528" y="371"/>
                    </a:lnTo>
                    <a:lnTo>
                      <a:pt x="536" y="396"/>
                    </a:lnTo>
                    <a:lnTo>
                      <a:pt x="542" y="422"/>
                    </a:lnTo>
                    <a:lnTo>
                      <a:pt x="547" y="448"/>
                    </a:lnTo>
                    <a:lnTo>
                      <a:pt x="550" y="475"/>
                    </a:lnTo>
                    <a:lnTo>
                      <a:pt x="552" y="501"/>
                    </a:lnTo>
                    <a:lnTo>
                      <a:pt x="553" y="529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7088760" y="3428280"/>
              <a:ext cx="4320" cy="838080"/>
            </a:xfrm>
            <a:prstGeom prst="lin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9320" y="3428280"/>
              <a:ext cx="1369440" cy="3240"/>
            </a:xfrm>
            <a:prstGeom prst="lin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7023960" y="3428280"/>
              <a:ext cx="1432080" cy="837720"/>
              <a:chOff x="7023960" y="3428280"/>
              <a:chExt cx="1432080" cy="837720"/>
            </a:xfrm>
          </p:grpSpPr>
          <p:sp>
            <p:nvSpPr>
              <p:cNvPr id="168" name=""/>
              <p:cNvSpPr/>
              <p:nvPr/>
            </p:nvSpPr>
            <p:spPr>
              <a:xfrm>
                <a:off x="7023960" y="3428280"/>
                <a:ext cx="1432080" cy="837720"/>
              </a:xfrm>
              <a:custGeom>
                <a:avLst/>
                <a:gdLst/>
                <a:ahLst/>
                <a:rect l="l" t="t" r="r" b="b"/>
                <a:pathLst>
                  <a:path w="581" h="528">
                    <a:moveTo>
                      <a:pt x="0" y="528"/>
                    </a:moveTo>
                    <a:lnTo>
                      <a:pt x="30" y="527"/>
                    </a:lnTo>
                    <a:lnTo>
                      <a:pt x="60" y="526"/>
                    </a:lnTo>
                    <a:lnTo>
                      <a:pt x="89" y="522"/>
                    </a:lnTo>
                    <a:lnTo>
                      <a:pt x="118" y="517"/>
                    </a:lnTo>
                    <a:lnTo>
                      <a:pt x="145" y="512"/>
                    </a:lnTo>
                    <a:lnTo>
                      <a:pt x="173" y="504"/>
                    </a:lnTo>
                    <a:lnTo>
                      <a:pt x="200" y="496"/>
                    </a:lnTo>
                    <a:lnTo>
                      <a:pt x="227" y="486"/>
                    </a:lnTo>
                    <a:lnTo>
                      <a:pt x="252" y="477"/>
                    </a:lnTo>
                    <a:lnTo>
                      <a:pt x="278" y="464"/>
                    </a:lnTo>
                    <a:lnTo>
                      <a:pt x="325" y="438"/>
                    </a:lnTo>
                    <a:lnTo>
                      <a:pt x="370" y="407"/>
                    </a:lnTo>
                    <a:lnTo>
                      <a:pt x="412" y="373"/>
                    </a:lnTo>
                    <a:lnTo>
                      <a:pt x="449" y="336"/>
                    </a:lnTo>
                    <a:lnTo>
                      <a:pt x="482" y="295"/>
                    </a:lnTo>
                    <a:lnTo>
                      <a:pt x="498" y="274"/>
                    </a:lnTo>
                    <a:lnTo>
                      <a:pt x="511" y="252"/>
                    </a:lnTo>
                    <a:lnTo>
                      <a:pt x="524" y="229"/>
                    </a:lnTo>
                    <a:lnTo>
                      <a:pt x="536" y="206"/>
                    </a:lnTo>
                    <a:lnTo>
                      <a:pt x="546" y="181"/>
                    </a:lnTo>
                    <a:lnTo>
                      <a:pt x="555" y="157"/>
                    </a:lnTo>
                    <a:lnTo>
                      <a:pt x="563" y="132"/>
                    </a:lnTo>
                    <a:lnTo>
                      <a:pt x="569" y="106"/>
                    </a:lnTo>
                    <a:lnTo>
                      <a:pt x="575" y="80"/>
                    </a:lnTo>
                    <a:lnTo>
                      <a:pt x="578" y="54"/>
                    </a:lnTo>
                    <a:lnTo>
                      <a:pt x="580" y="27"/>
                    </a:lnTo>
                    <a:lnTo>
                      <a:pt x="581" y="0"/>
                    </a:lnTo>
                    <a:lnTo>
                      <a:pt x="0" y="0"/>
                    </a:lnTo>
                    <a:lnTo>
                      <a:pt x="0" y="528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023960" y="3428280"/>
                <a:ext cx="1432080" cy="837720"/>
              </a:xfrm>
              <a:custGeom>
                <a:avLst/>
                <a:gdLst/>
                <a:ahLst/>
                <a:rect l="l" t="t" r="r" b="b"/>
                <a:pathLst>
                  <a:path w="581" h="528">
                    <a:moveTo>
                      <a:pt x="0" y="528"/>
                    </a:moveTo>
                    <a:lnTo>
                      <a:pt x="30" y="527"/>
                    </a:lnTo>
                    <a:lnTo>
                      <a:pt x="60" y="526"/>
                    </a:lnTo>
                    <a:lnTo>
                      <a:pt x="89" y="522"/>
                    </a:lnTo>
                    <a:lnTo>
                      <a:pt x="118" y="517"/>
                    </a:lnTo>
                    <a:lnTo>
                      <a:pt x="145" y="512"/>
                    </a:lnTo>
                    <a:lnTo>
                      <a:pt x="173" y="504"/>
                    </a:lnTo>
                    <a:lnTo>
                      <a:pt x="200" y="496"/>
                    </a:lnTo>
                    <a:lnTo>
                      <a:pt x="227" y="486"/>
                    </a:lnTo>
                    <a:lnTo>
                      <a:pt x="252" y="477"/>
                    </a:lnTo>
                    <a:lnTo>
                      <a:pt x="278" y="464"/>
                    </a:lnTo>
                    <a:lnTo>
                      <a:pt x="325" y="438"/>
                    </a:lnTo>
                    <a:lnTo>
                      <a:pt x="370" y="407"/>
                    </a:lnTo>
                    <a:lnTo>
                      <a:pt x="412" y="373"/>
                    </a:lnTo>
                    <a:lnTo>
                      <a:pt x="449" y="336"/>
                    </a:lnTo>
                    <a:lnTo>
                      <a:pt x="482" y="295"/>
                    </a:lnTo>
                    <a:lnTo>
                      <a:pt x="498" y="274"/>
                    </a:lnTo>
                    <a:lnTo>
                      <a:pt x="511" y="252"/>
                    </a:lnTo>
                    <a:lnTo>
                      <a:pt x="524" y="229"/>
                    </a:lnTo>
                    <a:lnTo>
                      <a:pt x="536" y="206"/>
                    </a:lnTo>
                    <a:lnTo>
                      <a:pt x="546" y="181"/>
                    </a:lnTo>
                    <a:lnTo>
                      <a:pt x="555" y="157"/>
                    </a:lnTo>
                    <a:lnTo>
                      <a:pt x="563" y="132"/>
                    </a:lnTo>
                    <a:lnTo>
                      <a:pt x="569" y="106"/>
                    </a:lnTo>
                    <a:lnTo>
                      <a:pt x="575" y="80"/>
                    </a:lnTo>
                    <a:lnTo>
                      <a:pt x="578" y="54"/>
                    </a:lnTo>
                    <a:lnTo>
                      <a:pt x="580" y="27"/>
                    </a:lnTo>
                    <a:lnTo>
                      <a:pt x="581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5715000" y="3428280"/>
              <a:ext cx="1372680" cy="834120"/>
              <a:chOff x="5715000" y="3428280"/>
              <a:chExt cx="1372680" cy="834120"/>
            </a:xfrm>
          </p:grpSpPr>
          <p:sp>
            <p:nvSpPr>
              <p:cNvPr id="171" name=""/>
              <p:cNvSpPr/>
              <p:nvPr/>
            </p:nvSpPr>
            <p:spPr>
              <a:xfrm>
                <a:off x="5715000" y="3428280"/>
                <a:ext cx="1372680" cy="834120"/>
              </a:xfrm>
              <a:custGeom>
                <a:avLst/>
                <a:gdLst/>
                <a:ahLst/>
                <a:rect l="l" t="t" r="r" b="b"/>
                <a:pathLst>
                  <a:path w="556" h="529">
                    <a:moveTo>
                      <a:pt x="556" y="529"/>
                    </a:moveTo>
                    <a:lnTo>
                      <a:pt x="528" y="529"/>
                    </a:lnTo>
                    <a:lnTo>
                      <a:pt x="500" y="527"/>
                    </a:lnTo>
                    <a:lnTo>
                      <a:pt x="472" y="524"/>
                    </a:lnTo>
                    <a:lnTo>
                      <a:pt x="445" y="519"/>
                    </a:lnTo>
                    <a:lnTo>
                      <a:pt x="418" y="513"/>
                    </a:lnTo>
                    <a:lnTo>
                      <a:pt x="391" y="506"/>
                    </a:lnTo>
                    <a:lnTo>
                      <a:pt x="366" y="498"/>
                    </a:lnTo>
                    <a:lnTo>
                      <a:pt x="341" y="488"/>
                    </a:lnTo>
                    <a:lnTo>
                      <a:pt x="316" y="479"/>
                    </a:lnTo>
                    <a:lnTo>
                      <a:pt x="292" y="466"/>
                    </a:lnTo>
                    <a:lnTo>
                      <a:pt x="246" y="440"/>
                    </a:lnTo>
                    <a:lnTo>
                      <a:pt x="204" y="410"/>
                    </a:lnTo>
                    <a:lnTo>
                      <a:pt x="164" y="376"/>
                    </a:lnTo>
                    <a:lnTo>
                      <a:pt x="128" y="339"/>
                    </a:lnTo>
                    <a:lnTo>
                      <a:pt x="96" y="298"/>
                    </a:lnTo>
                    <a:lnTo>
                      <a:pt x="82" y="277"/>
                    </a:lnTo>
                    <a:lnTo>
                      <a:pt x="69" y="255"/>
                    </a:lnTo>
                    <a:lnTo>
                      <a:pt x="55" y="232"/>
                    </a:lnTo>
                    <a:lnTo>
                      <a:pt x="44" y="209"/>
                    </a:lnTo>
                    <a:lnTo>
                      <a:pt x="35" y="184"/>
                    </a:lnTo>
                    <a:lnTo>
                      <a:pt x="26" y="160"/>
                    </a:lnTo>
                    <a:lnTo>
                      <a:pt x="18" y="135"/>
                    </a:lnTo>
                    <a:lnTo>
                      <a:pt x="13" y="109"/>
                    </a:lnTo>
                    <a:lnTo>
                      <a:pt x="7" y="83"/>
                    </a:lnTo>
                    <a:lnTo>
                      <a:pt x="4" y="57"/>
                    </a:lnTo>
                    <a:lnTo>
                      <a:pt x="2" y="30"/>
                    </a:lnTo>
                    <a:lnTo>
                      <a:pt x="0" y="3"/>
                    </a:lnTo>
                    <a:lnTo>
                      <a:pt x="554" y="0"/>
                    </a:lnTo>
                    <a:lnTo>
                      <a:pt x="556" y="52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715000" y="3431520"/>
                <a:ext cx="1372680" cy="830520"/>
              </a:xfrm>
              <a:custGeom>
                <a:avLst/>
                <a:gdLst/>
                <a:ahLst/>
                <a:rect l="l" t="t" r="r" b="b"/>
                <a:pathLst>
                  <a:path w="556" h="526">
                    <a:moveTo>
                      <a:pt x="556" y="526"/>
                    </a:moveTo>
                    <a:lnTo>
                      <a:pt x="528" y="526"/>
                    </a:lnTo>
                    <a:lnTo>
                      <a:pt x="500" y="524"/>
                    </a:lnTo>
                    <a:lnTo>
                      <a:pt x="472" y="521"/>
                    </a:lnTo>
                    <a:lnTo>
                      <a:pt x="445" y="516"/>
                    </a:lnTo>
                    <a:lnTo>
                      <a:pt x="418" y="510"/>
                    </a:lnTo>
                    <a:lnTo>
                      <a:pt x="391" y="503"/>
                    </a:lnTo>
                    <a:lnTo>
                      <a:pt x="366" y="495"/>
                    </a:lnTo>
                    <a:lnTo>
                      <a:pt x="341" y="485"/>
                    </a:lnTo>
                    <a:lnTo>
                      <a:pt x="316" y="476"/>
                    </a:lnTo>
                    <a:lnTo>
                      <a:pt x="292" y="463"/>
                    </a:lnTo>
                    <a:lnTo>
                      <a:pt x="246" y="437"/>
                    </a:lnTo>
                    <a:lnTo>
                      <a:pt x="204" y="407"/>
                    </a:lnTo>
                    <a:lnTo>
                      <a:pt x="164" y="373"/>
                    </a:lnTo>
                    <a:lnTo>
                      <a:pt x="128" y="336"/>
                    </a:lnTo>
                    <a:lnTo>
                      <a:pt x="96" y="295"/>
                    </a:lnTo>
                    <a:lnTo>
                      <a:pt x="82" y="274"/>
                    </a:lnTo>
                    <a:lnTo>
                      <a:pt x="69" y="252"/>
                    </a:lnTo>
                    <a:lnTo>
                      <a:pt x="55" y="229"/>
                    </a:lnTo>
                    <a:lnTo>
                      <a:pt x="44" y="206"/>
                    </a:lnTo>
                    <a:lnTo>
                      <a:pt x="35" y="181"/>
                    </a:lnTo>
                    <a:lnTo>
                      <a:pt x="26" y="157"/>
                    </a:lnTo>
                    <a:lnTo>
                      <a:pt x="18" y="132"/>
                    </a:lnTo>
                    <a:lnTo>
                      <a:pt x="13" y="106"/>
                    </a:lnTo>
                    <a:lnTo>
                      <a:pt x="7" y="80"/>
                    </a:lnTo>
                    <a:lnTo>
                      <a:pt x="4" y="54"/>
                    </a:lnTo>
                    <a:lnTo>
                      <a:pt x="2" y="27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5719320" y="2590920"/>
              <a:ext cx="1368360" cy="840600"/>
              <a:chOff x="5719320" y="2590920"/>
              <a:chExt cx="1368360" cy="840600"/>
            </a:xfrm>
          </p:grpSpPr>
          <p:sp>
            <p:nvSpPr>
              <p:cNvPr id="174" name=""/>
              <p:cNvSpPr/>
              <p:nvPr/>
            </p:nvSpPr>
            <p:spPr>
              <a:xfrm>
                <a:off x="5719320" y="2590920"/>
                <a:ext cx="1368360" cy="840600"/>
              </a:xfrm>
              <a:custGeom>
                <a:avLst/>
                <a:gdLst/>
                <a:ahLst/>
                <a:rect l="l" t="t" r="r" b="b"/>
                <a:pathLst>
                  <a:path w="553" h="531">
                    <a:moveTo>
                      <a:pt x="551" y="0"/>
                    </a:moveTo>
                    <a:lnTo>
                      <a:pt x="523" y="1"/>
                    </a:lnTo>
                    <a:lnTo>
                      <a:pt x="495" y="3"/>
                    </a:lnTo>
                    <a:lnTo>
                      <a:pt x="466" y="6"/>
                    </a:lnTo>
                    <a:lnTo>
                      <a:pt x="440" y="11"/>
                    </a:lnTo>
                    <a:lnTo>
                      <a:pt x="413" y="17"/>
                    </a:lnTo>
                    <a:lnTo>
                      <a:pt x="386" y="24"/>
                    </a:lnTo>
                    <a:lnTo>
                      <a:pt x="361" y="33"/>
                    </a:lnTo>
                    <a:lnTo>
                      <a:pt x="335" y="43"/>
                    </a:lnTo>
                    <a:lnTo>
                      <a:pt x="311" y="53"/>
                    </a:lnTo>
                    <a:lnTo>
                      <a:pt x="287" y="65"/>
                    </a:lnTo>
                    <a:lnTo>
                      <a:pt x="242" y="91"/>
                    </a:lnTo>
                    <a:lnTo>
                      <a:pt x="199" y="122"/>
                    </a:lnTo>
                    <a:lnTo>
                      <a:pt x="160" y="156"/>
                    </a:lnTo>
                    <a:lnTo>
                      <a:pt x="125" y="194"/>
                    </a:lnTo>
                    <a:lnTo>
                      <a:pt x="93" y="234"/>
                    </a:lnTo>
                    <a:lnTo>
                      <a:pt x="79" y="256"/>
                    </a:lnTo>
                    <a:lnTo>
                      <a:pt x="66" y="278"/>
                    </a:lnTo>
                    <a:lnTo>
                      <a:pt x="54" y="302"/>
                    </a:lnTo>
                    <a:lnTo>
                      <a:pt x="43" y="325"/>
                    </a:lnTo>
                    <a:lnTo>
                      <a:pt x="33" y="349"/>
                    </a:lnTo>
                    <a:lnTo>
                      <a:pt x="24" y="373"/>
                    </a:lnTo>
                    <a:lnTo>
                      <a:pt x="16" y="398"/>
                    </a:lnTo>
                    <a:lnTo>
                      <a:pt x="11" y="424"/>
                    </a:lnTo>
                    <a:lnTo>
                      <a:pt x="6" y="450"/>
                    </a:lnTo>
                    <a:lnTo>
                      <a:pt x="2" y="477"/>
                    </a:lnTo>
                    <a:lnTo>
                      <a:pt x="1" y="503"/>
                    </a:lnTo>
                    <a:lnTo>
                      <a:pt x="0" y="531"/>
                    </a:lnTo>
                    <a:lnTo>
                      <a:pt x="553" y="528"/>
                    </a:lnTo>
                    <a:lnTo>
                      <a:pt x="551" y="0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719320" y="2590920"/>
                <a:ext cx="1362960" cy="840600"/>
              </a:xfrm>
              <a:custGeom>
                <a:avLst/>
                <a:gdLst/>
                <a:ahLst/>
                <a:rect l="l" t="t" r="r" b="b"/>
                <a:pathLst>
                  <a:path w="551" h="531">
                    <a:moveTo>
                      <a:pt x="551" y="0"/>
                    </a:moveTo>
                    <a:lnTo>
                      <a:pt x="523" y="1"/>
                    </a:lnTo>
                    <a:lnTo>
                      <a:pt x="495" y="3"/>
                    </a:lnTo>
                    <a:lnTo>
                      <a:pt x="466" y="6"/>
                    </a:lnTo>
                    <a:lnTo>
                      <a:pt x="440" y="11"/>
                    </a:lnTo>
                    <a:lnTo>
                      <a:pt x="413" y="17"/>
                    </a:lnTo>
                    <a:lnTo>
                      <a:pt x="386" y="24"/>
                    </a:lnTo>
                    <a:lnTo>
                      <a:pt x="361" y="33"/>
                    </a:lnTo>
                    <a:lnTo>
                      <a:pt x="335" y="43"/>
                    </a:lnTo>
                    <a:lnTo>
                      <a:pt x="311" y="53"/>
                    </a:lnTo>
                    <a:lnTo>
                      <a:pt x="287" y="65"/>
                    </a:lnTo>
                    <a:lnTo>
                      <a:pt x="242" y="91"/>
                    </a:lnTo>
                    <a:lnTo>
                      <a:pt x="199" y="122"/>
                    </a:lnTo>
                    <a:lnTo>
                      <a:pt x="160" y="156"/>
                    </a:lnTo>
                    <a:lnTo>
                      <a:pt x="125" y="194"/>
                    </a:lnTo>
                    <a:lnTo>
                      <a:pt x="93" y="234"/>
                    </a:lnTo>
                    <a:lnTo>
                      <a:pt x="79" y="256"/>
                    </a:lnTo>
                    <a:lnTo>
                      <a:pt x="66" y="278"/>
                    </a:lnTo>
                    <a:lnTo>
                      <a:pt x="54" y="302"/>
                    </a:lnTo>
                    <a:lnTo>
                      <a:pt x="43" y="325"/>
                    </a:lnTo>
                    <a:lnTo>
                      <a:pt x="33" y="349"/>
                    </a:lnTo>
                    <a:lnTo>
                      <a:pt x="24" y="373"/>
                    </a:lnTo>
                    <a:lnTo>
                      <a:pt x="16" y="398"/>
                    </a:lnTo>
                    <a:lnTo>
                      <a:pt x="11" y="424"/>
                    </a:lnTo>
                    <a:lnTo>
                      <a:pt x="6" y="450"/>
                    </a:lnTo>
                    <a:lnTo>
                      <a:pt x="2" y="477"/>
                    </a:lnTo>
                    <a:lnTo>
                      <a:pt x="1" y="503"/>
                    </a:lnTo>
                    <a:lnTo>
                      <a:pt x="0" y="531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>
              <a:off x="5719320" y="3428280"/>
              <a:ext cx="2737800" cy="3240"/>
            </a:xfrm>
            <a:prstGeom prst="lin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088760" y="2593440"/>
              <a:ext cx="4320" cy="1672920"/>
            </a:xfrm>
            <a:prstGeom prst="lin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977080" y="2929320"/>
              <a:ext cx="10969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214320" y="2982960"/>
              <a:ext cx="749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ACTUA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152840" y="2929320"/>
              <a:ext cx="117648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398000" y="2982960"/>
              <a:ext cx="858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PLANEA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152840" y="3681360"/>
              <a:ext cx="117648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395120" y="3735360"/>
              <a:ext cx="631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HAC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848200" y="3681360"/>
              <a:ext cx="143784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090120" y="3735360"/>
              <a:ext cx="909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ESTUDIA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-27000"/>
            <a:ext cx="9144000" cy="685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28600" rIns="90000" tIns="468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ÓDIGO DE ÉT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MANTENER Y MEJORAR DE FORMA CONTINUA LAS ACTIVIDADES DESSARROLLADAS POR LOS MIEMBROS, LOS REPRESENTANTES Y LAS  DIRECTIVAS DE </a:t>
            </a:r>
            <a:r>
              <a:rPr b="1" i="1" lang="es-CL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INLAC</a:t>
            </a:r>
            <a:r>
              <a:rPr b="1" lang="es-C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NOS COMPROMETEMOS A QUE TODAS NUESTRAS ACTIVIDADES Y ACTUACIONES  ESTARAN ENMARCADA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los mas claros conceptos de ética profesion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un espíritu de lealtad y compromiso con todas las partes involucrad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mplimiento de los estatuto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un espíritu de confianza, integración y servici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un alto espíritu de integración de la comunidad latinoamericana, y mund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honestidad,  imparcialidad  y transparen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devoción a el Instituto, sus clientes, así como a a la misión y objetivos del Institu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el permanente  aumento de la competencia y prestigio de nuestras ac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el uso de  nuestros conocimientos y habilidades, en aras del bienestar de la Socied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ndando seguridad y confianza con relación a la calidad de que los productos y servicios que ofrecemos a la sociedad, para que satisfagan plenamente sus expectativas e interes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gnidad y modestia al explicar nuestro trabajo y nuestros meri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r claramente desde en inicio en cualquier declaración publica, que debamos hacer, a nombre de quien lo estamos haciend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hacer nada que comprometa el prestigio, la credibilidad y la  estabilidad de INLAC, o que lesione sus intere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Compromiso de compartir la información y experiencias que puedan enriquecer, mejorar las actividades de las partes interesadas, así como prevenir los errores, todo dentro del alcance de nuestra misión y objetiv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uar como agentes leales o fideicomisos de los intereses de INLAC y de nuestros clien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r oportunamente a las partes interesadas, sobre cualquier conflicto de intereses, que pueda influir en nuestros juicios o en la imparcialidad de nuestras acci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r a las partes interesadas de cualquier consecuencia que se deriven de no ser considerados nuestros juicios profesiona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idencialidad y Confianz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aceptación de compensaciones por el mismo servicio, de mas de una de las par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egurarnos  que el crédito del trabajo se de a quienes correspond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aboración tanto en el desarrollo profesional y progreso de todos los miembros de INLAC y de la comunidad  objeto de nuestra misión, así  como en el desarrollo de INLAC en todas las regiones de Latinoaméric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FINALMENTE NOS COMPROMETEMOS, DE FORMA DESINTERESADA, A EXTENDER NUESTRA AMISTAD Y CONFIANZA, A TODOS LOS MIEMBROS DE LA COMUNIDAD DE INLAC EN LATINOAMERICA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1" i="1" lang="es-CL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Y AL DESARROLLO DE LAS MEJORES RELACIONES CON  TODAS LAS PARTES INTERESAD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19160" y="-31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7236000" y="1484280"/>
            <a:ext cx="1153800" cy="13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641760" y="49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2133720"/>
            <a:ext cx="81532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Franklin Gothic Medium"/>
              </a:rPr>
              <a:t>INLAC ES UNA ORGANIZACIÓN NO LUCRATIVA QUE NACIÓ EN 1993 CON EL OBJETIVO DE INTERCAMBIAR EXPERIENCIAS ENTRE ESPECIALISTAS LATINOAMERICANOS EN CAL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Franklin Gothic Medium"/>
              </a:rPr>
              <a:t>INLAC INICIO SU PARTICIPACIÓN EN EL COMITÉ TÉCNIC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Franklin Gothic Medium"/>
              </a:rPr>
              <a:t>ISO/TC 176 EN 1993.  EN 1997 EL COMITÉ LE OTORGO EL STATUS DE ORGANISMO DE ENLACE TIPO “A”  PARA LATINOAMERICA EN LA REUNIÓN DE RÍO DE JANEIR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Franklin Gothic Medium"/>
              </a:rPr>
              <a:t>EN LA REUNIÓN  DEL TC-207 CELEBRADA EN OCTUBRE DE 2005 EN MADRID SE LE OTORGO EL STATUS DE ORGANISMO DE ENLACE TIPO “A”  DEL TC-207 PARA LATINOAMERIC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169720" y="212760"/>
            <a:ext cx="476352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100" spc="-1" strike="noStrike">
                <a:solidFill>
                  <a:srgbClr val="ffffff"/>
                </a:solidFill>
                <a:latin typeface="Franklin Gothic Medium"/>
              </a:rPr>
              <a:t>QUIENES SOMOS ?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641760" y="49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41760" y="393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197000"/>
            <a:ext cx="8458200" cy="55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00"/>
                </a:solidFill>
                <a:latin typeface="Century Gothic"/>
              </a:rPr>
              <a:t>¿QUÉ SIGNIFICA S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00"/>
                </a:solidFill>
                <a:latin typeface="Century Gothic"/>
              </a:rPr>
              <a:t>LIAISON MEMBER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641760" y="49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641760" y="393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714240"/>
            <a:ext cx="173520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Century Gothic"/>
              </a:rPr>
              <a:t>SECRETARIAD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Century Gothic"/>
              </a:rPr>
              <a:t>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22120" y="3346560"/>
            <a:ext cx="115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Century Gothic"/>
              </a:rPr>
              <a:t>COMITÉ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Century Gothic"/>
              </a:rPr>
              <a:t>TÉCN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828800"/>
            <a:ext cx="1797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Century Gothic"/>
              </a:rPr>
              <a:t>CUER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Century Gothic"/>
              </a:rPr>
              <a:t>TÉCNIC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Century Gothic"/>
              </a:rPr>
              <a:t>DIREC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75360" y="3603600"/>
            <a:ext cx="207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Century Gothic"/>
              </a:rPr>
              <a:t>ORGANISM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Century Gothic"/>
              </a:rPr>
              <a:t>DE ENL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3352680"/>
            <a:ext cx="1219320" cy="7621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1828800"/>
            <a:ext cx="1905120" cy="10666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248520" y="3581280"/>
            <a:ext cx="1828800" cy="6858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76520" y="3200400"/>
            <a:ext cx="0" cy="152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76520" y="3200400"/>
            <a:ext cx="51814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76720" y="533520"/>
            <a:ext cx="1981080" cy="9903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67080" y="152388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67080" y="2971800"/>
            <a:ext cx="0" cy="228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0" y="320040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4114800"/>
            <a:ext cx="0" cy="5335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0" y="4267080"/>
            <a:ext cx="0" cy="17528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4724280"/>
            <a:ext cx="2057400" cy="106704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Century Gothic"/>
              </a:rPr>
              <a:t>ORGANISM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Century Gothic"/>
              </a:rPr>
              <a:t>NACION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Century Gothic"/>
              </a:rPr>
              <a:t>DE NORMALIZ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76520" y="5791320"/>
            <a:ext cx="0" cy="2286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6019920"/>
            <a:ext cx="8153280" cy="5331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Lucida Console"/>
              </a:rPr>
              <a:t>        </a:t>
            </a:r>
            <a:r>
              <a:rPr b="0" lang="es-ES_tradnl" sz="2000" spc="-1" strike="noStrike">
                <a:solidFill>
                  <a:srgbClr val="ffff00"/>
                </a:solidFill>
                <a:latin typeface="Century Gothic"/>
              </a:rPr>
              <a:t>USUARIOS</a:t>
            </a:r>
            <a:r>
              <a:rPr b="0" lang="es-ES_tradnl" sz="2000" spc="-1" strike="noStrike">
                <a:solidFill>
                  <a:srgbClr val="ffff00"/>
                </a:solidFill>
                <a:latin typeface="Century Gothic"/>
              </a:rPr>
              <a:t>	</a:t>
            </a:r>
            <a:r>
              <a:rPr b="0" lang="es-ES_tradnl" sz="2000" spc="-1" strike="noStrike">
                <a:solidFill>
                  <a:srgbClr val="ffff00"/>
                </a:solidFill>
                <a:latin typeface="Century Gothic"/>
              </a:rPr>
              <a:t> </a:t>
            </a:r>
            <a:r>
              <a:rPr b="0" lang="es-ES_tradnl" sz="2000" spc="-1" strike="noStrike">
                <a:solidFill>
                  <a:srgbClr val="ffff00"/>
                </a:solidFill>
                <a:latin typeface="Century Gothic"/>
              </a:rPr>
              <a:t>	</a:t>
            </a:r>
            <a:r>
              <a:rPr b="0" lang="es-ES_tradnl" sz="2000" spc="-1" strike="noStrike">
                <a:solidFill>
                  <a:srgbClr val="ffff00"/>
                </a:solidFill>
                <a:latin typeface="Century Gothic"/>
              </a:rPr>
              <a:t>	</a:t>
            </a:r>
            <a:r>
              <a:rPr b="0" lang="es-ES_tradnl" sz="2000" spc="-1" strike="noStrike">
                <a:solidFill>
                  <a:srgbClr val="ffff00"/>
                </a:solidFill>
                <a:latin typeface="Century Gothic"/>
              </a:rPr>
              <a:t>	</a:t>
            </a:r>
            <a:r>
              <a:rPr b="0" lang="es-ES_tradnl" sz="2000" spc="-1" strike="noStrike">
                <a:solidFill>
                  <a:srgbClr val="ffff00"/>
                </a:solidFill>
                <a:latin typeface="Century Gothic"/>
              </a:rPr>
              <a:t>MEMBRESÍ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209320" y="3886200"/>
            <a:ext cx="40388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2742840" y="3886200"/>
            <a:ext cx="3505320" cy="1295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41036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27760" y="4108320"/>
            <a:ext cx="1035720" cy="5806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Century Gothic"/>
              </a:rPr>
              <a:t>TC 17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Century Gothic"/>
              </a:rPr>
              <a:t>ISO 9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64280" y="4108320"/>
            <a:ext cx="115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Century Gothic"/>
              </a:rPr>
              <a:t>TC 2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Century Gothic"/>
              </a:rPr>
              <a:t>ISO 14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19720" y="6019920"/>
            <a:ext cx="0" cy="5331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692360" y="4076640"/>
            <a:ext cx="1150920" cy="64764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RIO97" descr=""/>
          <p:cNvPicPr/>
          <p:nvPr/>
        </p:nvPicPr>
        <p:blipFill>
          <a:blip r:embed="rId2"/>
          <a:stretch/>
        </p:blipFill>
        <p:spPr>
          <a:xfrm>
            <a:off x="250920" y="-163440"/>
            <a:ext cx="7956360" cy="704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CastleTLig"/>
              </a:rPr>
              <a:t>GRUPOS DE ANÁLISIS</a:t>
            </a:r>
            <a:br>
              <a:rPr sz="3200"/>
            </a:br>
            <a:r>
              <a:rPr b="0" lang="es-ES_tradnl" sz="3200" spc="-1" strike="noStrike">
                <a:solidFill>
                  <a:srgbClr val="ffff00"/>
                </a:solidFill>
                <a:latin typeface="CastleTLig"/>
              </a:rPr>
              <a:t>E INTERPRETACIÓN</a:t>
            </a:r>
            <a:r>
              <a:rPr b="0" lang="es-ES_tradnl" sz="2400" spc="-1" strike="noStrike">
                <a:solidFill>
                  <a:srgbClr val="ffff00"/>
                </a:solidFill>
                <a:latin typeface="CastleTLig"/>
              </a:rPr>
              <a:t> </a:t>
            </a:r>
            <a:r>
              <a:rPr b="0" lang="es-ES_tradnl" sz="2800" spc="-1" strike="noStrike">
                <a:solidFill>
                  <a:srgbClr val="ffff00"/>
                </a:solidFill>
                <a:latin typeface="CastleTLig"/>
              </a:rPr>
              <a:t>ISO/TC 176-    </a:t>
            </a:r>
            <a:br>
              <a:rPr sz="2800"/>
            </a:br>
            <a:r>
              <a:rPr b="0" lang="es-ES_tradnl" sz="3200" spc="-1" strike="noStrike">
                <a:solidFill>
                  <a:srgbClr val="ffff00"/>
                </a:solidFill>
                <a:latin typeface="CastleTLig"/>
              </a:rPr>
              <a:t>CONFORMADOS EN INLAC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8920" y="2338560"/>
            <a:ext cx="871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CastleTLi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CastleTLig"/>
              </a:rPr>
              <a:t>Paquete de soporte para la serie ISO 9000: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CastleTLi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CastleTLig"/>
              </a:rPr>
              <a:t>Handbook para las PYME´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CastleTLi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CastleTLig"/>
              </a:rPr>
              <a:t>Configuración ISO 10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CastleTLi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CastleTLig"/>
              </a:rPr>
              <a:t>Plan estratégico ISO 2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CastleTLi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CastleTLig"/>
              </a:rPr>
              <a:t>ISO 19011- Directrices para Auditorías de SGC y/o Ambient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CastleTLi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CastleTLig"/>
              </a:rPr>
              <a:t>STTG, traducción al español de documentos del TC 17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CastleTLi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CastleTLig"/>
              </a:rPr>
              <a:t>Gestión de proyectos, ISO 10006, Planes de Calidad, ISO-10.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CastleTLi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CastleTLig"/>
              </a:rPr>
              <a:t>Técnicas estadísticas, ISO/TR 10017-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CastleTLi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CastleTLig"/>
              </a:rPr>
              <a:t>ISO 10019- Selección y uso Consult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CastleTLi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CastleTLig"/>
              </a:rPr>
              <a:t>ISO 10002-Complaints (Quej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CastleTLi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CastleTLig"/>
              </a:rPr>
              <a:t>Enfoque por Proce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CastleTLi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CastleTLig"/>
              </a:rPr>
              <a:t>Automotri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CastleTLi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CastleTLig"/>
              </a:rPr>
              <a:t>Ali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CastleTLi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CastleTLig"/>
              </a:rPr>
              <a:t>Buenas practicas de audito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CastleTLig"/>
              </a:rPr>
              <a:t>GRUPOS DE ANÁLISIS</a:t>
            </a:r>
            <a:br>
              <a:rPr sz="3200"/>
            </a:br>
            <a:r>
              <a:rPr b="0" lang="es-ES_tradnl" sz="3200" spc="-1" strike="noStrike">
                <a:solidFill>
                  <a:srgbClr val="ffff00"/>
                </a:solidFill>
                <a:latin typeface="CastleTLig"/>
              </a:rPr>
              <a:t>E INTERPRETACIÓN</a:t>
            </a:r>
            <a:r>
              <a:rPr b="0" lang="es-ES_tradnl" sz="2400" spc="-1" strike="noStrike">
                <a:solidFill>
                  <a:srgbClr val="ffff00"/>
                </a:solidFill>
                <a:latin typeface="CastleTLig"/>
              </a:rPr>
              <a:t> </a:t>
            </a:r>
            <a:r>
              <a:rPr b="0" lang="es-ES_tradnl" sz="2800" spc="-1" strike="noStrike">
                <a:solidFill>
                  <a:srgbClr val="ffff00"/>
                </a:solidFill>
                <a:latin typeface="CastleTLig"/>
              </a:rPr>
              <a:t>ISO/TC 207    </a:t>
            </a:r>
            <a:br>
              <a:rPr sz="2800"/>
            </a:br>
            <a:r>
              <a:rPr b="0" lang="es-ES_tradnl" sz="3200" spc="-1" strike="noStrike">
                <a:solidFill>
                  <a:srgbClr val="ffff00"/>
                </a:solidFill>
                <a:latin typeface="CastleTLig"/>
              </a:rPr>
              <a:t>CONFORMADOS EN INLAC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9640" y="2050920"/>
            <a:ext cx="777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astleTLi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CastleTLig"/>
              </a:rPr>
              <a:t>ISO- 14001 Sistemas de gestión ambien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astleTLi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CastleTLig"/>
              </a:rPr>
              <a:t>STTF , traducción al español de las norma ISO serie 14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astleTLi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CastleTLig"/>
              </a:rPr>
              <a:t>ISO 19011- Directrices para Auditorías de SGC y/o Ambien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astleTLi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CastleTLig"/>
              </a:rPr>
              <a:t>ISO – 14064 Cambio Climáti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astleTLi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CastleTLig"/>
              </a:rPr>
              <a:t>Enfoque por Proce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astleTLi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CastleTLig"/>
              </a:rPr>
              <a:t>Buenas practicas de audito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8329680" y="0"/>
          <a:ext cx="814320" cy="128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29680" y="0"/>
                    <a:ext cx="81432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586960" y="228600"/>
            <a:ext cx="363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Century Gothic"/>
              </a:rPr>
              <a:t>PARTICIPACIÓN DE PAÍ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Century Gothic"/>
              </a:rPr>
              <a:t>LATINOAMERICANOS EN 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Century Gothic"/>
              </a:rPr>
              <a:t>COMITÉ ISO/TC 176 y 2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31640" y="1590840"/>
            <a:ext cx="83980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Lucida Console"/>
              </a:rPr>
              <a:t>   </a:t>
            </a:r>
            <a:r>
              <a:rPr b="0" lang="es-ES_tradnl" sz="2000" spc="-1" strike="noStrike">
                <a:solidFill>
                  <a:srgbClr val="ffff00"/>
                </a:solidFill>
                <a:latin typeface="Century Gothic"/>
              </a:rPr>
              <a:t>PARTICIPACIÓN SISTEMÁTICA CON MÁS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Century Gothic"/>
              </a:rPr>
              <a:t>      </a:t>
            </a:r>
            <a:r>
              <a:rPr b="0" lang="es-ES_tradnl" sz="2000" spc="-1" strike="noStrike">
                <a:solidFill>
                  <a:srgbClr val="ffff00"/>
                </a:solidFill>
                <a:latin typeface="Century Gothic"/>
              </a:rPr>
              <a:t>10 ESPECIALIST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799920">
              <a:lnSpc>
                <a:spcPct val="100000"/>
              </a:lnSpc>
              <a:buClr>
                <a:srgbClr val="b2b2b2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Century Gothic"/>
              </a:rPr>
              <a:t>ARGENT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799920">
              <a:lnSpc>
                <a:spcPct val="100000"/>
              </a:lnSpc>
              <a:buClr>
                <a:srgbClr val="b2b2b2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Century Gothic"/>
              </a:rPr>
              <a:t>BRAS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799920">
              <a:lnSpc>
                <a:spcPct val="100000"/>
              </a:lnSpc>
              <a:buClr>
                <a:srgbClr val="b2b2b2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Century Gothic"/>
              </a:rPr>
              <a:t>MÉX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Century Gothic"/>
              </a:rPr>
              <a:t> </a:t>
            </a:r>
            <a:r>
              <a:rPr b="0" lang="es-ES_tradnl" sz="2000" spc="-1" strike="noStrike">
                <a:solidFill>
                  <a:srgbClr val="ffff00"/>
                </a:solidFill>
                <a:latin typeface="Century Gothic"/>
              </a:rPr>
              <a:t>PARTICIPACIÓN SISTEMÁTICA CON 1 A 3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Century Gothic"/>
              </a:rPr>
              <a:t> </a:t>
            </a:r>
            <a:r>
              <a:rPr b="0" lang="es-ES_tradnl" sz="2000" spc="-1" strike="noStrike">
                <a:solidFill>
                  <a:srgbClr val="ffff00"/>
                </a:solidFill>
                <a:latin typeface="Century Gothic"/>
              </a:rPr>
              <a:t>ESPECIALIST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799920">
              <a:lnSpc>
                <a:spcPct val="100000"/>
              </a:lnSpc>
              <a:buClr>
                <a:srgbClr val="b2b2b2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Century Gothic"/>
              </a:rPr>
              <a:t>VENEZ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799920">
              <a:lnSpc>
                <a:spcPct val="100000"/>
              </a:lnSpc>
              <a:buClr>
                <a:srgbClr val="b2b2b2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Century Gothic"/>
              </a:rPr>
              <a:t>COLOMB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799920">
              <a:lnSpc>
                <a:spcPct val="100000"/>
              </a:lnSpc>
              <a:buClr>
                <a:srgbClr val="b2b2b2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Century Gothic"/>
              </a:rPr>
              <a:t>COSTA 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799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Century Gothic"/>
              </a:rPr>
              <a:t>PARTICIPACIÓN ESPORÁD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799920">
              <a:lnSpc>
                <a:spcPct val="100000"/>
              </a:lnSpc>
              <a:buClr>
                <a:srgbClr val="b2b2b2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Century Gothic"/>
              </a:rPr>
              <a:t>CUB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799920">
              <a:lnSpc>
                <a:spcPct val="100000"/>
              </a:lnSpc>
              <a:buClr>
                <a:srgbClr val="b2b2b2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Century Gothic"/>
              </a:rPr>
              <a:t>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799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Century Gothic"/>
              </a:rPr>
              <a:t>PARTICIPACIÓN SISTEMÁTICA COMO ORGANIS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799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Century Gothic"/>
              </a:rPr>
              <a:t>DE ENLACE LATINOAMERICANO CON MÁS DE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799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Century Gothic"/>
              </a:rPr>
              <a:t>ESPECIALIS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799920">
              <a:lnSpc>
                <a:spcPct val="100000"/>
              </a:lnSpc>
              <a:buClr>
                <a:srgbClr val="b2b2b2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Century Gothic"/>
              </a:rPr>
              <a:t>INL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687760" y="826920"/>
            <a:ext cx="3574800" cy="12207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NLAC CORPOR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Control de membresí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Coordinación ISO/TC 176 Y TC 2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Coordinación revisión de documen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87560" y="816120"/>
            <a:ext cx="1371600" cy="2764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Vi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87560" y="1193760"/>
            <a:ext cx="1371600" cy="2764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Mi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87560" y="1569960"/>
            <a:ext cx="1371600" cy="2764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Objetiv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497640" y="793800"/>
            <a:ext cx="1359000" cy="2764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Conven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07000" y="1165320"/>
            <a:ext cx="1349640" cy="2764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Procedimie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507000" y="1539720"/>
            <a:ext cx="1360800" cy="2764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Program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866920" y="2349360"/>
            <a:ext cx="24714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DIGO DE E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8000" y="3579840"/>
            <a:ext cx="1295280" cy="580680"/>
          </a:xfrm>
          <a:prstGeom prst="rect">
            <a:avLst/>
          </a:prstGeom>
          <a:solidFill>
            <a:srgbClr val="00ccff"/>
          </a:solidFill>
          <a:ln w="9360">
            <a:solidFill>
              <a:srgbClr val="ccffff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99"/>
                </a:solidFill>
                <a:latin typeface="Arial"/>
                <a:ea typeface="Times New Roman"/>
              </a:rPr>
              <a:t>INLAC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99"/>
                </a:solidFill>
                <a:latin typeface="Arial"/>
                <a:ea typeface="Times New Roman"/>
              </a:rPr>
              <a:t>MEX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35040" y="3571920"/>
            <a:ext cx="1254240" cy="580680"/>
          </a:xfrm>
          <a:prstGeom prst="rect">
            <a:avLst/>
          </a:prstGeom>
          <a:solidFill>
            <a:srgbClr val="00ccff"/>
          </a:solidFill>
          <a:ln w="9360">
            <a:solidFill>
              <a:srgbClr val="cc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99"/>
                </a:solidFill>
                <a:latin typeface="Arial"/>
                <a:ea typeface="Times New Roman"/>
              </a:rPr>
              <a:t>INLAC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99"/>
                </a:solidFill>
                <a:latin typeface="Arial"/>
                <a:ea typeface="Times New Roman"/>
              </a:rPr>
              <a:t>U S 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56680" y="3552840"/>
            <a:ext cx="1282680" cy="580680"/>
          </a:xfrm>
          <a:prstGeom prst="rect">
            <a:avLst/>
          </a:prstGeom>
          <a:solidFill>
            <a:srgbClr val="00ccff"/>
          </a:solidFill>
          <a:ln w="9360">
            <a:solidFill>
              <a:srgbClr val="cc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99"/>
                </a:solidFill>
                <a:latin typeface="Arial"/>
                <a:ea typeface="Times New Roman"/>
              </a:rPr>
              <a:t>INLAC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99"/>
                </a:solidFill>
                <a:latin typeface="Arial"/>
                <a:ea typeface="Times New Roman"/>
              </a:rPr>
              <a:t>COLO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200" y="4941720"/>
            <a:ext cx="1219320" cy="580680"/>
          </a:xfrm>
          <a:prstGeom prst="rect">
            <a:avLst/>
          </a:prstGeom>
          <a:solidFill>
            <a:srgbClr val="00ccff"/>
          </a:solidFill>
          <a:ln w="9360">
            <a:solidFill>
              <a:srgbClr val="cc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99"/>
                </a:solidFill>
                <a:latin typeface="Arial"/>
                <a:ea typeface="Times New Roman"/>
              </a:rPr>
              <a:t>INLAC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99"/>
                </a:solidFill>
                <a:latin typeface="Arial"/>
                <a:ea typeface="Times New Roman"/>
              </a:rPr>
              <a:t>BRAS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35640" y="3573360"/>
            <a:ext cx="1152360" cy="459000"/>
          </a:xfrm>
          <a:prstGeom prst="rect">
            <a:avLst/>
          </a:prstGeom>
          <a:solidFill>
            <a:srgbClr val="00ccff"/>
          </a:solidFill>
          <a:ln w="9360">
            <a:solidFill>
              <a:srgbClr val="cc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INLA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CU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730920" y="3567240"/>
            <a:ext cx="1008000" cy="459000"/>
          </a:xfrm>
          <a:prstGeom prst="rect">
            <a:avLst/>
          </a:prstGeom>
          <a:solidFill>
            <a:srgbClr val="00ccff"/>
          </a:solidFill>
          <a:ln w="9360">
            <a:solidFill>
              <a:srgbClr val="cc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INLA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07920" y="5092560"/>
            <a:ext cx="1474560" cy="580680"/>
          </a:xfrm>
          <a:prstGeom prst="rect">
            <a:avLst/>
          </a:prstGeom>
          <a:solidFill>
            <a:srgbClr val="00cc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99"/>
                </a:solidFill>
                <a:latin typeface="Arial"/>
                <a:ea typeface="Times New Roman"/>
              </a:rPr>
              <a:t>INLAC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99"/>
                </a:solidFill>
                <a:latin typeface="Arial"/>
                <a:ea typeface="Times New Roman"/>
              </a:rPr>
              <a:t>GUATEMA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22120" y="6018120"/>
            <a:ext cx="1317600" cy="580680"/>
          </a:xfrm>
          <a:prstGeom prst="rect">
            <a:avLst/>
          </a:prstGeom>
          <a:solidFill>
            <a:srgbClr val="00cc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99"/>
                </a:solidFill>
                <a:latin typeface="Arial"/>
                <a:ea typeface="Times New Roman"/>
              </a:rPr>
              <a:t>INLAC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99"/>
                </a:solidFill>
                <a:latin typeface="Arial"/>
                <a:ea typeface="Times New Roman"/>
              </a:rPr>
              <a:t>SALVA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332400" y="5092560"/>
            <a:ext cx="1351080" cy="580680"/>
          </a:xfrm>
          <a:prstGeom prst="rect">
            <a:avLst/>
          </a:prstGeom>
          <a:solidFill>
            <a:srgbClr val="00cc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99"/>
                </a:solidFill>
                <a:latin typeface="Arial"/>
                <a:ea typeface="Times New Roman"/>
              </a:rPr>
              <a:t>INLAC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99"/>
                </a:solidFill>
                <a:latin typeface="Arial"/>
                <a:ea typeface="Times New Roman"/>
              </a:rPr>
              <a:t>HONDUR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407280" y="5986440"/>
            <a:ext cx="1189080" cy="580680"/>
          </a:xfrm>
          <a:prstGeom prst="rect">
            <a:avLst/>
          </a:prstGeom>
          <a:solidFill>
            <a:srgbClr val="00cc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99"/>
                </a:solidFill>
                <a:latin typeface="Arial"/>
                <a:ea typeface="Times New Roman"/>
              </a:rPr>
              <a:t>INLAC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99"/>
                </a:solidFill>
                <a:latin typeface="Arial"/>
                <a:ea typeface="Times New Roman"/>
              </a:rPr>
              <a:t>PER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68680" y="4941720"/>
            <a:ext cx="1409040" cy="580680"/>
          </a:xfrm>
          <a:prstGeom prst="rect">
            <a:avLst/>
          </a:prstGeom>
          <a:solidFill>
            <a:srgbClr val="00cc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99"/>
                </a:solidFill>
                <a:latin typeface="Arial"/>
                <a:ea typeface="Times New Roman"/>
              </a:rPr>
              <a:t>INLAC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99"/>
                </a:solidFill>
                <a:latin typeface="Arial"/>
                <a:ea typeface="Times New Roman"/>
              </a:rPr>
              <a:t>VENEZUE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883640" y="3567240"/>
            <a:ext cx="936360" cy="413640"/>
          </a:xfrm>
          <a:prstGeom prst="rect">
            <a:avLst/>
          </a:prstGeom>
          <a:solidFill>
            <a:srgbClr val="00cc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INLA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000099"/>
                </a:solidFill>
                <a:latin typeface="Arial"/>
                <a:ea typeface="Times New Roman"/>
              </a:rPr>
              <a:t>ARGENTIN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200" y="4335480"/>
            <a:ext cx="149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00"/>
                </a:solidFill>
                <a:latin typeface="Arial"/>
              </a:rPr>
              <a:t>Gerardo Espino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86600" y="4329000"/>
            <a:ext cx="92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00"/>
                </a:solidFill>
                <a:latin typeface="Arial"/>
              </a:rPr>
              <a:t>Jack W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10320" y="4330800"/>
            <a:ext cx="123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00"/>
                </a:solidFill>
                <a:latin typeface="Arial"/>
              </a:rPr>
              <a:t>Héctor Garz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20" y="5692680"/>
            <a:ext cx="143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00"/>
                </a:solidFill>
                <a:latin typeface="Arial"/>
              </a:rPr>
              <a:t>Augusto Canali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63640" y="4149720"/>
            <a:ext cx="122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ffff00"/>
                </a:solidFill>
                <a:latin typeface="Arial"/>
              </a:rPr>
              <a:t>Alejandro Penab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659280" y="4149720"/>
            <a:ext cx="953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ffff00"/>
                </a:solidFill>
                <a:latin typeface="Arial"/>
              </a:rPr>
              <a:t>Jaime Villag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494240" y="5708520"/>
            <a:ext cx="148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00"/>
                </a:solidFill>
                <a:latin typeface="Arial"/>
              </a:rPr>
              <a:t>Leonel de la Ro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3800" y="6583320"/>
            <a:ext cx="141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00"/>
                </a:solidFill>
                <a:latin typeface="Arial"/>
              </a:rPr>
              <a:t>Guillermo Ro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859520" y="4149720"/>
            <a:ext cx="128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00"/>
                </a:solidFill>
                <a:latin typeface="Arial"/>
              </a:rPr>
              <a:t>Roberto Medi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4920" y="5734080"/>
            <a:ext cx="148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00"/>
                </a:solidFill>
                <a:latin typeface="Arial"/>
              </a:rPr>
              <a:t>Sandra Velázqu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912080" y="5105520"/>
            <a:ext cx="1189080" cy="580680"/>
          </a:xfrm>
          <a:prstGeom prst="rect">
            <a:avLst/>
          </a:prstGeom>
          <a:solidFill>
            <a:srgbClr val="00cc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99"/>
                </a:solidFill>
                <a:latin typeface="Arial"/>
                <a:ea typeface="Times New Roman"/>
              </a:rPr>
              <a:t>INLAC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99"/>
                </a:solidFill>
                <a:latin typeface="Arial"/>
                <a:ea typeface="Times New Roman"/>
              </a:rPr>
              <a:t>PAN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507000" y="1903320"/>
            <a:ext cx="1360800" cy="2764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Edito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87560" y="1947960"/>
            <a:ext cx="1371600" cy="2764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Polí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23760" y="96840"/>
            <a:ext cx="51519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Arial"/>
              </a:rPr>
              <a:t>ESTRUCTURA ORGANIZ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8360" y="2446200"/>
            <a:ext cx="32734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GESTIÓN DE 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301440" y="6583320"/>
            <a:ext cx="154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ffff00"/>
                </a:solidFill>
                <a:latin typeface="Arial"/>
              </a:rPr>
              <a:t>Alfonso LLamos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67160" y="5603760"/>
            <a:ext cx="165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00"/>
                </a:solidFill>
                <a:latin typeface="Arial"/>
              </a:rPr>
              <a:t>Leopoldo Rodrigu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926480" y="566892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00"/>
                </a:solidFill>
                <a:latin typeface="Arial"/>
              </a:rPr>
              <a:t>Roy Willei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76720" y="4653000"/>
            <a:ext cx="4967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ffff00"/>
                </a:solidFill>
                <a:latin typeface="Franklin Gothic Medium"/>
              </a:rPr>
              <a:t>EN PROCESO O SOLICTUD DE CREACION Y/O FORMALIZAC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350400" y="3068640"/>
            <a:ext cx="18219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700" spc="-1" strike="noStrike">
                <a:solidFill>
                  <a:srgbClr val="ffff00"/>
                </a:solidFill>
                <a:latin typeface="Franklin Gothic Medium"/>
              </a:rPr>
              <a:t>DELEGACION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63240" y="3092400"/>
            <a:ext cx="31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00"/>
                </a:solidFill>
                <a:latin typeface="Arial"/>
              </a:rPr>
              <a:t>LEGALMENTE CONSTITUI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11520" y="5970600"/>
            <a:ext cx="1471680" cy="580680"/>
          </a:xfrm>
          <a:prstGeom prst="rect">
            <a:avLst/>
          </a:prstGeom>
          <a:solidFill>
            <a:srgbClr val="00cc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99"/>
                </a:solidFill>
                <a:latin typeface="Arial"/>
                <a:ea typeface="Times New Roman"/>
              </a:rPr>
              <a:t>INLAC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99"/>
                </a:solidFill>
                <a:latin typeface="Arial"/>
                <a:ea typeface="Times New Roman"/>
              </a:rPr>
              <a:t>COSTA 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44280" y="6583320"/>
            <a:ext cx="140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00"/>
                </a:solidFill>
                <a:latin typeface="Arial"/>
              </a:rPr>
              <a:t>Roxana Montoy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6T23:50:29Z</dcterms:created>
  <dc:creator>Gerardo Espinosa</dc:creator>
  <dc:description/>
  <dc:language>en-US</dc:language>
  <cp:lastModifiedBy>PEEPadron</cp:lastModifiedBy>
  <dcterms:modified xsi:type="dcterms:W3CDTF">2007-08-01T14:29:52Z</dcterms:modified>
  <cp:revision>142</cp:revision>
  <dc:subject/>
  <dc:title>  </dc:title>
</cp:coreProperties>
</file>