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3CFC-D91D-44A9-92B0-5673CC9A3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8337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200" y="3314880"/>
            <a:ext cx="8337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84B1-F3AB-45A3-9C7C-6C514B4F2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920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168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272E-6675-4AAA-999C-E5F4AEC9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8360" y="102384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520" y="102384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9200" y="331488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8360" y="331488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520" y="331488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8DFF-0D4C-4FAF-AA85-4142B4447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37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7800"/>
            <a:ext cx="8339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2737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920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3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F319-CBF9-40FA-B54A-644FCA3A9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168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9200" y="3314880"/>
            <a:ext cx="8337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8337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200" y="3314880"/>
            <a:ext cx="8337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920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168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8360" y="102384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520" y="102384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9200" y="331488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8360" y="331488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520" y="3314880"/>
            <a:ext cx="26845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C98E-6791-4C9B-B0A3-A8F330F6B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2D91-7E10-4B6A-9EED-D755E91CB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21FB-66DF-4A95-986E-BC3D8BB6D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07800"/>
            <a:ext cx="8339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273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F9F6-E79F-492E-970C-8F7906DAF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920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C4C6-3773-4631-A424-9766558EE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1680" y="331488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8392-0CF1-45B0-90AD-C75EF0D1B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1680" y="1023840"/>
            <a:ext cx="406872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9200" y="3314880"/>
            <a:ext cx="8337600" cy="20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6609-AA9B-4513-B575-386DB8D4F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9987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3177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ff5a00"/>
              </a:buClr>
              <a:buSzPct val="3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663480" indent="-180720">
              <a:spcBef>
                <a:spcPts val="499"/>
              </a:spcBef>
              <a:buClr>
                <a:srgbClr val="333333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1050840" indent="-196920">
              <a:spcBef>
                <a:spcPts val="499"/>
              </a:spcBef>
              <a:buClr>
                <a:srgbClr val="ffa7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430280" indent="-189000">
              <a:spcBef>
                <a:spcPts val="499"/>
              </a:spcBef>
              <a:buClr>
                <a:srgbClr val="d7d7d7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1430280" indent="-1890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1430280" indent="-1890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71080" y="6172200"/>
            <a:ext cx="490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73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5D9-9767-4ACD-931F-61FFAB382E70}" type="slidenum">
              <a:rPr b="1" lang="en-US" sz="1000" spc="-1" strike="noStrike">
                <a:solidFill>
                  <a:srgbClr val="273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624720" y="6235560"/>
            <a:ext cx="1417680" cy="594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16120" y="6210360"/>
            <a:ext cx="37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3648f2"/>
                </a:solidFill>
                <a:latin typeface="Arial"/>
              </a:rPr>
              <a:t>Programa Voluntarios Empresas Polar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554800"/>
            <a:ext cx="9144000" cy="769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45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3777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273777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56386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0" t="10479" r="0" b="0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72360" y="5721480"/>
            <a:ext cx="2286000" cy="957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377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73777"/>
              </a:solidFill>
              <a:latin typeface="Arial"/>
            </a:endParaRPr>
          </a:p>
          <a:p>
            <a:pPr lvl="1" marL="1144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482760" algn="ctr">
              <a:spcBef>
                <a:spcPts val="425"/>
              </a:spcBef>
              <a:buClr>
                <a:srgbClr val="333333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  <a:p>
            <a:pPr lvl="3" marL="853920" algn="ctr">
              <a:spcBef>
                <a:spcPts val="400"/>
              </a:spcBef>
              <a:buClr>
                <a:srgbClr val="ffa7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241280" algn="ctr">
              <a:spcBef>
                <a:spcPts val="374"/>
              </a:spcBef>
              <a:buClr>
                <a:srgbClr val="d7d7d7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5" marL="1241280">
              <a:spcBef>
                <a:spcPts val="374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  <a:p>
            <a:pPr lvl="6" marL="1241280">
              <a:spcBef>
                <a:spcPts val="374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flipV="1">
            <a:off x="884160" y="1942200"/>
            <a:ext cx="8259840" cy="52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6120" y="2959200"/>
            <a:ext cx="65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648f2"/>
                </a:solidFill>
                <a:latin typeface="Arial"/>
              </a:rPr>
              <a:t>Voluntarios Empresas Polar - VE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03200" y="1433520"/>
            <a:ext cx="798192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648f2"/>
                </a:solidFill>
                <a:uFillTx/>
                <a:latin typeface="Arial"/>
              </a:rPr>
              <a:t>Comun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Amplían sus redes  de relaciones fomentando el acercamiento y entendimiento con  los actores y fuerzas vivas de su entorno socia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Construyen  propuestas y proyectos  innovadores  para atender  sus áreas de interés, ampliando su cobertura y dando respuestas más oportun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Arial"/>
              </a:rPr>
              <a:t>Fortalecen sus relaciones con sus vecinos institucionales y empresarial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648f2"/>
                </a:solidFill>
                <a:uFillTx/>
                <a:latin typeface="Arial"/>
              </a:rPr>
              <a:t>Empres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262626"/>
                </a:solidFill>
                <a:latin typeface="Arial"/>
              </a:rPr>
              <a:t>Dan </a:t>
            </a: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visibilidad a sus acciones y  a su Compromiso Social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Fortalecen y ayudan crear una cultura de solidaridad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Fortalecen los principios y  valores éticos de la Empresa y de sus trabajador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Mejoran los vínculos comunicacionales entre Empresa-trabajador-comunidad e instituciones, en una relación ganar-ganar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Contribuyen al posicionamiento de la marca  de la Empresa (Empresas Polar)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Aumentan el atractivo de la empresa como empleador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560" y="2984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3648f2"/>
                </a:solidFill>
                <a:latin typeface="Arial"/>
              </a:rPr>
              <a:t>Acto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6210-EC18-4807-A32D-D1E56118D8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93560" y="1023480"/>
            <a:ext cx="834408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Bases de datos institucionales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Fuentes: Instituciones objeto de Donaciones de FEP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dsoc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ropuestas por vinculaciones y relaciones de EP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Otras fuent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:  181 Instituciones y Organizacion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Áreas: Ambiente, Cultura, Comunidad,Deportes,Educación,Recreación,Salud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Municipios: Baruta, Chacao, Libertador y Sucre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                   </a:t>
            </a: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Estados: Aragua y Varga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3440"/>
            <a:ext cx="76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ff"/>
                </a:solidFill>
                <a:latin typeface="Arial"/>
              </a:rPr>
              <a:t>Registro de Instituciones y Organiz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96A8-5493-4174-8535-8B57EC61AE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1916280"/>
            <a:ext cx="777708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72360" cy="5445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54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E6A4-9ADF-4D63-82DF-74BEECE842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49200" y="60948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648f2"/>
                </a:solidFill>
                <a:latin typeface="Arial"/>
              </a:rPr>
              <a:t>I Fase: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Territorio participante: Metropolitano, CEP, FEP, CANIA, Transpolar y 365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Centros de Producción involucrados:: Cervecería Polar Los Cortijos, Refrescos y Planta de Concentrados, Helados EFE, Planta San Pedro, Remavenca: Turmero y Santa Cruz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Negocios: Cerveza y Malta, Alimentos, Refrescos y Bebidas NC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 </a:t>
            </a: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Zonas urbanas, rural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 </a:t>
            </a: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45 Centro de producción  involucrado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es-VE" sz="1800" spc="-1" strike="noStrike">
                <a:solidFill>
                  <a:srgbClr val="333333"/>
                </a:solidFill>
                <a:latin typeface="Tahoma"/>
              </a:rPr>
              <a:t>8.000 </a:t>
            </a: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 trabajadores y jubilados 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a6bddb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 </a:t>
            </a: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Encuesta para conocer  el interés de los trabajadores en el  programa  y  áreas sociales de interés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Recolección de data:  vía electrónica y formato físico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Tahoma"/>
              </a:rPr>
              <a:t>Presentación de los resultados alcanzados con la Encuesta (intereses/áreas</a:t>
            </a: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A914-7CCC-441A-B8FE-C89C52E3F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06440" y="49536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3648f2"/>
                </a:solidFill>
                <a:latin typeface="Arial"/>
              </a:rPr>
              <a:t>Próximos pasos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Investigación Social en el entorno de las Empresas y comunidades donde habitan los trabajadores, para ubicar  instituciones y futuras acciones de los Voluntarios de Empresas Pola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Acuerdos de colaboración entre: Voluntarios, Instituciones, Comunidad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Acciones puntuales campañas, jornada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Construcción de programas a mediano y largo plazo en instituciones con participación de los Voluntarios de Empresas Pola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C637-515C-40B0-B90B-60174EC8A8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4162320"/>
            <a:ext cx="832644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2c3177"/>
                </a:solidFill>
                <a:latin typeface="Arial"/>
              </a:rPr>
              <a:t>!Voluntario de Empresas Polar contamos contigo !!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2c3177"/>
                </a:solidFill>
                <a:latin typeface="Arial"/>
              </a:rPr>
              <a:t>Gracias!!!!</a:t>
            </a:r>
            <a:endParaRPr b="1" lang="en-US" sz="2000" spc="-1" strike="noStrike">
              <a:solidFill>
                <a:srgbClr val="2c317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10479" r="0" b="0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CFA3-BB17-4754-A3A3-CC5660B4AA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7800"/>
            <a:ext cx="83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c31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262626"/>
                </a:solidFill>
                <a:latin typeface="Tahoma"/>
              </a:rPr>
              <a:t>1941  </a:t>
            </a: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Es fundada Cervecería Polar C. A, con la instalación una pequeña planta en Antímano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Negocios: (1941-2007)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a6bddb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262626"/>
                </a:solidFill>
                <a:latin typeface="Tahoma"/>
              </a:rPr>
              <a:t> </a:t>
            </a:r>
            <a:r>
              <a:rPr b="0" lang="es-MX" sz="1400" spc="-1" strike="noStrike">
                <a:solidFill>
                  <a:srgbClr val="262626"/>
                </a:solidFill>
                <a:latin typeface="Tahoma"/>
              </a:rPr>
              <a:t>Cervecería Pola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a6bddb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62626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262626"/>
                </a:solidFill>
                <a:latin typeface="Tahoma"/>
              </a:rPr>
              <a:t>Alimentos Pola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a6bddb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262626"/>
                </a:solidFill>
                <a:latin typeface="Tahoma"/>
              </a:rPr>
              <a:t> </a:t>
            </a:r>
            <a:r>
              <a:rPr b="0" lang="pt-BR" sz="1400" spc="-1" strike="noStrike">
                <a:solidFill>
                  <a:srgbClr val="262626"/>
                </a:solidFill>
                <a:latin typeface="Tahoma"/>
              </a:rPr>
              <a:t>Pepsi-Cola Venezuel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30 plantas industriales a nivel naciona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Atienden  mas de 150 mil puntos de venta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Operativamente se dividen en Territorios: Central,  Centro Occidental, Oriental y Metropolitano - CEP, CANIA ,FEP,365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25.000 trabajadores a nivel naciona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262626"/>
                </a:solidFill>
                <a:latin typeface="Tahoma"/>
              </a:rPr>
              <a:t>Es la infraestructura de producción, comercialización y servicios más importante del sector privado venezolano, en las áreas de Cervezas y Malta, Alimentos, Refrescos y bebidas no carbonatada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2C8F-3193-4407-A6E7-94554E61BF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6248520"/>
            <a:ext cx="2361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762120"/>
            <a:ext cx="5181840" cy="5181480"/>
          </a:xfrm>
          <a:prstGeom prst="ellipse">
            <a:avLst/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25780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Fundación  Pol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1977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Fundación Empresas Pol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43480" y="54705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Arial"/>
              </a:rPr>
              <a:t>Con el paí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8098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A.C El Punt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1962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  <a:ea typeface="Arial"/>
              </a:rPr>
              <a:t>Compromiso Socia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1700280"/>
            <a:ext cx="3504960" cy="3504960"/>
          </a:xfrm>
          <a:prstGeom prst="ellipse">
            <a:avLst/>
          </a:prstGeom>
          <a:gradFill rotWithShape="0">
            <a:gsLst>
              <a:gs pos="0">
                <a:srgbClr val="00cbff"/>
              </a:gs>
              <a:gs pos="100000">
                <a:srgbClr val="005d75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Su g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3480" y="44402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Arial"/>
              </a:rPr>
              <a:t>Con su entorn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2421000"/>
            <a:ext cx="1981080" cy="1981080"/>
          </a:xfrm>
          <a:prstGeom prst="ellipse">
            <a:avLst/>
          </a:prstGeom>
          <a:gradFill rotWithShape="0">
            <a:gsLst>
              <a:gs pos="0">
                <a:srgbClr val="005d75"/>
              </a:gs>
              <a:gs pos="50000">
                <a:srgbClr val="00cbff"/>
              </a:gs>
              <a:gs pos="100000">
                <a:srgbClr val="005d75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Arial"/>
              </a:rPr>
              <a:t>Bienest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Arial"/>
              </a:rPr>
              <a:t>Social co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33"/>
                </a:solidFill>
                <a:latin typeface="Arial"/>
              </a:rPr>
              <a:t>su gent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8954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Empresas Pola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454545"/>
                </a:solidFill>
                <a:latin typeface="Arial"/>
              </a:rPr>
              <a:t>194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5661000"/>
            <a:ext cx="1728720" cy="0"/>
          </a:xfrm>
          <a:prstGeom prst="line">
            <a:avLst/>
          </a:prstGeom>
          <a:ln w="28440">
            <a:solidFill>
              <a:srgbClr val="45454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66120" y="4194000"/>
            <a:ext cx="1296720" cy="0"/>
          </a:xfrm>
          <a:prstGeom prst="line">
            <a:avLst/>
          </a:prstGeom>
          <a:ln w="28440">
            <a:solidFill>
              <a:srgbClr val="45454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124080"/>
            <a:ext cx="2087280" cy="0"/>
          </a:xfrm>
          <a:prstGeom prst="line">
            <a:avLst/>
          </a:prstGeom>
          <a:ln w="28440">
            <a:solidFill>
              <a:srgbClr val="45454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05720" y="6264360"/>
            <a:ext cx="1600200" cy="59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786E-2410-49BA-8681-B0DC4A87A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005560" y="1854000"/>
            <a:ext cx="4611600" cy="3659760"/>
            <a:chOff x="2005560" y="1854000"/>
            <a:chExt cx="4611600" cy="3659760"/>
          </a:xfrm>
        </p:grpSpPr>
        <p:sp>
          <p:nvSpPr>
            <p:cNvPr id="103" name="_s172038"/>
            <p:cNvSpPr/>
            <p:nvPr/>
          </p:nvSpPr>
          <p:spPr>
            <a:xfrm>
              <a:off x="3382920" y="2504160"/>
              <a:ext cx="1856880" cy="1857600"/>
            </a:xfrm>
            <a:prstGeom prst="ellips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004675"/>
                </a:gs>
              </a:gsLst>
              <a:lin ang="5400000"/>
            </a:gradFill>
            <a:ln w="4680">
              <a:solidFill>
                <a:srgbClr val="273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_s172039"/>
            <p:cNvSpPr/>
            <p:nvPr/>
          </p:nvSpPr>
          <p:spPr>
            <a:xfrm>
              <a:off x="3947040" y="1854000"/>
              <a:ext cx="72900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Asuntos Público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_s172040"/>
            <p:cNvSpPr/>
            <p:nvPr/>
          </p:nvSpPr>
          <p:spPr>
            <a:xfrm>
              <a:off x="3993120" y="3564000"/>
              <a:ext cx="1857240" cy="1857240"/>
            </a:xfrm>
            <a:prstGeom prst="ellipse">
              <a:avLst/>
            </a:prstGeom>
            <a:gradFill rotWithShape="0">
              <a:gsLst>
                <a:gs pos="0">
                  <a:srgbClr val="0d285f"/>
                </a:gs>
                <a:gs pos="100000">
                  <a:srgbClr val="1d58cf">
                    <a:alpha val="50196"/>
                  </a:srgbClr>
                </a:gs>
              </a:gsLst>
              <a:lin ang="10800000"/>
            </a:gradFill>
            <a:ln w="4680">
              <a:solidFill>
                <a:srgbClr val="273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_s172041"/>
            <p:cNvSpPr/>
            <p:nvPr/>
          </p:nvSpPr>
          <p:spPr>
            <a:xfrm>
              <a:off x="5888520" y="5049720"/>
              <a:ext cx="728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Gestión de Gente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_s172042"/>
            <p:cNvSpPr/>
            <p:nvPr/>
          </p:nvSpPr>
          <p:spPr>
            <a:xfrm>
              <a:off x="2770560" y="3561840"/>
              <a:ext cx="1856880" cy="1857600"/>
            </a:xfrm>
            <a:prstGeom prst="ellipse">
              <a:avLst/>
            </a:prstGeom>
            <a:gradFill rotWithShape="0">
              <a:gsLst>
                <a:gs pos="0">
                  <a:srgbClr val="6893ea">
                    <a:alpha val="50196"/>
                  </a:srgbClr>
                </a:gs>
                <a:gs pos="100000">
                  <a:srgbClr val="2f436b"/>
                </a:gs>
              </a:gsLst>
              <a:lin ang="10800000"/>
            </a:gradFill>
            <a:ln w="4680">
              <a:solidFill>
                <a:srgbClr val="273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_s172043"/>
            <p:cNvSpPr/>
            <p:nvPr/>
          </p:nvSpPr>
          <p:spPr>
            <a:xfrm>
              <a:off x="2005560" y="5049720"/>
              <a:ext cx="728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8640" rIns="98640" tIns="49320" bIns="49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Fundación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400" spc="-1" strike="noStrike">
                  <a:solidFill>
                    <a:srgbClr val="333333"/>
                  </a:solidFill>
                  <a:latin typeface="Arial"/>
                  <a:ea typeface="Arial"/>
                </a:rPr>
                <a:t>Empresas Pola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187800" y="5854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333333"/>
                </a:solidFill>
                <a:latin typeface="Arial"/>
                <a:ea typeface="Arial"/>
              </a:rPr>
              <a:t>Comité de Gestión Socia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30800" y="4178160"/>
            <a:ext cx="0" cy="1600200"/>
          </a:xfrm>
          <a:prstGeom prst="line">
            <a:avLst/>
          </a:prstGeom>
          <a:ln w="38160">
            <a:solidFill>
              <a:srgbClr val="2737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1800" y="74916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33"/>
                </a:solidFill>
                <a:latin typeface="Arial"/>
                <a:ea typeface="Arial"/>
              </a:rPr>
              <a:t>Creación del Comité de Gestión Social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33"/>
                </a:solidFill>
                <a:latin typeface="Arial"/>
                <a:ea typeface="Arial"/>
              </a:rPr>
              <a:t>Una sinergia interinstitucional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1800" y="1739880"/>
            <a:ext cx="2133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3760" y="1587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333333"/>
                </a:solidFill>
                <a:latin typeface="Arial"/>
                <a:ea typeface="Arial"/>
              </a:rPr>
              <a:t>Comité de Integració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8360" y="1739880"/>
            <a:ext cx="2133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1478-8FBC-48EE-BAD9-56AA588F5D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262626"/>
                </a:solidFill>
                <a:latin typeface="Arial"/>
              </a:rPr>
              <a:t>¿Qué  es el programa de VEP ?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Es una respuesta a solicitud de los trabajadores  de Empresas Polar formuladas  en  los Cara a Cara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Es parte del compromiso social de Empresas Pola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Se creará y construirá  en función de las propuestas de los trabajador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de Empresas Pola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Se  estructura por fases y tendrá cobertura nacional con participación de todos los negocios: Cervecería Polar, Alimentos Polar y Pepsi Cola de Venezuela.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Es un compromiso de todos fundamentado en nuestros valores corporativo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6B26-626C-4A14-8B23-0F612D7BBC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2171880"/>
            <a:ext cx="2387520" cy="2286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648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648f2"/>
                </a:solidFill>
                <a:latin typeface="Arial"/>
              </a:rPr>
              <a:t>Voluntarios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648f2"/>
                </a:solidFill>
                <a:latin typeface="Arial"/>
              </a:rPr>
              <a:t>Empresas Pol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9480" y="2378160"/>
            <a:ext cx="1752480" cy="209556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366480 h 2095560"/>
              <a:gd name="textAreaBottom" fmla="*/ 1519200 h 209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648f2"/>
              </a:gs>
              <a:gs pos="100000">
                <a:srgbClr val="18216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86520" y="2367000"/>
            <a:ext cx="1676520" cy="220968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648f2"/>
              </a:gs>
              <a:gs pos="100000">
                <a:srgbClr val="18216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4160" y="3198960"/>
            <a:ext cx="22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648f2"/>
                </a:solidFill>
                <a:latin typeface="Arial"/>
              </a:rPr>
              <a:t>Empresas Pol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31370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648f2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444492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648f2"/>
                </a:solidFill>
                <a:latin typeface="Arial"/>
              </a:rPr>
              <a:t>Canaliza los intereses sociales de los trabajadore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2E82-D37A-4CC1-B613-B6E91AE9F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49200" y="1023840"/>
            <a:ext cx="8337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3648f2"/>
                </a:solidFill>
                <a:latin typeface="Arial"/>
              </a:rPr>
              <a:t>Objetivo Genera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262626"/>
                </a:solidFill>
                <a:latin typeface="Arial"/>
              </a:rPr>
              <a:t>Promover y facilitar la participación de trabajadores y jubilados d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262626"/>
                </a:solidFill>
                <a:latin typeface="Arial"/>
              </a:rPr>
              <a:t>Empresas Polar, en acciones de bienestar social para beneficiar a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262626"/>
                </a:solidFill>
                <a:latin typeface="Arial"/>
              </a:rPr>
              <a:t>Instituciones y comunidades  con carencias sociales en las cuale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262626"/>
                </a:solidFill>
                <a:latin typeface="Arial"/>
              </a:rPr>
              <a:t>podamos apoyar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22CA-9B73-4A0C-9C82-C8646B233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62040" y="825480"/>
            <a:ext cx="6235920" cy="2374920"/>
          </a:xfrm>
          <a:prstGeom prst="rect">
            <a:avLst/>
          </a:prstGeom>
          <a:solidFill>
            <a:srgbClr val="d7d7d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74880" y="896400"/>
            <a:ext cx="409248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Jóvenes Emprendedores (Plantas cerveceras)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Socios por un día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Descuento por Nómina-DVC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Siembra de árbol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Donación de sang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648f2"/>
              </a:buClr>
              <a:buSzPct val="12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262626"/>
                </a:solidFill>
                <a:latin typeface="Arial"/>
              </a:rPr>
              <a:t>Voluntarios Estudiantiles Hosp. Vargas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6634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470480"/>
            <a:ext cx="500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Solicitud en los Cara a Car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262626"/>
                </a:solidFill>
                <a:latin typeface="Arial"/>
              </a:rPr>
              <a:t>Comité de Integración EP/FEP 12 abril 2007</a:t>
            </a:r>
            <a:r>
              <a:rPr b="0" lang="es-VE" sz="1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6520" y="3352680"/>
            <a:ext cx="1625760" cy="952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18216f"/>
              </a:gs>
              <a:gs pos="100000">
                <a:srgbClr val="3648f2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1544-0ABA-4783-802B-AFEF300C7E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47760" y="380880"/>
            <a:ext cx="8339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760" y="1209600"/>
            <a:ext cx="81468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648f2"/>
                </a:solidFill>
                <a:uFillTx/>
                <a:latin typeface="Arial"/>
              </a:rPr>
              <a:t>Institucio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333333"/>
                </a:solidFill>
                <a:latin typeface="Arial"/>
              </a:rPr>
              <a:t>Reciben  de los trabajadores  aportes técnicos </a:t>
            </a: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y profesionales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Incorporan nuevas habilidades, destrezas y competencias, para la solución de los  problem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Incorporan procesos organizacionales y gerenciales a sus actividad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648f2"/>
                </a:solidFill>
                <a:uFillTx/>
                <a:latin typeface="Arial"/>
              </a:rPr>
              <a:t>Trabajad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Tiene la posibilidad de realizar tareas que surjan de su interés y sensibilidad  personal, vinculándose a  problemas social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Desarrolla  y ejerce el sentido de Ciudadanía al  cumplir con sus deberes y derechos como miembro de su comunidad y de la sociedad globa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62626"/>
                </a:solidFill>
                <a:latin typeface="Arial"/>
              </a:rPr>
              <a:t>Fortalecer su autoestima presentando iniciativas que sean útiles para  instituciones y comunidades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560" y="29844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3648f2"/>
                </a:solidFill>
                <a:latin typeface="Arial"/>
              </a:rPr>
              <a:t>Acto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480D-38E9-4110-AA9D-8C7EDF033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4:46:57Z</dcterms:created>
  <dc:creator>Alexei G</dc:creator>
  <dc:description/>
  <dc:language>en-US</dc:language>
  <cp:lastModifiedBy>Direccion Sistemas</cp:lastModifiedBy>
  <cp:lastPrinted>2006-11-02T21:50:40Z</cp:lastPrinted>
  <dcterms:modified xsi:type="dcterms:W3CDTF">2007-07-30T23:03:49Z</dcterms:modified>
  <cp:revision>811</cp:revision>
  <dc:subject/>
  <dc:title>Presentación Alimentos Polar</dc:title>
</cp:coreProperties>
</file>