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A89-2764-4354-A2E6-3FB1A2D5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439-017E-4066-8233-7D0E8AD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CD3-39DA-44CE-AA2A-5938DAA0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74C-F08A-48A1-875E-BC62C6CA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904-5C3D-49C2-B705-0F745C2C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8BB7-D02F-4279-8E0E-C42060E2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2B83-D352-4256-87DE-4724F7C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E5D3-37D2-4472-8791-F22B8A5F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7085-D7BC-4293-854E-560D30C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CF9-5BD2-4146-B31E-49196C5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1B8-92D5-4572-8FDA-26D26CC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AEF-160F-43D4-B081-0941246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5B4D-BC37-4A2C-922D-CFBCFB6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5EE9-FFEE-4E02-8053-B74FE73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E7F1-1507-49A0-BDB4-20BC326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24FB-D157-48EB-B919-E430B964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9A5-2D09-4D01-AA4B-6C539F2D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CBB-D36E-48EE-93A7-6FA40DA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E26-B055-4AEC-8E62-BFC2126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C4A-72E9-4FF0-9645-0FCDC50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41D-8E69-4A12-8B78-79046F3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AE7-D43B-4932-8A02-9475DC92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3D1-DF48-46D7-8C8C-DDA184B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DBD-32FC-432A-98D5-7E8ED8E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E7E-0E6C-4BBB-B3CD-C0A7929F5817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3234-DD16-49A4-A505-D6497BBF208F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505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4a. Reunión ISO WG/SR </a:t>
            </a:r>
            <a:br>
              <a:rPr sz="36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Sydney, 29 Ene. al 02 Feb. 2007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640" y="1699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Garamond"/>
              </a:rPr>
              <a:t>Evento previo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: Taller para los representantes de los países en desarrollo (DC) y de los países de economías en transición (EiT). Días 27 y 28 En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17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79280" y="2637000"/>
            <a:ext cx="878544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WD ISO 26000.2 revisión de los comentarios sobre la base de Key Top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Key Topics L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Key Topics TG 4; TG 5; TG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rocedimientos: 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clarifi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articipación de los N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Organizaciones lig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Garamond"/>
              </a:rPr>
              <a:t>Plan de redacción del borrador WD ISO 2600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Lo que sigue …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524000" y="260280"/>
            <a:ext cx="1065240" cy="1051560"/>
            <a:chOff x="7524000" y="260280"/>
            <a:chExt cx="1065240" cy="1051560"/>
          </a:xfrm>
        </p:grpSpPr>
        <p:sp>
          <p:nvSpPr>
            <p:cNvPr id="210" name=""/>
            <p:cNvSpPr/>
            <p:nvPr/>
          </p:nvSpPr>
          <p:spPr>
            <a:xfrm>
              <a:off x="7637400" y="26172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43840" y="26028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7400" y="26028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000" y="108576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4360" y="1700280"/>
            <a:ext cx="8064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omentar la participación de Stakeholders y difundir el documento en av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ontinuar el estudio del borrador por cada sector en los aspectos de su interé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sibilidad de reunión COPANT TAG de RS en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studio, emisión de comentarios y propuestas sobre el tercer borrador WD.3, según categorías de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a. Reunión ISO WG/SR en Viena, Austria. 5 al 9 No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7163640" y="333360"/>
            <a:ext cx="1065240" cy="1051560"/>
            <a:chOff x="7163640" y="333360"/>
            <a:chExt cx="1065240" cy="1051560"/>
          </a:xfrm>
        </p:grpSpPr>
        <p:sp>
          <p:nvSpPr>
            <p:cNvPr id="123" name=""/>
            <p:cNvSpPr/>
            <p:nvPr/>
          </p:nvSpPr>
          <p:spPr>
            <a:xfrm>
              <a:off x="727704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8348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7704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364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9280" y="1700280"/>
            <a:ext cx="878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057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G ISO SR / GTE 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6560" y="5157720"/>
          <a:ext cx="129708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560" y="5157720"/>
                    <a:ext cx="12970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042920" y="1628640"/>
            <a:ext cx="3311280" cy="3384720"/>
            <a:chOff x="1042920" y="1628640"/>
            <a:chExt cx="3311280" cy="3384720"/>
          </a:xfrm>
        </p:grpSpPr>
        <p:sp>
          <p:nvSpPr>
            <p:cNvPr id="132" name=""/>
            <p:cNvSpPr/>
            <p:nvPr/>
          </p:nvSpPr>
          <p:spPr>
            <a:xfrm>
              <a:off x="2116800" y="1628640"/>
              <a:ext cx="1123920" cy="3384720"/>
            </a:xfrm>
            <a:custGeom>
              <a:avLst/>
              <a:gdLst>
                <a:gd name="textAreaLeft" fmla="*/ 101880 w 1123920"/>
                <a:gd name="textAreaRight" fmla="*/ 1022040 w 1123920"/>
                <a:gd name="textAreaTop" fmla="*/ 101880 h 3384720"/>
                <a:gd name="textAreaBottom" fmla="*/ 3282840 h 3384720"/>
              </a:gdLst>
              <a:ahLst/>
              <a:rect l="textAreaLeft" t="textAreaTop" r="textAreaRight" b="textAreaBottom"/>
              <a:pathLst>
                <a:path w="21600" h="65035">
                  <a:moveTo>
                    <a:pt x="6686" y="0"/>
                  </a:moveTo>
                  <a:arcTo wR="6686" hR="6686" stAng="16200000" swAng="-5400000"/>
                  <a:lnTo>
                    <a:pt x="0" y="58349"/>
                  </a:lnTo>
                  <a:arcTo wR="6686" hR="6686" stAng="10800000" swAng="-5400000"/>
                  <a:lnTo>
                    <a:pt x="14914" y="65035"/>
                  </a:lnTo>
                  <a:arcTo wR="6686" hR="6686" stAng="5400000" swAng="-5400000"/>
                  <a:lnTo>
                    <a:pt x="21600" y="6686"/>
                  </a:lnTo>
                  <a:arcTo wR="6686" hR="6686" stAng="0" swAng="-5400000"/>
                  <a:close/>
                </a:path>
              </a:pathLst>
            </a:custGeom>
            <a:solidFill>
              <a:srgbClr val="247d7d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Garamond"/>
                </a:rPr>
                <a:t>Grup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Garamond"/>
                </a:rPr>
                <a:t>GTE</a:t>
              </a:r>
              <a:r>
                <a:rPr b="1" lang="sv-SE" sz="1800" spc="-1" strike="noStrike">
                  <a:solidFill>
                    <a:srgbClr val="006666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78200" y="1755000"/>
              <a:ext cx="935640" cy="454320"/>
              <a:chOff x="1078200" y="1755000"/>
              <a:chExt cx="935640" cy="4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1078200" y="175500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78200" y="184392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38400" y="4080960"/>
              <a:ext cx="811440" cy="835200"/>
              <a:chOff x="2138400" y="4080960"/>
              <a:chExt cx="811440" cy="835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431800" y="4082040"/>
                <a:ext cx="264600" cy="617760"/>
              </a:xfrm>
              <a:custGeom>
                <a:avLst/>
                <a:gdLst/>
                <a:ahLst/>
                <a:rect l="l" t="t" r="r" b="b"/>
                <a:pathLst>
                  <a:path w="3194" h="6867">
                    <a:moveTo>
                      <a:pt x="3194" y="3166"/>
                    </a:moveTo>
                    <a:lnTo>
                      <a:pt x="1729" y="3166"/>
                    </a:lnTo>
                    <a:lnTo>
                      <a:pt x="1732" y="3033"/>
                    </a:lnTo>
                    <a:lnTo>
                      <a:pt x="1743" y="2910"/>
                    </a:lnTo>
                    <a:lnTo>
                      <a:pt x="1759" y="2794"/>
                    </a:lnTo>
                    <a:lnTo>
                      <a:pt x="1781" y="2686"/>
                    </a:lnTo>
                    <a:lnTo>
                      <a:pt x="1809" y="2585"/>
                    </a:lnTo>
                    <a:lnTo>
                      <a:pt x="1840" y="2491"/>
                    </a:lnTo>
                    <a:lnTo>
                      <a:pt x="1878" y="2405"/>
                    </a:lnTo>
                    <a:lnTo>
                      <a:pt x="1918" y="2325"/>
                    </a:lnTo>
                    <a:lnTo>
                      <a:pt x="1963" y="2251"/>
                    </a:lnTo>
                    <a:lnTo>
                      <a:pt x="2011" y="2183"/>
                    </a:lnTo>
                    <a:lnTo>
                      <a:pt x="2062" y="2122"/>
                    </a:lnTo>
                    <a:lnTo>
                      <a:pt x="2115" y="2066"/>
                    </a:lnTo>
                    <a:lnTo>
                      <a:pt x="2170" y="2015"/>
                    </a:lnTo>
                    <a:lnTo>
                      <a:pt x="2228" y="1971"/>
                    </a:lnTo>
                    <a:lnTo>
                      <a:pt x="2286" y="1930"/>
                    </a:lnTo>
                    <a:lnTo>
                      <a:pt x="2345" y="1893"/>
                    </a:lnTo>
                    <a:lnTo>
                      <a:pt x="2404" y="1862"/>
                    </a:lnTo>
                    <a:lnTo>
                      <a:pt x="2464" y="1833"/>
                    </a:lnTo>
                    <a:lnTo>
                      <a:pt x="2522" y="1809"/>
                    </a:lnTo>
                    <a:lnTo>
                      <a:pt x="2581" y="1788"/>
                    </a:lnTo>
                    <a:lnTo>
                      <a:pt x="2637" y="1771"/>
                    </a:lnTo>
                    <a:lnTo>
                      <a:pt x="2693" y="1756"/>
                    </a:lnTo>
                    <a:lnTo>
                      <a:pt x="2745" y="1744"/>
                    </a:lnTo>
                    <a:lnTo>
                      <a:pt x="2796" y="1734"/>
                    </a:lnTo>
                    <a:lnTo>
                      <a:pt x="2844" y="1727"/>
                    </a:lnTo>
                    <a:lnTo>
                      <a:pt x="2887" y="1721"/>
                    </a:lnTo>
                    <a:lnTo>
                      <a:pt x="2928" y="1717"/>
                    </a:lnTo>
                    <a:lnTo>
                      <a:pt x="2964" y="1715"/>
                    </a:lnTo>
                    <a:lnTo>
                      <a:pt x="2996" y="1713"/>
                    </a:lnTo>
                    <a:lnTo>
                      <a:pt x="3022" y="1712"/>
                    </a:lnTo>
                    <a:lnTo>
                      <a:pt x="3044" y="1712"/>
                    </a:lnTo>
                    <a:lnTo>
                      <a:pt x="3060" y="1712"/>
                    </a:lnTo>
                    <a:lnTo>
                      <a:pt x="3082" y="0"/>
                    </a:lnTo>
                    <a:lnTo>
                      <a:pt x="2919" y="5"/>
                    </a:lnTo>
                    <a:lnTo>
                      <a:pt x="2759" y="20"/>
                    </a:lnTo>
                    <a:lnTo>
                      <a:pt x="2600" y="45"/>
                    </a:lnTo>
                    <a:lnTo>
                      <a:pt x="2446" y="80"/>
                    </a:lnTo>
                    <a:lnTo>
                      <a:pt x="2295" y="122"/>
                    </a:lnTo>
                    <a:lnTo>
                      <a:pt x="2146" y="174"/>
                    </a:lnTo>
                    <a:lnTo>
                      <a:pt x="2001" y="235"/>
                    </a:lnTo>
                    <a:lnTo>
                      <a:pt x="1861" y="302"/>
                    </a:lnTo>
                    <a:lnTo>
                      <a:pt x="1723" y="376"/>
                    </a:lnTo>
                    <a:lnTo>
                      <a:pt x="1589" y="457"/>
                    </a:lnTo>
                    <a:lnTo>
                      <a:pt x="1461" y="543"/>
                    </a:lnTo>
                    <a:lnTo>
                      <a:pt x="1336" y="636"/>
                    </a:lnTo>
                    <a:lnTo>
                      <a:pt x="1216" y="734"/>
                    </a:lnTo>
                    <a:lnTo>
                      <a:pt x="1100" y="836"/>
                    </a:lnTo>
                    <a:lnTo>
                      <a:pt x="989" y="942"/>
                    </a:lnTo>
                    <a:lnTo>
                      <a:pt x="883" y="1052"/>
                    </a:lnTo>
                    <a:lnTo>
                      <a:pt x="783" y="1164"/>
                    </a:lnTo>
                    <a:lnTo>
                      <a:pt x="687" y="1280"/>
                    </a:lnTo>
                    <a:lnTo>
                      <a:pt x="597" y="1397"/>
                    </a:lnTo>
                    <a:lnTo>
                      <a:pt x="513" y="1516"/>
                    </a:lnTo>
                    <a:lnTo>
                      <a:pt x="434" y="1636"/>
                    </a:lnTo>
                    <a:lnTo>
                      <a:pt x="362" y="1758"/>
                    </a:lnTo>
                    <a:lnTo>
                      <a:pt x="296" y="1879"/>
                    </a:lnTo>
                    <a:lnTo>
                      <a:pt x="235" y="2000"/>
                    </a:lnTo>
                    <a:lnTo>
                      <a:pt x="182" y="2120"/>
                    </a:lnTo>
                    <a:lnTo>
                      <a:pt x="135" y="2240"/>
                    </a:lnTo>
                    <a:lnTo>
                      <a:pt x="95" y="2357"/>
                    </a:lnTo>
                    <a:lnTo>
                      <a:pt x="62" y="2472"/>
                    </a:lnTo>
                    <a:lnTo>
                      <a:pt x="35" y="2585"/>
                    </a:lnTo>
                    <a:lnTo>
                      <a:pt x="16" y="2694"/>
                    </a:lnTo>
                    <a:lnTo>
                      <a:pt x="5" y="2799"/>
                    </a:lnTo>
                    <a:lnTo>
                      <a:pt x="1" y="2901"/>
                    </a:lnTo>
                    <a:lnTo>
                      <a:pt x="0" y="6867"/>
                    </a:lnTo>
                    <a:lnTo>
                      <a:pt x="1730" y="6867"/>
                    </a:lnTo>
                    <a:lnTo>
                      <a:pt x="1730" y="4884"/>
                    </a:lnTo>
                    <a:lnTo>
                      <a:pt x="3193" y="4884"/>
                    </a:lnTo>
                    <a:lnTo>
                      <a:pt x="3194" y="316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07560" y="4080960"/>
                <a:ext cx="242280" cy="618840"/>
              </a:xfrm>
              <a:custGeom>
                <a:avLst/>
                <a:gdLst/>
                <a:ahLst/>
                <a:rect l="l" t="t" r="r" b="b"/>
                <a:pathLst>
                  <a:path w="2925" h="6876">
                    <a:moveTo>
                      <a:pt x="0" y="0"/>
                    </a:moveTo>
                    <a:lnTo>
                      <a:pt x="125" y="3"/>
                    </a:lnTo>
                    <a:lnTo>
                      <a:pt x="252" y="11"/>
                    </a:lnTo>
                    <a:lnTo>
                      <a:pt x="379" y="24"/>
                    </a:lnTo>
                    <a:lnTo>
                      <a:pt x="507" y="43"/>
                    </a:lnTo>
                    <a:lnTo>
                      <a:pt x="636" y="67"/>
                    </a:lnTo>
                    <a:lnTo>
                      <a:pt x="763" y="97"/>
                    </a:lnTo>
                    <a:lnTo>
                      <a:pt x="891" y="131"/>
                    </a:lnTo>
                    <a:lnTo>
                      <a:pt x="1018" y="171"/>
                    </a:lnTo>
                    <a:lnTo>
                      <a:pt x="1143" y="216"/>
                    </a:lnTo>
                    <a:lnTo>
                      <a:pt x="1268" y="265"/>
                    </a:lnTo>
                    <a:lnTo>
                      <a:pt x="1390" y="320"/>
                    </a:lnTo>
                    <a:lnTo>
                      <a:pt x="1509" y="380"/>
                    </a:lnTo>
                    <a:lnTo>
                      <a:pt x="1627" y="444"/>
                    </a:lnTo>
                    <a:lnTo>
                      <a:pt x="1742" y="513"/>
                    </a:lnTo>
                    <a:lnTo>
                      <a:pt x="1853" y="588"/>
                    </a:lnTo>
                    <a:lnTo>
                      <a:pt x="1961" y="666"/>
                    </a:lnTo>
                    <a:lnTo>
                      <a:pt x="2064" y="750"/>
                    </a:lnTo>
                    <a:lnTo>
                      <a:pt x="2164" y="838"/>
                    </a:lnTo>
                    <a:lnTo>
                      <a:pt x="2260" y="931"/>
                    </a:lnTo>
                    <a:lnTo>
                      <a:pt x="2350" y="1028"/>
                    </a:lnTo>
                    <a:lnTo>
                      <a:pt x="2435" y="1130"/>
                    </a:lnTo>
                    <a:lnTo>
                      <a:pt x="2514" y="1236"/>
                    </a:lnTo>
                    <a:lnTo>
                      <a:pt x="2588" y="1347"/>
                    </a:lnTo>
                    <a:lnTo>
                      <a:pt x="2655" y="1462"/>
                    </a:lnTo>
                    <a:lnTo>
                      <a:pt x="2716" y="1581"/>
                    </a:lnTo>
                    <a:lnTo>
                      <a:pt x="2769" y="1704"/>
                    </a:lnTo>
                    <a:lnTo>
                      <a:pt x="2816" y="1832"/>
                    </a:lnTo>
                    <a:lnTo>
                      <a:pt x="2854" y="1964"/>
                    </a:lnTo>
                    <a:lnTo>
                      <a:pt x="2885" y="2100"/>
                    </a:lnTo>
                    <a:lnTo>
                      <a:pt x="2907" y="2240"/>
                    </a:lnTo>
                    <a:lnTo>
                      <a:pt x="2921" y="2384"/>
                    </a:lnTo>
                    <a:lnTo>
                      <a:pt x="2925" y="2532"/>
                    </a:lnTo>
                    <a:lnTo>
                      <a:pt x="2925" y="6876"/>
                    </a:lnTo>
                    <a:lnTo>
                      <a:pt x="1196" y="6876"/>
                    </a:lnTo>
                    <a:lnTo>
                      <a:pt x="1196" y="3146"/>
                    </a:lnTo>
                    <a:lnTo>
                      <a:pt x="1193" y="3024"/>
                    </a:lnTo>
                    <a:lnTo>
                      <a:pt x="1186" y="2909"/>
                    </a:lnTo>
                    <a:lnTo>
                      <a:pt x="1173" y="2801"/>
                    </a:lnTo>
                    <a:lnTo>
                      <a:pt x="1156" y="2699"/>
                    </a:lnTo>
                    <a:lnTo>
                      <a:pt x="1135" y="2603"/>
                    </a:lnTo>
                    <a:lnTo>
                      <a:pt x="1109" y="2513"/>
                    </a:lnTo>
                    <a:lnTo>
                      <a:pt x="1079" y="2430"/>
                    </a:lnTo>
                    <a:lnTo>
                      <a:pt x="1046" y="2352"/>
                    </a:lnTo>
                    <a:lnTo>
                      <a:pt x="1011" y="2280"/>
                    </a:lnTo>
                    <a:lnTo>
                      <a:pt x="972" y="2213"/>
                    </a:lnTo>
                    <a:lnTo>
                      <a:pt x="931" y="2151"/>
                    </a:lnTo>
                    <a:lnTo>
                      <a:pt x="888" y="2094"/>
                    </a:lnTo>
                    <a:lnTo>
                      <a:pt x="842" y="2042"/>
                    </a:lnTo>
                    <a:lnTo>
                      <a:pt x="795" y="1994"/>
                    </a:lnTo>
                    <a:lnTo>
                      <a:pt x="747" y="1950"/>
                    </a:lnTo>
                    <a:lnTo>
                      <a:pt x="697" y="1911"/>
                    </a:lnTo>
                    <a:lnTo>
                      <a:pt x="647" y="1876"/>
                    </a:lnTo>
                    <a:lnTo>
                      <a:pt x="596" y="1844"/>
                    </a:lnTo>
                    <a:lnTo>
                      <a:pt x="546" y="1816"/>
                    </a:lnTo>
                    <a:lnTo>
                      <a:pt x="495" y="1791"/>
                    </a:lnTo>
                    <a:lnTo>
                      <a:pt x="444" y="1770"/>
                    </a:lnTo>
                    <a:lnTo>
                      <a:pt x="395" y="1751"/>
                    </a:lnTo>
                    <a:lnTo>
                      <a:pt x="346" y="1735"/>
                    </a:lnTo>
                    <a:lnTo>
                      <a:pt x="298" y="1722"/>
                    </a:lnTo>
                    <a:lnTo>
                      <a:pt x="253" y="1711"/>
                    </a:lnTo>
                    <a:lnTo>
                      <a:pt x="209" y="1701"/>
                    </a:lnTo>
                    <a:lnTo>
                      <a:pt x="167" y="1694"/>
                    </a:lnTo>
                    <a:lnTo>
                      <a:pt x="127" y="1689"/>
                    </a:lnTo>
                    <a:lnTo>
                      <a:pt x="91" y="1685"/>
                    </a:lnTo>
                    <a:lnTo>
                      <a:pt x="57" y="1683"/>
                    </a:lnTo>
                    <a:lnTo>
                      <a:pt x="26" y="1681"/>
                    </a:lnTo>
                    <a:lnTo>
                      <a:pt x="0" y="16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1800" y="4080960"/>
                <a:ext cx="176400" cy="172080"/>
              </a:xfrm>
              <a:custGeom>
                <a:avLst/>
                <a:gdLst/>
                <a:ahLst/>
                <a:rect l="l" t="t" r="r" b="b"/>
                <a:pathLst>
                  <a:path w="2128" h="1910">
                    <a:moveTo>
                      <a:pt x="0" y="0"/>
                    </a:moveTo>
                    <a:lnTo>
                      <a:pt x="2128" y="0"/>
                    </a:lnTo>
                    <a:lnTo>
                      <a:pt x="2030" y="36"/>
                    </a:lnTo>
                    <a:lnTo>
                      <a:pt x="1936" y="71"/>
                    </a:lnTo>
                    <a:lnTo>
                      <a:pt x="1846" y="108"/>
                    </a:lnTo>
                    <a:lnTo>
                      <a:pt x="1759" y="145"/>
                    </a:lnTo>
                    <a:lnTo>
                      <a:pt x="1675" y="182"/>
                    </a:lnTo>
                    <a:lnTo>
                      <a:pt x="1594" y="220"/>
                    </a:lnTo>
                    <a:lnTo>
                      <a:pt x="1515" y="259"/>
                    </a:lnTo>
                    <a:lnTo>
                      <a:pt x="1440" y="299"/>
                    </a:lnTo>
                    <a:lnTo>
                      <a:pt x="1367" y="339"/>
                    </a:lnTo>
                    <a:lnTo>
                      <a:pt x="1297" y="381"/>
                    </a:lnTo>
                    <a:lnTo>
                      <a:pt x="1229" y="425"/>
                    </a:lnTo>
                    <a:lnTo>
                      <a:pt x="1163" y="470"/>
                    </a:lnTo>
                    <a:lnTo>
                      <a:pt x="1098" y="517"/>
                    </a:lnTo>
                    <a:lnTo>
                      <a:pt x="1035" y="565"/>
                    </a:lnTo>
                    <a:lnTo>
                      <a:pt x="975" y="616"/>
                    </a:lnTo>
                    <a:lnTo>
                      <a:pt x="914" y="668"/>
                    </a:lnTo>
                    <a:lnTo>
                      <a:pt x="855" y="723"/>
                    </a:lnTo>
                    <a:lnTo>
                      <a:pt x="798" y="780"/>
                    </a:lnTo>
                    <a:lnTo>
                      <a:pt x="742" y="841"/>
                    </a:lnTo>
                    <a:lnTo>
                      <a:pt x="685" y="903"/>
                    </a:lnTo>
                    <a:lnTo>
                      <a:pt x="629" y="968"/>
                    </a:lnTo>
                    <a:lnTo>
                      <a:pt x="573" y="1036"/>
                    </a:lnTo>
                    <a:lnTo>
                      <a:pt x="518" y="1107"/>
                    </a:lnTo>
                    <a:lnTo>
                      <a:pt x="464" y="1182"/>
                    </a:lnTo>
                    <a:lnTo>
                      <a:pt x="408" y="1260"/>
                    </a:lnTo>
                    <a:lnTo>
                      <a:pt x="352" y="1341"/>
                    </a:lnTo>
                    <a:lnTo>
                      <a:pt x="296" y="1426"/>
                    </a:lnTo>
                    <a:lnTo>
                      <a:pt x="238" y="1515"/>
                    </a:lnTo>
                    <a:lnTo>
                      <a:pt x="181" y="1608"/>
                    </a:lnTo>
                    <a:lnTo>
                      <a:pt x="121" y="1704"/>
                    </a:lnTo>
                    <a:lnTo>
                      <a:pt x="62" y="1805"/>
                    </a:lnTo>
                    <a:lnTo>
                      <a:pt x="0" y="19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38400" y="4691520"/>
                <a:ext cx="180360" cy="22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042920" y="4207680"/>
              <a:ext cx="935640" cy="454320"/>
              <a:chOff x="1042920" y="4207680"/>
              <a:chExt cx="935640" cy="454320"/>
            </a:xfrm>
          </p:grpSpPr>
          <p:sp>
            <p:nvSpPr>
              <p:cNvPr id="142" name=""/>
              <p:cNvSpPr/>
              <p:nvPr/>
            </p:nvSpPr>
            <p:spPr>
              <a:xfrm>
                <a:off x="1042920" y="420768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42920" y="429660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078200" y="2854440"/>
              <a:ext cx="935640" cy="454320"/>
              <a:chOff x="1078200" y="2854440"/>
              <a:chExt cx="935640" cy="454320"/>
            </a:xfrm>
          </p:grpSpPr>
          <p:sp>
            <p:nvSpPr>
              <p:cNvPr id="145" name=""/>
              <p:cNvSpPr/>
              <p:nvPr/>
            </p:nvSpPr>
            <p:spPr>
              <a:xfrm>
                <a:off x="1078200" y="285444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78200" y="294336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18560" y="1840320"/>
              <a:ext cx="935640" cy="454320"/>
              <a:chOff x="3418560" y="1840320"/>
              <a:chExt cx="935640" cy="4543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18560" y="184032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18560" y="192924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418560" y="2939760"/>
              <a:ext cx="935640" cy="454320"/>
              <a:chOff x="3418560" y="2939760"/>
              <a:chExt cx="935640" cy="454320"/>
            </a:xfrm>
          </p:grpSpPr>
          <p:sp>
            <p:nvSpPr>
              <p:cNvPr id="151" name=""/>
              <p:cNvSpPr/>
              <p:nvPr/>
            </p:nvSpPr>
            <p:spPr>
              <a:xfrm>
                <a:off x="3418560" y="293976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18560" y="302868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381840" y="4165920"/>
              <a:ext cx="935640" cy="454320"/>
              <a:chOff x="3381840" y="4165920"/>
              <a:chExt cx="935640" cy="454320"/>
            </a:xfrm>
          </p:grpSpPr>
          <p:sp>
            <p:nvSpPr>
              <p:cNvPr id="154" name=""/>
              <p:cNvSpPr/>
              <p:nvPr/>
            </p:nvSpPr>
            <p:spPr>
              <a:xfrm>
                <a:off x="3381840" y="4165920"/>
                <a:ext cx="935640" cy="454320"/>
              </a:xfrm>
              <a:prstGeom prst="rect">
                <a:avLst/>
              </a:prstGeom>
              <a:solidFill>
                <a:srgbClr val="247d7d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81840" y="4254840"/>
                <a:ext cx="935640" cy="337320"/>
              </a:xfrm>
              <a:prstGeom prst="rect">
                <a:avLst/>
              </a:prstGeom>
              <a:solidFill>
                <a:srgbClr val="247d7d"/>
              </a:solidFill>
              <a:ln w="0">
                <a:noFill/>
              </a:ln>
              <a:effectLst>
                <a:outerShdw dist="71785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ffffff"/>
                    </a:solidFill>
                    <a:latin typeface="Garamond"/>
                  </a:rPr>
                  <a:t>TG6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4676760" y="1844640"/>
            <a:ext cx="4033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1 Fo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2 Comun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3 Proced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4 Alcance, Contexto, Princi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5 Asuntos esenciales de RS para l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G 6 Implementación en las Organiz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58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1700280"/>
            <a:ext cx="878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268280"/>
            <a:ext cx="8496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eni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0.- Introducción (TG4 + LT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- Objeto y campo de aplicación (TG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- Refer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- Términos y definiciones (TG4, TG5, TG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- El contexto de RS en el cual operan las organizaciones (TG4 + TG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- Principios de RS (TG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- Guía sobre los temas fundamentales de la RS (TG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7.- Guía para implementar la RS en las organizaciones (TG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057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D ISO 26000.2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69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WD ISO 26000.2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67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79280" y="1484280"/>
            <a:ext cx="87854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Key Topics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tópicos clave)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 del LTF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(Líderes de los TG 4, 5 y 6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1.- ¿Cuál es el objetivo principal y quién es el usuario final de ISO 26000?</a:t>
            </a: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: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orma Guía, de uso voluntario, que provee orientaciones prácticas en lenguaje sencillo a las organizaciones sobre el tema de RS. No está dirigido para certificación de tercera parte. Usuario final son todas las organiz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2.- ¿ISO 26000 debería contener requerimientos míni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R: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roveerá guía y recomendaciones claras en el alcance de lo que constituye un comportamiento socialmente responsable y sobre la identificación de asuntos que necesitan ser tratados en la implementación de la 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9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WD ISO 26000.2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74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8920" y="923760"/>
            <a:ext cx="878508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Key Topics del TG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1.- Definiendo el contenido y alcance de la Int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 revisó y modificó la propuesta del líder del Grupo, la cual refiere la naturaleza voluntaria de la norma, describe los beneficios de usarla., entre otras co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2.- Redacción del Objeto de la No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 deliberó ampliamente sobre este capítulo y finalmente, se acordaron modificaciones que precisan el Objeto conforme a las Directivas ISO y al NWIP. El nuevo texto se presentará en el WD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3.- Definición de 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s discutida nuevamente y se llega a “Responsabilidad de una organización por el impacto de sus actividades en la sociedad y el ambiente …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691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D ISO 26000.2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81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79280" y="1844640"/>
            <a:ext cx="8785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Key Topics del TG 5, se establecen los siguientes subgrupos de trabajo para el diseñ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Derechos humanos y prácticas d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Gobierno organizacional y prácticas de negocios ju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Consumidores y com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9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WD ISO 26000.2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88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79280" y="1197000"/>
            <a:ext cx="8785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Key Topics del TG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Se delibera sobre lo cercano del documento con lo que puede interpretarse como una Norma de Sistema de Gestión y se acuer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La Norma ISO 26000 no tendrá el propósito de SG. Será una Gu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En tal sentido, no tendrá requisitos sino recomendaciones. Debe enfocarse en aspectos de comport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s-VE" sz="2400" spc="-1" strike="noStrike">
                <a:solidFill>
                  <a:srgbClr val="ffffff"/>
                </a:solidFill>
                <a:latin typeface="Garamond"/>
              </a:rPr>
              <a:t>Se constituyen nuevos subgrupos para preparar los contenidos que serán presentados en el WD.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Se creó un grupo ad-hoc para formular una definición más precisa de stakeholder y el concepto en el que debe entend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SO WG/SR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524000" y="333360"/>
            <a:ext cx="1065240" cy="1051560"/>
            <a:chOff x="7524000" y="333360"/>
            <a:chExt cx="1065240" cy="1051560"/>
          </a:xfrm>
        </p:grpSpPr>
        <p:sp>
          <p:nvSpPr>
            <p:cNvPr id="196" name=""/>
            <p:cNvSpPr/>
            <p:nvPr/>
          </p:nvSpPr>
          <p:spPr>
            <a:xfrm>
              <a:off x="7637400" y="33480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43840" y="33336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37400" y="33336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24000" y="115884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79280" y="1197000"/>
            <a:ext cx="8785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arificación de procedimientos y participación de O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 estableció una Política de participación de los Medios (a través del TC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l TG3 resolvió desarrollar un conjunto de clarificaciones y recomendaciones prácticas para la aplicación específica de las Directivas I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 acordó que los ONN pueden designar un representante como “Oficial Técnico”, observador, sin que ocupe la plaza de un “experto” en la representación de ese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 estableció un procedimiento para la incorporación de Organizaciones ligadas al tema de RS con sus respectivos representantes en los TG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s-ES" sz="3600" spc="-1" strike="noStrike">
                <a:solidFill>
                  <a:srgbClr val="b9efee"/>
                </a:solidFill>
                <a:latin typeface="Garamond"/>
              </a:rPr>
              <a:t>ISO 26000.3</a:t>
            </a:r>
            <a:br>
              <a:rPr sz="3600"/>
            </a:b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Drafting Plan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24000" y="260280"/>
            <a:ext cx="1065240" cy="1051560"/>
            <a:chOff x="7524000" y="260280"/>
            <a:chExt cx="1065240" cy="1051560"/>
          </a:xfrm>
        </p:grpSpPr>
        <p:sp>
          <p:nvSpPr>
            <p:cNvPr id="203" name=""/>
            <p:cNvSpPr/>
            <p:nvPr/>
          </p:nvSpPr>
          <p:spPr>
            <a:xfrm>
              <a:off x="7637400" y="261720"/>
              <a:ext cx="390600" cy="837720"/>
            </a:xfrm>
            <a:custGeom>
              <a:avLst/>
              <a:gdLst/>
              <a:ahLst/>
              <a:rect l="l" t="t" r="r" b="b"/>
              <a:pathLst>
                <a:path w="3194" h="6867">
                  <a:moveTo>
                    <a:pt x="3194" y="3166"/>
                  </a:moveTo>
                  <a:lnTo>
                    <a:pt x="1729" y="3166"/>
                  </a:lnTo>
                  <a:lnTo>
                    <a:pt x="1732" y="3033"/>
                  </a:lnTo>
                  <a:lnTo>
                    <a:pt x="1743" y="2910"/>
                  </a:lnTo>
                  <a:lnTo>
                    <a:pt x="1759" y="2794"/>
                  </a:lnTo>
                  <a:lnTo>
                    <a:pt x="1781" y="2686"/>
                  </a:lnTo>
                  <a:lnTo>
                    <a:pt x="1809" y="2585"/>
                  </a:lnTo>
                  <a:lnTo>
                    <a:pt x="1840" y="2491"/>
                  </a:lnTo>
                  <a:lnTo>
                    <a:pt x="1878" y="2405"/>
                  </a:lnTo>
                  <a:lnTo>
                    <a:pt x="1918" y="2325"/>
                  </a:lnTo>
                  <a:lnTo>
                    <a:pt x="1963" y="2251"/>
                  </a:lnTo>
                  <a:lnTo>
                    <a:pt x="2011" y="2183"/>
                  </a:lnTo>
                  <a:lnTo>
                    <a:pt x="2062" y="2122"/>
                  </a:lnTo>
                  <a:lnTo>
                    <a:pt x="2115" y="2066"/>
                  </a:lnTo>
                  <a:lnTo>
                    <a:pt x="2170" y="2015"/>
                  </a:lnTo>
                  <a:lnTo>
                    <a:pt x="2228" y="1971"/>
                  </a:lnTo>
                  <a:lnTo>
                    <a:pt x="2286" y="1930"/>
                  </a:lnTo>
                  <a:lnTo>
                    <a:pt x="2345" y="1893"/>
                  </a:lnTo>
                  <a:lnTo>
                    <a:pt x="2404" y="1862"/>
                  </a:lnTo>
                  <a:lnTo>
                    <a:pt x="2464" y="1833"/>
                  </a:lnTo>
                  <a:lnTo>
                    <a:pt x="2522" y="1809"/>
                  </a:lnTo>
                  <a:lnTo>
                    <a:pt x="2581" y="1788"/>
                  </a:lnTo>
                  <a:lnTo>
                    <a:pt x="2637" y="1771"/>
                  </a:lnTo>
                  <a:lnTo>
                    <a:pt x="2693" y="1756"/>
                  </a:lnTo>
                  <a:lnTo>
                    <a:pt x="2745" y="1744"/>
                  </a:lnTo>
                  <a:lnTo>
                    <a:pt x="2796" y="1734"/>
                  </a:lnTo>
                  <a:lnTo>
                    <a:pt x="2844" y="1727"/>
                  </a:lnTo>
                  <a:lnTo>
                    <a:pt x="2887" y="1721"/>
                  </a:lnTo>
                  <a:lnTo>
                    <a:pt x="2928" y="1717"/>
                  </a:lnTo>
                  <a:lnTo>
                    <a:pt x="2964" y="1715"/>
                  </a:lnTo>
                  <a:lnTo>
                    <a:pt x="2996" y="1713"/>
                  </a:lnTo>
                  <a:lnTo>
                    <a:pt x="3022" y="1712"/>
                  </a:lnTo>
                  <a:lnTo>
                    <a:pt x="3044" y="1712"/>
                  </a:lnTo>
                  <a:lnTo>
                    <a:pt x="3060" y="1712"/>
                  </a:lnTo>
                  <a:lnTo>
                    <a:pt x="3082" y="0"/>
                  </a:lnTo>
                  <a:lnTo>
                    <a:pt x="2919" y="5"/>
                  </a:lnTo>
                  <a:lnTo>
                    <a:pt x="2759" y="20"/>
                  </a:lnTo>
                  <a:lnTo>
                    <a:pt x="2600" y="45"/>
                  </a:lnTo>
                  <a:lnTo>
                    <a:pt x="2446" y="80"/>
                  </a:lnTo>
                  <a:lnTo>
                    <a:pt x="2295" y="122"/>
                  </a:lnTo>
                  <a:lnTo>
                    <a:pt x="2146" y="174"/>
                  </a:lnTo>
                  <a:lnTo>
                    <a:pt x="2001" y="235"/>
                  </a:lnTo>
                  <a:lnTo>
                    <a:pt x="1861" y="302"/>
                  </a:lnTo>
                  <a:lnTo>
                    <a:pt x="1723" y="376"/>
                  </a:lnTo>
                  <a:lnTo>
                    <a:pt x="1589" y="457"/>
                  </a:lnTo>
                  <a:lnTo>
                    <a:pt x="1461" y="543"/>
                  </a:lnTo>
                  <a:lnTo>
                    <a:pt x="1336" y="636"/>
                  </a:lnTo>
                  <a:lnTo>
                    <a:pt x="1216" y="734"/>
                  </a:lnTo>
                  <a:lnTo>
                    <a:pt x="1100" y="836"/>
                  </a:lnTo>
                  <a:lnTo>
                    <a:pt x="989" y="942"/>
                  </a:lnTo>
                  <a:lnTo>
                    <a:pt x="883" y="1052"/>
                  </a:lnTo>
                  <a:lnTo>
                    <a:pt x="783" y="1164"/>
                  </a:lnTo>
                  <a:lnTo>
                    <a:pt x="687" y="1280"/>
                  </a:lnTo>
                  <a:lnTo>
                    <a:pt x="597" y="1397"/>
                  </a:lnTo>
                  <a:lnTo>
                    <a:pt x="513" y="1516"/>
                  </a:lnTo>
                  <a:lnTo>
                    <a:pt x="434" y="1636"/>
                  </a:lnTo>
                  <a:lnTo>
                    <a:pt x="362" y="1758"/>
                  </a:lnTo>
                  <a:lnTo>
                    <a:pt x="296" y="1879"/>
                  </a:lnTo>
                  <a:lnTo>
                    <a:pt x="235" y="2000"/>
                  </a:lnTo>
                  <a:lnTo>
                    <a:pt x="182" y="2120"/>
                  </a:lnTo>
                  <a:lnTo>
                    <a:pt x="135" y="2240"/>
                  </a:lnTo>
                  <a:lnTo>
                    <a:pt x="95" y="2357"/>
                  </a:lnTo>
                  <a:lnTo>
                    <a:pt x="62" y="2472"/>
                  </a:lnTo>
                  <a:lnTo>
                    <a:pt x="35" y="2585"/>
                  </a:lnTo>
                  <a:lnTo>
                    <a:pt x="16" y="2694"/>
                  </a:lnTo>
                  <a:lnTo>
                    <a:pt x="5" y="2799"/>
                  </a:lnTo>
                  <a:lnTo>
                    <a:pt x="1" y="2901"/>
                  </a:lnTo>
                  <a:lnTo>
                    <a:pt x="0" y="6867"/>
                  </a:lnTo>
                  <a:lnTo>
                    <a:pt x="1730" y="6867"/>
                  </a:lnTo>
                  <a:lnTo>
                    <a:pt x="1730" y="4884"/>
                  </a:lnTo>
                  <a:lnTo>
                    <a:pt x="3193" y="4884"/>
                  </a:lnTo>
                  <a:lnTo>
                    <a:pt x="3194" y="316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43840" y="260280"/>
              <a:ext cx="357480" cy="839520"/>
            </a:xfrm>
            <a:custGeom>
              <a:avLst/>
              <a:gdLst/>
              <a:ahLst/>
              <a:rect l="l" t="t" r="r" b="b"/>
              <a:pathLst>
                <a:path w="2925" h="6876">
                  <a:moveTo>
                    <a:pt x="0" y="0"/>
                  </a:moveTo>
                  <a:lnTo>
                    <a:pt x="125" y="3"/>
                  </a:lnTo>
                  <a:lnTo>
                    <a:pt x="252" y="11"/>
                  </a:lnTo>
                  <a:lnTo>
                    <a:pt x="379" y="24"/>
                  </a:lnTo>
                  <a:lnTo>
                    <a:pt x="507" y="43"/>
                  </a:lnTo>
                  <a:lnTo>
                    <a:pt x="636" y="67"/>
                  </a:lnTo>
                  <a:lnTo>
                    <a:pt x="763" y="97"/>
                  </a:lnTo>
                  <a:lnTo>
                    <a:pt x="891" y="131"/>
                  </a:lnTo>
                  <a:lnTo>
                    <a:pt x="1018" y="171"/>
                  </a:lnTo>
                  <a:lnTo>
                    <a:pt x="1143" y="216"/>
                  </a:lnTo>
                  <a:lnTo>
                    <a:pt x="1268" y="265"/>
                  </a:lnTo>
                  <a:lnTo>
                    <a:pt x="1390" y="320"/>
                  </a:lnTo>
                  <a:lnTo>
                    <a:pt x="1509" y="380"/>
                  </a:lnTo>
                  <a:lnTo>
                    <a:pt x="1627" y="444"/>
                  </a:lnTo>
                  <a:lnTo>
                    <a:pt x="1742" y="513"/>
                  </a:lnTo>
                  <a:lnTo>
                    <a:pt x="1853" y="588"/>
                  </a:lnTo>
                  <a:lnTo>
                    <a:pt x="1961" y="666"/>
                  </a:lnTo>
                  <a:lnTo>
                    <a:pt x="2064" y="750"/>
                  </a:lnTo>
                  <a:lnTo>
                    <a:pt x="2164" y="838"/>
                  </a:lnTo>
                  <a:lnTo>
                    <a:pt x="2260" y="931"/>
                  </a:lnTo>
                  <a:lnTo>
                    <a:pt x="2350" y="1028"/>
                  </a:lnTo>
                  <a:lnTo>
                    <a:pt x="2435" y="1130"/>
                  </a:lnTo>
                  <a:lnTo>
                    <a:pt x="2514" y="1236"/>
                  </a:lnTo>
                  <a:lnTo>
                    <a:pt x="2588" y="1347"/>
                  </a:lnTo>
                  <a:lnTo>
                    <a:pt x="2655" y="1462"/>
                  </a:lnTo>
                  <a:lnTo>
                    <a:pt x="2716" y="1581"/>
                  </a:lnTo>
                  <a:lnTo>
                    <a:pt x="2769" y="1704"/>
                  </a:lnTo>
                  <a:lnTo>
                    <a:pt x="2816" y="1832"/>
                  </a:lnTo>
                  <a:lnTo>
                    <a:pt x="2854" y="1964"/>
                  </a:lnTo>
                  <a:lnTo>
                    <a:pt x="2885" y="2100"/>
                  </a:lnTo>
                  <a:lnTo>
                    <a:pt x="2907" y="2240"/>
                  </a:lnTo>
                  <a:lnTo>
                    <a:pt x="2921" y="2384"/>
                  </a:lnTo>
                  <a:lnTo>
                    <a:pt x="2925" y="2532"/>
                  </a:lnTo>
                  <a:lnTo>
                    <a:pt x="2925" y="6876"/>
                  </a:lnTo>
                  <a:lnTo>
                    <a:pt x="1196" y="6876"/>
                  </a:lnTo>
                  <a:lnTo>
                    <a:pt x="1196" y="3146"/>
                  </a:lnTo>
                  <a:lnTo>
                    <a:pt x="1193" y="3024"/>
                  </a:lnTo>
                  <a:lnTo>
                    <a:pt x="1186" y="2909"/>
                  </a:lnTo>
                  <a:lnTo>
                    <a:pt x="1173" y="2801"/>
                  </a:lnTo>
                  <a:lnTo>
                    <a:pt x="1156" y="2699"/>
                  </a:lnTo>
                  <a:lnTo>
                    <a:pt x="1135" y="2603"/>
                  </a:lnTo>
                  <a:lnTo>
                    <a:pt x="1109" y="2513"/>
                  </a:lnTo>
                  <a:lnTo>
                    <a:pt x="1079" y="2430"/>
                  </a:lnTo>
                  <a:lnTo>
                    <a:pt x="1046" y="2352"/>
                  </a:lnTo>
                  <a:lnTo>
                    <a:pt x="1011" y="2280"/>
                  </a:lnTo>
                  <a:lnTo>
                    <a:pt x="972" y="2213"/>
                  </a:lnTo>
                  <a:lnTo>
                    <a:pt x="931" y="2151"/>
                  </a:lnTo>
                  <a:lnTo>
                    <a:pt x="888" y="2094"/>
                  </a:lnTo>
                  <a:lnTo>
                    <a:pt x="842" y="2042"/>
                  </a:lnTo>
                  <a:lnTo>
                    <a:pt x="795" y="1994"/>
                  </a:lnTo>
                  <a:lnTo>
                    <a:pt x="747" y="1950"/>
                  </a:lnTo>
                  <a:lnTo>
                    <a:pt x="697" y="1911"/>
                  </a:lnTo>
                  <a:lnTo>
                    <a:pt x="647" y="1876"/>
                  </a:lnTo>
                  <a:lnTo>
                    <a:pt x="596" y="1844"/>
                  </a:lnTo>
                  <a:lnTo>
                    <a:pt x="546" y="1816"/>
                  </a:lnTo>
                  <a:lnTo>
                    <a:pt x="495" y="1791"/>
                  </a:lnTo>
                  <a:lnTo>
                    <a:pt x="444" y="1770"/>
                  </a:lnTo>
                  <a:lnTo>
                    <a:pt x="395" y="1751"/>
                  </a:lnTo>
                  <a:lnTo>
                    <a:pt x="346" y="1735"/>
                  </a:lnTo>
                  <a:lnTo>
                    <a:pt x="298" y="1722"/>
                  </a:lnTo>
                  <a:lnTo>
                    <a:pt x="253" y="1711"/>
                  </a:lnTo>
                  <a:lnTo>
                    <a:pt x="209" y="1701"/>
                  </a:lnTo>
                  <a:lnTo>
                    <a:pt x="167" y="1694"/>
                  </a:lnTo>
                  <a:lnTo>
                    <a:pt x="127" y="1689"/>
                  </a:lnTo>
                  <a:lnTo>
                    <a:pt x="91" y="1685"/>
                  </a:lnTo>
                  <a:lnTo>
                    <a:pt x="57" y="1683"/>
                  </a:lnTo>
                  <a:lnTo>
                    <a:pt x="26" y="1681"/>
                  </a:lnTo>
                  <a:lnTo>
                    <a:pt x="0" y="1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7400" y="260280"/>
              <a:ext cx="260640" cy="233280"/>
            </a:xfrm>
            <a:custGeom>
              <a:avLst/>
              <a:gdLst/>
              <a:ahLst/>
              <a:rect l="l" t="t" r="r" b="b"/>
              <a:pathLst>
                <a:path w="2128" h="1910">
                  <a:moveTo>
                    <a:pt x="0" y="0"/>
                  </a:moveTo>
                  <a:lnTo>
                    <a:pt x="2128" y="0"/>
                  </a:lnTo>
                  <a:lnTo>
                    <a:pt x="2030" y="36"/>
                  </a:lnTo>
                  <a:lnTo>
                    <a:pt x="1936" y="71"/>
                  </a:lnTo>
                  <a:lnTo>
                    <a:pt x="1846" y="108"/>
                  </a:lnTo>
                  <a:lnTo>
                    <a:pt x="1759" y="145"/>
                  </a:lnTo>
                  <a:lnTo>
                    <a:pt x="1675" y="182"/>
                  </a:lnTo>
                  <a:lnTo>
                    <a:pt x="1594" y="220"/>
                  </a:lnTo>
                  <a:lnTo>
                    <a:pt x="1515" y="259"/>
                  </a:lnTo>
                  <a:lnTo>
                    <a:pt x="1440" y="299"/>
                  </a:lnTo>
                  <a:lnTo>
                    <a:pt x="1367" y="339"/>
                  </a:lnTo>
                  <a:lnTo>
                    <a:pt x="1297" y="381"/>
                  </a:lnTo>
                  <a:lnTo>
                    <a:pt x="1229" y="425"/>
                  </a:lnTo>
                  <a:lnTo>
                    <a:pt x="1163" y="470"/>
                  </a:lnTo>
                  <a:lnTo>
                    <a:pt x="1098" y="517"/>
                  </a:lnTo>
                  <a:lnTo>
                    <a:pt x="1035" y="565"/>
                  </a:lnTo>
                  <a:lnTo>
                    <a:pt x="975" y="616"/>
                  </a:lnTo>
                  <a:lnTo>
                    <a:pt x="914" y="668"/>
                  </a:lnTo>
                  <a:lnTo>
                    <a:pt x="855" y="723"/>
                  </a:lnTo>
                  <a:lnTo>
                    <a:pt x="798" y="780"/>
                  </a:lnTo>
                  <a:lnTo>
                    <a:pt x="742" y="841"/>
                  </a:lnTo>
                  <a:lnTo>
                    <a:pt x="685" y="903"/>
                  </a:lnTo>
                  <a:lnTo>
                    <a:pt x="629" y="968"/>
                  </a:lnTo>
                  <a:lnTo>
                    <a:pt x="573" y="1036"/>
                  </a:lnTo>
                  <a:lnTo>
                    <a:pt x="518" y="1107"/>
                  </a:lnTo>
                  <a:lnTo>
                    <a:pt x="464" y="1182"/>
                  </a:lnTo>
                  <a:lnTo>
                    <a:pt x="408" y="1260"/>
                  </a:lnTo>
                  <a:lnTo>
                    <a:pt x="352" y="1341"/>
                  </a:lnTo>
                  <a:lnTo>
                    <a:pt x="296" y="1426"/>
                  </a:lnTo>
                  <a:lnTo>
                    <a:pt x="238" y="1515"/>
                  </a:lnTo>
                  <a:lnTo>
                    <a:pt x="181" y="1608"/>
                  </a:lnTo>
                  <a:lnTo>
                    <a:pt x="121" y="1704"/>
                  </a:lnTo>
                  <a:lnTo>
                    <a:pt x="62" y="1805"/>
                  </a:lnTo>
                  <a:lnTo>
                    <a:pt x="0" y="19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4000" y="1085760"/>
              <a:ext cx="1065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Garamond"/>
                </a:rPr>
                <a:t>FONDONORM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111456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46:45Z</dcterms:created>
  <dc:creator>Pablo Mora</dc:creator>
  <dc:description/>
  <dc:language>en-US</dc:language>
  <cp:lastModifiedBy>PEEPadron</cp:lastModifiedBy>
  <dcterms:modified xsi:type="dcterms:W3CDTF">2007-08-01T14:29:32Z</dcterms:modified>
  <cp:revision>6</cp:revision>
  <dc:subject/>
  <dc:title>4a. Reunión ISO WG/SR  Sydney, 29 Ene. al 02 Feb. 2007</dc:title>
</cp:coreProperties>
</file>