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20CF-E14A-4817-AD30-9267AA199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AC6A-A535-4F1A-A475-EACA54DA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E3A6-080B-4047-9D79-86A328992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E1E3-1A11-4D42-8D6A-D5F32FC13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2A19-A095-4B7F-B2EE-AF071E07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0DE8-9628-45F7-9C95-918F729E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74AB-1BA6-4FD8-A604-891E3900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CD82-C0DB-46B1-AC7C-B9B0FF45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B5C6-6BC2-4DDD-A192-723155F6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02F6-70EB-4D64-9888-DA8C711A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C733-C2A9-4203-82E5-E8B911A7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8C8B-BCE8-4EB7-943A-ACC6DB16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6CE4-E6BC-45BB-B254-AB5B460B3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68360" y="9360"/>
            <a:ext cx="6840720" cy="6848280"/>
            <a:chOff x="2268360" y="9360"/>
            <a:chExt cx="6840720" cy="684828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2268360" y="732240"/>
              <a:ext cx="6840720" cy="61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8560800" y="9360"/>
              <a:ext cx="547920" cy="5360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268360" y="9360"/>
            <a:ext cx="6840720" cy="6848280"/>
            <a:chOff x="2268360" y="9360"/>
            <a:chExt cx="6840720" cy="6848280"/>
          </a:xfrm>
        </p:grpSpPr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2268360" y="732240"/>
              <a:ext cx="6840720" cy="61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8560800" y="9360"/>
              <a:ext cx="547920" cy="53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" name=""/>
          <p:cNvGrpSpPr/>
          <p:nvPr/>
        </p:nvGrpSpPr>
        <p:grpSpPr>
          <a:xfrm>
            <a:off x="684360" y="907920"/>
            <a:ext cx="5562000" cy="3166920"/>
            <a:chOff x="684360" y="907920"/>
            <a:chExt cx="5562000" cy="316692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684360" y="907920"/>
              <a:ext cx="2824200" cy="16200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9" name=""/>
            <p:cNvGraphicFramePr/>
            <p:nvPr/>
          </p:nvGraphicFramePr>
          <p:xfrm>
            <a:off x="1153800" y="2459880"/>
            <a:ext cx="2527200" cy="1372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153800" y="2459880"/>
                      <a:ext cx="2527200" cy="137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51" name="" descr=""/>
            <p:cNvPicPr/>
            <p:nvPr/>
          </p:nvPicPr>
          <p:blipFill>
            <a:blip r:embed="rId6"/>
            <a:stretch/>
          </p:blipFill>
          <p:spPr>
            <a:xfrm>
              <a:off x="3504960" y="1183320"/>
              <a:ext cx="2741400" cy="158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7"/>
            <a:stretch/>
          </p:blipFill>
          <p:spPr>
            <a:xfrm>
              <a:off x="3425760" y="2714760"/>
              <a:ext cx="2663640" cy="136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"/>
          <p:cNvSpPr/>
          <p:nvPr/>
        </p:nvSpPr>
        <p:spPr>
          <a:xfrm>
            <a:off x="971640" y="4005000"/>
            <a:ext cx="719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alance de Gestión Social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rupo Social CES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27240" y="260280"/>
            <a:ext cx="2741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Eurostile"/>
              </a:rPr>
              <a:t>GRUPO SOCIAL CES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33280" y="569880"/>
            <a:ext cx="1338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Eurostile"/>
              </a:rPr>
              <a:t>Acción Popul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25360" y="542880"/>
            <a:ext cx="29829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9920" y="297000"/>
            <a:ext cx="2819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Tahoma"/>
              </a:rPr>
              <a:t>Premio de Alfabetización UNESCO 199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Tahoma"/>
              </a:rPr>
              <a:t>Premio Nacional del Hábitat 19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1" i="1" lang="es-ES_tradnl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rden al</a:t>
            </a:r>
            <a:r>
              <a:rPr b="1" i="1" lang="es-E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M</a:t>
            </a:r>
            <a:r>
              <a:rPr b="1" i="1" lang="es-ES_tradnl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érito</a:t>
            </a:r>
            <a:r>
              <a:rPr b="1" i="1" lang="es-E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1" i="1" lang="es-ES_tradnl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nmobiliario</a:t>
            </a:r>
            <a:r>
              <a:rPr b="1" i="1" lang="es-E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1999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Mención: “Gestión Comunitaria 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Desarrollo de Comunidade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6018120"/>
            <a:ext cx="7999560" cy="7488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6103800"/>
            <a:ext cx="790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- San José del Ávila a San Isidro, Edif. Grupo Social CESAP 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- Caracas 1010 A– Venezuela 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- Teléfonos: 58-212-8623605 – 58-212-8627423/Fax: 58-212-8627182 – 58-212-86236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- E-mail: gscesap@cesap.org.ve/Site: www.cesap.org.ve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29280" y="5680080"/>
            <a:ext cx="270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Impact"/>
              </a:rPr>
              <a:t>VENEZUELA: Trabajo de To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7080" y="429120"/>
            <a:ext cx="8820000" cy="60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¿QUÉ SOM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Grupo Social CESAP, creado en 1994, es una organización privada de interés público formada por 22 organizaciones y equipos de trabajo a nivel nacional, fruto del trabajo del Centro al Servicio de la Acción Popular (CESAP), nacido en 197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ene como misión impulsar procesos de transformación para la construcción de la sociedad de todos y todas, con la visión de un país plural, participativo, con equidad y democrát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área de acción  del Grupo Social CESAP esta distribuida en diferentes regiones (Estados) del país. Nos encontramos en la región andina, occidental, oriental y el centro. Ejecutando programas y proyectos sociales en caseríos, pueblos, comunidades y ciudades, y que durante 33 años, ha promovido la participación de los sectores populares en la gestión de su propio desarrollo y búsqueda de bienes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4000" y="1067400"/>
            <a:ext cx="849600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Gestión del Grupo Social CES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balance de gestión del grupo Social CESAP en el año 2007, estuvo dirigido a la ejecución de 99 proyectos en 1764 comunidades, distribuidas en 87 municipios, con atención de 37.200 destinatarios directos y 230.868 indirec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gestión del Grupo se basó en direccionar sus acciones   por las líneas estratégicas.  A continuación se detallan las diferentes acciones sociales realizadas por las asociadas al Grupo Social CESAP con énfasis en lo estraté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2360" y="317880"/>
            <a:ext cx="8496360" cy="58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estión del Grupo Social CES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ÉNES SOM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ociaciones de acción afiliad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os de Formaci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ercializadora de Artesaní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BAJO QUE HACEM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pes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b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íg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ÉAS DE ACCIÓ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rrollo Empresa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ción Comunitaria y Loc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idad de Vida y 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encia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udadan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rrollo Hum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4000" y="111600"/>
            <a:ext cx="849600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estión del Grupo Social CES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DE ESTÁN NUESTROS PROY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to Capi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 Anzoáte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ran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. Suc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gu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. Mona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abob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. Delta Amac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. Amazo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ugue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. Ap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r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ji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759320" y="213480"/>
            <a:ext cx="549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Balance de Gestión Grupo Social CESAP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24000" y="1052640"/>
          <a:ext cx="8496000" cy="4775040"/>
        </p:xfrm>
        <a:graphic>
          <a:graphicData uri="http://schemas.openxmlformats.org/drawingml/2006/table">
            <a:tbl>
              <a:tblPr/>
              <a:tblGrid>
                <a:gridCol w="2001600"/>
                <a:gridCol w="1047960"/>
                <a:gridCol w="911160"/>
                <a:gridCol w="934920"/>
                <a:gridCol w="1008000"/>
                <a:gridCol w="792360"/>
                <a:gridCol w="961920"/>
                <a:gridCol w="83808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OCI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yectos en Ejecució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tinatarios Direct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tinatarios Indirect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tinatarios 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rgan. Y Grupos Atendid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unidad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unicipi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mazon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7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.6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4.465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8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ción Campes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anaug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.C Nuevo Pueb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EDISU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1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3.6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.7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n Bosc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3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aragüer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.2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.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centrocident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.6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.5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uevo Amanec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iand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6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.4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rtachuel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esap A.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entro de Animación Juveni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tales del Año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.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.8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7.4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tales del Año 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4.4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1.6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45.1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4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5:29:57Z</dcterms:created>
  <dc:creator>Carolina</dc:creator>
  <dc:description/>
  <dc:language>en-US</dc:language>
  <cp:lastModifiedBy>CESAP1</cp:lastModifiedBy>
  <dcterms:modified xsi:type="dcterms:W3CDTF">2008-04-01T15:19:47Z</dcterms:modified>
  <cp:revision>59</cp:revision>
  <dc:subject/>
  <dc:title>Diapositiva 1</dc:title>
</cp:coreProperties>
</file>