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8897-E507-449B-9C24-58EE9A3FAF7A}" type="slidenum">
              <a:rPr b="0" lang="es-V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9EEF-6C60-476D-9D83-1AA647CAE1B5}"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986C-35EB-4939-AE28-B61DF940ADE2}"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952E-C291-466F-9F58-073A4F06B317}"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8E8F-A01E-4B94-A03A-4EBDA142483C}"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C164-C9F1-473F-BF0E-6CCC8A9A6C27}"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A los Medios y Seccion de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7BA8-D4AA-438D-BF7A-859F60739861}"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A los Medios y Seccion de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5C41-A242-4F0D-AE20-754DEBB14401}"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3F40-E42E-46F5-804B-D2F01F6A70CF}"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9897-6BA5-476A-9D09-3B0B34DCD175}"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A308-BEC5-49C4-9D9B-3656EE57E2B3}"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9BF1-203D-462B-9047-DFC0A623E0FE}"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682C-3FC6-4D49-8B49-317A7E7019DC}"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1103-46B6-4B21-A062-E887EA7070F5}"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B5BB-06FF-4641-988A-1BDB7AAC0CFC}" type="slidenum">
              <a:rPr b="0" lang="es-V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FB0D-0D18-4A95-AC68-9F9D46E45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DD09-3730-4A4A-8FC3-4CF262A4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E46D9-6D97-4C09-81E0-16CAD5954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38475-8FA2-42FB-8EA7-19819191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68E87-E5E5-4989-9BF8-DD3251940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042C4-E84A-40EA-BB9C-51EC698D5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8150D-5F5E-4D8E-A2C5-23533564D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97FE0-22E1-4C14-A7CF-D558A6BC6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D5635-1E0E-4120-8FC7-E70B9A7DA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7E4AD-6BEB-45D4-A2D8-D506413A5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E8151-B02C-452E-B572-146DB00B1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2631-B9AF-4C8E-96AB-246845EE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4D81-53A1-4953-8042-310C12F13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7233-F16A-4A33-B38C-5245E7A4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D935-6B01-4D79-AB6B-CAC5F718C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96681-D891-4A68-9985-8845B6630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0C548-0FDA-4B91-A0ED-9B63AB908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13ACEC-BF8E-4B66-B4EF-7669ABD61F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A322F9-91C5-47E1-96C7-AE2345454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FF74E-EAE4-4F78-8C48-C277A9E24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97E5F-AAF1-4955-8555-414EBA741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2A839-C1AE-4394-9B38-0B3419AFB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5CF5-E382-45D4-9433-EA278FF2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659E2-BD61-4BD6-85D0-D23065623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AE311-67E2-4905-9A57-11AAB5977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F2280-E265-478E-8069-764F64CE7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A5AB4-E5F5-4511-902B-CE88972A7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B073A-7959-4F0C-80E8-F60F3EACA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C2E93-83DE-45EA-AB64-61CA2514C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67759-F55C-4465-BBCF-EE6FA7161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26600A-01DC-41C1-BB1D-A6D48F2AC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4993A-65E4-4E19-877A-A8EEA02B7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5F9F2-725D-47EE-AB7E-49DCB6960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AAE6-BFC6-4D9B-9078-E21225EC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8B058-FF7C-4FB6-A760-A0CF5CDE6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A6B81-B94F-4E4F-BF0B-8FAA097C5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7186F-7987-44B0-81E9-EA9E997C21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26095-4061-4B8D-9BC3-572F80111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18111-76CF-41E2-B8B1-A374206CB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E1A65-80BE-4D96-96DC-23C5E6C89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677A0-73E4-4DA2-BE9B-7E27347674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93311A-6F6D-4F06-8990-7A41B9E96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9F5FD5-B558-408C-A420-89B16975AC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53480B-665B-47E8-81A4-F64AD9AAD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2D2A0-A090-4640-87D8-5124EC7B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0373F-07F7-4320-AABD-A083DBE17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4348A-F2F3-4471-8C78-1CAD26D24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7017E-C1F7-4311-B758-9CADEE7F8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C1E45-C76B-497E-BDFA-CA1B4945E1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7B14F-7946-4FD8-B814-E8A1817B3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4C2A7-877D-49F7-A070-2CE9490BC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08CA5-AD22-44F3-8E18-FE8542D5F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6993F-98FB-4075-8844-B397310F8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C6260-D0AB-44C8-A8C5-4DA1017B8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2C284-9573-46C4-AC54-FE2ED4C0F3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D1D4-9870-4332-BE2C-0CB682E45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CBB60-BDF9-40CA-9483-D13B043DE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DAD876-7239-4318-AAF9-BE3F4F98B2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A2E30B-E487-48DE-B7C9-50F2BFA61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A6285-C3C0-42B5-B6BF-257C6CD1B3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2C2AE-EE97-4278-9C8E-3BA0E7C11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BF29E-1B9C-4733-A23E-71056A6FE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16409-8CE9-44E3-85E1-971F42D4D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47E26-D243-4A94-98CE-E194AB4A6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80944-53F6-41C1-A3ED-EDCC210ED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2A4F6-8F59-4239-97E5-4A04B2C7A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C562-563F-4D22-887B-B24CA775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65520-126E-46C1-A5BF-8A2E0FDFD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6802BF-40A6-4DD0-8082-B97B4CA82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232BC6-988A-4C28-ABA5-D9C73A52F2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054A97-1A1B-47AD-B596-0840F79E8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9A5CA-3C8F-41A3-9992-B329E8CC7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F079FB-8240-43F5-A153-F379F0E33E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394B9-84FF-4F68-A806-59B99626C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931162-E11B-4425-8C26-9E9C84BF5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C9596-49B1-4F5C-8968-17CA13EDBB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A1811-D0D2-4B67-AA1B-CC50090AE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523E-DDA8-4B19-80DD-88ECF485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CE926-168A-40EE-82C3-C7E2C1312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B362B-3723-4F0D-9FEE-41FFC0D15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680B8-2588-4EAE-A816-E85F484D3E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8FDA7-5F64-450A-828B-FA7A831915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49E05A-3A1B-4CE5-B57F-411DFCBB9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CBB305-EB46-4902-A04A-8746DA06B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C38C8-E6B9-45D2-99A1-A433213FB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5043A-0B01-4305-A32E-7D0C746545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61BF8C-34CA-4EAF-9CC4-FEFC7E8A5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9E1344-E21B-488B-BAB3-C06126882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BBB7-7A21-4F24-80A2-3145BEB42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21021-F7FA-4DF2-8237-84D8F04D6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0803F-1764-4BF3-A6D6-E39D8EE88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60B12-B0D2-4F0C-9581-8706E33B7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9C41B-58CE-4950-838B-F6F0A1589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D225E-EEE7-45D8-BA92-3BEB23955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171B6-F5DD-4B7D-88FD-A2470767B6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B20833-1A71-41A5-B900-F6493272D2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209E-B768-4EBB-8EC4-4F4689EAB8E3}"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18FC-96B7-4B5B-8864-187A39BD715C}" type="slidenum">
              <a:rPr b="0" lang="es-V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2929-A4F0-4F5E-A739-371004676A20}"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9BE0-5000-44C0-A5C6-9A0F11B841EA}"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E3F4-3660-4FAB-8CB2-C8DB935D664B}"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332E-344D-4531-9128-7465B9B85085}"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5693-404D-4B84-9E63-772E74D8C655}" type="slidenum">
              <a:rPr b="0" lang="es-V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B572-7910-4C5E-A6D5-83DF70E84E1E}" type="slidenum">
              <a:rPr b="0" lang="es-V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aritas.org/" TargetMode="External"/><Relationship Id="rId2" Type="http://schemas.openxmlformats.org/officeDocument/2006/relationships/hyperlink" Target="http://www.savethechildren.net/alliance"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un.org/dpi/ngosection"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un.org/dpi/ngosection"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un.org/dpi/ngosection" TargetMode="External"/><Relationship Id="rId2" Type="http://schemas.openxmlformats.org/officeDocument/2006/relationships/hyperlink" Target="http://www.ngodpiesecom.org/" TargetMode="External"/><Relationship Id="rId3" Type="http://schemas.openxmlformats.org/officeDocument/2006/relationships/hyperlink" Target="http://www.faf.org/hl_travel2paris.htm" TargetMode="External"/><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un.org/" TargetMode="External"/><Relationship Id="rId2" Type="http://schemas.openxmlformats.org/officeDocument/2006/relationships/hyperlink" Target="http://www.un.org/webcast/index.asp" TargetMode="External"/><Relationship Id="rId3" Type="http://schemas.openxmlformats.org/officeDocument/2006/relationships/hyperlink" Target="http://www.un.org/News" TargetMode="External"/><Relationship Id="rId4" Type="http://schemas.openxmlformats.org/officeDocument/2006/relationships/hyperlink" Target="http://www.un.org/spanish/News/index.asp"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un.org/av/photo/index.asp" TargetMode="External"/><Relationship Id="rId2" Type="http://schemas.openxmlformats.org/officeDocument/2006/relationships/hyperlink" Target="http://radio.un.org/" TargetMode="External"/><Relationship Id="rId3" Type="http://schemas.openxmlformats.org/officeDocument/2006/relationships/hyperlink" Target="http://www.un.org/av/tv/" TargetMode="External"/><Relationship Id="rId4" Type="http://schemas.openxmlformats.org/officeDocument/2006/relationships/hyperlink" Target="http://www.un.org/Pubs" TargetMode="External"/><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un.org/cmp/uncmp/english"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907920"/>
            <a:ext cx="12174480" cy="26830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700" spc="-1" strike="noStrike">
                <a:solidFill>
                  <a:srgbClr val="464646"/>
                </a:solidFill>
                <a:latin typeface="Lucida Sans Unicode"/>
              </a:rPr>
              <a:t>New York, 13 y 14 de marzo de 2008</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47920"/>
            <a:ext cx="8229600" cy="4525920"/>
          </a:xfrm>
          <a:prstGeom prst="rect">
            <a:avLst/>
          </a:prstGeom>
          <a:noFill/>
          <a:ln w="0">
            <a:noFill/>
          </a:ln>
        </p:spPr>
        <p:txBody>
          <a:bodyPr anchor="t">
            <a:normAutofit/>
          </a:bodyPr>
          <a:p>
            <a:pPr marL="365040" indent="-255600">
              <a:lnSpc>
                <a:spcPct val="90000"/>
              </a:lnSpc>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Cooperación entre Naciones Unidas y ONG en la sede y en el campo.</a:t>
            </a:r>
            <a:endParaRPr b="0" lang="en-US" sz="22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Moderador: Juan Carlos Brandt, Jefe Sección ONG.</a:t>
            </a:r>
            <a:endParaRPr b="0" lang="en-US" sz="22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Gillian Martin Sorensen, Comite Nacional Vicepresidente UNA-USA.</a:t>
            </a:r>
            <a:endParaRPr b="0" lang="en-US" sz="22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 </a:t>
            </a:r>
            <a:r>
              <a:rPr b="0" lang="es-VE" sz="2200" spc="-1" strike="noStrike">
                <a:solidFill>
                  <a:srgbClr val="000000"/>
                </a:solidFill>
                <a:latin typeface="Lucida Sans Unicode"/>
              </a:rPr>
              <a:t>Joseph Cornelius Donnelly, Delegado Permanente de Caritas Internationalis en Naciones Unidas. </a:t>
            </a:r>
            <a:r>
              <a:rPr b="0" lang="es-VE" sz="2200" spc="-1" strike="noStrike" u="sng">
                <a:solidFill>
                  <a:srgbClr val="ff8119"/>
                </a:solidFill>
                <a:uFillTx/>
                <a:latin typeface="Lucida Sans Unicode"/>
                <a:hlinkClick r:id="rId1"/>
              </a:rPr>
              <a:t>www.caritas.org</a:t>
            </a:r>
            <a:r>
              <a:rPr b="0" lang="es-VE" sz="2200" spc="-1" strike="noStrike">
                <a:solidFill>
                  <a:srgbClr val="000000"/>
                </a:solidFill>
                <a:latin typeface="Lucida Sans Unicode"/>
              </a:rPr>
              <a:t> </a:t>
            </a:r>
            <a:endParaRPr b="0" lang="en-US" sz="22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 </a:t>
            </a:r>
            <a:r>
              <a:rPr b="0" lang="es-VE" sz="2200" spc="-1" strike="noStrike">
                <a:solidFill>
                  <a:srgbClr val="000000"/>
                </a:solidFill>
                <a:latin typeface="Lucida Sans Unicode"/>
              </a:rPr>
              <a:t>Ashley Hernreich or Cristina Barbaglia, Representante Internacional de la Alianza  Save the Children </a:t>
            </a:r>
            <a:r>
              <a:rPr b="0" lang="es-VE" sz="2200" spc="-1" strike="noStrike" u="sng">
                <a:solidFill>
                  <a:srgbClr val="ff8119"/>
                </a:solidFill>
                <a:uFillTx/>
                <a:latin typeface="Lucida Sans Unicode"/>
                <a:hlinkClick r:id="rId2"/>
              </a:rPr>
              <a:t>http://www.savethechildren.net/alliance</a:t>
            </a:r>
            <a:endParaRPr b="0" lang="en-US" sz="22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Kathleen Hunt, Representante Principal de Care International New York. http://www.care.org </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6" name="Title 2" descr=""/>
          <p:cNvPicPr/>
          <p:nvPr/>
        </p:nvPicPr>
        <p:blipFill>
          <a:blip r:embed="rId3"/>
          <a:stretch/>
        </p:blipFill>
        <p:spPr>
          <a:xfrm>
            <a:off x="450720" y="195120"/>
            <a:ext cx="1230156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Lucida Sans Unicode"/>
              </a:rPr>
              <a:t>Recursos de Apoyo Técnico en las Naciones Unida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Clarence Pugh, Inspector de Operaciones Departamento de Seguridad </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000000"/>
                </a:solidFill>
                <a:latin typeface="Lucida Sans Unicode"/>
              </a:rPr>
              <a:t>Andrew Nye, Jefe de la Sección de Apoyo y Conferencia de Radio. Oficina de Servicios de Apoyo Central. Departamento de Gerencia.</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Lucida Sans Unicode"/>
              </a:rPr>
              <a:t>Visita guiada a la sede de las Naciones Unidas </a:t>
            </a:r>
            <a:endParaRPr b="0" lang="en-US" sz="2600" spc="-1" strike="noStrike">
              <a:solidFill>
                <a:srgbClr val="000000"/>
              </a:solidFill>
              <a:latin typeface="Lucida Sans Unicode"/>
            </a:endParaRPr>
          </a:p>
        </p:txBody>
      </p:sp>
      <p:pic>
        <p:nvPicPr>
          <p:cNvPr id="398" name="Title 2" descr=""/>
          <p:cNvPicPr/>
          <p:nvPr/>
        </p:nvPicPr>
        <p:blipFill>
          <a:blip r:embed="rId1"/>
          <a:stretch/>
        </p:blipFill>
        <p:spPr>
          <a:xfrm>
            <a:off x="450720" y="152280"/>
            <a:ext cx="11028600" cy="127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5376960"/>
          </a:xfrm>
          <a:prstGeom prst="rect">
            <a:avLst/>
          </a:prstGeom>
          <a:noFill/>
          <a:ln w="0">
            <a:noFill/>
          </a:ln>
        </p:spPr>
        <p:txBody>
          <a:bodyPr anchor="t">
            <a:normAutofit/>
          </a:bodyPr>
          <a:p>
            <a:pPr marL="365040" indent="-255600">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Acceso a la Biblioteca Dag Hammarskjöld (DHL) y Recursos Educativos en las Naciones Unidas.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Moderadora: Isolda S. Oca, Oficial Sección de ONG, CSS. OD, DPI.</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Maritina Paniagua, Jefe Unidad de Servicios de Referencia de Naciones Unidas. Sección de Recursos a Clientes. Biblioteca Dag Hammarskjöld, DPI. www.un.org/Depts/dh</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Mereani Vakasisikakala, Bibliotecaria de Referencia. </a:t>
            </a:r>
            <a:br>
              <a:rPr sz="2100"/>
            </a:br>
            <a:r>
              <a:rPr b="0" lang="es-VE" sz="2100" spc="-1" strike="noStrike">
                <a:solidFill>
                  <a:srgbClr val="000000"/>
                </a:solidFill>
                <a:latin typeface="Lucida Sans Unicode"/>
              </a:rPr>
              <a:t>Unidad de Servicios de Referencia. Sección de Recursos a Clientes. Biblioteca Dag Hammarskjöld, DPI.</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Maria-Luisa Chávez, Jefe Sección de Extensión Educativa (EOS[), DHL, OD www.un.org/works www.cyberschoolbus.un.org</a:t>
            </a:r>
            <a:endParaRPr b="0" lang="en-US" sz="2100" spc="-1" strike="noStrike">
              <a:solidFill>
                <a:srgbClr val="000000"/>
              </a:solidFill>
              <a:latin typeface="Lucida Sans Unicode"/>
            </a:endParaRPr>
          </a:p>
        </p:txBody>
      </p:sp>
      <p:pic>
        <p:nvPicPr>
          <p:cNvPr id="400" name="Title 2" descr=""/>
          <p:cNvPicPr/>
          <p:nvPr/>
        </p:nvPicPr>
        <p:blipFill>
          <a:blip r:embed="rId1"/>
          <a:stretch/>
        </p:blipFill>
        <p:spPr>
          <a:xfrm>
            <a:off x="450720" y="195120"/>
            <a:ext cx="1230156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Puntos Focales del Sistema de Naciones Unidas y las O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Moderador: Juan Carlos Brandt, Jefe Sección ON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Anita Thomas, Conferencia de ONG en Relación Consultiva con las Naciones Unidas (CONGO) www.ngocongo.org </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Meena Sur, Sección de ONG del Departamento de Asuntos Economicos y Sociales (DESA) www.un.org/esa/coordination/ngo </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Zach Bleicher, Programme Officer Servicio de Enlace No Gubernamental Naciones Unidas (NGLS)  www.un-ngls.org</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rPr>
              <a:t>Shamina de Gonzaga, Asesora Especial sobre Relaciones con ONG. Oficina de la Sesion 61 de la Asamblea General de las Naciones Unidas www.un.org/ga/president/60/office/index.html </a:t>
            </a:r>
            <a:endParaRPr b="0" lang="en-US" sz="2000" spc="-1" strike="noStrike">
              <a:solidFill>
                <a:srgbClr val="000000"/>
              </a:solidFill>
              <a:latin typeface="Lucida Sans Unicode"/>
            </a:endParaRPr>
          </a:p>
        </p:txBody>
      </p:sp>
      <p:pic>
        <p:nvPicPr>
          <p:cNvPr id="402" name="Title 2" descr=""/>
          <p:cNvPicPr/>
          <p:nvPr/>
        </p:nvPicPr>
        <p:blipFill>
          <a:blip r:embed="rId1"/>
          <a:stretch/>
        </p:blipFill>
        <p:spPr>
          <a:xfrm>
            <a:off x="450720" y="195120"/>
            <a:ext cx="1230156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500" spc="-1" strike="noStrike">
                <a:solidFill>
                  <a:srgbClr val="000000"/>
                </a:solidFill>
                <a:latin typeface="Lucida Sans Unicode"/>
              </a:rPr>
              <a:t>Oficinas de Enlace con ONG del Sistema de Naciones Unidas</a:t>
            </a:r>
            <a:endParaRPr b="0" lang="en-US" sz="25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Beatriz Fernández, División Programa Organizaciones Sociedad Civil. Buro de Alianzas Programa de Naciones Unidas para el Desarrollo. www.undp.org/cso</a:t>
            </a:r>
            <a:endParaRPr b="0" lang="en-US" sz="21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Liza Barrie, Oficial Encargado de la Oficina de Alianzas Publicas UNICEF www.unicef.org</a:t>
            </a:r>
            <a:endParaRPr b="0" lang="en-US" sz="21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James Sniffen. Oficial de Información y Enlace UNEP www.unep.org </a:t>
            </a:r>
            <a:endParaRPr b="0" lang="en-US" sz="21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Jordi Llopart, Coordinador de Programa de la Campaña del Milenio www.milleniumcampaign.org</a:t>
            </a:r>
            <a:endParaRPr b="0" lang="en-US" sz="2100" spc="-1" strike="noStrike">
              <a:solidFill>
                <a:srgbClr val="000000"/>
              </a:solidFill>
              <a:latin typeface="Lucida Sans Unicode"/>
            </a:endParaRPr>
          </a:p>
          <a:p>
            <a:pPr lvl="1" marL="620640" indent="-255600">
              <a:lnSpc>
                <a:spcPct val="90000"/>
              </a:lnSpc>
              <a:spcBef>
                <a:spcPts val="326"/>
              </a:spcBef>
              <a:buClr>
                <a:srgbClr val="2da2b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Brian Gorlick, Oficina de New York UNHCR. www.unhcr.org </a:t>
            </a:r>
            <a:endParaRPr b="0" lang="en-US" sz="2100" spc="-1" strike="noStrike">
              <a:solidFill>
                <a:srgbClr val="000000"/>
              </a:solidFill>
              <a:latin typeface="Lucida Sans Unicode"/>
            </a:endParaRPr>
          </a:p>
        </p:txBody>
      </p:sp>
      <p:pic>
        <p:nvPicPr>
          <p:cNvPr id="404" name="Title 2" descr=""/>
          <p:cNvPicPr/>
          <p:nvPr/>
        </p:nvPicPr>
        <p:blipFill>
          <a:blip r:embed="rId1"/>
          <a:stretch/>
        </p:blipFill>
        <p:spPr>
          <a:xfrm>
            <a:off x="450720" y="195120"/>
            <a:ext cx="1230156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700" spc="-1" strike="noStrike">
                <a:solidFill>
                  <a:srgbClr val="000000"/>
                </a:solidFill>
                <a:latin typeface="Lucida Sans Unicode"/>
              </a:rPr>
              <a:t>Centro de Recursos DPI/ONG: Presentación Informal (Room L-1B-31)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Lucida Sans Unicode"/>
              </a:rPr>
              <a:t>Juan Carlos Brandt, Jefe Sección ONG CSS, OD, DPI www.un.org/dpi/ngosection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Lucida Sans Unicode"/>
              </a:rPr>
              <a:t>Jeffrey Huffines, Comité Ejecutivo NGO/DPI www.ngodpiexecom.org </a:t>
            </a:r>
            <a:endParaRPr b="0" lang="en-US" sz="2300" spc="-1" strike="noStrike">
              <a:solidFill>
                <a:srgbClr val="000000"/>
              </a:solidFill>
              <a:latin typeface="Lucida Sans Unicode"/>
            </a:endParaRPr>
          </a:p>
        </p:txBody>
      </p:sp>
      <p:pic>
        <p:nvPicPr>
          <p:cNvPr id="406" name="Title 2" descr=""/>
          <p:cNvPicPr/>
          <p:nvPr/>
        </p:nvPicPr>
        <p:blipFill>
          <a:blip r:embed="rId1"/>
          <a:stretch/>
        </p:blipFill>
        <p:spPr>
          <a:xfrm>
            <a:off x="450720" y="195120"/>
            <a:ext cx="1230156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700" spc="-1" strike="noStrike">
                <a:solidFill>
                  <a:srgbClr val="000000"/>
                </a:solidFill>
                <a:latin typeface="Lucida Sans Unicode"/>
              </a:rPr>
              <a:t>Proveer información a los representantes de ONG que han sido acreditadas con el status de asociadas, sobre los servicios ofrecidos por el Departamento de Información P</a:t>
            </a:r>
            <a:r>
              <a:rPr b="0" lang="es-VE" sz="2700" spc="-1" strike="noStrike">
                <a:solidFill>
                  <a:srgbClr val="000000"/>
                </a:solidFill>
                <a:latin typeface="Times New Roman"/>
                <a:ea typeface="Times New Roman"/>
              </a:rPr>
              <a:t>ú</a:t>
            </a:r>
            <a:r>
              <a:rPr b="0" lang="es-VE" sz="2700" spc="-1" strike="noStrike">
                <a:solidFill>
                  <a:srgbClr val="000000"/>
                </a:solidFill>
                <a:latin typeface="Lucida Sans Unicode"/>
              </a:rPr>
              <a:t>blica así como de otras áreas de Naciones Unidas que trabajan con ONG, incluyendo Seguridad, Servicios de Conferencia, Desarme, etc.</a:t>
            </a:r>
            <a:endParaRPr b="0" lang="en-US" sz="2700" spc="-1" strike="noStrike">
              <a:solidFill>
                <a:srgbClr val="000000"/>
              </a:solidFill>
              <a:latin typeface="Lucida Sans Unicode"/>
            </a:endParaRPr>
          </a:p>
        </p:txBody>
      </p:sp>
      <p:pic>
        <p:nvPicPr>
          <p:cNvPr id="38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Lucida Sans Unicode"/>
              </a:rPr>
              <a:t>El DPI es un Departamento de la Secretaria que se ocupa del Servicio de Información de las Naciones Unidas.</a:t>
            </a:r>
            <a:endParaRPr b="0" lang="en-US" sz="26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1"/>
              </a:rPr>
              <a:t>www.un.org/dpi/ngosection</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Lucida Sans Unicode"/>
              </a:rPr>
              <a:t>El DPI tiene una fuerte relación con las ONG a través de la Sección correspondiente, la cual busca lograr la participación de aquellas en la difusión de las actividades de Naciones Unidas en todo el mundo para hacer la diferencia para un mundo mejor. El Jefe de la Sección de ONG es el Sr. Juan Carlos Brandt (venezolano).</a:t>
            </a:r>
            <a:endParaRPr b="0" lang="en-US" sz="2600" spc="-1" strike="noStrike">
              <a:solidFill>
                <a:srgbClr val="000000"/>
              </a:solidFill>
              <a:latin typeface="Lucida Sans Unicode"/>
            </a:endParaRPr>
          </a:p>
        </p:txBody>
      </p:sp>
      <p:pic>
        <p:nvPicPr>
          <p:cNvPr id="382" name="Title 2"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47 Organizaciones No Gubernamentales de diferentes paí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uncionarios del Departamento de Información Publica y de diferentes unidades del Sistema de Naciones Unida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28600" y="1481040"/>
            <a:ext cx="8686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Bienvenida e Introducció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Juan Carlos Brandt, Jefe Sección ONG, CSS, OD, DPI </a:t>
            </a:r>
            <a:r>
              <a:rPr b="0" lang="es-VE" sz="2400" spc="-1" strike="noStrike" u="sng">
                <a:solidFill>
                  <a:srgbClr val="ff8119"/>
                </a:solidFill>
                <a:uFillTx/>
                <a:latin typeface="Lucida Sans Unicode"/>
                <a:hlinkClick r:id="rId1"/>
              </a:rPr>
              <a:t>www.un.org/dpi/ngosection</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Kiyo Akasaka, Sub-Secretario General para Comunicaciones e Información P</a:t>
            </a:r>
            <a:r>
              <a:rPr b="0" lang="es-VE" sz="2400" spc="-1" strike="noStrike">
                <a:solidFill>
                  <a:srgbClr val="000000"/>
                </a:solidFill>
                <a:latin typeface="Times New Roman"/>
                <a:ea typeface="Times New Roman"/>
              </a:rPr>
              <a:t>ú</a:t>
            </a:r>
            <a:r>
              <a:rPr b="0" lang="es-VE" sz="2400" spc="-1" strike="noStrike">
                <a:solidFill>
                  <a:srgbClr val="000000"/>
                </a:solidFill>
                <a:latin typeface="Lucida Sans Unicode"/>
              </a:rPr>
              <a:t>blica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Eric Falt, Director División de Extensión (OD), DPI.</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Video: Ojeada sobre el DPI Comité de Información 2007).</a:t>
            </a:r>
            <a:endParaRPr b="0" lang="en-US" sz="2400" spc="-1" strike="noStrike">
              <a:solidFill>
                <a:srgbClr val="000000"/>
              </a:solidFill>
              <a:latin typeface="Lucida Sans Unicode"/>
            </a:endParaRPr>
          </a:p>
        </p:txBody>
      </p:sp>
      <p:pic>
        <p:nvPicPr>
          <p:cNvPr id="386" name="Title 2" descr=""/>
          <p:cNvPicPr/>
          <p:nvPr/>
        </p:nvPicPr>
        <p:blipFill>
          <a:blip r:embed="rId2"/>
          <a:stretch/>
        </p:blipFill>
        <p:spPr>
          <a:xfrm>
            <a:off x="450720" y="195120"/>
            <a:ext cx="1155888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52280" y="1371240"/>
            <a:ext cx="8686800" cy="4876920"/>
          </a:xfrm>
          <a:prstGeom prst="rect">
            <a:avLst/>
          </a:prstGeom>
          <a:noFill/>
          <a:ln w="0">
            <a:noFill/>
          </a:ln>
        </p:spPr>
        <p:txBody>
          <a:bodyPr anchor="t">
            <a:normAutofit/>
          </a:bodyPr>
          <a:p>
            <a:pPr marL="365040" indent="-255600">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Cooperación entre DPI y las ONG:</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Juan Carlos Brandt (Moderador) </a:t>
            </a:r>
            <a:r>
              <a:rPr b="0" lang="es-VE" sz="2100" spc="-1" strike="noStrike" u="sng">
                <a:solidFill>
                  <a:srgbClr val="ff8119"/>
                </a:solidFill>
                <a:uFillTx/>
                <a:latin typeface="Lucida Sans Unicode"/>
                <a:hlinkClick r:id="rId1"/>
              </a:rPr>
              <a:t>www.un.org/dpi/ngosection</a:t>
            </a:r>
            <a:r>
              <a:rPr b="0" lang="es-VE"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Jeffery Huffines, Comité Ejecutivo de ONG/DPI </a:t>
            </a:r>
            <a:r>
              <a:rPr b="0" lang="es-VE" sz="2100" spc="-1" strike="noStrike" u="sng">
                <a:solidFill>
                  <a:srgbClr val="ff8119"/>
                </a:solidFill>
                <a:uFillTx/>
                <a:latin typeface="Lucida Sans Unicode"/>
                <a:hlinkClick r:id="rId2"/>
              </a:rPr>
              <a:t>www.ngodpiesecom.org</a:t>
            </a:r>
            <a:r>
              <a:rPr b="0" lang="es-VE"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Shamina de Gonzaga, Jefe 61 Conferencia Anual DPI/ONG</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u="sng">
                <a:solidFill>
                  <a:srgbClr val="ff8119"/>
                </a:solidFill>
                <a:uFillTx/>
                <a:latin typeface="Lucida Sans Unicode"/>
                <a:hlinkClick r:id="rId3"/>
              </a:rPr>
              <a:t>http://www.faf.org/hl_travel2paris.htm</a:t>
            </a:r>
            <a:r>
              <a:rPr b="0" lang="es-VE"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División de Extensión a la Sociedad Civi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Elizabeth Baldwin, Jefe Sección de Relaciones Publica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Peter Jackson Rev. Iglesia Episcopal, The Yearbook of the UN. </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100" spc="-1" strike="noStrike">
                <a:solidFill>
                  <a:srgbClr val="000000"/>
                </a:solidFill>
                <a:latin typeface="Lucida Sans Unicode"/>
              </a:rPr>
              <a:t> </a:t>
            </a:r>
            <a:r>
              <a:rPr b="0" lang="es-VE" sz="2100" spc="-1" strike="noStrike">
                <a:solidFill>
                  <a:srgbClr val="000000"/>
                </a:solidFill>
                <a:latin typeface="Lucida Sans Unicode"/>
              </a:rPr>
              <a:t>Kimberly Mann, Jefe Unidad de Cabildeo, OD, DPI. </a:t>
            </a:r>
            <a:endParaRPr b="0" lang="en-US" sz="2100" spc="-1" strike="noStrike">
              <a:solidFill>
                <a:srgbClr val="000000"/>
              </a:solidFill>
              <a:latin typeface="Lucida Sans Unicode"/>
            </a:endParaRPr>
          </a:p>
          <a:p>
            <a:pPr marL="365040" indent="-255600">
              <a:spcBef>
                <a:spcPts val="400"/>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8" name="Title 2" descr=""/>
          <p:cNvPicPr/>
          <p:nvPr/>
        </p:nvPicPr>
        <p:blipFill>
          <a:blip r:embed="rId4"/>
          <a:stretch/>
        </p:blipFill>
        <p:spPr>
          <a:xfrm>
            <a:off x="450720" y="195120"/>
            <a:ext cx="1260000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533520" y="1523520"/>
            <a:ext cx="8229600" cy="403884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Acceso a Materiales Informativos de Naciones Unidas:</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Moderador: Juan Carlos Brandt</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Mahbub Ahmad, Jefe de Sección de Servicios Web de UN </a:t>
            </a:r>
            <a:r>
              <a:rPr b="0" lang="es-VE" sz="2400" spc="-1" strike="noStrike" u="sng">
                <a:solidFill>
                  <a:srgbClr val="ff8119"/>
                </a:solidFill>
                <a:uFillTx/>
                <a:latin typeface="Lucida Sans Unicode"/>
                <a:hlinkClick r:id="rId1"/>
              </a:rPr>
              <a:t>www.un.org</a:t>
            </a:r>
            <a:r>
              <a:rPr b="0" lang="es-VE" sz="2400" spc="-1" strike="noStrike">
                <a:solidFill>
                  <a:srgbClr val="000000"/>
                </a:solidFill>
                <a:latin typeface="Lucida Sans Unicode"/>
              </a:rPr>
              <a:t> </a:t>
            </a:r>
            <a:r>
              <a:rPr b="0" lang="es-VE" sz="2400" spc="-1" strike="noStrike" u="sng">
                <a:solidFill>
                  <a:srgbClr val="ff8119"/>
                </a:solidFill>
                <a:uFillTx/>
                <a:latin typeface="Lucida Sans Unicode"/>
                <a:hlinkClick r:id="rId2"/>
              </a:rPr>
              <a:t>http://www.un.org/webcast/index.asp</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Alexander Taukatch, Jefe de Sección de Nuevos Servicios, Servicio de Internet, NMD, DPI</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3"/>
              </a:rPr>
              <a:t>www.un.org/News</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4"/>
              </a:rPr>
              <a:t>http://www.un.org/spanish/News/index.asp</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08040" indent="-2239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0" name="Title 2" descr=""/>
          <p:cNvPicPr/>
          <p:nvPr/>
        </p:nvPicPr>
        <p:blipFill>
          <a:blip r:embed="rId5"/>
          <a:stretch/>
        </p:blipFill>
        <p:spPr>
          <a:xfrm>
            <a:off x="450720" y="152280"/>
            <a:ext cx="134971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676160"/>
            <a:ext cx="8229600" cy="426708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Acceso a Materiales Informativos de Naciones Unidas:</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Caroline Petit, Jefe de la Unidad de Promoción y Distribución. Sección de Producción y Noticias TV. Servicio de Radio y Televisión, NMD DPI.</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1"/>
              </a:rPr>
              <a:t>http://www.un.org/av/photo/index.asp</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2"/>
              </a:rPr>
              <a:t>http://radio.un.org</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u="sng">
                <a:solidFill>
                  <a:srgbClr val="ff8119"/>
                </a:solidFill>
                <a:uFillTx/>
                <a:latin typeface="Lucida Sans Unicode"/>
                <a:hlinkClick r:id="rId3"/>
              </a:rPr>
              <a:t>http://www.un.org/av/tv/</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 </a:t>
            </a:r>
            <a:r>
              <a:rPr b="0" lang="es-VE" sz="2400" spc="-1" strike="noStrike">
                <a:solidFill>
                  <a:srgbClr val="000000"/>
                </a:solidFill>
                <a:latin typeface="Lucida Sans Unicode"/>
              </a:rPr>
              <a:t>Chris Woodthorpe, Jefe de la Sección de Ventas y Mercadeo de Publicaciones de Naciones Unidas, OD, DPI </a:t>
            </a:r>
            <a:r>
              <a:rPr b="0" lang="es-VE" sz="2400" spc="-1" strike="noStrike" u="sng">
                <a:solidFill>
                  <a:srgbClr val="ff8119"/>
                </a:solidFill>
                <a:uFillTx/>
                <a:latin typeface="Lucida Sans Unicode"/>
                <a:hlinkClick r:id="rId4"/>
              </a:rPr>
              <a:t>www.un.org/Pubs</a:t>
            </a:r>
            <a:r>
              <a:rPr b="0" lang="es-VE" sz="2400" spc="-1" strike="noStrike">
                <a:solidFill>
                  <a:srgbClr val="000000"/>
                </a:solidFill>
                <a:latin typeface="Lucida Sans Unicode"/>
              </a:rPr>
              <a:t> </a:t>
            </a:r>
            <a:endParaRPr b="0" lang="en-US" sz="24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Title 2" descr=""/>
          <p:cNvPicPr/>
          <p:nvPr/>
        </p:nvPicPr>
        <p:blipFill>
          <a:blip r:embed="rId5"/>
          <a:stretch/>
        </p:blipFill>
        <p:spPr>
          <a:xfrm>
            <a:off x="450720" y="152280"/>
            <a:ext cx="12344400" cy="12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Lucida Sans Unicode"/>
              </a:rPr>
              <a:t>Plan Maestro y su Efecto en la Sección de ONG del DPI</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Moderador: Eric Falt, Director OD, DPI.</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Lucida Sans Unicode"/>
              </a:rPr>
              <a:t> </a:t>
            </a:r>
            <a:r>
              <a:rPr b="0" lang="es-VE" sz="2800" spc="-1" strike="noStrike">
                <a:solidFill>
                  <a:srgbClr val="000000"/>
                </a:solidFill>
                <a:latin typeface="Lucida Sans Unicode"/>
              </a:rPr>
              <a:t>Michael Adlerstein, Director Ejecutivo y Asistente al Secretario General de UN del Plan Maestro Capital.</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Lucida Sans Unicode"/>
              </a:rPr>
              <a:t> </a:t>
            </a:r>
            <a:r>
              <a:rPr b="0" lang="es-VE" sz="2800" spc="-1" strike="noStrike" u="sng">
                <a:solidFill>
                  <a:srgbClr val="ff8119"/>
                </a:solidFill>
                <a:uFillTx/>
                <a:latin typeface="Lucida Sans Unicode"/>
                <a:hlinkClick r:id="rId1"/>
              </a:rPr>
              <a:t>www.un.org/cmp/uncmp/english</a:t>
            </a:r>
            <a:r>
              <a:rPr b="0" lang="es-VE"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4" name="Title 2" descr=""/>
          <p:cNvPicPr/>
          <p:nvPr/>
        </p:nvPicPr>
        <p:blipFill>
          <a:blip r:embed="rId2"/>
          <a:stretch/>
        </p:blipFill>
        <p:spPr>
          <a:xfrm>
            <a:off x="450720" y="152280"/>
            <a:ext cx="1267956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4:16:45Z</dcterms:created>
  <dc:creator>Estella</dc:creator>
  <dc:description/>
  <dc:language>en-US</dc:language>
  <cp:lastModifiedBy>Consuelo Morillo</cp:lastModifiedBy>
  <dcterms:modified xsi:type="dcterms:W3CDTF">2008-03-31T15:32:32Z</dcterms:modified>
  <cp:revision>34</cp:revision>
  <dc:subject/>
  <dc:title>Reunion del Programa de Orientacion Anual del DPI con las ONG acreditadas con status de asociadas</dc:title>
</cp:coreProperties>
</file>