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0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D999-4AE0-47CD-AA9D-7AB1C5490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CFDD-2653-4035-81B7-8D27253E6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F90-C3DB-41F3-8F10-E73EDB6CB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08E9-FB0B-470E-9605-8DD2243B8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6C3C-3E4C-4E50-B79C-B2E444886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837D-CA92-436E-8E26-A92AF539D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08C6-8331-4B34-8A79-265C4509B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D746-7C46-4717-89F6-FC500426A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A632-72C8-4C60-8263-6CDE5D70B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AC86-DA3A-4674-B6ED-85D73CEEF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FCDC-D4EC-493D-A84B-E3F97739B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79F6-EB17-40CB-9782-1E0D53D13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C1BB-1EB7-403A-B470-7D6D1334E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B2AC-E9D5-4069-A52D-E136F1005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D07D-42E1-46D7-A52D-EC7828093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F67E-13C3-49EE-89FC-77E269AC3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359D-32E6-4DE1-9486-1A2EE009E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91D8-92A2-45A6-97D5-C5B0F62F7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5282-879C-4A1B-92C4-AAA915DA7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200F-3C6F-4557-9063-B695E2B6A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32C4-900B-4982-828B-3424E8E1D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1CE-DDD0-429D-ABD5-56E3CD5E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D32-D74E-4AEE-BC04-A2F91F55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051-DCF6-42F4-97FD-3A58C0A0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C68-BCF4-4AE3-86DB-81DD96E2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C05-11DC-4DAF-8BD9-DFF4B7B4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E4D-C782-436E-80EE-A87EFE32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468-6F17-41C7-8FEC-7428C9AB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74D-4E8D-4468-B24C-B9BA1C20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FA6-4F86-48CC-A86F-7B6F33A5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1A3-4308-480D-A0FA-27E8CB0C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82A-733D-428B-89AF-BA8BE783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F51-9B9C-4C24-8A8E-1125F161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F02B-9FFA-4B8F-9349-BC09B5610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hyperlink" Target="http://www.un.org/spanish/holocaustremembrance/main.shtml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un.org/spanish/News/" TargetMode="External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hyperlink" Target="http://www.un.org/spanish/audiovis/index.html" TargetMode="External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hyperlink" Target="http://www.un.org/av/unfamily/yir2007.html" TargetMode="External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nstats.un.org/unsd/pubs/gesgrid.asp?id=38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n.org/Pubs/chronicle/issue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hyperlink" Target="http://www.un.org/spanish/sg/mop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n.org/sg/mop/gwa.shtml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71720" y="1928520"/>
            <a:ext cx="3357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NACIONES UNI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Programa de Orientación Anual del Departamento de Información Pública (DP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DPI NGO Section"/>
          <p:cNvPicPr/>
          <p:nvPr/>
        </p:nvPicPr>
        <p:blipFill>
          <a:blip r:embed="rId1"/>
          <a:srcRect l="0" t="8429" r="0" b="32590"/>
          <a:stretch/>
        </p:blipFill>
        <p:spPr>
          <a:xfrm>
            <a:off x="571680" y="500040"/>
            <a:ext cx="6476760" cy="100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10" descr="http://images.encarta.msn.com/xrefmedia/sharemed/targets/images/pho/t041/T041223A.jpg"/>
          <p:cNvPicPr/>
          <p:nvPr/>
        </p:nvPicPr>
        <p:blipFill>
          <a:blip r:embed="rId2"/>
          <a:stretch/>
        </p:blipFill>
        <p:spPr>
          <a:xfrm>
            <a:off x="714240" y="2000160"/>
            <a:ext cx="4781520" cy="323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TextBox 4"/>
          <p:cNvSpPr/>
          <p:nvPr/>
        </p:nvSpPr>
        <p:spPr>
          <a:xfrm>
            <a:off x="1727640" y="5572080"/>
            <a:ext cx="62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7f7f7f"/>
                </a:solidFill>
                <a:latin typeface="Arial"/>
              </a:rPr>
              <a:t>Nueva York, 13 -14 de marzo d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76092"/>
                </a:solidFill>
                <a:latin typeface="Calibri"/>
              </a:rPr>
              <a:t>Programa “El Holocausto y las Naciones Unida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57160" y="2331720"/>
            <a:ext cx="742968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984807"/>
                </a:solidFill>
                <a:latin typeface="Calibri"/>
              </a:rPr>
              <a:t>Se creó, a solicitud de la Asamblea General de las NU, el 1 de Noviembre de 2005 con el propósito d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271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Calibri"/>
              </a:rPr>
              <a:t>Recordar el Holocausto y evitar que se repita este terrible event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271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Calibri"/>
              </a:rPr>
              <a:t>Motivar a las ONGs y a la sociedad civil para que aprendan las lecciones del pasado y actúen antes de que ocurran eventos similar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271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984807"/>
                </a:solidFill>
                <a:latin typeface="Calibri"/>
              </a:rPr>
              <a:t>En el marco de este programa se realizan las actividades siguien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271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Calibri"/>
              </a:rPr>
              <a:t>Celebración del Día Internacional de Conmemoración de las Víctimas del Holocausto, cada 27 de enero, fecha aniversario de la liberación de Auschwitz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271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Calibri"/>
              </a:rPr>
              <a:t>Seminarios y foros, en el otoño, con la participación de las ONGs y miembros de la sociedad civi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271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Calibri"/>
              </a:rPr>
              <a:t>Seminarios regional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271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Calibri"/>
              </a:rPr>
              <a:t>Elaboración de recursos y materiales para las ONGs. En la página web </a:t>
            </a:r>
            <a:r>
              <a:rPr b="0" lang="es-VE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un.org/spanish/holocaustremembrance/main.shtm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271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VE" sz="1500" spc="-1" strike="noStrike">
                <a:solidFill>
                  <a:srgbClr val="000000"/>
                </a:solidFill>
                <a:latin typeface="Calibri"/>
              </a:rPr>
              <a:t>Tienen una sección “Electronics Notes for Speakers” (Notas electrónicas para expositores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tretch/>
        </p:blipFill>
        <p:spPr>
          <a:xfrm>
            <a:off x="901800" y="1206360"/>
            <a:ext cx="74800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6500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900" spc="-1" strike="noStrike">
                <a:solidFill>
                  <a:srgbClr val="376092"/>
                </a:solidFill>
                <a:latin typeface="Calibri"/>
              </a:rPr>
              <a:t>Servicio de noticias en Internet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alibri"/>
              </a:rPr>
              <a:t>Llevan las noticias de las NU a todo el público lo más rápido posible, gracias al portal: </a:t>
            </a:r>
            <a:r>
              <a:rPr b="0" lang="es-VE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un.org/spanish/News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alibri"/>
              </a:rPr>
              <a:t>Características del port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04920" indent="-347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Calibri"/>
              </a:rPr>
              <a:t>Información actualiz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204920" indent="-347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Calibri"/>
              </a:rPr>
              <a:t>Búsqueda de noticias de acuerdo con intereses individuales, por regiones, por temas, por importancia, por agencia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alibri"/>
              </a:rPr>
              <a:t>Secciones más popular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04920" indent="-347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Calibri"/>
              </a:rPr>
              <a:t>Historias más leídas y más enviad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204920" indent="-347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Calibri"/>
              </a:rPr>
              <a:t>Quiz sobre las N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204920" indent="-347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Calibri"/>
              </a:rPr>
              <a:t>Historias narradas a través de fo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UN News Centre with breaking news from UN News Service logo"/>
          <p:cNvPicPr/>
          <p:nvPr/>
        </p:nvPicPr>
        <p:blipFill>
          <a:blip r:embed="rId5"/>
          <a:stretch/>
        </p:blipFill>
        <p:spPr>
          <a:xfrm>
            <a:off x="5143680" y="857160"/>
            <a:ext cx="3143160" cy="47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721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376092"/>
                </a:solidFill>
                <a:latin typeface="Calibri"/>
              </a:rPr>
              <a:t>Producción de vide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0040" y="192888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spcAft>
                <a:spcPts val="601"/>
              </a:spcAft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alibri"/>
              </a:rPr>
              <a:t>Serie de Televisión “Naciones Unidas en Acción”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alibri"/>
              </a:rPr>
              <a:t>Programa “Siglo XXI”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alibri"/>
              </a:rPr>
              <a:t>Serie de televisión “Resumen del año”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alibri"/>
              </a:rPr>
              <a:t>Documenta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alibri"/>
              </a:rPr>
              <a:t>Página web: </a:t>
            </a:r>
            <a:r>
              <a:rPr b="0" lang="es-VE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un.org/spanish/audiovis/index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6"/>
          <a:srcRect l="0" t="15151" r="44081" b="72226"/>
          <a:stretch/>
        </p:blipFill>
        <p:spPr>
          <a:xfrm>
            <a:off x="642960" y="857160"/>
            <a:ext cx="7634160" cy="64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10" descr="http://www.un.org/av/unfamily/images/Alphonse.jpg"/>
          <p:cNvPicPr/>
          <p:nvPr/>
        </p:nvPicPr>
        <p:blipFill>
          <a:blip r:embed="rId7"/>
          <a:stretch/>
        </p:blipFill>
        <p:spPr>
          <a:xfrm>
            <a:off x="7351560" y="5278320"/>
            <a:ext cx="1438560" cy="1086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http://www.un.org/av/unfamily/images/yir07_title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25920" y="3852720"/>
            <a:ext cx="1627200" cy="1249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http://www.un.org/av/unfamily/images/21_title_brand16.jpg"/>
          <p:cNvPicPr/>
          <p:nvPr/>
        </p:nvPicPr>
        <p:blipFill>
          <a:blip r:embed="rId10"/>
          <a:stretch/>
        </p:blipFill>
        <p:spPr>
          <a:xfrm>
            <a:off x="7211880" y="2852640"/>
            <a:ext cx="1627200" cy="121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http://www.un.org/av/unfamily/images/UNIA_title8.jpg"/>
          <p:cNvPicPr/>
          <p:nvPr/>
        </p:nvPicPr>
        <p:blipFill>
          <a:blip r:embed="rId11"/>
          <a:stretch/>
        </p:blipFill>
        <p:spPr>
          <a:xfrm>
            <a:off x="5425920" y="1706400"/>
            <a:ext cx="162720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85840"/>
            <a:ext cx="7000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76092"/>
                </a:solidFill>
                <a:latin typeface="Calibri"/>
              </a:rPr>
              <a:t>Transmisión de información vía saté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13880" y="200016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Este servicio está dirigido a canales transmisores de información vía satél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Se envían historias de la sede de las NU en Nueva York, de sus agencias y del campo de opera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Es una transmisión satelital diaria de 10 minutos (lunes a sábado 21:45 – 21:55 GM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Tienen cerca de 100 socios alrededor del mundo: RTVE (España y Latinoamérica), CNN (Informe Mund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¿Cómo tener acceso a los videos? A través de la página: www.un.org/webcast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Pronto aparecerá el canal en youtube: www.youtube/unitednations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15472" t="15151" r="32244" b="61175"/>
          <a:stretch/>
        </p:blipFill>
        <p:spPr>
          <a:xfrm>
            <a:off x="1714680" y="1071720"/>
            <a:ext cx="5857560" cy="92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5072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376092"/>
                </a:solidFill>
                <a:latin typeface="Calibri"/>
              </a:rPr>
              <a:t>Programa de rad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rcRect l="11527" t="13573" r="29285" b="73515"/>
          <a:stretch/>
        </p:blipFill>
        <p:spPr>
          <a:xfrm>
            <a:off x="1428840" y="1071720"/>
            <a:ext cx="6548400" cy="71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5" name="TextBox 4"/>
          <p:cNvSpPr/>
          <p:nvPr/>
        </p:nvSpPr>
        <p:spPr>
          <a:xfrm>
            <a:off x="857160" y="2000160"/>
            <a:ext cx="778680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Programa diario de noticias, con una duración de 15 minu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Programación regional en las seis lenguas oficiales de las Naciones Unidas: inglés, francés, español, árabe, chino, ru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Para finales de abril tendrán una colección de audios de personalidades que han colaborado con las Naciones Unidas: Audrey Hepburn, Bob Hop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Tienen 200 socios (estaciones) alrededor del mun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En la página web http://radio.un.org/es/ tienen una audioteca con las últimas producc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7861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70c0"/>
                </a:solidFill>
                <a:latin typeface="Calibri"/>
              </a:rPr>
              <a:t>Fotografí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alibri"/>
              </a:rPr>
              <a:t>Son fotos tomadas por fotógrafos de las Naciones Unidas en todo el mun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alibri"/>
              </a:rPr>
              <a:t>Es un recurso muy valioso para las publicaciones de las O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alibri"/>
              </a:rPr>
              <a:t>Son gratis, pero debe señalarse la fuente y el nombre del fotógraf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alibri"/>
              </a:rPr>
              <a:t>Tienen un archivo de 800.000 fotografías que datan de 1945 hasta la actualida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alibri"/>
              </a:rPr>
              <a:t>La página web es: www.un.org/av/pho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243160" y="689040"/>
            <a:ext cx="63039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428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376092"/>
                </a:solidFill>
                <a:latin typeface="Calibri"/>
              </a:rPr>
              <a:t>Publica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18434" t="13573" r="36192" b="58020"/>
          <a:stretch/>
        </p:blipFill>
        <p:spPr>
          <a:xfrm>
            <a:off x="5286240" y="285840"/>
            <a:ext cx="2786040" cy="109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" name="Rectangle 4"/>
          <p:cNvSpPr/>
          <p:nvPr/>
        </p:nvSpPr>
        <p:spPr>
          <a:xfrm>
            <a:off x="785880" y="1143000"/>
            <a:ext cx="414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un.org/spanish/Pub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071720" y="1857240"/>
            <a:ext cx="714348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Hay dos librerías en la sede de las NU en Nueva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Las publicaciones, en su mayoría, no son gratis. Pueden adquirirse on-line o en las librer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On-line: en la página web: https://unp.unorg/ está disponible el catálogo de publicaciones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Librerías: las ONGs afiliadas tienen un descuento del 25% en cualquier publicación de las NU y un 10% en cualquier otro títu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376092"/>
                </a:solidFill>
                <a:latin typeface="Calibri"/>
              </a:rPr>
              <a:t>Página web de las Naciones Unid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rcRect l="0" t="0" r="15472" b="0"/>
          <a:stretch/>
        </p:blipFill>
        <p:spPr>
          <a:xfrm>
            <a:off x="1643040" y="1214280"/>
            <a:ext cx="6121440" cy="45262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8"/>
          <p:cNvSpPr/>
          <p:nvPr/>
        </p:nvSpPr>
        <p:spPr>
          <a:xfrm>
            <a:off x="4003560" y="585792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www.un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71400" y="285840"/>
            <a:ext cx="5786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376092"/>
                </a:solidFill>
                <a:latin typeface="Calibri"/>
              </a:rPr>
              <a:t>¿Qué hay disponibl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28800" y="2071440"/>
            <a:ext cx="75009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La página fue creada en 1995, en las 6 lenguas ofici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Recopila y organiza la información de las oficinas programas y agencias de las 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Fácil acceso a la información a través de “links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Se navega fácilmente a través del Índice del sit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Se obtiene información sobre todo el sistema de las Naciones Uni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Para conocer más sobre la organización se recomienda visi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Acerca de las Naciones Uni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¿Quién es quién en las Naciones Unida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Órganos Princip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0" t="15151" r="46057" b="67487"/>
          <a:stretch/>
        </p:blipFill>
        <p:spPr>
          <a:xfrm>
            <a:off x="857160" y="1143000"/>
            <a:ext cx="7302600" cy="71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24289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376092"/>
                </a:solidFill>
                <a:latin typeface="Calibri"/>
              </a:rPr>
              <a:t>Webcas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600200"/>
            <a:ext cx="811548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En la página www.un.org/webcast se obtiene información en el momento que ocurren los acontecimientos (conferencias, reuniones, deliberaciones…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Es un recurso muy valioso para las personas y organizaciones que se encuentran en otros países y quieren seguir paso a paso los even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Las ONGs pueden suscribirse a la lista de correo para recibir información acerca de las transmis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rcRect l="14584" t="13573" r="31783" b="73804"/>
          <a:stretch/>
        </p:blipFill>
        <p:spPr>
          <a:xfrm>
            <a:off x="4143240" y="500040"/>
            <a:ext cx="3857760" cy="571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376092"/>
                </a:solidFill>
                <a:latin typeface="Calibri"/>
              </a:rPr>
              <a:t>Objetivo del Programa de Orien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143680" y="1324080"/>
            <a:ext cx="354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Ofrecer a las ONGs, recientemente asociadas al DPI, una oportunidad única para obtener conocimientos acerca de los servicios que les ofrecen las Naciones Unidas y para familiarizarse con los aspectos claves de todo el amplio sistema de la organiz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451440" y="1571760"/>
            <a:ext cx="4882680" cy="4011480"/>
            <a:chOff x="451440" y="1571760"/>
            <a:chExt cx="4882680" cy="4011480"/>
          </a:xfrm>
        </p:grpSpPr>
        <p:pic>
          <p:nvPicPr>
            <p:cNvPr id="55" name="Picture 2" descr="http://www.un.org/dpi/ngosection/photos08/14March08_PanelLateAfternoon.jpg"/>
            <p:cNvPicPr/>
            <p:nvPr/>
          </p:nvPicPr>
          <p:blipFill>
            <a:blip r:embed="rId1"/>
            <a:stretch/>
          </p:blipFill>
          <p:spPr>
            <a:xfrm>
              <a:off x="571320" y="1571760"/>
              <a:ext cx="4762800" cy="3571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6" name="TextBox 9"/>
            <p:cNvSpPr/>
            <p:nvPr/>
          </p:nvSpPr>
          <p:spPr>
            <a:xfrm>
              <a:off x="451440" y="5214960"/>
              <a:ext cx="461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VE" sz="1800" spc="-1" strike="noStrike">
                  <a:solidFill>
                    <a:srgbClr val="31859c"/>
                  </a:solidFill>
                  <a:latin typeface="Calibri"/>
                </a:rPr>
                <a:t>Ponentes de las Oficinas de Enlace con las O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43240" y="785520"/>
            <a:ext cx="4586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376092"/>
                </a:solidFill>
                <a:latin typeface="Calibri"/>
              </a:rPr>
              <a:t>Mensaje final del Subsecretario General de las Naciones Unidas para las Comunicaciones y la Información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71600" y="2928600"/>
            <a:ext cx="43578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3200" spc="-1" strike="noStrike">
                <a:solidFill>
                  <a:srgbClr val="000000"/>
                </a:solidFill>
                <a:latin typeface="Calibri"/>
              </a:rPr>
              <a:t>Vamos a trabajar juntos (las NU y las ONGs ) para marcar la diferencia y lograr un mundo mej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http://www.un.org/av/photo/incoming/medium/166125.jpg"/>
          <p:cNvPicPr/>
          <p:nvPr/>
        </p:nvPicPr>
        <p:blipFill>
          <a:blip r:embed="rId1"/>
          <a:stretch/>
        </p:blipFill>
        <p:spPr>
          <a:xfrm>
            <a:off x="714240" y="857160"/>
            <a:ext cx="2667240" cy="400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5" name="TextBox 4"/>
          <p:cNvSpPr/>
          <p:nvPr/>
        </p:nvSpPr>
        <p:spPr>
          <a:xfrm>
            <a:off x="932040" y="49291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800" spc="-1" strike="noStrike">
                <a:solidFill>
                  <a:srgbClr val="376092"/>
                </a:solidFill>
                <a:latin typeface="Arial"/>
              </a:rPr>
              <a:t>Kiyo Akas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8"/>
          <p:cNvGrpSpPr/>
          <p:nvPr/>
        </p:nvGrpSpPr>
        <p:grpSpPr>
          <a:xfrm>
            <a:off x="6433920" y="5643720"/>
            <a:ext cx="2457720" cy="875520"/>
            <a:chOff x="6433920" y="5643720"/>
            <a:chExt cx="2457720" cy="875520"/>
          </a:xfrm>
        </p:grpSpPr>
        <p:sp>
          <p:nvSpPr>
            <p:cNvPr id="137" name="TextBox 9"/>
            <p:cNvSpPr/>
            <p:nvPr/>
          </p:nvSpPr>
          <p:spPr>
            <a:xfrm>
              <a:off x="6433920" y="6013800"/>
              <a:ext cx="2457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900" spc="-1" strike="noStrike">
                  <a:solidFill>
                    <a:srgbClr val="000000"/>
                  </a:solidFill>
                  <a:latin typeface="Arial"/>
                </a:rPr>
                <a:t>Esta presentación fue realizada por Redso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900" spc="-1" strike="noStrike">
                  <a:solidFill>
                    <a:srgbClr val="000000"/>
                  </a:solidFill>
                  <a:latin typeface="Arial"/>
                </a:rPr>
                <a:t>para la Asamblea de la Red Social 02/04/08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" descr="Emblema Redsoc 2"/>
            <p:cNvPicPr/>
            <p:nvPr/>
          </p:nvPicPr>
          <p:blipFill>
            <a:blip r:embed="rId2"/>
            <a:stretch/>
          </p:blipFill>
          <p:spPr>
            <a:xfrm>
              <a:off x="7495200" y="5643720"/>
              <a:ext cx="846720" cy="37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376092"/>
                </a:solidFill>
                <a:latin typeface="Calibri"/>
              </a:rPr>
              <a:t>Temas prioritarios para este añ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714680"/>
            <a:ext cx="4038480" cy="39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Desarrollo – reducción de la pobreza. Alcanzar las Metas  del Milen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Derechos Human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Paz y Segur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Llamar la atención sobre el Cambio Climá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7"/>
          <p:cNvGrpSpPr/>
          <p:nvPr/>
        </p:nvGrpSpPr>
        <p:grpSpPr>
          <a:xfrm>
            <a:off x="5082840" y="2000160"/>
            <a:ext cx="3550320" cy="3062160"/>
            <a:chOff x="5082840" y="2000160"/>
            <a:chExt cx="3550320" cy="3062160"/>
          </a:xfrm>
        </p:grpSpPr>
        <p:pic>
          <p:nvPicPr>
            <p:cNvPr id="60" name="Picture 4" descr="Kiyotaka  Akasaka, Under-Secretary-General for Communications and Public Information"/>
            <p:cNvPicPr/>
            <p:nvPr/>
          </p:nvPicPr>
          <p:blipFill>
            <a:blip r:embed="rId1"/>
            <a:stretch/>
          </p:blipFill>
          <p:spPr>
            <a:xfrm>
              <a:off x="5705640" y="2000160"/>
              <a:ext cx="1895760" cy="20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6"/>
            <p:cNvSpPr/>
            <p:nvPr/>
          </p:nvSpPr>
          <p:spPr>
            <a:xfrm>
              <a:off x="5082840" y="4145400"/>
              <a:ext cx="3550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VE" sz="1800" spc="-1" strike="noStrike">
                  <a:solidFill>
                    <a:srgbClr val="376092"/>
                  </a:solidFill>
                  <a:latin typeface="Calibri"/>
                </a:rPr>
                <a:t>Kiyo Akasaka, Subsecretario 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VE" sz="1800" spc="-1" strike="noStrike">
                  <a:solidFill>
                    <a:srgbClr val="376092"/>
                  </a:solidFill>
                  <a:latin typeface="Calibri"/>
                </a:rPr>
                <a:t>para las Comunicaciones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VE" sz="1800" spc="-1" strike="noStrike">
                  <a:solidFill>
                    <a:srgbClr val="376092"/>
                  </a:solidFill>
                  <a:latin typeface="Calibri"/>
                </a:rPr>
                <a:t>Información Públ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86240" y="856800"/>
            <a:ext cx="357192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alibri"/>
              </a:rPr>
              <a:t>¿Cómo tener acceso a los materiales informativos de las Naciones Unida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500040" y="1571760"/>
            <a:ext cx="4500720" cy="3797280"/>
            <a:chOff x="500040" y="1571760"/>
            <a:chExt cx="4500720" cy="3797280"/>
          </a:xfrm>
        </p:grpSpPr>
        <p:pic>
          <p:nvPicPr>
            <p:cNvPr id="64" name="Picture 4" descr="http://www.un.org/dpi/ngosection/photos08/13March08_Panel.jpg"/>
            <p:cNvPicPr/>
            <p:nvPr/>
          </p:nvPicPr>
          <p:blipFill>
            <a:blip r:embed="rId1"/>
            <a:stretch/>
          </p:blipFill>
          <p:spPr>
            <a:xfrm>
              <a:off x="500040" y="1571760"/>
              <a:ext cx="4500720" cy="3376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5" name="TextBox 8"/>
            <p:cNvSpPr/>
            <p:nvPr/>
          </p:nvSpPr>
          <p:spPr>
            <a:xfrm>
              <a:off x="523440" y="5000760"/>
              <a:ext cx="42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VE" sz="1800" spc="-1" strike="noStrike">
                  <a:solidFill>
                    <a:srgbClr val="31859c"/>
                  </a:solidFill>
                  <a:latin typeface="Calibri"/>
                </a:rPr>
                <a:t>Ponentes de la División de Medios y Noti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747216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376092"/>
                </a:solidFill>
                <a:latin typeface="Calibri"/>
              </a:rPr>
              <a:t>Programas, recursos, materiale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8"/>
          <p:cNvGrpSpPr/>
          <p:nvPr/>
        </p:nvGrpSpPr>
        <p:grpSpPr>
          <a:xfrm>
            <a:off x="785880" y="1071720"/>
            <a:ext cx="7715160" cy="5286240"/>
            <a:chOff x="785880" y="1071720"/>
            <a:chExt cx="7715160" cy="5286240"/>
          </a:xfrm>
        </p:grpSpPr>
        <p:pic>
          <p:nvPicPr>
            <p:cNvPr id="68" name="Picture 4" descr="http://www.wwindea.org/home/images/stories/un-flag.jpg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785880" y="1143000"/>
              <a:ext cx="7620120" cy="5076720"/>
            </a:xfrm>
            <a:prstGeom prst="rect">
              <a:avLst/>
            </a:prstGeom>
            <a:ln w="0">
              <a:noFill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69" name="Subtitle 4"/>
            <p:cNvSpPr/>
            <p:nvPr/>
          </p:nvSpPr>
          <p:spPr>
            <a:xfrm>
              <a:off x="857160" y="1071720"/>
              <a:ext cx="7643880" cy="52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200" spc="-1" strike="noStrike">
                  <a:solidFill>
                    <a:srgbClr val="000000"/>
                  </a:solidFill>
                  <a:latin typeface="Calibri"/>
                </a:rPr>
                <a:t>Libro Anual de las Naciones Unida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200" spc="-1" strike="noStrike">
                  <a:solidFill>
                    <a:srgbClr val="000000"/>
                  </a:solidFill>
                  <a:latin typeface="Calibri"/>
                </a:rPr>
                <a:t>Revista “UN Chronicle”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200" spc="-1" strike="noStrike">
                  <a:solidFill>
                    <a:srgbClr val="000000"/>
                  </a:solidFill>
                  <a:latin typeface="Calibri"/>
                </a:rPr>
                <a:t>Mensajeros de Paz y Embajadores de Buena Voluntad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200" spc="-1" strike="noStrike">
                  <a:solidFill>
                    <a:srgbClr val="000000"/>
                  </a:solidFill>
                  <a:latin typeface="Calibri"/>
                </a:rPr>
                <a:t>El Holocausto y las Naciones Unidas y prevención del genocidio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200" spc="-1" strike="noStrike">
                  <a:solidFill>
                    <a:srgbClr val="000000"/>
                  </a:solidFill>
                  <a:latin typeface="Calibri"/>
                </a:rPr>
                <a:t>Servicio de Noticias en Internet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200" spc="-1" strike="noStrike">
                  <a:solidFill>
                    <a:srgbClr val="000000"/>
                  </a:solidFill>
                  <a:latin typeface="Calibri"/>
                </a:rPr>
                <a:t>Video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200" spc="-1" strike="noStrike">
                  <a:solidFill>
                    <a:srgbClr val="000000"/>
                  </a:solidFill>
                  <a:latin typeface="Calibri"/>
                </a:rPr>
                <a:t>Transmisión de información vía satélite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200" spc="-1" strike="noStrike">
                  <a:solidFill>
                    <a:srgbClr val="000000"/>
                  </a:solidFill>
                  <a:latin typeface="Calibri"/>
                </a:rPr>
                <a:t>Programa de radio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200" spc="-1" strike="noStrike">
                  <a:solidFill>
                    <a:srgbClr val="000000"/>
                  </a:solidFill>
                  <a:latin typeface="Calibri"/>
                </a:rPr>
                <a:t>Fotografía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200" spc="-1" strike="noStrike">
                  <a:solidFill>
                    <a:srgbClr val="000000"/>
                  </a:solidFill>
                  <a:latin typeface="Calibri"/>
                </a:rPr>
                <a:t>Publicacione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200" spc="-1" strike="noStrike">
                  <a:solidFill>
                    <a:srgbClr val="000000"/>
                  </a:solidFill>
                  <a:latin typeface="Calibri"/>
                </a:rPr>
                <a:t>Página web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VE" sz="2200" spc="-1" strike="noStrike">
                  <a:solidFill>
                    <a:srgbClr val="000000"/>
                  </a:solidFill>
                  <a:latin typeface="Calibri"/>
                </a:rPr>
                <a:t>Webcast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40088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376092"/>
                </a:solidFill>
                <a:latin typeface="Calibri"/>
              </a:rPr>
              <a:t>Libro Anual de las Naciones Unid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unstats.un.org/unsd/pubs/img/DYB_2004_op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86280" y="1928880"/>
            <a:ext cx="214344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4286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Recoge el trabajo de todo el sistema de las Naciones Uni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Su contenido se organiza en temas y subtemas: Asuntos políticos, Asuntos económicos y sociales, Temas jurídicos, Temas institucionales, Sección de ONG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Para el próximo mes de Junio las 58 ediciones del libro estarán disponibles en la we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461484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376092"/>
                </a:solidFill>
                <a:latin typeface="Calibri"/>
              </a:rPr>
              <a:t>Revista UN Chroni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7120" y="999720"/>
            <a:ext cx="4572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Calibri"/>
              </a:rPr>
              <a:t>Cada año se publican cuatro númer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Calibri"/>
              </a:rPr>
              <a:t>El contenido de cada número se organiza alrededor de un tema específico. Por ejemplo, el tema de la última publicación es Las Metas del Milenio: sus antecedentes, logros…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Calibri"/>
              </a:rPr>
              <a:t>En este número aparecen artículos de los presidentes de Dinamarca y Namibia y de algunos jefes de Agencias de las N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Calibri"/>
              </a:rPr>
              <a:t>Puede leerse “on line” (en inglés y francés) en la página </a:t>
            </a:r>
            <a:r>
              <a:rPr b="0" lang="es-VE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un.org/Pubs/chronicle/issue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Cover image of The MDGs Are we on Track?"/>
          <p:cNvPicPr/>
          <p:nvPr/>
        </p:nvPicPr>
        <p:blipFill>
          <a:blip r:embed="rId2"/>
          <a:stretch/>
        </p:blipFill>
        <p:spPr>
          <a:xfrm>
            <a:off x="5357880" y="1143000"/>
            <a:ext cx="3002040" cy="38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TextBox 7"/>
          <p:cNvSpPr/>
          <p:nvPr/>
        </p:nvSpPr>
        <p:spPr>
          <a:xfrm>
            <a:off x="6222600" y="54291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76092"/>
                </a:solidFill>
                <a:latin typeface="Calibri"/>
              </a:rPr>
              <a:t>N° 4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65008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376092"/>
                </a:solidFill>
                <a:latin typeface="Calibri"/>
              </a:rPr>
              <a:t>Programa Mensajeros de Paz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3246480"/>
          <a:ext cx="6096240" cy="365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3" descr="George Clooney"/>
          <p:cNvPicPr/>
          <p:nvPr/>
        </p:nvPicPr>
        <p:blipFill>
          <a:blip r:embed="rId1"/>
          <a:stretch/>
        </p:blipFill>
        <p:spPr>
          <a:xfrm>
            <a:off x="714240" y="314316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aulo Coelho"/>
          <p:cNvPicPr/>
          <p:nvPr/>
        </p:nvPicPr>
        <p:blipFill>
          <a:blip r:embed="rId2"/>
          <a:stretch/>
        </p:blipFill>
        <p:spPr>
          <a:xfrm>
            <a:off x="714240" y="428616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Princess Haya Bint Al Hussein"/>
          <p:cNvPicPr/>
          <p:nvPr/>
        </p:nvPicPr>
        <p:blipFill>
          <a:blip r:embed="rId3"/>
          <a:stretch/>
        </p:blipFill>
        <p:spPr>
          <a:xfrm>
            <a:off x="714240" y="114300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Daniel Barenboim"/>
          <p:cNvPicPr/>
          <p:nvPr/>
        </p:nvPicPr>
        <p:blipFill>
          <a:blip r:embed="rId4"/>
          <a:stretch/>
        </p:blipFill>
        <p:spPr>
          <a:xfrm>
            <a:off x="714240" y="214308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Midori Goto"/>
          <p:cNvPicPr/>
          <p:nvPr/>
        </p:nvPicPr>
        <p:blipFill>
          <a:blip r:embed="rId5"/>
          <a:stretch/>
        </p:blipFill>
        <p:spPr>
          <a:xfrm>
            <a:off x="714240" y="535788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Michael Douglas"/>
          <p:cNvPicPr/>
          <p:nvPr/>
        </p:nvPicPr>
        <p:blipFill>
          <a:blip r:embed="rId6"/>
          <a:stretch/>
        </p:blipFill>
        <p:spPr>
          <a:xfrm>
            <a:off x="7358040" y="1571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Jane Goodall"/>
          <p:cNvPicPr/>
          <p:nvPr/>
        </p:nvPicPr>
        <p:blipFill>
          <a:blip r:embed="rId7"/>
          <a:stretch/>
        </p:blipFill>
        <p:spPr>
          <a:xfrm>
            <a:off x="7358040" y="2714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Yo-Yo Ma"/>
          <p:cNvPicPr/>
          <p:nvPr/>
        </p:nvPicPr>
        <p:blipFill>
          <a:blip r:embed="rId8"/>
          <a:stretch/>
        </p:blipFill>
        <p:spPr>
          <a:xfrm>
            <a:off x="7429680" y="37861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Elie Wiesel"/>
          <p:cNvPicPr/>
          <p:nvPr/>
        </p:nvPicPr>
        <p:blipFill>
          <a:blip r:embed="rId9"/>
          <a:stretch/>
        </p:blipFill>
        <p:spPr>
          <a:xfrm>
            <a:off x="7429680" y="4857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88" name="TextBox 26"/>
          <p:cNvSpPr/>
          <p:nvPr/>
        </p:nvSpPr>
        <p:spPr>
          <a:xfrm>
            <a:off x="2214720" y="928800"/>
            <a:ext cx="478620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Actualmente hay 9 Mensajeros de P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Princesa Haya Bint Al Hus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Daniel Barb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George Clo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Paolo Coe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Midori 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Michael Dou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Jane God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Yo – Yo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Elie Wie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La dirección de la página web en español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un.org/spanish/sg/mop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59292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76092"/>
                </a:solidFill>
                <a:latin typeface="Calibri"/>
              </a:rPr>
              <a:t>Embajadores de Buena Volunt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400" y="856800"/>
            <a:ext cx="4857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Es otro programa de las Naciones Unidas para promover sus activida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Cada agencia cuenta con el apoyo de algunas celebridades que contribuyen a difundir sus actividades y a realizar campañ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Al designarlos como Embajadores  de Buena Voluntad se les provee una guía sobre temas relevantes de las NU, como por ejemplo: Metas del Milenio, Cambio Climático, Derechos Humano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En este momento se ha aconsejado a los 9 Mensajeros de Paz y a los 160 Embajadores de Buena Voluntad que hablen en sus mensajes acerca del reconocimiento de la Declaración Universal de los Derechos Human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Puede revisarse la lista de Embajadores en la siguiente direcció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un.org/sg/mop/gwa.s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24"/>
          <p:cNvGrpSpPr/>
          <p:nvPr/>
        </p:nvGrpSpPr>
        <p:grpSpPr>
          <a:xfrm>
            <a:off x="5664960" y="571680"/>
            <a:ext cx="3072600" cy="5896080"/>
            <a:chOff x="5664960" y="571680"/>
            <a:chExt cx="3072600" cy="5896080"/>
          </a:xfrm>
        </p:grpSpPr>
        <p:grpSp>
          <p:nvGrpSpPr>
            <p:cNvPr id="92" name="Group 23"/>
            <p:cNvGrpSpPr/>
            <p:nvPr/>
          </p:nvGrpSpPr>
          <p:grpSpPr>
            <a:xfrm>
              <a:off x="6072120" y="571680"/>
              <a:ext cx="2514240" cy="5019120"/>
              <a:chOff x="6072120" y="571680"/>
              <a:chExt cx="2514240" cy="5019120"/>
            </a:xfrm>
          </p:grpSpPr>
          <p:pic>
            <p:nvPicPr>
              <p:cNvPr id="93" name="Picture 2" descr="http://www.usaforunhcr.org/usaforunhcr/uploadedimages/graphics(1).jpg"/>
              <p:cNvPicPr/>
              <p:nvPr/>
            </p:nvPicPr>
            <p:blipFill>
              <a:blip r:embed="rId2"/>
              <a:stretch/>
            </p:blipFill>
            <p:spPr>
              <a:xfrm>
                <a:off x="6072120" y="571680"/>
                <a:ext cx="2439720" cy="228564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pic>
            <p:nvPicPr>
              <p:cNvPr id="94" name="Picture 6" descr="http://www.undp.hr/upload/newsrep/132/66340/PICTURE/sharapova.jpg"/>
              <p:cNvPicPr/>
              <p:nvPr/>
            </p:nvPicPr>
            <p:blipFill>
              <a:blip r:embed="rId3"/>
              <a:stretch/>
            </p:blipFill>
            <p:spPr>
              <a:xfrm>
                <a:off x="6214680" y="3714480"/>
                <a:ext cx="2371680" cy="18763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95" name="TextBox 21"/>
            <p:cNvSpPr/>
            <p:nvPr/>
          </p:nvSpPr>
          <p:spPr>
            <a:xfrm>
              <a:off x="5664960" y="2857680"/>
              <a:ext cx="2990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VE" sz="1600" spc="-1" strike="noStrike">
                  <a:solidFill>
                    <a:srgbClr val="376092"/>
                  </a:solidFill>
                  <a:latin typeface="Calibri"/>
                </a:rPr>
                <a:t>Actriz: Angelina Jol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VE" sz="1600" spc="-1" strike="noStrike">
                  <a:solidFill>
                    <a:srgbClr val="376092"/>
                  </a:solidFill>
                  <a:latin typeface="Calibri"/>
                </a:rPr>
                <a:t>(Alto Comisionado de 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VE" sz="1600" spc="-1" strike="noStrike">
                  <a:solidFill>
                    <a:srgbClr val="376092"/>
                  </a:solidFill>
                  <a:latin typeface="Calibri"/>
                </a:rPr>
                <a:t>Naciones Unidas para Refugiad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2"/>
            <p:cNvSpPr/>
            <p:nvPr/>
          </p:nvSpPr>
          <p:spPr>
            <a:xfrm>
              <a:off x="5665680" y="5643720"/>
              <a:ext cx="3071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VE" sz="1600" spc="-1" strike="noStrike">
                  <a:solidFill>
                    <a:srgbClr val="376092"/>
                  </a:solidFill>
                  <a:latin typeface="Calibri"/>
                </a:rPr>
                <a:t>Tenista: Maria Sharapo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VE" sz="1600" spc="-1" strike="noStrike">
                  <a:solidFill>
                    <a:srgbClr val="376092"/>
                  </a:solidFill>
                  <a:latin typeface="Calibri"/>
                </a:rPr>
                <a:t>(Programas de las Naciones Un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VE" sz="1600" spc="-1" strike="noStrike">
                  <a:solidFill>
                    <a:srgbClr val="376092"/>
                  </a:solidFill>
                  <a:latin typeface="Calibri"/>
                </a:rPr>
                <a:t>para el Desarroll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4:29:17Z</dcterms:created>
  <dc:creator>MARIA</dc:creator>
  <dc:description/>
  <dc:language>en-US</dc:language>
  <cp:lastModifiedBy>MARIA</cp:lastModifiedBy>
  <dcterms:modified xsi:type="dcterms:W3CDTF">2008-04-01T21:19:46Z</dcterms:modified>
  <cp:revision>97</cp:revision>
  <dc:subject/>
  <dc:title>Slide 1</dc:title>
</cp:coreProperties>
</file>