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33B-CC04-42EB-8950-05BBAC70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98D-3EBC-46D2-A207-6E3264D9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1D2-BF1E-4227-BD42-7733E227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203-B75C-4896-B182-51C4D02E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6387-CADA-4B87-9301-ABF94688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ADCB-76EB-48CC-AFBB-29FEB624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7900-5A33-455A-B247-8906805B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9B2C-D6A5-45C7-93A8-EDBCB611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9D64-A9F2-49EB-BEB5-F3D2D7A8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E663-7927-49A3-88E7-FE16F891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C1C2-AFD4-4EA7-AFBC-091E225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950-40AC-4910-92CB-183C9F01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A716-7E7F-422D-8828-990A2D17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2F83-03F7-4867-BF3C-BB617C36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33D0-7986-4C16-907F-6E3BC12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F75D-CEE5-40F1-B73B-85298CA8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9C97-CAF9-4C1C-871F-0EF2FA35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294-495A-4533-8354-05146C08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2D9-A011-4505-9996-4B7FEB86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246-C095-4FCB-8CA3-7006E4C8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778-25DF-4018-811B-D2335871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BED-F4B0-49F2-9F20-6FEDFEB5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19D-2DA2-43C7-8A27-7553E0CB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11F-9446-487B-B6D7-F56C4E6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DB6-00B3-4713-B669-187A943B3260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2D91-8475-4F2E-A7F3-AE0A45CF53A6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5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FONDO MUNICIPAL DE PROTECCIÓN DEL NIÑO, NIÑA Y ADOLESCEN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CMDNA-Suc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77760" y="2420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 u="sng">
                <a:solidFill>
                  <a:srgbClr val="ffffcc"/>
                </a:solidFill>
                <a:uFillTx/>
                <a:latin typeface="Times New Roman"/>
              </a:rPr>
              <a:t>¿PREGUNTAS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7760" y="2420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cc"/>
                </a:solidFill>
                <a:latin typeface="Times New Roman"/>
              </a:rPr>
              <a:t>GRACIA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728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772400" cy="30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eaeaea"/>
                </a:solidFill>
                <a:latin typeface="Times New Roman"/>
              </a:rPr>
              <a:t>Es el conjunto de recursos, financieros y no financieros destinados a la ejecución de programas, acciones o servicios de protección y atención al Niño, Niña y Adolescente. (Art. 331 LOPNA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728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Naturalez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772400" cy="30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eaeaea"/>
                </a:solidFill>
                <a:latin typeface="Times New Roman"/>
              </a:rPr>
              <a:t>Los FMPNNA funcionaran como servicios autónomos,  sin personalidad jurídica, adscrito al Consejo Municipal de Derechos del Niño y del Adolescente. (Art. 332 LOPNA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Los recursos del FMPNNA solo pueden ser utilizados para financiar entidades de atención y programas cuyo objeto sea la protección y atención de niños y adolescentes. (Art. 333 LOPN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eaeaea"/>
                </a:solidFill>
                <a:uFillTx/>
                <a:latin typeface="Times New Roman"/>
              </a:rPr>
              <a:t>Nota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: En ningún caso, pueden utilizarse los recursos de los Fondos de protección de Niños, Niñas y Adolescentes para el pago o financiamiento de gastos administra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708660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Distribución de los Recurs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72512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Financiamiento de programas específicos de protección y atención a niños (as) y adolescen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Financiamiento de programas de capacitación, investigación y divulg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Financiamiento de programas de protección jurídica, comunicacionales y cultural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Financiamiento excepcional de políticas sociales básicas. (Art. 334 LOPN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8872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Logros del FMPNNA-Suc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215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EN CINCO AÑOS SE HAN FINANCIADO </a:t>
            </a: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21</a:t>
            </a: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 PROYECT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SE BENEFICIÓ A MAS DE </a:t>
            </a: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25.000</a:t>
            </a: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 NIÑOS Y ADOLESCENTES EN FORMA DIRECTA E INDIREC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MAS DE 270.000.000,00 MILLONES DE BOLIVARES OTORGADOS A DISTINTAS ORGANIZACIONES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Organizaciones Beneficia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3280" y="1989000"/>
            <a:ext cx="524196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ASOCIACIÓN CIVIL SAN JOSÉ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ASOCIACIÓN CIVIL SAN BLAS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FUNDACRI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DEFENSORÍA HUELLAS DEL FUTUR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FUNDACIÓN JUSTICIA Y PAZ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ASOCIACIÓN CIVIL PROINF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FUNDACIÓN LUZ Y VID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ASOCIACIÓN CIVIL TITEREAH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ASOCIACIÓN RED DE CASAS DON BOS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1952640"/>
            <a:ext cx="35640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FUNDAN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FUNDAPRE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ABANSA MI REFUGI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ASOCIACIÓN PROSALU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FUNDACIÓN FUNDAEDUC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FUNDACIÓN JOSÉ FÉLIX RIB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Acciones Recien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6204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imes New Roman"/>
              </a:rPr>
              <a:t>FINANCIAMIENTO DE SEIS (6) ORGANIZACIONES</a:t>
            </a:r>
            <a:r>
              <a:rPr b="1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imes New Roman"/>
              </a:rPr>
              <a:t>REALIZACIÓN DEL TALLER DE PROGRAMAS Y PROYECTOS 2008 (08 Y 09 DE MAYO 2008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imes New Roman"/>
              </a:rPr>
              <a:t>1era JORNADA DE FINANCIAMIENTO ABIERTA DESDE EL 15/05/08 AL 15/06/08 (Tentativo)</a:t>
            </a:r>
            <a:r>
              <a:rPr b="1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cc"/>
                </a:solidFill>
                <a:uFillTx/>
                <a:latin typeface="Times New Roman"/>
              </a:rPr>
              <a:t>Expectativas 200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APERTURA DE DOS (2) JORNADAS DE FINANCIAMIEN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FINANCIAR POR LO MENOS DIEZ (10) PROYECTOS O PROGRAMAS  A ORGANIZACIONES Y CONSEJOS COMUNAL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800.000,00 MIL BOLIVARES FUERTES DISPONIBLES PARA FINANCIAMIEN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NSEJOCMNDA</cp:lastModifiedBy>
  <dcterms:modified xsi:type="dcterms:W3CDTF">2008-05-08T15:51:0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