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gif" ContentType="image/gif"/>
  <Override PartName="/ppt/media/image10.jpeg" ContentType="image/jpeg"/>
  <Override PartName="/ppt/media/image20.jpeg" ContentType="image/jpeg"/>
  <Override PartName="/ppt/media/image19.jpeg" ContentType="image/jpeg"/>
  <Override PartName="/ppt/media/image28.jpeg" ContentType="image/jpeg"/>
  <Override PartName="/ppt/media/image7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14.jpeg" ContentType="image/jpeg"/>
  <Override PartName="/ppt/media/image12.jpeg" ContentType="image/jpeg"/>
  <Override PartName="/ppt/media/image34.wmf" ContentType="image/x-wmf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helechos prsentacion"/>
          <p:cNvPicPr/>
          <p:nvPr/>
        </p:nvPicPr>
        <p:blipFill>
          <a:blip r:embed="rId2"/>
          <a:stretch/>
        </p:blipFill>
        <p:spPr>
          <a:xfrm>
            <a:off x="0" y="0"/>
            <a:ext cx="4406760" cy="9018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12" descr="logo tierra viva"/>
          <p:cNvPicPr/>
          <p:nvPr/>
        </p:nvPicPr>
        <p:blipFill>
          <a:blip r:embed="rId3"/>
          <a:stretch/>
        </p:blipFill>
        <p:spPr>
          <a:xfrm>
            <a:off x="7162920" y="3049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3"/>
          <p:cNvSpPr/>
          <p:nvPr/>
        </p:nvSpPr>
        <p:spPr>
          <a:xfrm>
            <a:off x="1219320" y="65530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Book Antiqua"/>
              </a:rPr>
              <a:t>www.tierraviva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helechos prsentacion"/>
          <p:cNvPicPr/>
          <p:nvPr/>
        </p:nvPicPr>
        <p:blipFill>
          <a:blip r:embed="rId2"/>
          <a:stretch/>
        </p:blipFill>
        <p:spPr>
          <a:xfrm>
            <a:off x="609480" y="0"/>
            <a:ext cx="4407120" cy="9018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3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265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logo tierra viva"/>
          <p:cNvPicPr/>
          <p:nvPr/>
        </p:nvPicPr>
        <p:blipFill>
          <a:blip r:embed="rId3"/>
          <a:stretch/>
        </p:blipFill>
        <p:spPr>
          <a:xfrm>
            <a:off x="7543800" y="228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gif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jpeg"/><Relationship Id="rId13" Type="http://schemas.openxmlformats.org/officeDocument/2006/relationships/image" Target="../media/image25.jpeg"/><Relationship Id="rId14" Type="http://schemas.openxmlformats.org/officeDocument/2006/relationships/image" Target="../media/image26.jpeg"/><Relationship Id="rId15" Type="http://schemas.openxmlformats.org/officeDocument/2006/relationships/image" Target="../media/image27.jpeg"/><Relationship Id="rId16" Type="http://schemas.openxmlformats.org/officeDocument/2006/relationships/image" Target="../media/image28.jpeg"/><Relationship Id="rId17" Type="http://schemas.openxmlformats.org/officeDocument/2006/relationships/image" Target="../media/image29.jpeg"/><Relationship Id="rId18" Type="http://schemas.openxmlformats.org/officeDocument/2006/relationships/image" Target="../media/image30.jpeg"/><Relationship Id="rId19" Type="http://schemas.openxmlformats.org/officeDocument/2006/relationships/image" Target="../media/image31.jpeg"/><Relationship Id="rId20" Type="http://schemas.openxmlformats.org/officeDocument/2006/relationships/image" Target="../media/image32.png"/><Relationship Id="rId21" Type="http://schemas.openxmlformats.org/officeDocument/2006/relationships/image" Target="../media/image33.png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1066680" y="200988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Book Antiqua"/>
              </a:rPr>
              <a:t>Informe Anual 200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0" y="3048120"/>
            <a:ext cx="914400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8" descr="C:\Documents and Settings\Master\Escritorio\Sin-título-1.jpg"/>
          <p:cNvPicPr/>
          <p:nvPr/>
        </p:nvPicPr>
        <p:blipFill>
          <a:blip r:embed="rId1"/>
          <a:srcRect l="1662" t="0" r="102" b="6342"/>
          <a:stretch/>
        </p:blipFill>
        <p:spPr>
          <a:xfrm>
            <a:off x="0" y="3886200"/>
            <a:ext cx="914400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762120" y="2514600"/>
            <a:ext cx="81532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468360" y="981000"/>
            <a:ext cx="6018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Book Antiqua"/>
              </a:rPr>
              <a:t>Fortalecimiento Institucio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9280" y="1479600"/>
            <a:ext cx="504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Book Antiqua"/>
              </a:rPr>
              <a:t>Plan Estratégico 2006-2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Book Antiqua"/>
              </a:rPr>
              <a:t>Nueva estructura oper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Book Antiqua"/>
              </a:rPr>
              <a:t>Registro como           beneficiario Ley         Orgánica de Ciencia, Tecnología                              e Innov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Book Antiqua"/>
              </a:rPr>
              <a:t>33 proyectos            validados y 7         financ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Book Antiqua"/>
              </a:rPr>
              <a:t>2 premios y  reconoc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9" descr="C:\Documents and Settings\Master\Escritorio\Sin-título-10.jpg"/>
          <p:cNvPicPr/>
          <p:nvPr/>
        </p:nvPicPr>
        <p:blipFill>
          <a:blip r:embed="rId1"/>
          <a:stretch/>
        </p:blipFill>
        <p:spPr>
          <a:xfrm>
            <a:off x="3971880" y="2478240"/>
            <a:ext cx="51246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logo tabacalera color  2"/>
          <p:cNvPicPr/>
          <p:nvPr/>
        </p:nvPicPr>
        <p:blipFill>
          <a:blip r:embed="rId1"/>
          <a:stretch/>
        </p:blipFill>
        <p:spPr>
          <a:xfrm>
            <a:off x="539640" y="1844640"/>
            <a:ext cx="1368360" cy="1011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pectec shell"/>
          <p:cNvPicPr/>
          <p:nvPr/>
        </p:nvPicPr>
        <p:blipFill>
          <a:blip r:embed="rId2"/>
          <a:stretch/>
        </p:blipFill>
        <p:spPr>
          <a:xfrm>
            <a:off x="3995640" y="1628640"/>
            <a:ext cx="1220760" cy="1220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PMI_lg"/>
          <p:cNvPicPr/>
          <p:nvPr/>
        </p:nvPicPr>
        <p:blipFill>
          <a:blip r:embed="rId3"/>
          <a:stretch/>
        </p:blipFill>
        <p:spPr>
          <a:xfrm>
            <a:off x="2124000" y="1844640"/>
            <a:ext cx="1656000" cy="1017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CAF"/>
          <p:cNvPicPr/>
          <p:nvPr/>
        </p:nvPicPr>
        <p:blipFill>
          <a:blip r:embed="rId4"/>
          <a:stretch/>
        </p:blipFill>
        <p:spPr>
          <a:xfrm>
            <a:off x="5435640" y="1989000"/>
            <a:ext cx="1359000" cy="7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cplogo_red-black"/>
          <p:cNvPicPr/>
          <p:nvPr/>
        </p:nvPicPr>
        <p:blipFill>
          <a:blip r:embed="rId5"/>
          <a:stretch/>
        </p:blipFill>
        <p:spPr>
          <a:xfrm>
            <a:off x="4498920" y="3141720"/>
            <a:ext cx="2594160" cy="617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Logo CMDNA"/>
          <p:cNvPicPr/>
          <p:nvPr/>
        </p:nvPicPr>
        <p:blipFill>
          <a:blip r:embed="rId6"/>
          <a:stretch/>
        </p:blipFill>
        <p:spPr>
          <a:xfrm>
            <a:off x="3346560" y="4797360"/>
            <a:ext cx="1441440" cy="9730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2"/>
          <p:cNvSpPr/>
          <p:nvPr/>
        </p:nvSpPr>
        <p:spPr>
          <a:xfrm>
            <a:off x="539640" y="1052640"/>
            <a:ext cx="58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Book Antiqua"/>
              </a:rPr>
              <a:t>Patrocinantes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3" descr="statoil"/>
          <p:cNvPicPr/>
          <p:nvPr/>
        </p:nvPicPr>
        <p:blipFill>
          <a:blip r:embed="rId7"/>
          <a:stretch/>
        </p:blipFill>
        <p:spPr>
          <a:xfrm>
            <a:off x="395280" y="3141720"/>
            <a:ext cx="1380960" cy="151272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14"/>
          <p:cNvGrpSpPr/>
          <p:nvPr/>
        </p:nvGrpSpPr>
        <p:grpSpPr>
          <a:xfrm>
            <a:off x="611280" y="4870440"/>
            <a:ext cx="2520360" cy="574560"/>
            <a:chOff x="611280" y="4870440"/>
            <a:chExt cx="2520360" cy="574560"/>
          </a:xfrm>
        </p:grpSpPr>
        <p:pic>
          <p:nvPicPr>
            <p:cNvPr id="131" name="Picture 15" descr="letras"/>
            <p:cNvPicPr/>
            <p:nvPr/>
          </p:nvPicPr>
          <p:blipFill>
            <a:blip r:embed="rId8"/>
            <a:stretch/>
          </p:blipFill>
          <p:spPr>
            <a:xfrm>
              <a:off x="1206360" y="4870440"/>
              <a:ext cx="1925280" cy="5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6" descr="logo_blanco"/>
            <p:cNvPicPr/>
            <p:nvPr/>
          </p:nvPicPr>
          <p:blipFill>
            <a:blip r:embed="rId9"/>
            <a:stretch/>
          </p:blipFill>
          <p:spPr>
            <a:xfrm>
              <a:off x="611280" y="4870440"/>
              <a:ext cx="591840" cy="56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" name="Picture 17" descr="DVC"/>
          <p:cNvPicPr/>
          <p:nvPr/>
        </p:nvPicPr>
        <p:blipFill>
          <a:blip r:embed="rId10"/>
          <a:stretch/>
        </p:blipFill>
        <p:spPr>
          <a:xfrm>
            <a:off x="7432560" y="1844640"/>
            <a:ext cx="1152720" cy="1073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mercadolibre"/>
          <p:cNvPicPr/>
          <p:nvPr/>
        </p:nvPicPr>
        <p:blipFill>
          <a:blip r:embed="rId11"/>
          <a:stretch/>
        </p:blipFill>
        <p:spPr>
          <a:xfrm>
            <a:off x="4932360" y="5121360"/>
            <a:ext cx="1487520" cy="111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9" descr="inelectra"/>
          <p:cNvPicPr/>
          <p:nvPr/>
        </p:nvPicPr>
        <p:blipFill>
          <a:blip r:embed="rId12"/>
          <a:stretch/>
        </p:blipFill>
        <p:spPr>
          <a:xfrm>
            <a:off x="2124000" y="3933720"/>
            <a:ext cx="1644840" cy="635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0" descr="logo faramatodo"/>
          <p:cNvPicPr/>
          <p:nvPr/>
        </p:nvPicPr>
        <p:blipFill>
          <a:blip r:embed="rId13"/>
          <a:stretch/>
        </p:blipFill>
        <p:spPr>
          <a:xfrm>
            <a:off x="6659640" y="4149720"/>
            <a:ext cx="2232000" cy="533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1" descr="logo valeo fondo blanco"/>
          <p:cNvPicPr/>
          <p:nvPr/>
        </p:nvPicPr>
        <p:blipFill>
          <a:blip r:embed="rId14"/>
          <a:stretch/>
        </p:blipFill>
        <p:spPr>
          <a:xfrm>
            <a:off x="6372360" y="5157720"/>
            <a:ext cx="1368360" cy="719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2" descr="logo drcartucho"/>
          <p:cNvPicPr/>
          <p:nvPr/>
        </p:nvPicPr>
        <p:blipFill>
          <a:blip r:embed="rId15"/>
          <a:stretch/>
        </p:blipFill>
        <p:spPr>
          <a:xfrm>
            <a:off x="3203640" y="5821200"/>
            <a:ext cx="1728720" cy="560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3" descr="logo conservación internacional"/>
          <p:cNvPicPr/>
          <p:nvPr/>
        </p:nvPicPr>
        <p:blipFill>
          <a:blip r:embed="rId16"/>
          <a:stretch/>
        </p:blipFill>
        <p:spPr>
          <a:xfrm>
            <a:off x="7812000" y="5335560"/>
            <a:ext cx="1152720" cy="1046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4" descr=""/>
          <p:cNvPicPr/>
          <p:nvPr/>
        </p:nvPicPr>
        <p:blipFill>
          <a:blip r:embed="rId17"/>
          <a:stretch/>
        </p:blipFill>
        <p:spPr>
          <a:xfrm>
            <a:off x="682560" y="5734080"/>
            <a:ext cx="2160720" cy="560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5" descr=""/>
          <p:cNvPicPr/>
          <p:nvPr/>
        </p:nvPicPr>
        <p:blipFill>
          <a:blip r:embed="rId18"/>
          <a:stretch/>
        </p:blipFill>
        <p:spPr>
          <a:xfrm>
            <a:off x="4211640" y="3933720"/>
            <a:ext cx="1895400" cy="833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6" descr="logo_vzla"/>
          <p:cNvPicPr/>
          <p:nvPr/>
        </p:nvPicPr>
        <p:blipFill>
          <a:blip r:embed="rId19"/>
          <a:stretch/>
        </p:blipFill>
        <p:spPr>
          <a:xfrm>
            <a:off x="7091280" y="2997360"/>
            <a:ext cx="1714680" cy="1085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7" descr="logo-mercantil-fondo-blanco 212"/>
          <p:cNvPicPr/>
          <p:nvPr/>
        </p:nvPicPr>
        <p:blipFill>
          <a:blip r:embed="rId20"/>
          <a:stretch/>
        </p:blipFill>
        <p:spPr>
          <a:xfrm>
            <a:off x="1847880" y="2901960"/>
            <a:ext cx="2652840" cy="1031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8" descr="dow_header_logo2"/>
          <p:cNvPicPr/>
          <p:nvPr/>
        </p:nvPicPr>
        <p:blipFill>
          <a:blip r:embed="rId21"/>
          <a:stretch/>
        </p:blipFill>
        <p:spPr>
          <a:xfrm>
            <a:off x="7734240" y="4654440"/>
            <a:ext cx="140976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762120" y="2514600"/>
            <a:ext cx="81532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468360" y="981000"/>
            <a:ext cx="6018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Book Antiqua"/>
              </a:rPr>
              <a:t>Recursos ejecutados 200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79280" y="1484280"/>
            <a:ext cx="8736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Object 5"/>
          <p:cNvGraphicFramePr/>
          <p:nvPr/>
        </p:nvGraphicFramePr>
        <p:xfrm>
          <a:off x="971640" y="1479600"/>
          <a:ext cx="6480000" cy="495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79600"/>
                    <a:ext cx="648000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762120" y="2514600"/>
            <a:ext cx="81532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468360" y="981000"/>
            <a:ext cx="6018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Book Antiqua"/>
              </a:rPr>
              <a:t>Origen de los Ingresos 200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79280" y="1484280"/>
            <a:ext cx="87361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762120" y="1557360"/>
          <a:ext cx="7410240" cy="490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57360"/>
                    <a:ext cx="7410240" cy="49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066680" y="2286000"/>
            <a:ext cx="741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197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3192480" y="1413000"/>
            <a:ext cx="55562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Book Antiqua"/>
              </a:rPr>
              <a:t>Program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Book Antiqua"/>
              </a:rPr>
              <a:t>de Desarrollo Suste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9" descr="C:\Documents and Settings\Master\Escritorio\Sin-título-2.jpg"/>
          <p:cNvPicPr/>
          <p:nvPr/>
        </p:nvPicPr>
        <p:blipFill>
          <a:blip r:embed="rId1"/>
          <a:stretch/>
        </p:blipFill>
        <p:spPr>
          <a:xfrm>
            <a:off x="12600" y="909720"/>
            <a:ext cx="3514680" cy="32288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611280" y="3789360"/>
            <a:ext cx="74102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Book Antiqua"/>
              </a:rPr>
              <a:t>Cuenca del Lago de Val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Book Antiqua"/>
              </a:rPr>
              <a:t>Parque Nacional Henri Pittier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Book Antiqua"/>
              </a:rPr>
              <a:t>Delta del Río Orino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Book Antiqua"/>
              </a:rPr>
              <a:t>Municipio Osp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Book Antiqua"/>
              </a:rPr>
              <a:t>Comunicación para el Desarrollo Suste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0" descr="C:\Documents and Settings\Master\Escritorio\Sin-título-3.jpg"/>
          <p:cNvPicPr/>
          <p:nvPr/>
        </p:nvPicPr>
        <p:blipFill>
          <a:blip r:embed="rId2"/>
          <a:stretch/>
        </p:blipFill>
        <p:spPr>
          <a:xfrm>
            <a:off x="6543720" y="2948040"/>
            <a:ext cx="26002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762120" y="2514600"/>
            <a:ext cx="81532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12"/>
          <p:cNvSpPr/>
          <p:nvPr/>
        </p:nvSpPr>
        <p:spPr>
          <a:xfrm>
            <a:off x="2532240" y="2347920"/>
            <a:ext cx="2206440" cy="220968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13"/>
          <p:cNvSpPr/>
          <p:nvPr/>
        </p:nvSpPr>
        <p:spPr>
          <a:xfrm>
            <a:off x="2316240" y="3871800"/>
            <a:ext cx="2206440" cy="221004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14"/>
          <p:cNvSpPr/>
          <p:nvPr/>
        </p:nvSpPr>
        <p:spPr>
          <a:xfrm>
            <a:off x="3900600" y="3191040"/>
            <a:ext cx="2206440" cy="220968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569880" y="1076400"/>
            <a:ext cx="6018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Book Antiqua"/>
              </a:rPr>
              <a:t>Dimensiones del Desarrollo Suste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4213080" y="214308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Book Antiqua"/>
              </a:rPr>
              <a:t>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1459440" y="5705640"/>
            <a:ext cx="10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Book Antiqu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5987520" y="448164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Book Antiqua"/>
              </a:rPr>
              <a:t>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762120" y="2514600"/>
            <a:ext cx="81532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24000" y="981000"/>
            <a:ext cx="628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Book Antiqua"/>
              </a:rPr>
              <a:t>Ambi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324000" y="1833480"/>
            <a:ext cx="587844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Book Antiqua"/>
              </a:rPr>
              <a:t>Aula, Ambiente y Com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Book Antiqua"/>
              </a:rPr>
              <a:t>Día Mundial del Ambiente y 5to Festival de Galerón en Tucup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Book Antiqua"/>
              </a:rPr>
              <a:t>II Caminata en pareja, </a:t>
            </a:r>
            <a:r>
              <a:rPr b="0" i="1" lang="es-MX" sz="2800" spc="-1" strike="noStrike">
                <a:solidFill>
                  <a:srgbClr val="000066"/>
                </a:solidFill>
                <a:latin typeface="Book Antiqua"/>
              </a:rPr>
              <a:t>El Ávila, Tierra V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Book Antiqua"/>
              </a:rPr>
              <a:t>Biblioteca Morita Carri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Book Antiqua"/>
              </a:rPr>
              <a:t>Ecocl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Book Antiqua"/>
              </a:rPr>
              <a:t>7mo año del Mes ambiental del Estado Carabobo (Bibliotec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3" descr="C:\Documents and Settings\Master\Escritorio\Sin-título-4.jpg"/>
          <p:cNvPicPr/>
          <p:nvPr/>
        </p:nvPicPr>
        <p:blipFill>
          <a:blip r:embed="rId1"/>
          <a:stretch/>
        </p:blipFill>
        <p:spPr>
          <a:xfrm>
            <a:off x="6095880" y="1805040"/>
            <a:ext cx="301968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762120" y="2514600"/>
            <a:ext cx="81532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79280" y="1052640"/>
            <a:ext cx="6018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Book Antiqua"/>
              </a:rPr>
              <a:t>Saneamiento y salu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50920" y="1773360"/>
            <a:ext cx="43210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Book Antiqua"/>
              </a:rPr>
              <a:t>Gestión de residuos sólidos en La Isabelica, Municipio Valencia, estado Carabob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Book Antiqua"/>
              </a:rPr>
              <a:t>Gestión de  residuos sólidos en Peder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Book Antiqua"/>
              </a:rPr>
              <a:t>Gestión del recurso agua en Peder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Book Antiqua"/>
              </a:rPr>
              <a:t>Comic “Que susto: una historia que merece ser contad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8" descr="C:\Documents and Settings\Master\Escritorio\Sin-título-5.jpg"/>
          <p:cNvPicPr/>
          <p:nvPr/>
        </p:nvPicPr>
        <p:blipFill>
          <a:blip r:embed="rId1"/>
          <a:stretch/>
        </p:blipFill>
        <p:spPr>
          <a:xfrm>
            <a:off x="5357880" y="1566720"/>
            <a:ext cx="375264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762120" y="2514600"/>
            <a:ext cx="81532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69880" y="1076400"/>
            <a:ext cx="6018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Book Antiqua"/>
              </a:rPr>
              <a:t>Economí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08000" y="1773360"/>
            <a:ext cx="30240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66"/>
                </a:solidFill>
                <a:latin typeface="Book Antiqua"/>
              </a:rPr>
              <a:t>Producción orgánica de cacao (3er añ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66"/>
                </a:solidFill>
                <a:latin typeface="Book Antiqua"/>
              </a:rPr>
              <a:t>Microempresas de derivados de caca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66"/>
                </a:solidFill>
                <a:latin typeface="Book Antiqua"/>
              </a:rPr>
              <a:t>Aventura, comercio jus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66"/>
                </a:solidFill>
                <a:latin typeface="Book Antiqua"/>
              </a:rPr>
              <a:t>La Ruta del Caca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66"/>
                </a:solidFill>
                <a:latin typeface="Book Antiqua"/>
              </a:rPr>
              <a:t>1er Chocolate orgán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C:\Documents and Settings\Master\Escritorio\Sin-título-6.jpg"/>
          <p:cNvPicPr/>
          <p:nvPr/>
        </p:nvPicPr>
        <p:blipFill>
          <a:blip r:embed="rId1"/>
          <a:stretch/>
        </p:blipFill>
        <p:spPr>
          <a:xfrm>
            <a:off x="2987640" y="1811160"/>
            <a:ext cx="61149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762120" y="2514600"/>
            <a:ext cx="81532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8" descr="C:\Documents and Settings\Master\Escritorio\Sin-título-7.jpg"/>
          <p:cNvPicPr/>
          <p:nvPr/>
        </p:nvPicPr>
        <p:blipFill>
          <a:blip r:embed="rId1"/>
          <a:stretch/>
        </p:blipFill>
        <p:spPr>
          <a:xfrm>
            <a:off x="195120" y="504720"/>
            <a:ext cx="875376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762120" y="2514600"/>
            <a:ext cx="81532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569880" y="1076400"/>
            <a:ext cx="6018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Book Antiqua"/>
              </a:rPr>
              <a:t>Desarrollo de capacida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79280" y="1628640"/>
            <a:ext cx="784872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Book Antiqua"/>
              </a:rPr>
              <a:t>8 procesos de capacitación que involucran jóvenes, docentes, bibliotecarios, comunidades urbanas y rurales (incluyendo warao),                     productores de cacao y                                        campes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Book Antiqua"/>
              </a:rPr>
              <a:t>Mejoras en el                                   conocimiento, las                                     habilidades personales                                        y la organización                                comunit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Book Antiqua"/>
              </a:rPr>
              <a:t>Producción de                                       mate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C:\Documents and Settings\Master\Escritorio\Sin-título-8.jpg"/>
          <p:cNvPicPr/>
          <p:nvPr/>
        </p:nvPicPr>
        <p:blipFill>
          <a:blip r:embed="rId1"/>
          <a:stretch/>
        </p:blipFill>
        <p:spPr>
          <a:xfrm>
            <a:off x="4395960" y="2867040"/>
            <a:ext cx="47052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762120" y="2514600"/>
            <a:ext cx="81532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24000" y="981000"/>
            <a:ext cx="6018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Book Antiqua"/>
              </a:rPr>
              <a:t>Comunic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79280" y="1484280"/>
            <a:ext cx="7410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Book Antiqua"/>
              </a:rPr>
              <a:t>Suplemento sobre “Metas del Milenio” en el Diario El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Book Antiqua"/>
              </a:rPr>
              <a:t>21 ediciones del Boletín Ambiente              en Le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Book Antiqua"/>
              </a:rPr>
              <a:t>23 Notas de prensa y varios             report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Book Antiqua"/>
              </a:rPr>
              <a:t>Guía de Valentina Quinte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Book Antiqua"/>
              </a:rPr>
              <a:t>Exposición:  Producción              agroecológica de cacao en el                 marco del Desarrollo Sustentable,                II Congreso de Cacao y su               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7" descr="C:\Documents and Settings\Master\Escritorio\Sin-título-9.jpg"/>
          <p:cNvPicPr/>
          <p:nvPr/>
        </p:nvPicPr>
        <p:blipFill>
          <a:blip r:embed="rId1"/>
          <a:stretch/>
        </p:blipFill>
        <p:spPr>
          <a:xfrm>
            <a:off x="6072120" y="2352600"/>
            <a:ext cx="29527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6T19:55:29Z</dcterms:created>
  <dc:creator>TV1</dc:creator>
  <dc:description/>
  <dc:language>en-US</dc:language>
  <cp:lastModifiedBy>Janh A. Navarro B.</cp:lastModifiedBy>
  <dcterms:modified xsi:type="dcterms:W3CDTF">2008-06-05T19:50:37Z</dcterms:modified>
  <cp:revision>250</cp:revision>
  <dc:subject/>
  <dc:title>Presentación de PowerPoint</dc:title>
</cp:coreProperties>
</file>