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7.jpeg" ContentType="image/jpeg"/>
  <Override PartName="/ppt/media/image17.png" ContentType="image/png"/>
  <Override PartName="/ppt/media/image26.jpeg" ContentType="image/jpeg"/>
  <Override PartName="/ppt/media/image19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png" ContentType="image/png"/>
  <Override PartName="/ppt/media/image24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0D3-A521-47EE-879B-22BD6644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5EC4-8F29-434E-8DF7-F0E3E3D8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BFD-FA69-4155-A161-7A70096D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B04-167C-44DA-85AB-D99F656B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FC7A-94D8-4E76-80DF-E3F783E2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A37B-62B2-49DE-8D59-9CBE1B68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4A21-E52F-4008-B846-EA4802BD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C11D-F707-44D4-A95B-39A6C3C6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48C4-0A0A-476B-9AD1-CBB1261D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C524-2C8D-45DD-9877-5ECA6CE4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7E33-15AA-4475-87D9-4C6262C8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12F4-3859-4F80-923D-F29DC07C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97F0-46EC-4AAA-ACD4-286E0CEC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0CB3-7BF3-4E2F-87F8-DF44C12F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80F1-7A23-4E8E-9619-34AD4B62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FAF3-AFAE-458C-8BA2-40E86256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B58C-18BF-4EA2-951D-7C4D795C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D7244-6187-494C-93BF-1ADF6CC5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0B633-269F-4505-A74D-F3B57B25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6CEEA-5D7A-4E8F-807B-BAFA07A6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E167A-FED7-451E-BF01-76E2974C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E7516-7352-4ED3-81CF-E5D02F1A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83A7-4661-4E66-99F7-3FB52A34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B6E36-F946-4A16-938B-4874D629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40386-7ADC-4DD1-8A43-6D509F8A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FD1B5-B45D-452C-A8AD-86B38677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74F36-9BEB-421E-B670-6CCD73CE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2B8DD-A389-4A1C-83C2-6E411B39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3ED2A-58C2-45DF-9C66-D8FE9E8D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63ABB-9D4B-4B70-93EF-A9428CCE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8CCC-AFA7-4DC8-86C7-253E6F4D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9A6C-A5E0-4B28-B279-E1758106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109-8BB0-4D7A-97BD-217CB895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14CC-8D57-4C33-AD99-F3396BFB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96FF-7CE0-4E1B-BA23-0E0837B3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155-6E24-4A3C-8D11-D2486661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428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244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244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244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244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244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244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244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244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244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244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244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244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244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30609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30609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44E6-E82C-4CA1-864F-13F3286E82BF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6D39-0414-4D48-BAB2-B1C0FDE6FE9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428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121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122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grpSp>
          <p:nvGrpSpPr>
            <p:cNvPr id="12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244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5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244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6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244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7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244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8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244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129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244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0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244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1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244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2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244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3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244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4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244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5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244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136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336699"/>
                  </a:gs>
                  <a:gs pos="100000">
                    <a:srgbClr val="2244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</p:grpSp>
        <p:sp>
          <p:nvSpPr>
            <p:cNvPr id="137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30609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30609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144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14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14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14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grpSp>
          <p:nvGrpSpPr>
            <p:cNvPr id="14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  <p:sp>
            <p:nvSpPr>
              <p:cNvPr id="15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Verdana"/>
                </a:endParaRPr>
              </a:p>
            </p:txBody>
          </p:sp>
        </p:grpSp>
        <p:sp>
          <p:nvSpPr>
            <p:cNvPr id="15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  <p:sp>
          <p:nvSpPr>
            <p:cNvPr id="15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Verdana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691A-CD7F-45FB-8B11-0E60DED8CBC1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redsoc@redsoc.org.ve" TargetMode="External"/><Relationship Id="rId3" Type="http://schemas.openxmlformats.org/officeDocument/2006/relationships/hyperlink" Target="http://www.redsoc.org.ve/" TargetMode="External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hyperlink" Target="http://images.google.co.ve/imgres?imgurl=http://www.sida.se/content/1/c6/01/96/36/startsidebild.jpg&amp;imgrefurl=http://www.sida.se/Sida/jsp/polopoly.jsp?d=177&amp;h=262&amp;w=390&amp;sz=14&amp;tbnid=SEzyr9C5WuYJ:&amp;tbnh=80&amp;tbnw=119&amp;start=204&amp;prev=/images?q=desarrollo&amp;start=200&amp;hl=es&amp;lr=&amp;sa=N" TargetMode="External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428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3920" y="3429000"/>
            <a:ext cx="9053640" cy="3247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800" spc="-1" strike="noStrike">
                <a:solidFill>
                  <a:srgbClr val="ffffcc"/>
                </a:solidFill>
                <a:latin typeface="Arial"/>
              </a:rPr>
              <a:t>RESULTADOS ASAMBLEA </a:t>
            </a:r>
            <a:br>
              <a:rPr sz="4800"/>
            </a:br>
            <a:r>
              <a:rPr b="0" lang="es-VE" sz="4800" spc="-1" strike="noStrike">
                <a:solidFill>
                  <a:srgbClr val="ffffcc"/>
                </a:solidFill>
                <a:latin typeface="Arial"/>
              </a:rPr>
              <a:t>DE LA RED SOCIAL</a:t>
            </a:r>
            <a:br>
              <a:rPr sz="4800"/>
            </a:br>
            <a:r>
              <a:rPr b="0" lang="es-VE" sz="2800" spc="-1" strike="noStrike">
                <a:solidFill>
                  <a:srgbClr val="ccecff"/>
                </a:solidFill>
                <a:latin typeface="Arial"/>
              </a:rPr>
              <a:t>Síntesis a partir de la Minuta</a:t>
            </a:r>
            <a:br>
              <a:rPr sz="2800"/>
            </a:br>
            <a:r>
              <a:rPr b="0" lang="es-VE" sz="2800" spc="-1" strike="noStrike">
                <a:solidFill>
                  <a:srgbClr val="ccecff"/>
                </a:solidFill>
                <a:latin typeface="Arial"/>
              </a:rPr>
              <a:t>del 07/05/2008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0" y="191736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ffffff"/>
                </a:solidFill>
                <a:latin typeface="Verdana"/>
              </a:rPr>
              <a:t>Red Venezolana de Organizaciones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600" spc="-1" strike="noStrike">
                <a:solidFill>
                  <a:srgbClr val="ffffff"/>
                </a:solidFill>
                <a:latin typeface="Verdana"/>
              </a:rPr>
              <a:t>para el Desarrollo Socia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7" descr="Emblema-Redsoc-FINAL-BLANCO"/>
          <p:cNvPicPr/>
          <p:nvPr/>
        </p:nvPicPr>
        <p:blipFill>
          <a:blip r:embed="rId1"/>
          <a:stretch/>
        </p:blipFill>
        <p:spPr>
          <a:xfrm>
            <a:off x="3059280" y="549360"/>
            <a:ext cx="29527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428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8" descr="C:\Documents and Settings\Master\Escritorio\Sin-título-16.jpg"/>
          <p:cNvPicPr/>
          <p:nvPr/>
        </p:nvPicPr>
        <p:blipFill>
          <a:blip r:embed="rId1"/>
          <a:srcRect l="1362" t="10105" r="2487" b="6567"/>
          <a:stretch/>
        </p:blipFill>
        <p:spPr>
          <a:xfrm>
            <a:off x="5608800" y="0"/>
            <a:ext cx="3535200" cy="1270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C:\Documents and Settings\Master\Escritorio\Sin-título-15.jpg"/>
          <p:cNvPicPr/>
          <p:nvPr/>
        </p:nvPicPr>
        <p:blipFill>
          <a:blip r:embed="rId2"/>
          <a:srcRect l="0" t="0" r="2007" b="6158"/>
          <a:stretch/>
        </p:blipFill>
        <p:spPr>
          <a:xfrm>
            <a:off x="0" y="4680"/>
            <a:ext cx="3603600" cy="1278000"/>
          </a:xfrm>
          <a:prstGeom prst="rect">
            <a:avLst/>
          </a:prstGeom>
          <a:ln w="0">
            <a:noFill/>
          </a:ln>
        </p:spPr>
      </p:pic>
      <p:sp>
        <p:nvSpPr>
          <p:cNvPr id="265" name="4 CuadroTexto"/>
          <p:cNvSpPr/>
          <p:nvPr/>
        </p:nvSpPr>
        <p:spPr>
          <a:xfrm>
            <a:off x="1338120" y="1739880"/>
            <a:ext cx="67690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Beatriz Troconis de la USB: recuerda las actividades que la USB tiene programada para los días 27, 28 y 29 de mayo.</a:t>
            </a:r>
            <a:endParaRPr b="0" lang="en-US" sz="16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 algn="just"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Diana Vegas del grupo CESAP: informa la participación en el Foro de la OEA.</a:t>
            </a:r>
            <a:endParaRPr b="0" lang="en-US" sz="16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 algn="just"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Luisana Gómez del CEM-UCV: invita al taller sobre tratamiento de la violencia contra la mujer.</a:t>
            </a:r>
            <a:endParaRPr b="0" lang="en-US" sz="16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 algn="just"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Leopoldo Rodríguez de INLAC: informa sobre la última versión del ISO26000.</a:t>
            </a:r>
            <a:endParaRPr b="0" lang="en-US" sz="16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 algn="just"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Consuelo Morrillo de REDSOC: informa que se continua con la alianza con la USB y se está programando abrir un taller del programa Poeta.</a:t>
            </a:r>
            <a:endParaRPr b="0" lang="en-US" sz="16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89200" y="407520"/>
            <a:ext cx="1828800" cy="1087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oticiero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7" name="Picture 6" descr="Emblema-Redsoc-FINAL-BLANCO"/>
          <p:cNvPicPr/>
          <p:nvPr/>
        </p:nvPicPr>
        <p:blipFill>
          <a:blip r:embed="rId3"/>
          <a:stretch/>
        </p:blipFill>
        <p:spPr>
          <a:xfrm>
            <a:off x="4416480" y="609480"/>
            <a:ext cx="172548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05168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336699"/>
                </a:solidFill>
                <a:latin typeface="Tahoma"/>
              </a:rPr>
              <a:t>REDSOC</a:t>
            </a:r>
            <a:br>
              <a:rPr sz="3600"/>
            </a:br>
            <a:br>
              <a:rPr sz="3600"/>
            </a:br>
            <a:r>
              <a:rPr b="0" lang="es-VE" sz="2400" spc="-1" strike="noStrike">
                <a:solidFill>
                  <a:srgbClr val="336699"/>
                </a:solidFill>
                <a:latin typeface="Tahoma"/>
              </a:rPr>
              <a:t>Dirección: 2ª. Ave. Los Cortijos de Lourdes. Edificio Fundación Polar. Mezzanina.</a:t>
            </a:r>
            <a:br>
              <a:rPr sz="2400"/>
            </a:br>
            <a:r>
              <a:rPr b="0" lang="es-VE" sz="2400" spc="-1" strike="noStrike">
                <a:solidFill>
                  <a:srgbClr val="336699"/>
                </a:solidFill>
                <a:latin typeface="Tahoma"/>
              </a:rPr>
              <a:t>Teléfono: (0212) 202.7540</a:t>
            </a:r>
            <a:br>
              <a:rPr sz="2400"/>
            </a:br>
            <a:r>
              <a:rPr b="0" lang="es-VE" sz="2400" spc="-1" strike="noStrike">
                <a:solidFill>
                  <a:srgbClr val="336699"/>
                </a:solidFill>
                <a:latin typeface="Tahoma"/>
              </a:rPr>
              <a:t>Fax: (0212) 202.7626</a:t>
            </a:r>
            <a:br>
              <a:rPr sz="2400"/>
            </a:br>
            <a:br>
              <a:rPr sz="2400"/>
            </a:br>
            <a:r>
              <a:rPr b="0" lang="es-VE" sz="2800" spc="-1" strike="noStrike">
                <a:solidFill>
                  <a:srgbClr val="336699"/>
                </a:solidFill>
                <a:latin typeface="Tahoma"/>
              </a:rPr>
              <a:t>E-mail: </a:t>
            </a:r>
            <a:r>
              <a:rPr b="0" lang="es-VE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redsoc@redsoc.org.ve</a:t>
            </a:r>
            <a:br>
              <a:rPr sz="2800"/>
            </a:br>
            <a:r>
              <a:rPr b="0" lang="es-VE" sz="2800" spc="-1" strike="noStrike">
                <a:solidFill>
                  <a:srgbClr val="336699"/>
                </a:solidFill>
                <a:latin typeface="Tahoma"/>
              </a:rPr>
              <a:t>Web: </a:t>
            </a:r>
            <a:r>
              <a:rPr b="0" lang="es-VE" sz="2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.redsoc.org.ve</a:t>
            </a:r>
            <a:r>
              <a:rPr b="0" lang="es-VE" sz="40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270" name="Rectangle 5"/>
          <p:cNvSpPr/>
          <p:nvPr/>
        </p:nvSpPr>
        <p:spPr>
          <a:xfrm rot="16200000">
            <a:off x="4860000" y="-2762640"/>
            <a:ext cx="756000" cy="781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4"/>
          <a:srcRect l="1814" t="21029" r="4648" b="61337"/>
          <a:stretch/>
        </p:blipFill>
        <p:spPr>
          <a:xfrm>
            <a:off x="0" y="-2700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UNUMA%20045"/>
          <p:cNvPicPr/>
          <p:nvPr/>
        </p:nvPicPr>
        <p:blipFill>
          <a:blip r:embed="rId5"/>
          <a:stretch/>
        </p:blipFill>
        <p:spPr>
          <a:xfrm>
            <a:off x="179280" y="1700280"/>
            <a:ext cx="1152720" cy="798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JOCV2"/>
          <p:cNvPicPr/>
          <p:nvPr/>
        </p:nvPicPr>
        <p:blipFill>
          <a:blip r:embed="rId6"/>
          <a:stretch/>
        </p:blipFill>
        <p:spPr>
          <a:xfrm>
            <a:off x="179280" y="2708280"/>
            <a:ext cx="11527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foto_banner2"/>
          <p:cNvPicPr/>
          <p:nvPr/>
        </p:nvPicPr>
        <p:blipFill>
          <a:blip r:embed="rId7"/>
          <a:stretch/>
        </p:blipFill>
        <p:spPr>
          <a:xfrm>
            <a:off x="179280" y="371628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" descr="foto_banner1"/>
          <p:cNvPicPr/>
          <p:nvPr/>
        </p:nvPicPr>
        <p:blipFill>
          <a:blip r:embed="rId8"/>
          <a:stretch/>
        </p:blipFill>
        <p:spPr>
          <a:xfrm>
            <a:off x="179280" y="479736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1" descr="startsidebild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79280" y="5877000"/>
            <a:ext cx="1133640" cy="8636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3"/>
          <p:cNvSpPr/>
          <p:nvPr/>
        </p:nvSpPr>
        <p:spPr>
          <a:xfrm>
            <a:off x="2050920" y="4941720"/>
            <a:ext cx="61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428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800" spc="-1" strike="noStrike">
                <a:solidFill>
                  <a:srgbClr val="ffffcc"/>
                </a:solidFill>
                <a:latin typeface="Arial"/>
              </a:rPr>
              <a:t>Datos General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9280" y="1722240"/>
            <a:ext cx="896472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cc66"/>
                </a:solidFill>
                <a:latin typeface="Verdana"/>
              </a:rPr>
              <a:t>Fecha</a:t>
            </a:r>
            <a:r>
              <a:rPr b="1" lang="es-VE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1" lang="es-VE" sz="2400" spc="-1" strike="noStrike">
                <a:solidFill>
                  <a:srgbClr val="ffcc66"/>
                </a:solidFill>
                <a:latin typeface="Verdana"/>
              </a:rPr>
              <a:t>de la Asamblea</a:t>
            </a:r>
            <a:r>
              <a:rPr b="0" lang="es-VE" sz="2400" spc="-1" strike="noStrike">
                <a:solidFill>
                  <a:srgbClr val="ffffff"/>
                </a:solidFill>
                <a:latin typeface="Verdana"/>
              </a:rPr>
              <a:t>: 07/05/2008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cc66"/>
                </a:solidFill>
                <a:latin typeface="Verdana"/>
              </a:rPr>
              <a:t>Lugar</a:t>
            </a:r>
            <a:r>
              <a:rPr b="1" lang="es-VE" sz="24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omedor Ejecutivo, Edificio Fundación Empresas Pol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cc66"/>
                </a:solidFill>
                <a:latin typeface="Verdana"/>
              </a:rPr>
              <a:t>Moderador</a:t>
            </a:r>
            <a:r>
              <a:rPr b="0" lang="es-VE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VE" sz="2400" spc="-1" strike="noStrike">
                <a:solidFill>
                  <a:srgbClr val="ffffff"/>
                </a:solidFill>
                <a:latin typeface="Verdana"/>
              </a:rPr>
              <a:t>Bernardo Guinand, Centro de Salud Santa Iné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cc66"/>
                </a:solidFill>
                <a:latin typeface="Verdana"/>
              </a:rPr>
              <a:t>Relatora</a:t>
            </a:r>
            <a:r>
              <a:rPr b="0" lang="es-VE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VE" sz="2400" spc="-1" strike="noStrike">
                <a:solidFill>
                  <a:srgbClr val="ffffff"/>
                </a:solidFill>
                <a:latin typeface="Verdana"/>
              </a:rPr>
              <a:t>Estela Villasmil, REDSO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VE" sz="2400" spc="-1" strike="noStrike">
                <a:solidFill>
                  <a:srgbClr val="ffffff"/>
                </a:solidFill>
                <a:latin typeface="Verdana"/>
              </a:rPr>
              <a:t>Vanessa Villalobos, REDSO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VE" sz="2400" spc="-1" strike="noStrike">
                <a:solidFill>
                  <a:srgbClr val="ffffff"/>
                </a:solidFill>
                <a:latin typeface="Verdana"/>
              </a:rPr>
              <a:t>Angélica Montilla, ABC Prodei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cc66"/>
                </a:solidFill>
                <a:latin typeface="Verdana"/>
              </a:rPr>
              <a:t>Apoyo audiovisual realizado por</a:t>
            </a:r>
            <a:r>
              <a:rPr b="0" lang="es-VE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VE" sz="2400" spc="-1" strike="noStrike">
                <a:solidFill>
                  <a:srgbClr val="ffffff"/>
                </a:solidFill>
                <a:latin typeface="Verdana"/>
              </a:rPr>
              <a:t>Janh A.</a:t>
            </a:r>
            <a:r>
              <a:rPr b="0" lang="es-VE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VE" sz="2400" spc="-1" strike="noStrike">
                <a:solidFill>
                  <a:srgbClr val="ffffff"/>
                </a:solidFill>
                <a:latin typeface="Verdana"/>
              </a:rPr>
              <a:t>Navarro B.</a:t>
            </a:r>
            <a:r>
              <a:rPr b="1" lang="es-VE" sz="2400" spc="-1" strike="noStrike">
                <a:solidFill>
                  <a:srgbClr val="ffcc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cc66"/>
                </a:solidFill>
                <a:latin typeface="Verdana"/>
              </a:rPr>
              <a:t>N° de participantes</a:t>
            </a:r>
            <a:r>
              <a:rPr b="0" lang="es-VE" sz="2400" spc="-1" strike="noStrike">
                <a:solidFill>
                  <a:srgbClr val="ffffff"/>
                </a:solidFill>
                <a:latin typeface="Verdana"/>
              </a:rPr>
              <a:t>: 4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cc66"/>
                </a:solidFill>
                <a:latin typeface="Verdana"/>
              </a:rPr>
              <a:t>N° de ODS participantes</a:t>
            </a:r>
            <a:r>
              <a:rPr b="0" lang="es-VE" sz="2400" spc="-1" strike="noStrike">
                <a:solidFill>
                  <a:srgbClr val="ffffff"/>
                </a:solidFill>
                <a:latin typeface="Verdana"/>
              </a:rPr>
              <a:t>: 36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6" descr="Emblema-Redsoc-FINAL-BLANCO"/>
          <p:cNvPicPr/>
          <p:nvPr/>
        </p:nvPicPr>
        <p:blipFill>
          <a:blip r:embed="rId1"/>
          <a:stretch/>
        </p:blipFill>
        <p:spPr>
          <a:xfrm>
            <a:off x="324000" y="260280"/>
            <a:ext cx="151128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428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6" descr="Emblema-Redsoc-FINAL-BLANCO"/>
          <p:cNvPicPr/>
          <p:nvPr/>
        </p:nvPicPr>
        <p:blipFill>
          <a:blip r:embed="rId1"/>
          <a:stretch/>
        </p:blipFill>
        <p:spPr>
          <a:xfrm>
            <a:off x="281160" y="5907240"/>
            <a:ext cx="1511280" cy="623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0448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Comentarios sobre la minuta anterior  y apreciación de la asamblea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4 CuadroTexto"/>
          <p:cNvSpPr/>
          <p:nvPr/>
        </p:nvSpPr>
        <p:spPr>
          <a:xfrm>
            <a:off x="2909880" y="1138320"/>
            <a:ext cx="57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Dio la bienvenida a los asistentes por primera vez:</a:t>
            </a:r>
            <a:endParaRPr b="0" lang="en-US" sz="16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206" name="4 CuadroTexto"/>
          <p:cNvSpPr/>
          <p:nvPr/>
        </p:nvSpPr>
        <p:spPr>
          <a:xfrm>
            <a:off x="658800" y="2689200"/>
            <a:ext cx="1444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Consuelo Morillo, Directora REDSOC</a:t>
            </a:r>
            <a:endParaRPr b="0" lang="en-US" sz="10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207" name="4 CuadroTexto"/>
          <p:cNvSpPr/>
          <p:nvPr/>
        </p:nvSpPr>
        <p:spPr>
          <a:xfrm>
            <a:off x="3002040" y="4770360"/>
            <a:ext cx="564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preciación de la asamblea del 02 de Abril a través de gráficos, porcentajes y algunos comentarios realizados por las organizaciones.</a:t>
            </a:r>
            <a:endParaRPr b="0" lang="en-US" sz="16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pic>
        <p:nvPicPr>
          <p:cNvPr id="208" name="Picture 9" descr="Y:\Fotos\Asambleas 2008\Asamblea Redsoc 07_05_2008\P1010017.JPG"/>
          <p:cNvPicPr/>
          <p:nvPr/>
        </p:nvPicPr>
        <p:blipFill>
          <a:blip r:embed="rId2"/>
          <a:stretch/>
        </p:blipFill>
        <p:spPr>
          <a:xfrm>
            <a:off x="3840120" y="1743120"/>
            <a:ext cx="969840" cy="1092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Y:\Fotos\Asambleas 2008\Asamblea Redsoc 07_05_2008\P1010022.JPG"/>
          <p:cNvPicPr/>
          <p:nvPr/>
        </p:nvPicPr>
        <p:blipFill>
          <a:blip r:embed="rId3"/>
          <a:stretch/>
        </p:blipFill>
        <p:spPr>
          <a:xfrm>
            <a:off x="5005440" y="1743120"/>
            <a:ext cx="815760" cy="1092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Y:\Fotos\Asambleas 2008\Asamblea Redsoc 07_05_2008\P1010023.JPG"/>
          <p:cNvPicPr/>
          <p:nvPr/>
        </p:nvPicPr>
        <p:blipFill>
          <a:blip r:embed="rId4"/>
          <a:stretch/>
        </p:blipFill>
        <p:spPr>
          <a:xfrm>
            <a:off x="6284880" y="1743120"/>
            <a:ext cx="987480" cy="1092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Y:\Fotos\Asambleas 2008\Asamblea Redsoc 07_05_2008\P1010025.JPG"/>
          <p:cNvPicPr/>
          <p:nvPr/>
        </p:nvPicPr>
        <p:blipFill>
          <a:blip r:embed="rId5"/>
          <a:stretch/>
        </p:blipFill>
        <p:spPr>
          <a:xfrm>
            <a:off x="5505480" y="3144960"/>
            <a:ext cx="858960" cy="1092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Y:\Fotos\Asambleas 2008\Asamblea Redsoc 07_05_2008\P1010043.JPG"/>
          <p:cNvPicPr/>
          <p:nvPr/>
        </p:nvPicPr>
        <p:blipFill>
          <a:blip r:embed="rId6"/>
          <a:stretch/>
        </p:blipFill>
        <p:spPr>
          <a:xfrm>
            <a:off x="4511520" y="3144960"/>
            <a:ext cx="878040" cy="1092240"/>
          </a:xfrm>
          <a:prstGeom prst="rect">
            <a:avLst/>
          </a:prstGeom>
          <a:ln w="0">
            <a:noFill/>
          </a:ln>
        </p:spPr>
      </p:pic>
      <p:sp>
        <p:nvSpPr>
          <p:cNvPr id="213" name="4 CuadroTexto"/>
          <p:cNvSpPr/>
          <p:nvPr/>
        </p:nvSpPr>
        <p:spPr>
          <a:xfrm>
            <a:off x="3608280" y="2719440"/>
            <a:ext cx="15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María Isabel Gómez,</a:t>
            </a:r>
            <a:endParaRPr b="0" lang="en-US" sz="8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ASAPHE</a:t>
            </a:r>
            <a:endParaRPr b="0" lang="en-US" sz="8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214" name="4 CuadroTexto"/>
          <p:cNvSpPr/>
          <p:nvPr/>
        </p:nvSpPr>
        <p:spPr>
          <a:xfrm>
            <a:off x="4799160" y="2719440"/>
            <a:ext cx="130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Alicia de Pimentel, </a:t>
            </a:r>
            <a:endParaRPr b="0" lang="en-US" sz="8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ADS.</a:t>
            </a:r>
            <a:endParaRPr b="0" lang="en-US" sz="8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215" name="4 CuadroTexto"/>
          <p:cNvSpPr/>
          <p:nvPr/>
        </p:nvSpPr>
        <p:spPr>
          <a:xfrm>
            <a:off x="5838840" y="2719440"/>
            <a:ext cx="185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Meryana Dáger, </a:t>
            </a:r>
            <a:endParaRPr b="0" lang="en-US" sz="8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Consorcio Desarrollo y Justicia.</a:t>
            </a:r>
            <a:endParaRPr b="0" lang="en-US" sz="8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216" name="4 CuadroTexto"/>
          <p:cNvSpPr/>
          <p:nvPr/>
        </p:nvSpPr>
        <p:spPr>
          <a:xfrm>
            <a:off x="4611600" y="4184640"/>
            <a:ext cx="20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Luis Fajardo y Sra. Blanca Rojas.</a:t>
            </a:r>
            <a:endParaRPr b="0" lang="en-US" sz="8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Contador de REDSOC</a:t>
            </a:r>
            <a:endParaRPr b="0" lang="en-US" sz="8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pic>
        <p:nvPicPr>
          <p:cNvPr id="217" name="Picture 19" descr="C:\Documents and Settings\Master\Escritorio\Sin-título-1.jpg"/>
          <p:cNvPicPr/>
          <p:nvPr/>
        </p:nvPicPr>
        <p:blipFill>
          <a:blip r:embed="rId7"/>
          <a:stretch/>
        </p:blipFill>
        <p:spPr>
          <a:xfrm>
            <a:off x="725400" y="1316160"/>
            <a:ext cx="1152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428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11148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Informe REDSOC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4 CuadroTexto"/>
          <p:cNvSpPr/>
          <p:nvPr/>
        </p:nvSpPr>
        <p:spPr>
          <a:xfrm>
            <a:off x="2795760" y="4883040"/>
            <a:ext cx="48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Se refirió a la necesidad que tiene la red de ampliar sus metas con una labor más eficaz.</a:t>
            </a:r>
            <a:endParaRPr b="0" lang="en-US" sz="16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pic>
        <p:nvPicPr>
          <p:cNvPr id="220" name="Picture 6" descr="Emblema-Redsoc-FINAL-BLANCO"/>
          <p:cNvPicPr/>
          <p:nvPr/>
        </p:nvPicPr>
        <p:blipFill>
          <a:blip r:embed="rId1"/>
          <a:stretch/>
        </p:blipFill>
        <p:spPr>
          <a:xfrm>
            <a:off x="255600" y="5977080"/>
            <a:ext cx="1511280" cy="623880"/>
          </a:xfrm>
          <a:prstGeom prst="rect">
            <a:avLst/>
          </a:prstGeom>
          <a:ln w="0">
            <a:noFill/>
          </a:ln>
        </p:spPr>
      </p:pic>
      <p:sp>
        <p:nvSpPr>
          <p:cNvPr id="221" name="4 CuadroTexto"/>
          <p:cNvSpPr/>
          <p:nvPr/>
        </p:nvSpPr>
        <p:spPr>
          <a:xfrm>
            <a:off x="7485120" y="2556000"/>
            <a:ext cx="15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Vanessa Villalobos, Pasante de REDSOC</a:t>
            </a:r>
            <a:endParaRPr b="0" lang="en-US" sz="8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222" name="4 CuadroTexto"/>
          <p:cNvSpPr/>
          <p:nvPr/>
        </p:nvSpPr>
        <p:spPr>
          <a:xfrm>
            <a:off x="2948040" y="757080"/>
            <a:ext cx="4530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Presentó la página web y las secciones en las que se divide la página e invitó a las ODS a enviar informaciones…</a:t>
            </a:r>
            <a:endParaRPr b="0" lang="en-US" sz="16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…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la propuesta de integración de estudiantes de Comunicación Social en la implementación de proyectos en las ODS afiliadas a la Red Social.</a:t>
            </a:r>
            <a:endParaRPr b="0" lang="en-US" sz="16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223" name="4 CuadroTexto"/>
          <p:cNvSpPr/>
          <p:nvPr/>
        </p:nvSpPr>
        <p:spPr>
          <a:xfrm>
            <a:off x="1528920" y="3022560"/>
            <a:ext cx="46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Convocatoria a Venezuela Competitiva al premio Excelencia, se somete a consideración de los presentes.</a:t>
            </a:r>
            <a:endParaRPr b="0" lang="en-US" sz="16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224" name="4 CuadroTexto"/>
          <p:cNvSpPr/>
          <p:nvPr/>
        </p:nvSpPr>
        <p:spPr>
          <a:xfrm>
            <a:off x="190440" y="4591080"/>
            <a:ext cx="15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Consuelo Morillo,</a:t>
            </a:r>
            <a:endParaRPr b="0" lang="en-US" sz="8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Directora de REDSOC</a:t>
            </a:r>
            <a:endParaRPr b="0" lang="en-US" sz="8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225" name="4 CuadroTexto"/>
          <p:cNvSpPr/>
          <p:nvPr/>
        </p:nvSpPr>
        <p:spPr>
          <a:xfrm>
            <a:off x="7580160" y="6191280"/>
            <a:ext cx="15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Luis Fajardo</a:t>
            </a:r>
            <a:endParaRPr b="0" lang="en-US" sz="8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Contador de REDSOC</a:t>
            </a:r>
            <a:endParaRPr b="0" lang="en-US" sz="8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pic>
        <p:nvPicPr>
          <p:cNvPr id="226" name="Picture 14" descr="C:\Documents and Settings\Master\Escritorio\Sin-título-3.jpg"/>
          <p:cNvPicPr/>
          <p:nvPr/>
        </p:nvPicPr>
        <p:blipFill>
          <a:blip r:embed="rId2"/>
          <a:srcRect l="12143" t="9150" r="21798" b="16111"/>
          <a:stretch/>
        </p:blipFill>
        <p:spPr>
          <a:xfrm>
            <a:off x="341280" y="2633760"/>
            <a:ext cx="1214640" cy="19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7" name="Picture 15" descr="C:\Documents and Settings\Master\Escritorio\Sin-título-4.jpg"/>
          <p:cNvPicPr/>
          <p:nvPr/>
        </p:nvPicPr>
        <p:blipFill>
          <a:blip r:embed="rId3"/>
          <a:srcRect l="12332" t="9821" r="23417" b="16743"/>
          <a:stretch/>
        </p:blipFill>
        <p:spPr>
          <a:xfrm>
            <a:off x="7683480" y="573120"/>
            <a:ext cx="1187640" cy="1950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8" name="Picture 16" descr="C:\Documents and Settings\Master\Escritorio\Sin-título-5.jpg"/>
          <p:cNvPicPr/>
          <p:nvPr/>
        </p:nvPicPr>
        <p:blipFill>
          <a:blip r:embed="rId4"/>
          <a:srcRect l="13805" t="8056" r="22857" b="16987"/>
          <a:stretch/>
        </p:blipFill>
        <p:spPr>
          <a:xfrm>
            <a:off x="7765920" y="4189320"/>
            <a:ext cx="1146240" cy="2006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428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63560" y="-360"/>
            <a:ext cx="6415200" cy="115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Arial"/>
              </a:rPr>
              <a:t>Informe de Gestión de AIESEC Venezuela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4 CuadroTexto"/>
          <p:cNvSpPr/>
          <p:nvPr/>
        </p:nvSpPr>
        <p:spPr>
          <a:xfrm>
            <a:off x="1897200" y="1193760"/>
            <a:ext cx="5360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xplicaron que  son una organización independiente y global con oportunidades de liderazgos para sus integrantes, señalo sus: objetivos, visión, impacto y los proyectos…</a:t>
            </a:r>
            <a:endParaRPr b="0" lang="en-US" sz="16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pic>
        <p:nvPicPr>
          <p:cNvPr id="231" name="Picture 6" descr="Emblema-Redsoc-FINAL-BLANCO"/>
          <p:cNvPicPr/>
          <p:nvPr/>
        </p:nvPicPr>
        <p:blipFill>
          <a:blip r:embed="rId1"/>
          <a:stretch/>
        </p:blipFill>
        <p:spPr>
          <a:xfrm>
            <a:off x="187200" y="189000"/>
            <a:ext cx="1511280" cy="6238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2"/>
          <p:cNvSpPr/>
          <p:nvPr/>
        </p:nvSpPr>
        <p:spPr>
          <a:xfrm>
            <a:off x="1173240" y="3103560"/>
            <a:ext cx="641484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Arial"/>
              </a:rPr>
              <a:t>Informe de Gestión Fundación Guataco.</a:t>
            </a: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233" name="4 CuadroTexto"/>
          <p:cNvSpPr/>
          <p:nvPr/>
        </p:nvSpPr>
        <p:spPr>
          <a:xfrm>
            <a:off x="1120680" y="4021200"/>
            <a:ext cx="5499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Se refirió a la página web que están construyendo para ayudar a los niños en el entretenimiento. </a:t>
            </a:r>
            <a:endParaRPr b="0" lang="en-US" sz="16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Informó sobre la atención a población directa e indirecta en los años 2005-2006-2007, con las ludotecas y la proyección para el 2008.</a:t>
            </a:r>
            <a:endParaRPr b="0" lang="en-US" sz="16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Presentó video sobre la labor que realiza la organización e invito a los presentes a conocer algunos de los juguetes tradicionales y materiales educativo-recreativos de la ludoteca.</a:t>
            </a:r>
            <a:endParaRPr b="0" lang="en-US" sz="16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234" name="4 CuadroTexto"/>
          <p:cNvSpPr/>
          <p:nvPr/>
        </p:nvSpPr>
        <p:spPr>
          <a:xfrm>
            <a:off x="7021440" y="5726160"/>
            <a:ext cx="156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Jonny Díaz</a:t>
            </a:r>
            <a:endParaRPr b="0" lang="en-US" sz="8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235" name="4 CuadroTexto"/>
          <p:cNvSpPr/>
          <p:nvPr/>
        </p:nvSpPr>
        <p:spPr>
          <a:xfrm>
            <a:off x="7105680" y="3354480"/>
            <a:ext cx="156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Ana Vásquez</a:t>
            </a:r>
            <a:endParaRPr b="0" lang="en-US" sz="8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236" name="4 CuadroTexto"/>
          <p:cNvSpPr/>
          <p:nvPr/>
        </p:nvSpPr>
        <p:spPr>
          <a:xfrm>
            <a:off x="363600" y="3763800"/>
            <a:ext cx="156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Thaís Ramírez</a:t>
            </a:r>
            <a:endParaRPr b="0" lang="en-US" sz="8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pic>
        <p:nvPicPr>
          <p:cNvPr id="237" name="Picture 13" descr="C:\Documents and Settings\Master\Escritorio\Sin-título-6.jpg"/>
          <p:cNvPicPr/>
          <p:nvPr/>
        </p:nvPicPr>
        <p:blipFill>
          <a:blip r:embed="rId2"/>
          <a:srcRect l="10437" t="3804" r="11509" b="6307"/>
          <a:stretch/>
        </p:blipFill>
        <p:spPr>
          <a:xfrm>
            <a:off x="627120" y="1050840"/>
            <a:ext cx="996840" cy="268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8" name="Picture 14" descr="C:\Documents and Settings\Master\Escritorio\Sin-título-7.jpg"/>
          <p:cNvPicPr/>
          <p:nvPr/>
        </p:nvPicPr>
        <p:blipFill>
          <a:blip r:embed="rId3"/>
          <a:stretch/>
        </p:blipFill>
        <p:spPr>
          <a:xfrm>
            <a:off x="7291440" y="927000"/>
            <a:ext cx="1255680" cy="2492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C:\Documents and Settings\Master\Escritorio\Sin-título-8.jpg"/>
          <p:cNvPicPr/>
          <p:nvPr/>
        </p:nvPicPr>
        <p:blipFill>
          <a:blip r:embed="rId4"/>
          <a:stretch/>
        </p:blipFill>
        <p:spPr>
          <a:xfrm>
            <a:off x="6900840" y="4218120"/>
            <a:ext cx="19191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428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Emblema-Redsoc-FINAL-BLANCO"/>
          <p:cNvPicPr/>
          <p:nvPr/>
        </p:nvPicPr>
        <p:blipFill>
          <a:blip r:embed="rId1"/>
          <a:stretch/>
        </p:blipFill>
        <p:spPr>
          <a:xfrm>
            <a:off x="487440" y="5784840"/>
            <a:ext cx="1511280" cy="6238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2"/>
          <p:cNvSpPr/>
          <p:nvPr/>
        </p:nvSpPr>
        <p:spPr>
          <a:xfrm>
            <a:off x="0" y="423720"/>
            <a:ext cx="91440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Arial"/>
              </a:rPr>
              <a:t>Informe alterno de los Derechos de niños, niñas y adolescentes</a:t>
            </a: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cc"/>
                </a:solidFill>
                <a:latin typeface="Arial"/>
              </a:rPr>
              <a:t>en situación de riesgo.</a:t>
            </a:r>
            <a:endParaRPr b="0" lang="en-US" sz="18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242" name="4 CuadroTexto"/>
          <p:cNvSpPr/>
          <p:nvPr/>
        </p:nvSpPr>
        <p:spPr>
          <a:xfrm>
            <a:off x="2606760" y="1905120"/>
            <a:ext cx="4176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Se refirió a la Convención sobre los Derechos del Niño, el cual establece la creación de un Comité…</a:t>
            </a:r>
            <a:endParaRPr b="0" lang="en-US" sz="16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Dicho Comité produce una serie de recomendaciones a las que sugiere darle seguimiento, entre las cuales están las siguientes: elaborar plan de acción nacional, presupuesto general, intensificar esfuerzos para difundir información sobre la convención, capacitar grupos profesionales, agentes, magistrados, etc…</a:t>
            </a:r>
            <a:endParaRPr b="0" lang="en-US" sz="16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243" name="4 CuadroTexto"/>
          <p:cNvSpPr/>
          <p:nvPr/>
        </p:nvSpPr>
        <p:spPr>
          <a:xfrm>
            <a:off x="514440" y="4842000"/>
            <a:ext cx="156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Gloria Perdomo</a:t>
            </a:r>
            <a:endParaRPr b="0" lang="en-US" sz="8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244" name="4 CuadroTexto"/>
          <p:cNvSpPr/>
          <p:nvPr/>
        </p:nvSpPr>
        <p:spPr>
          <a:xfrm>
            <a:off x="7132680" y="4924440"/>
            <a:ext cx="156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Deanna Albano</a:t>
            </a:r>
            <a:endParaRPr b="0" lang="en-US" sz="8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pic>
        <p:nvPicPr>
          <p:cNvPr id="245" name="Picture 9" descr="C:\Documents and Settings\Master\Escritorio\Sin-título-9.jpg"/>
          <p:cNvPicPr/>
          <p:nvPr/>
        </p:nvPicPr>
        <p:blipFill>
          <a:blip r:embed="rId2"/>
          <a:stretch/>
        </p:blipFill>
        <p:spPr>
          <a:xfrm>
            <a:off x="506520" y="1878120"/>
            <a:ext cx="1809720" cy="5790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C:\Documents and Settings\Master\Escritorio\Sin-título-10.jpg"/>
          <p:cNvPicPr/>
          <p:nvPr/>
        </p:nvPicPr>
        <p:blipFill>
          <a:blip r:embed="rId3"/>
          <a:stretch/>
        </p:blipFill>
        <p:spPr>
          <a:xfrm>
            <a:off x="7070760" y="1920960"/>
            <a:ext cx="176832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428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63160"/>
            <a:ext cx="9144000" cy="1074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Convocatoria al Programa de Pequeñas Donaciones, de la Asociación Civil </a:t>
            </a:r>
            <a:r>
              <a:rPr b="1" lang="es-ES" sz="2000" spc="-1" strike="noStrike">
                <a:solidFill>
                  <a:srgbClr val="ffffcc"/>
                </a:solidFill>
                <a:latin typeface="Arial"/>
              </a:rPr>
              <a:t>Consorcio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, Desarrollo y Justicia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Picture 6" descr="Emblema-Redsoc-FINAL-BLANCO"/>
          <p:cNvPicPr/>
          <p:nvPr/>
        </p:nvPicPr>
        <p:blipFill>
          <a:blip r:embed="rId1"/>
          <a:stretch/>
        </p:blipFill>
        <p:spPr>
          <a:xfrm>
            <a:off x="368280" y="5935680"/>
            <a:ext cx="1511280" cy="623880"/>
          </a:xfrm>
          <a:prstGeom prst="rect">
            <a:avLst/>
          </a:prstGeom>
          <a:ln w="0">
            <a:noFill/>
          </a:ln>
        </p:spPr>
      </p:pic>
      <p:sp>
        <p:nvSpPr>
          <p:cNvPr id="249" name="4 CuadroTexto"/>
          <p:cNvSpPr/>
          <p:nvPr/>
        </p:nvSpPr>
        <p:spPr>
          <a:xfrm>
            <a:off x="3549600" y="2085840"/>
            <a:ext cx="47196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   …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dispone de un fondo especial de pequeñas donaciones, para apoyar la ejecución de una o varias actividades que coadyuven al mejoramiento del tejido social de una comunidad determinada.</a:t>
            </a:r>
            <a:endParaRPr b="0" lang="en-US" sz="16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xplico los requisitos de los postulantes y requisitos para presentar la propuesta.</a:t>
            </a:r>
            <a:endParaRPr b="0" lang="en-US" sz="16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250" name="4 CuadroTexto"/>
          <p:cNvSpPr/>
          <p:nvPr/>
        </p:nvSpPr>
        <p:spPr>
          <a:xfrm>
            <a:off x="514440" y="4898880"/>
            <a:ext cx="250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Verdana"/>
              </a:rPr>
              <a:t>Meryana Dáger</a:t>
            </a:r>
            <a:endParaRPr b="0" lang="en-US" sz="11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pic>
        <p:nvPicPr>
          <p:cNvPr id="251" name="Picture 7" descr="C:\Documents and Settings\Master\Escritorio\Sin-título-11.jpg"/>
          <p:cNvPicPr/>
          <p:nvPr/>
        </p:nvPicPr>
        <p:blipFill>
          <a:blip r:embed="rId2"/>
          <a:stretch/>
        </p:blipFill>
        <p:spPr>
          <a:xfrm>
            <a:off x="407880" y="1450800"/>
            <a:ext cx="287172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428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42720" y="1174320"/>
            <a:ext cx="7000920" cy="88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Acuerdo Ciudadano con la Tierra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Picture 6" descr="Emblema-Redsoc-FINAL-BLANCO"/>
          <p:cNvPicPr/>
          <p:nvPr/>
        </p:nvPicPr>
        <p:blipFill>
          <a:blip r:embed="rId1"/>
          <a:stretch/>
        </p:blipFill>
        <p:spPr>
          <a:xfrm>
            <a:off x="477720" y="5689440"/>
            <a:ext cx="1511280" cy="623880"/>
          </a:xfrm>
          <a:prstGeom prst="rect">
            <a:avLst/>
          </a:prstGeom>
          <a:ln w="0">
            <a:noFill/>
          </a:ln>
        </p:spPr>
      </p:pic>
      <p:sp>
        <p:nvSpPr>
          <p:cNvPr id="254" name="4 CuadroTexto"/>
          <p:cNvSpPr/>
          <p:nvPr/>
        </p:nvSpPr>
        <p:spPr>
          <a:xfrm>
            <a:off x="3294000" y="2859120"/>
            <a:ext cx="4383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Se refirió a la fecha 22 de marzo de cada año declarado por la Asamblea General de Naciones Unidas como el Día Mundial del Agua…</a:t>
            </a:r>
            <a:endParaRPr b="0" lang="en-US" sz="14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l Acuerdo Ciudadano con la Tierra tiene el compromiso de realizar varias y diversas actividades de cambio ambiental y social con vista al cumplimiento de los objetivos y metas de Desarrollo del Milenio.</a:t>
            </a:r>
            <a:endParaRPr b="0" lang="en-US" sz="14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255" name="4 CuadroTexto"/>
          <p:cNvSpPr/>
          <p:nvPr/>
        </p:nvSpPr>
        <p:spPr>
          <a:xfrm>
            <a:off x="187200" y="3454560"/>
            <a:ext cx="247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Marjorie Sousa</a:t>
            </a:r>
            <a:endParaRPr b="0" lang="en-US" sz="10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pic>
        <p:nvPicPr>
          <p:cNvPr id="256" name="Picture 9" descr="C:\Documents and Settings\Master\Escritorio\Sin-título-13.jpg"/>
          <p:cNvPicPr/>
          <p:nvPr/>
        </p:nvPicPr>
        <p:blipFill>
          <a:blip r:embed="rId2"/>
          <a:stretch/>
        </p:blipFill>
        <p:spPr>
          <a:xfrm>
            <a:off x="1395360" y="2475000"/>
            <a:ext cx="1573200" cy="1554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C:\Documents and Settings\Master\Escritorio\Sin-título-12.jpg"/>
          <p:cNvPicPr/>
          <p:nvPr/>
        </p:nvPicPr>
        <p:blipFill>
          <a:blip r:embed="rId3"/>
          <a:stretch/>
        </p:blipFill>
        <p:spPr>
          <a:xfrm>
            <a:off x="171360" y="219240"/>
            <a:ext cx="167652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1428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04480"/>
            <a:ext cx="9144000" cy="88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Convocatoria IDEAS 2008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Picture 6" descr="Emblema-Redsoc-FINAL-BLANCO"/>
          <p:cNvPicPr/>
          <p:nvPr/>
        </p:nvPicPr>
        <p:blipFill>
          <a:blip r:embed="rId1"/>
          <a:stretch/>
        </p:blipFill>
        <p:spPr>
          <a:xfrm>
            <a:off x="7192800" y="5826240"/>
            <a:ext cx="1511640" cy="623880"/>
          </a:xfrm>
          <a:prstGeom prst="rect">
            <a:avLst/>
          </a:prstGeom>
          <a:ln w="0">
            <a:noFill/>
          </a:ln>
        </p:spPr>
      </p:pic>
      <p:sp>
        <p:nvSpPr>
          <p:cNvPr id="260" name="4 CuadroTexto"/>
          <p:cNvSpPr/>
          <p:nvPr/>
        </p:nvSpPr>
        <p:spPr>
          <a:xfrm>
            <a:off x="3267000" y="1849320"/>
            <a:ext cx="4383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Presentaron el concurso, sus categorías (negocio y emprendimiento social); hizo un recuento de los proyectos presentados desde el 20003 al 2007 e informó como el concurso crea incentivo y estímulos a los emprendedores y permite el enlace con el sector empresarial y financiero. </a:t>
            </a:r>
            <a:endParaRPr b="0" lang="en-US" sz="14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ffffff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La convocatoria de participación es a partir del 29 de abril hasta el 17 de Junio.</a:t>
            </a:r>
            <a:endParaRPr b="0" lang="en-US" sz="14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sp>
        <p:nvSpPr>
          <p:cNvPr id="261" name="4 CuadroTexto"/>
          <p:cNvSpPr/>
          <p:nvPr/>
        </p:nvSpPr>
        <p:spPr>
          <a:xfrm>
            <a:off x="609480" y="4352760"/>
            <a:ext cx="2024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Félix </a:t>
            </a:r>
            <a:r>
              <a:rPr b="0" lang="es-ES" sz="1100" spc="-1" strike="noStrike">
                <a:solidFill>
                  <a:srgbClr val="ffffff"/>
                </a:solidFill>
                <a:latin typeface="Verdana"/>
              </a:rPr>
              <a:t>Méndez</a:t>
            </a:r>
            <a:endParaRPr b="0" lang="en-US" sz="1100" spc="-1" strike="noStrike" u="sng">
              <a:solidFill>
                <a:srgbClr val="ffffff"/>
              </a:solidFill>
              <a:uFillTx/>
              <a:latin typeface="Verdana"/>
            </a:endParaRPr>
          </a:p>
        </p:txBody>
      </p:sp>
      <p:pic>
        <p:nvPicPr>
          <p:cNvPr id="262" name="Picture 7" descr="C:\Documents and Settings\Master\Escritorio\Sin-título-14.jpg"/>
          <p:cNvPicPr/>
          <p:nvPr/>
        </p:nvPicPr>
        <p:blipFill>
          <a:blip r:embed="rId2"/>
          <a:stretch/>
        </p:blipFill>
        <p:spPr>
          <a:xfrm>
            <a:off x="542880" y="1457280"/>
            <a:ext cx="22734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3:07:26Z</dcterms:created>
  <dc:creator>Nestor Garcia</dc:creator>
  <dc:description/>
  <dc:language>en-US</dc:language>
  <cp:lastModifiedBy>Rosada</cp:lastModifiedBy>
  <dcterms:modified xsi:type="dcterms:W3CDTF">2008-06-26T18:56:52Z</dcterms:modified>
  <cp:revision>379</cp:revision>
  <dc:subject/>
  <dc:title>Sistema de Comunicación y Enlace</dc:title>
</cp:coreProperties>
</file>