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12.png" ContentType="image/png"/>
  <Override PartName="/ppt/media/image13.png" ContentType="image/png"/>
  <Override PartName="/ppt/media/image33.wmf" ContentType="image/x-wmf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4.wmf" ContentType="image/x-wmf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BEE5-1B5F-4241-B9AA-C48C44CAAD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440" y="4286160"/>
            <a:ext cx="562284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lataforma tecnológica del sistema de protección, es simple para un sistema comple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u construcción es modular, de acuerdo a las necesidades decisionales que tienen los actores de la red. Esto implica que la plataforma tecnológica no es una estructura terminada sino en permanente construc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n los actores los que modifican la estructura, y no la estructura la que pone limites a los ac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s tecnologías incorporan 3 eleme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delo decisional (presentado en la primera par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ses de datos asociados a este 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ecnología informática necesaria para las operaciones regulares de toma de decisiones y las transferencias tecnico metodológicas para su uso (capacitació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lamina muestra: que la plataforma tecnológica esta en función de los objetivos del sistema de portección chile solidario, que provee información social de las 225.000 familias, y que considera el territorio como elemento articulador de esas deman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r otra parte, la plataforma tecnológica siis, implica una plataforma interoperable a nivel nacional en web, infraestructura básica computacional de los actores involucrados, bases de datos cartográficas y alfanuméricas, con marco jurídico que reglamenten dicho intercambio y capacitación pertinentes para el uso de estas nuevas tecnologías de inform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20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os sistemas de información se asocian tradicionalmente a la idea de un conjunto de indicadores estadísticos, en el concepto del chile solidario el sistema de información esta orientado a favorecer los procesos de gestión y los aspectos estadísticos son un componente mas dentro del modelo mayo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Explicar la construcción modula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LINC: modulo que permite acceder a l información conceptual que está en la base del sistema de protección (documentos, ponencias, …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Red Social: Permite visualizar la red de actores, por servicio,  por región, por condición mínima. Da cuenta de los convenios para la gestión de los mínimos del sistema C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ODULO MONITOREO PUENTE: es el modulo que contiene la información de demanda de las familias para el sistem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ODULO GESTORES: es el modulo de seguimiento con el cual se gestiona la fase de seguimiento en terreno de las familias egresadas del pu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ODULO GESTION CHILE SOLIDARIO: Permite seguimiento y gestión de mínimos. Da salidas de todas las bases de da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WEB SERVICES: En construcción, permite obtener las bases de datos entre los servicios públicos, vinculados con cada una de las familias chile solidario. Idea de VENTANILLA UNICA, en torno a cada usuario de la red. A través de este se puede identificar si la familia es ch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INTERFASE SERVICIO. Son las fichas por servicio. Conexión directa a base de datos. Modelos de gest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MODULO DE ADMINISTRACION: administra el sistema, no es público. Es para el encargado. Fin: administrar usuarios y mantenimiento de la base de dat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SEIS: modulo que permite desplegar indicadores estadísticos por comuna (CAS, CASEN, CENSO). Este modulo da respuesta a los acuerdos de internacionales en cuanto a establecer indicadores comparables territoriales en políticas sociales para los países del conosur. El compromiso de Chile es armar la plataforma tecnológica e instalar la cartografía de las 30.000 comunas que conforman la región con sus respetivos indicado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desafío decisional para el diseño e implementación del sistema de protección social es, por una parte, favorecer la construcción de la demanda a partir del apoyo psicosocial para las familias  y el reconocimiento y priorización de sus necesidades y vincular una oferta programática que reconozca a la unidad familiar en el territorio como el espacio natural de articulación de la política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sta lamina que refleja el mapa de actores que intervienen en el sistema de protección, se da cuenta del nivel de complejidad de la toma decis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esta realidad surge la necesidad de incorporar los diferentes agentes que hacen posible la implementación y operación de la polític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mos hablando de equipos de profesionales repartidos a lo largo del territorio que requieren información de calidad para poder asumir sus responsabilidad de la mejor manera  pos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r lo que se requiere de una plataforma tecnológica, de fácil acceso, bajo costo, con baja dependencia de expertos en su uso y que entreguen datos oportunos para las operaciones regulares de toma de decisiones, reconociendo las particularidades de los distintos contextos territor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(esta lamina estará en los dos datas y se abrirá en el data de apoyo. No en el principal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red de actores se orienta a atender las demandas que surgen de las 7 dimensiones definidas para el sistema de protección social. Hay áreas donde el estado tiene mayor experticia pero hay otros que requieren mayor conocimiento, adecuación de oferta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E7B-C1A1-40F7-84FC-E87E44C2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04D-A895-4D92-96AD-410AD355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83C-3CDD-4290-95B6-D0597794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ADB-A309-4E3C-8DDF-AB87EFB1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0E0-C215-4C5B-BC29-AFB4FE0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720-951F-4E35-9C08-F1E02CF1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4D1-D77F-4408-B17D-36F5B1C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10A-25CD-4A2A-9648-FDCFE38D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08BB-B238-4AB3-8049-A6322228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F53-F292-41DF-B955-0284A42F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8B9-C737-454C-88A5-A3DE2483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BC3-7975-4A27-BB17-ACAFF841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9BCA-97BE-420E-A80D-CD9D06347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3.jpe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0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8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slide11.xml"/><Relationship Id="rId6" Type="http://schemas.openxmlformats.org/officeDocument/2006/relationships/image" Target="../media/image8.png"/><Relationship Id="rId7" Type="http://schemas.openxmlformats.org/officeDocument/2006/relationships/slide" Target="slide6.xml"/><Relationship Id="rId8" Type="http://schemas.openxmlformats.org/officeDocument/2006/relationships/image" Target="../media/image9.png"/><Relationship Id="rId9" Type="http://schemas.openxmlformats.org/officeDocument/2006/relationships/slide" Target="slide5.xm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" Target="slide4.xml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2.jpeg"/><Relationship Id="rId18" Type="http://schemas.openxmlformats.org/officeDocument/2006/relationships/image" Target="../media/image3.jpeg"/><Relationship Id="rId19" Type="http://schemas.openxmlformats.org/officeDocument/2006/relationships/image" Target="../media/image14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" Target="slide3.xml"/><Relationship Id="rId15" Type="http://schemas.openxmlformats.org/officeDocument/2006/relationships/image" Target="../media/image2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image" Target="../media/image2.jpeg"/><Relationship Id="rId24" Type="http://schemas.openxmlformats.org/officeDocument/2006/relationships/image" Target="../media/image3.jpeg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201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3399"/>
                </a:solidFill>
                <a:latin typeface="Arial"/>
              </a:rPr>
              <a:t>Sistema de Protección Social Chile Solidari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229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stema  Integrado de Inform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cnologías de Información para la Gestión Integrada de la Protección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22307"/>
          <a:stretch/>
        </p:blipFill>
        <p:spPr>
          <a:xfrm>
            <a:off x="8229600" y="76320"/>
            <a:ext cx="900000" cy="8492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3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41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Investigación y E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068720" y="2205000"/>
            <a:ext cx="647640" cy="720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580000" y="2854440"/>
            <a:ext cx="1000080" cy="718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3276720" y="4294080"/>
            <a:ext cx="576000" cy="900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00360" y="2565360"/>
            <a:ext cx="3384360" cy="230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340000" y="2997360"/>
            <a:ext cx="1019160" cy="718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342520" y="5229360"/>
            <a:ext cx="196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ntros de Estu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9080" y="198900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Univers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19640" y="335772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ice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91080" y="3308400"/>
            <a:ext cx="1294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a50021"/>
                </a:solidFill>
                <a:latin typeface="Arial"/>
              </a:rPr>
              <a:t>Investig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a50021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a50021"/>
                </a:solidFill>
                <a:latin typeface="Arial"/>
              </a:rPr>
              <a:t>Estu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21040" y="3141720"/>
            <a:ext cx="178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stitutos técn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965160" cy="7207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13440" y="4797360"/>
            <a:ext cx="63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79976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315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7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Coordinación Sec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08000" y="1557360"/>
            <a:ext cx="7200720" cy="4224240"/>
            <a:chOff x="108000" y="1557360"/>
            <a:chExt cx="7200720" cy="4224240"/>
          </a:xfrm>
        </p:grpSpPr>
        <p:sp>
          <p:nvSpPr>
            <p:cNvPr id="319" name="_s28794"/>
            <p:cNvSpPr/>
            <p:nvPr/>
          </p:nvSpPr>
          <p:spPr>
            <a:xfrm>
              <a:off x="900000" y="1557360"/>
              <a:ext cx="6408720" cy="42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8796"/>
            <p:cNvSpPr/>
            <p:nvPr/>
          </p:nvSpPr>
          <p:spPr>
            <a:xfrm>
              <a:off x="4356000" y="1773360"/>
              <a:ext cx="1800360" cy="1038240"/>
            </a:xfrm>
            <a:prstGeom prst="ellipse">
              <a:avLst/>
            </a:prstGeom>
            <a:solidFill>
              <a:srgbClr val="ff6600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8798"/>
            <p:cNvSpPr/>
            <p:nvPr/>
          </p:nvSpPr>
          <p:spPr>
            <a:xfrm>
              <a:off x="5435640" y="2930400"/>
              <a:ext cx="1800360" cy="928800"/>
            </a:xfrm>
            <a:prstGeom prst="ellipse">
              <a:avLst/>
            </a:prstGeom>
            <a:solidFill>
              <a:srgbClr val="99cc00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8800"/>
            <p:cNvSpPr/>
            <p:nvPr/>
          </p:nvSpPr>
          <p:spPr>
            <a:xfrm>
              <a:off x="5003640" y="4081320"/>
              <a:ext cx="1800360" cy="1035360"/>
            </a:xfrm>
            <a:prstGeom prst="ellipse">
              <a:avLst/>
            </a:prstGeom>
            <a:solidFill>
              <a:srgbClr val="3366ff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8817"/>
            <p:cNvSpPr/>
            <p:nvPr/>
          </p:nvSpPr>
          <p:spPr>
            <a:xfrm>
              <a:off x="3132000" y="4724280"/>
              <a:ext cx="1800360" cy="1035000"/>
            </a:xfrm>
            <a:prstGeom prst="ellipse">
              <a:avLst/>
            </a:prstGeom>
            <a:solidFill>
              <a:srgbClr val="bbe0e3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8819"/>
            <p:cNvSpPr/>
            <p:nvPr/>
          </p:nvSpPr>
          <p:spPr>
            <a:xfrm>
              <a:off x="1332000" y="4008600"/>
              <a:ext cx="1800000" cy="1033200"/>
            </a:xfrm>
            <a:prstGeom prst="ellipse">
              <a:avLst/>
            </a:prstGeom>
            <a:solidFill>
              <a:srgbClr val="333399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8792"/>
            <p:cNvSpPr/>
            <p:nvPr/>
          </p:nvSpPr>
          <p:spPr>
            <a:xfrm>
              <a:off x="1042920" y="2781360"/>
              <a:ext cx="1800360" cy="933480"/>
            </a:xfrm>
            <a:prstGeom prst="ellipse">
              <a:avLst/>
            </a:prstGeom>
            <a:solidFill>
              <a:srgbClr val="969696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8790"/>
            <p:cNvSpPr/>
            <p:nvPr/>
          </p:nvSpPr>
          <p:spPr>
            <a:xfrm>
              <a:off x="2340000" y="1700280"/>
              <a:ext cx="1800360" cy="1039680"/>
            </a:xfrm>
            <a:prstGeom prst="ellipse">
              <a:avLst/>
            </a:prstGeom>
            <a:solidFill>
              <a:srgbClr val="99ccff">
                <a:alpha val="60000"/>
              </a:srgbClr>
            </a:solidFill>
            <a:ln w="468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8795"/>
            <p:cNvSpPr/>
            <p:nvPr/>
          </p:nvSpPr>
          <p:spPr>
            <a:xfrm>
              <a:off x="3348000" y="3638520"/>
              <a:ext cx="16732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COORDINAC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SECTO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(Zonale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_s28797">
              <a:hlinkClick r:id="rId4" action="ppaction://hlinksldjump"/>
            </p:cNvPr>
            <p:cNvSpPr/>
            <p:nvPr/>
          </p:nvSpPr>
          <p:spPr>
            <a:xfrm>
              <a:off x="4427640" y="1989000"/>
              <a:ext cx="16732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_s28799">
              <a:hlinkClick r:id="rId5" action="ppaction://hlinksldjump"/>
            </p:cNvPr>
            <p:cNvSpPr/>
            <p:nvPr/>
          </p:nvSpPr>
          <p:spPr>
            <a:xfrm>
              <a:off x="5508720" y="3141720"/>
              <a:ext cx="16732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ALU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28801">
              <a:hlinkClick r:id="rId6" action="ppaction://hlinksldjump"/>
            </p:cNvPr>
            <p:cNvSpPr/>
            <p:nvPr/>
          </p:nvSpPr>
          <p:spPr>
            <a:xfrm>
              <a:off x="5148360" y="4376880"/>
              <a:ext cx="1673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DUC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28818">
              <a:hlinkClick r:id="rId7" action="ppaction://hlinksldjump"/>
            </p:cNvPr>
            <p:cNvSpPr/>
            <p:nvPr/>
          </p:nvSpPr>
          <p:spPr>
            <a:xfrm>
              <a:off x="3203640" y="5013360"/>
              <a:ext cx="167328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INAM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AMILI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28820">
              <a:hlinkClick r:id="rId8" action="ppaction://hlinksldjump"/>
            </p:cNvPr>
            <p:cNvSpPr/>
            <p:nvPr/>
          </p:nvSpPr>
          <p:spPr>
            <a:xfrm>
              <a:off x="1476360" y="4292640"/>
              <a:ext cx="16732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ABITABILID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28793">
              <a:hlinkClick r:id="rId9" action="ppaction://hlinksldjump"/>
            </p:cNvPr>
            <p:cNvSpPr/>
            <p:nvPr/>
          </p:nvSpPr>
          <p:spPr>
            <a:xfrm>
              <a:off x="1116000" y="2997360"/>
              <a:ext cx="1673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28791">
              <a:hlinkClick r:id="rId10" action="ppaction://hlinksldjump"/>
            </p:cNvPr>
            <p:cNvSpPr/>
            <p:nvPr/>
          </p:nvSpPr>
          <p:spPr>
            <a:xfrm>
              <a:off x="2484360" y="1916280"/>
              <a:ext cx="1673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8000" y="1628640"/>
              <a:ext cx="1439640" cy="1152720"/>
            </a:xfrm>
            <a:prstGeom prst="borderCallout2">
              <a:avLst>
                <a:gd name="adj1" fmla="val 18750"/>
                <a:gd name="adj2" fmla="val -8333"/>
                <a:gd name="adj3" fmla="val 9916"/>
                <a:gd name="adj4" fmla="val 115106"/>
                <a:gd name="adj5" fmla="val 96833"/>
                <a:gd name="adj6" fmla="val 125467"/>
              </a:avLst>
            </a:prstGeom>
            <a:solidFill>
              <a:srgbClr val="cc99ff">
                <a:alpha val="60000"/>
              </a:srgbClr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INTRABAJ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D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NA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O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DE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RN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1057320" cy="1066680"/>
          </a:xfrm>
          <a:prstGeom prst="rect">
            <a:avLst/>
          </a:prstGeom>
          <a:ln w="0">
            <a:noFill/>
          </a:ln>
        </p:spPr>
      </p:pic>
      <p:sp>
        <p:nvSpPr>
          <p:cNvPr id="337" name="">
            <a:hlinkClick r:id="rId12" action="ppaction://hlinksldjump"/>
          </p:cNvPr>
          <p:cNvSpPr/>
          <p:nvPr/>
        </p:nvSpPr>
        <p:spPr>
          <a:xfrm>
            <a:off x="7740720" y="6381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3"/>
          <a:srcRect l="51370" t="9115" r="2910" b="18186"/>
          <a:stretch/>
        </p:blipFill>
        <p:spPr>
          <a:xfrm>
            <a:off x="8101080" y="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300720" y="1197000"/>
            <a:ext cx="144144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-32597"/>
              <a:gd name="adj5" fmla="val 66726"/>
              <a:gd name="adj6" fmla="val -60791"/>
            </a:avLst>
          </a:prstGeom>
          <a:solidFill>
            <a:srgbClr val="cc99ff">
              <a:alpha val="6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rvicio de Registro Civil e Ident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inisterio de Just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F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JUNA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80360" y="2349360"/>
            <a:ext cx="1584360" cy="100836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9560"/>
              <a:gd name="adj5" fmla="val 58425"/>
              <a:gd name="adj6" fmla="val -55208"/>
            </a:avLst>
          </a:prstGeom>
          <a:solidFill>
            <a:srgbClr val="cc99ff">
              <a:alpha val="6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INSA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ubsecretaría de Re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ubsecretaría de Salud Púb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FON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FONAD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48360" y="5084640"/>
            <a:ext cx="1079640" cy="885960"/>
          </a:xfrm>
          <a:prstGeom prst="borderCallout2">
            <a:avLst>
              <a:gd name="adj1" fmla="val 18750"/>
              <a:gd name="adj2" fmla="val -8333"/>
              <a:gd name="adj3" fmla="val 12879"/>
              <a:gd name="adj4" fmla="val -21763"/>
              <a:gd name="adj5" fmla="val -13773"/>
              <a:gd name="adj6" fmla="val -36912"/>
            </a:avLst>
          </a:prstGeom>
          <a:solidFill>
            <a:srgbClr val="cc99ff">
              <a:alpha val="6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INEDU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e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ebás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ubven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JUNAE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43280" y="5877000"/>
            <a:ext cx="86544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34861"/>
              <a:gd name="adj5" fmla="val -11824"/>
              <a:gd name="adj6" fmla="val -61467"/>
            </a:avLst>
          </a:prstGeom>
          <a:solidFill>
            <a:srgbClr val="cc99ff">
              <a:alpha val="6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RN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RODEM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AJ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5445000"/>
            <a:ext cx="1295280" cy="720720"/>
          </a:xfrm>
          <a:prstGeom prst="borderCallout2">
            <a:avLst>
              <a:gd name="adj1" fmla="val 18750"/>
              <a:gd name="adj2" fmla="val -8333"/>
              <a:gd name="adj3" fmla="val 15861"/>
              <a:gd name="adj4" fmla="val 109560"/>
              <a:gd name="adj5" fmla="val -63435"/>
              <a:gd name="adj6" fmla="val 113356"/>
            </a:avLst>
          </a:prstGeom>
          <a:solidFill>
            <a:srgbClr val="cc99ff">
              <a:alpha val="6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INVU, FOSIS, MIDE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Bienes N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76360" y="692280"/>
            <a:ext cx="1441440" cy="863640"/>
          </a:xfrm>
          <a:prstGeom prst="borderCallout2">
            <a:avLst>
              <a:gd name="adj1" fmla="val 18750"/>
              <a:gd name="adj2" fmla="val -8333"/>
              <a:gd name="adj3" fmla="val 13236"/>
              <a:gd name="adj4" fmla="val 115087"/>
              <a:gd name="adj5" fmla="val 113425"/>
              <a:gd name="adj6" fmla="val 125328"/>
            </a:avLst>
          </a:prstGeom>
          <a:solidFill>
            <a:srgbClr val="cc99ff">
              <a:alpha val="6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U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400" spc="-1" strike="noStrike">
                <a:solidFill>
                  <a:srgbClr val="333399"/>
                </a:solidFill>
                <a:latin typeface="Arial"/>
              </a:rPr>
              <a:t>Tecnologías de Información para la Gestión Integrada de la Protección Social.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427640" y="3429000"/>
            <a:ext cx="792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0" b="22307"/>
          <a:stretch/>
        </p:blipFill>
        <p:spPr>
          <a:xfrm>
            <a:off x="8001000" y="228600"/>
            <a:ext cx="900000" cy="84924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2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121932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Sistema Integrado de Inform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914400"/>
            <a:ext cx="9219240" cy="5943600"/>
            <a:chOff x="0" y="914400"/>
            <a:chExt cx="9219240" cy="5943600"/>
          </a:xfrm>
        </p:grpSpPr>
        <p:sp>
          <p:nvSpPr>
            <p:cNvPr id="357" name=""/>
            <p:cNvSpPr/>
            <p:nvPr/>
          </p:nvSpPr>
          <p:spPr>
            <a:xfrm>
              <a:off x="0" y="5181480"/>
              <a:ext cx="9144000" cy="1676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 rot="10342800">
              <a:off x="3241440" y="3586680"/>
              <a:ext cx="2592360" cy="144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824498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280" y="2833560"/>
              <a:ext cx="1143000" cy="747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3300"/>
                  </a:solidFill>
                  <a:latin typeface="Arial"/>
                </a:rPr>
                <a:t>SI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371600" y="1038240"/>
              <a:ext cx="457200" cy="1614600"/>
              <a:chOff x="1371600" y="1038240"/>
              <a:chExt cx="457200" cy="1614600"/>
            </a:xfrm>
          </p:grpSpPr>
          <p:sp>
            <p:nvSpPr>
              <p:cNvPr id="361" name=""/>
              <p:cNvSpPr/>
              <p:nvPr/>
            </p:nvSpPr>
            <p:spPr>
              <a:xfrm>
                <a:off x="1371600" y="1038240"/>
                <a:ext cx="457200" cy="160020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802440" y="1684800"/>
                <a:ext cx="153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BJETV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1371600" y="3733920"/>
              <a:ext cx="457200" cy="2895480"/>
              <a:chOff x="1371600" y="3733920"/>
              <a:chExt cx="457200" cy="2895480"/>
            </a:xfrm>
          </p:grpSpPr>
          <p:sp>
            <p:nvSpPr>
              <p:cNvPr id="364" name=""/>
              <p:cNvSpPr/>
              <p:nvPr/>
            </p:nvSpPr>
            <p:spPr>
              <a:xfrm>
                <a:off x="1371600" y="3733920"/>
                <a:ext cx="457200" cy="2895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6200000">
                <a:off x="794880" y="511776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LCANC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2398680" y="1571760"/>
              <a:ext cx="126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3300"/>
                  </a:solidFill>
                  <a:latin typeface="Arial"/>
                </a:rPr>
                <a:t>Platafor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33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663300"/>
                  </a:solidFill>
                  <a:latin typeface="Arial"/>
                </a:rPr>
                <a:t>Tecnológ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166212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191120" y="975960"/>
              <a:ext cx="1798200" cy="761760"/>
              <a:chOff x="4191120" y="975960"/>
              <a:chExt cx="1798200" cy="7617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4191120" y="975960"/>
                <a:ext cx="533160" cy="761760"/>
                <a:chOff x="4191120" y="975960"/>
                <a:chExt cx="533160" cy="761760"/>
              </a:xfrm>
            </p:grpSpPr>
            <p:sp>
              <p:nvSpPr>
                <p:cNvPr id="370" name=""/>
                <p:cNvSpPr/>
                <p:nvPr/>
              </p:nvSpPr>
              <p:spPr>
                <a:xfrm rot="10800000">
                  <a:off x="4191120" y="975960"/>
                  <a:ext cx="304560" cy="53316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8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10800000">
                  <a:off x="4266720" y="1052280"/>
                  <a:ext cx="304920" cy="53352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8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0800000">
                  <a:off x="4343040" y="1128600"/>
                  <a:ext cx="304920" cy="53352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8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0800000">
                  <a:off x="4419720" y="1204560"/>
                  <a:ext cx="304560" cy="53316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8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4738680" y="1190520"/>
                <a:ext cx="1250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Informació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Soci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4114800" y="2042640"/>
              <a:ext cx="1931760" cy="1143360"/>
              <a:chOff x="4114800" y="2042640"/>
              <a:chExt cx="1931760" cy="11433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4114800" y="2042640"/>
                <a:ext cx="1066320" cy="1143360"/>
                <a:chOff x="4114800" y="2042640"/>
                <a:chExt cx="1066320" cy="1143360"/>
              </a:xfrm>
            </p:grpSpPr>
            <p:sp>
              <p:nvSpPr>
                <p:cNvPr id="377" name=""/>
                <p:cNvSpPr/>
                <p:nvPr/>
              </p:nvSpPr>
              <p:spPr>
                <a:xfrm rot="10800000">
                  <a:off x="4114800" y="2042640"/>
                  <a:ext cx="304560" cy="53316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0800000">
                  <a:off x="4876200" y="2042640"/>
                  <a:ext cx="304920" cy="53316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0800000">
                  <a:off x="4495320" y="2652480"/>
                  <a:ext cx="304920" cy="533520"/>
                </a:xfrm>
                <a:prstGeom prst="foldedCorner">
                  <a:avLst>
                    <a:gd name="adj" fmla="val 44791"/>
                  </a:avLst>
                </a:prstGeom>
                <a:solidFill>
                  <a:srgbClr val="8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19360" y="2271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4800600" y="2576160"/>
                  <a:ext cx="304560" cy="30492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4266720" y="2575800"/>
                  <a:ext cx="228600" cy="381240"/>
                </a:xfrm>
                <a:prstGeom prst="line">
                  <a:avLst/>
                </a:prstGeom>
                <a:ln w="28440">
                  <a:solidFill>
                    <a:srgbClr val="00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5100840" y="2257560"/>
                <a:ext cx="9457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CH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225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Famili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267600" y="914400"/>
              <a:ext cx="2951640" cy="2116440"/>
              <a:chOff x="6267600" y="914400"/>
              <a:chExt cx="2951640" cy="2116440"/>
            </a:xfrm>
          </p:grpSpPr>
          <p:sp>
            <p:nvSpPr>
              <p:cNvPr id="385" name=""/>
              <p:cNvSpPr/>
              <p:nvPr/>
            </p:nvSpPr>
            <p:spPr>
              <a:xfrm>
                <a:off x="6930720" y="2728800"/>
                <a:ext cx="103932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Tahoma"/>
                  </a:rPr>
                  <a:t>Territor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6267600" y="914400"/>
                <a:ext cx="2951640" cy="1890720"/>
                <a:chOff x="6267600" y="914400"/>
                <a:chExt cx="2951640" cy="189072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6334200" y="1636560"/>
                  <a:ext cx="2590920" cy="1168560"/>
                  <a:chOff x="6334200" y="1636560"/>
                  <a:chExt cx="2590920" cy="1168560"/>
                </a:xfrm>
              </p:grpSpPr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rcRect l="4679" t="0" r="11638" b="0"/>
                  <a:stretch/>
                </p:blipFill>
                <p:spPr>
                  <a:xfrm>
                    <a:off x="6841080" y="1914120"/>
                    <a:ext cx="20275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9" name="" descr=""/>
                  <p:cNvPicPr/>
                  <p:nvPr/>
                </p:nvPicPr>
                <p:blipFill>
                  <a:blip r:embed="rId4">
                    <a:lum contrast="24000"/>
                  </a:blip>
                  <a:srcRect l="0" t="7032" r="12788" b="0"/>
                  <a:stretch/>
                </p:blipFill>
                <p:spPr>
                  <a:xfrm>
                    <a:off x="6334200" y="1636560"/>
                    <a:ext cx="2590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0" name=""/>
                  <p:cNvSpPr/>
                  <p:nvPr/>
                </p:nvSpPr>
                <p:spPr>
                  <a:xfrm>
                    <a:off x="6334200" y="1747440"/>
                    <a:ext cx="450360" cy="27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530560" y="1747440"/>
                    <a:ext cx="394200" cy="22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6486480" y="1117440"/>
                  <a:ext cx="2590560" cy="381240"/>
                  <a:chOff x="6486480" y="1117440"/>
                  <a:chExt cx="2590560" cy="3812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6645960" y="1136880"/>
                    <a:ext cx="2319840" cy="3128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7953120" y="1410840"/>
                    <a:ext cx="293040" cy="87840"/>
                  </a:xfrm>
                  <a:prstGeom prst="ellipse">
                    <a:avLst/>
                  </a:prstGeom>
                  <a:solidFill>
                    <a:srgbClr val="8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246160" y="1117440"/>
                    <a:ext cx="342000" cy="8784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735040" y="1293120"/>
                    <a:ext cx="342000" cy="8784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206120" y="1117440"/>
                    <a:ext cx="306720" cy="9756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486480" y="1293120"/>
                    <a:ext cx="293040" cy="78120"/>
                  </a:xfrm>
                  <a:prstGeom prst="ellipse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7219800" y="1381320"/>
                    <a:ext cx="306360" cy="878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>
                  <a:off x="7858440" y="1523880"/>
                  <a:ext cx="656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NEDU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174080" y="1447920"/>
                  <a:ext cx="4122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800" spc="-1" strike="noStrike">
                      <a:solidFill>
                        <a:srgbClr val="000000"/>
                      </a:solidFill>
                      <a:latin typeface="Arial"/>
                    </a:rPr>
                    <a:t>RCeI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240400" y="914400"/>
                  <a:ext cx="3513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IN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20720" y="914400"/>
                  <a:ext cx="509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NV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267600" y="1371600"/>
                  <a:ext cx="598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JUNAEB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686440" y="1371600"/>
                  <a:ext cx="532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ENC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639120" y="1346040"/>
                  <a:ext cx="0" cy="990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400880" y="1498680"/>
                  <a:ext cx="0" cy="761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163000" y="149868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391600" y="119376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848800" y="134604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248600" y="119376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 rot="20037000">
              <a:off x="3581280" y="1433520"/>
              <a:ext cx="533520" cy="15228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2848800">
              <a:off x="3542760" y="2081160"/>
              <a:ext cx="533520" cy="152280"/>
            </a:xfrm>
            <a:prstGeom prst="rightArrow">
              <a:avLst>
                <a:gd name="adj1" fmla="val 50000"/>
                <a:gd name="adj2" fmla="val 87589"/>
              </a:avLst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981080" y="3733920"/>
              <a:ext cx="2968560" cy="307080"/>
              <a:chOff x="1981080" y="3733920"/>
              <a:chExt cx="2968560" cy="307080"/>
            </a:xfrm>
          </p:grpSpPr>
          <p:sp>
            <p:nvSpPr>
              <p:cNvPr id="415" name=""/>
              <p:cNvSpPr/>
              <p:nvPr/>
            </p:nvSpPr>
            <p:spPr>
              <a:xfrm>
                <a:off x="1981080" y="3733920"/>
                <a:ext cx="533520" cy="304560"/>
              </a:xfrm>
              <a:prstGeom prst="rightArrow">
                <a:avLst>
                  <a:gd name="adj1" fmla="val 50000"/>
                  <a:gd name="adj2" fmla="val 43794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67240" y="3733920"/>
                <a:ext cx="228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663300"/>
                    </a:solidFill>
                    <a:latin typeface="Arial"/>
                  </a:rPr>
                  <a:t>Plataforma Interoperab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981080" y="4267080"/>
              <a:ext cx="2195640" cy="520200"/>
              <a:chOff x="1981080" y="4267080"/>
              <a:chExt cx="2195640" cy="520200"/>
            </a:xfrm>
          </p:grpSpPr>
          <p:sp>
            <p:nvSpPr>
              <p:cNvPr id="418" name=""/>
              <p:cNvSpPr/>
              <p:nvPr/>
            </p:nvSpPr>
            <p:spPr>
              <a:xfrm>
                <a:off x="1981080" y="434340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19280" y="4267080"/>
                <a:ext cx="16574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Transferencia d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Capacidad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981080" y="5029200"/>
              <a:ext cx="2007360" cy="307080"/>
              <a:chOff x="1981080" y="5029200"/>
              <a:chExt cx="2007360" cy="307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981080" y="502920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539800" y="5029200"/>
                <a:ext cx="144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Marco Juríd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981080" y="5715000"/>
              <a:ext cx="2596680" cy="307080"/>
              <a:chOff x="1981080" y="5715000"/>
              <a:chExt cx="2596680" cy="307080"/>
            </a:xfrm>
          </p:grpSpPr>
          <p:sp>
            <p:nvSpPr>
              <p:cNvPr id="424" name=""/>
              <p:cNvSpPr/>
              <p:nvPr/>
            </p:nvSpPr>
            <p:spPr>
              <a:xfrm>
                <a:off x="1981080" y="571500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513520" y="5715000"/>
                <a:ext cx="20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Infraestructura Bás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981080" y="6324480"/>
              <a:ext cx="2296440" cy="307080"/>
              <a:chOff x="1981080" y="6324480"/>
              <a:chExt cx="2296440" cy="307080"/>
            </a:xfrm>
          </p:grpSpPr>
          <p:sp>
            <p:nvSpPr>
              <p:cNvPr id="427" name=""/>
              <p:cNvSpPr/>
              <p:nvPr/>
            </p:nvSpPr>
            <p:spPr>
              <a:xfrm>
                <a:off x="1981080" y="6324480"/>
                <a:ext cx="533520" cy="304920"/>
              </a:xfrm>
              <a:prstGeom prst="rightArrow">
                <a:avLst>
                  <a:gd name="adj1" fmla="val 50000"/>
                  <a:gd name="adj2" fmla="val 43743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71120" y="6324480"/>
                <a:ext cx="1706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663300"/>
                    </a:solidFill>
                    <a:latin typeface="Arial"/>
                  </a:rPr>
                  <a:t>Base Cartográf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05520" y="3429000"/>
              <a:ext cx="3428640" cy="685800"/>
              <a:chOff x="5105520" y="3429000"/>
              <a:chExt cx="3428640" cy="685800"/>
            </a:xfrm>
          </p:grpSpPr>
          <p:pic>
            <p:nvPicPr>
              <p:cNvPr id="43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91080" y="3429000"/>
                <a:ext cx="928440" cy="63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05520" y="3491280"/>
                <a:ext cx="642600" cy="50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891560" y="3491280"/>
                <a:ext cx="642600" cy="50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891040" y="3678120"/>
                <a:ext cx="428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62800" y="3678120"/>
                <a:ext cx="428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3865320"/>
                <a:ext cx="428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890680" y="3865320"/>
                <a:ext cx="35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91080" y="3429000"/>
                <a:ext cx="928440" cy="685800"/>
              </a:xfrm>
              <a:prstGeom prst="rect">
                <a:avLst/>
              </a:prstGeom>
              <a:noFill/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965280" y="3802680"/>
                <a:ext cx="375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990000"/>
                    </a:solidFill>
                    <a:latin typeface="Arial Narrow"/>
                  </a:rPr>
                  <a:t>SI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6573960" y="4191120"/>
              <a:ext cx="2032560" cy="612000"/>
              <a:chOff x="6573960" y="4191120"/>
              <a:chExt cx="2032560" cy="612000"/>
            </a:xfrm>
          </p:grpSpPr>
          <p:pic>
            <p:nvPicPr>
              <p:cNvPr id="44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945200" y="4191120"/>
                <a:ext cx="609120" cy="42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573960" y="4191120"/>
                <a:ext cx="609120" cy="42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259400" y="4191120"/>
                <a:ext cx="609120" cy="4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6650280" y="4572000"/>
                <a:ext cx="4305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990000"/>
                    </a:solidFill>
                    <a:latin typeface="Arial Narrow"/>
                  </a:rPr>
                  <a:t>SSP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89640" y="4572000"/>
                <a:ext cx="5770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990000"/>
                    </a:solidFill>
                    <a:latin typeface="Arial Narrow"/>
                  </a:rPr>
                  <a:t>Municipio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948800" y="4572000"/>
                <a:ext cx="657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990000"/>
                    </a:solidFill>
                    <a:latin typeface="Arial Narrow"/>
                  </a:rPr>
                  <a:t>Comunidad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791320" y="5562720"/>
              <a:ext cx="2895120" cy="611640"/>
              <a:chOff x="5791320" y="5562720"/>
              <a:chExt cx="2895120" cy="611640"/>
            </a:xfrm>
          </p:grpSpPr>
          <p:pic>
            <p:nvPicPr>
              <p:cNvPr id="44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91320" y="5570640"/>
                <a:ext cx="698760" cy="4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408360" y="5592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99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89680" y="5570640"/>
                <a:ext cx="698400" cy="490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987680" y="5608800"/>
                <a:ext cx="698760" cy="4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7507080" y="556272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99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" descr=""/>
            <p:cNvPicPr/>
            <p:nvPr/>
          </p:nvPicPr>
          <p:blipFill>
            <a:blip r:embed="rId14"/>
            <a:stretch/>
          </p:blipFill>
          <p:spPr>
            <a:xfrm>
              <a:off x="5495760" y="4876920"/>
              <a:ext cx="311472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3" name=""/>
            <p:cNvGrpSpPr/>
            <p:nvPr/>
          </p:nvGrpSpPr>
          <p:grpSpPr>
            <a:xfrm>
              <a:off x="6705720" y="6248520"/>
              <a:ext cx="1981080" cy="554040"/>
              <a:chOff x="6705720" y="6248520"/>
              <a:chExt cx="1981080" cy="554040"/>
            </a:xfrm>
          </p:grpSpPr>
          <p:sp>
            <p:nvSpPr>
              <p:cNvPr id="454" name=""/>
              <p:cNvSpPr/>
              <p:nvPr/>
            </p:nvSpPr>
            <p:spPr>
              <a:xfrm>
                <a:off x="6705720" y="6299280"/>
                <a:ext cx="1981080" cy="417600"/>
              </a:xfrm>
              <a:custGeom>
                <a:avLst/>
                <a:gdLst/>
                <a:ahLst/>
                <a:rect l="l" t="t" r="r" b="b"/>
                <a:pathLst>
                  <a:path w="1440" h="384">
                    <a:moveTo>
                      <a:pt x="0" y="336"/>
                    </a:moveTo>
                    <a:lnTo>
                      <a:pt x="576" y="0"/>
                    </a:lnTo>
                    <a:lnTo>
                      <a:pt x="1440" y="0"/>
                    </a:lnTo>
                    <a:lnTo>
                      <a:pt x="864" y="384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440480" y="6512040"/>
                <a:ext cx="723960" cy="172800"/>
              </a:xfrm>
              <a:custGeom>
                <a:avLst/>
                <a:gdLst/>
                <a:ahLst/>
                <a:rect l="l" t="t" r="r" b="b"/>
                <a:pathLst>
                  <a:path w="531" h="162">
                    <a:moveTo>
                      <a:pt x="0" y="162"/>
                    </a:moveTo>
                    <a:cubicBezTo>
                      <a:pt x="21" y="100"/>
                      <a:pt x="33" y="47"/>
                      <a:pt x="90" y="9"/>
                    </a:cubicBezTo>
                    <a:cubicBezTo>
                      <a:pt x="138" y="12"/>
                      <a:pt x="186" y="12"/>
                      <a:pt x="234" y="18"/>
                    </a:cubicBezTo>
                    <a:cubicBezTo>
                      <a:pt x="253" y="21"/>
                      <a:pt x="270" y="30"/>
                      <a:pt x="288" y="36"/>
                    </a:cubicBezTo>
                    <a:cubicBezTo>
                      <a:pt x="297" y="39"/>
                      <a:pt x="315" y="45"/>
                      <a:pt x="315" y="45"/>
                    </a:cubicBezTo>
                    <a:cubicBezTo>
                      <a:pt x="362" y="36"/>
                      <a:pt x="402" y="26"/>
                      <a:pt x="441" y="0"/>
                    </a:cubicBezTo>
                    <a:cubicBezTo>
                      <a:pt x="512" y="14"/>
                      <a:pt x="502" y="15"/>
                      <a:pt x="531" y="72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77280" y="6299280"/>
                <a:ext cx="280800" cy="260280"/>
              </a:xfrm>
              <a:custGeom>
                <a:avLst/>
                <a:gdLst/>
                <a:ahLst/>
                <a:rect l="l" t="t" r="r" b="b"/>
                <a:pathLst>
                  <a:path w="206" h="243">
                    <a:moveTo>
                      <a:pt x="206" y="243"/>
                    </a:moveTo>
                    <a:cubicBezTo>
                      <a:pt x="202" y="231"/>
                      <a:pt x="177" y="169"/>
                      <a:pt x="170" y="162"/>
                    </a:cubicBezTo>
                    <a:cubicBezTo>
                      <a:pt x="163" y="155"/>
                      <a:pt x="151" y="157"/>
                      <a:pt x="143" y="153"/>
                    </a:cubicBezTo>
                    <a:cubicBezTo>
                      <a:pt x="133" y="148"/>
                      <a:pt x="126" y="139"/>
                      <a:pt x="116" y="135"/>
                    </a:cubicBezTo>
                    <a:cubicBezTo>
                      <a:pt x="116" y="135"/>
                      <a:pt x="49" y="112"/>
                      <a:pt x="35" y="108"/>
                    </a:cubicBezTo>
                    <a:cubicBezTo>
                      <a:pt x="26" y="105"/>
                      <a:pt x="8" y="99"/>
                      <a:pt x="8" y="99"/>
                    </a:cubicBezTo>
                    <a:cubicBezTo>
                      <a:pt x="27" y="24"/>
                      <a:pt x="0" y="90"/>
                      <a:pt x="44" y="54"/>
                    </a:cubicBezTo>
                    <a:cubicBezTo>
                      <a:pt x="52" y="47"/>
                      <a:pt x="57" y="37"/>
                      <a:pt x="62" y="27"/>
                    </a:cubicBezTo>
                    <a:cubicBezTo>
                      <a:pt x="66" y="19"/>
                      <a:pt x="71" y="0"/>
                      <a:pt x="71" y="0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61040" y="6402240"/>
                <a:ext cx="560520" cy="157320"/>
              </a:xfrm>
              <a:custGeom>
                <a:avLst/>
                <a:gdLst/>
                <a:ahLst/>
                <a:rect l="l" t="t" r="r" b="b"/>
                <a:pathLst>
                  <a:path w="378" h="145">
                    <a:moveTo>
                      <a:pt x="378" y="19"/>
                    </a:moveTo>
                    <a:cubicBezTo>
                      <a:pt x="360" y="16"/>
                      <a:pt x="342" y="14"/>
                      <a:pt x="324" y="10"/>
                    </a:cubicBezTo>
                    <a:cubicBezTo>
                      <a:pt x="315" y="8"/>
                      <a:pt x="306" y="0"/>
                      <a:pt x="297" y="1"/>
                    </a:cubicBezTo>
                    <a:cubicBezTo>
                      <a:pt x="278" y="3"/>
                      <a:pt x="261" y="13"/>
                      <a:pt x="243" y="19"/>
                    </a:cubicBezTo>
                    <a:cubicBezTo>
                      <a:pt x="234" y="22"/>
                      <a:pt x="216" y="28"/>
                      <a:pt x="216" y="28"/>
                    </a:cubicBezTo>
                    <a:cubicBezTo>
                      <a:pt x="193" y="96"/>
                      <a:pt x="224" y="12"/>
                      <a:pt x="189" y="82"/>
                    </a:cubicBezTo>
                    <a:cubicBezTo>
                      <a:pt x="185" y="90"/>
                      <a:pt x="188" y="103"/>
                      <a:pt x="180" y="109"/>
                    </a:cubicBezTo>
                    <a:cubicBezTo>
                      <a:pt x="180" y="109"/>
                      <a:pt x="113" y="131"/>
                      <a:pt x="99" y="136"/>
                    </a:cubicBezTo>
                    <a:cubicBezTo>
                      <a:pt x="90" y="139"/>
                      <a:pt x="72" y="145"/>
                      <a:pt x="72" y="145"/>
                    </a:cubicBezTo>
                    <a:cubicBezTo>
                      <a:pt x="45" y="136"/>
                      <a:pt x="25" y="122"/>
                      <a:pt x="0" y="109"/>
                    </a:cubicBezTo>
                  </a:path>
                </a:pathLst>
              </a:custGeom>
              <a:noFill/>
              <a:ln w="284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18840" y="629928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V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58200" y="655632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V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34400" y="655632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V 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31320" y="6248520"/>
                <a:ext cx="46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V 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943600" y="1676520"/>
              <a:ext cx="533520" cy="380520"/>
              <a:chOff x="5943600" y="1676520"/>
              <a:chExt cx="533520" cy="380520"/>
            </a:xfrm>
          </p:grpSpPr>
          <p:sp>
            <p:nvSpPr>
              <p:cNvPr id="463" name=""/>
              <p:cNvSpPr/>
              <p:nvPr/>
            </p:nvSpPr>
            <p:spPr>
              <a:xfrm>
                <a:off x="5943600" y="1676520"/>
                <a:ext cx="457200" cy="152280"/>
              </a:xfrm>
              <a:prstGeom prst="rightArrow">
                <a:avLst>
                  <a:gd name="adj1" fmla="val 50000"/>
                  <a:gd name="adj2" fmla="val 75059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0800000">
                <a:off x="6019920" y="1904760"/>
                <a:ext cx="457200" cy="152280"/>
              </a:xfrm>
              <a:prstGeom prst="rightArrow">
                <a:avLst>
                  <a:gd name="adj1" fmla="val 50000"/>
                  <a:gd name="adj2" fmla="val 75059"/>
                </a:avLst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020000" y="1989000"/>
            <a:ext cx="1728720" cy="15462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rcRect l="0" t="0" r="0" b="22307"/>
          <a:stretch/>
        </p:blipFill>
        <p:spPr>
          <a:xfrm>
            <a:off x="1370160" y="1768320"/>
            <a:ext cx="1220760" cy="12049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6877080" y="4221000"/>
            <a:ext cx="1746360" cy="15624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692360" y="4149720"/>
            <a:ext cx="1655640" cy="1800360"/>
          </a:xfrm>
          <a:prstGeom prst="flowChartMagneticDisk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63640" y="4724280"/>
            <a:ext cx="15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Bas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35280" y="4149720"/>
            <a:ext cx="2808360" cy="116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stado de la Famili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64000" y="2492280"/>
            <a:ext cx="2590560" cy="398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teg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3716280"/>
            <a:ext cx="1512720" cy="863640"/>
          </a:xfrm>
          <a:prstGeom prst="uturnArrow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859280" y="299736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907920"/>
            <a:ext cx="3311280" cy="703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Gestión Integrada para la Protec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59280" y="1700280"/>
            <a:ext cx="432000" cy="649080"/>
          </a:xfrm>
          <a:prstGeom prst="upArrow">
            <a:avLst>
              <a:gd name="adj1" fmla="val 50000"/>
              <a:gd name="adj2" fmla="val 3756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843280" y="2492280"/>
            <a:ext cx="576360" cy="360360"/>
          </a:xfrm>
          <a:prstGeom prst="rightArrow">
            <a:avLst>
              <a:gd name="adj1" fmla="val 49778"/>
              <a:gd name="adj2" fmla="val 4009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77080" y="5084640"/>
            <a:ext cx="1727280" cy="70380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hile Soli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866560" y="3716280"/>
            <a:ext cx="1295640" cy="863640"/>
          </a:xfrm>
          <a:prstGeom prst="uturnArrow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6300000" y="256536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2924280"/>
            <a:ext cx="1547640" cy="3988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Mun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84360" y="260280"/>
            <a:ext cx="50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Univers (W1)"/>
              </a:rPr>
              <a:t>Desafíos: a nivel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304920"/>
            <a:ext cx="5790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Portal Plataforma  Informá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SI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14400" y="1295280"/>
          <a:ext cx="754380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54380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7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4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700360" y="2565360"/>
            <a:ext cx="2232000" cy="863640"/>
            <a:chOff x="2700360" y="2565360"/>
            <a:chExt cx="2232000" cy="863640"/>
          </a:xfrm>
        </p:grpSpPr>
        <p:sp>
          <p:nvSpPr>
            <p:cNvPr id="58" name=""/>
            <p:cNvSpPr/>
            <p:nvPr/>
          </p:nvSpPr>
          <p:spPr>
            <a:xfrm>
              <a:off x="2844720" y="2565360"/>
              <a:ext cx="194328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0360" y="2565360"/>
              <a:ext cx="223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Considera las familias en un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4720" y="907920"/>
            <a:ext cx="2050920" cy="1008000"/>
            <a:chOff x="504720" y="907920"/>
            <a:chExt cx="2050920" cy="1008000"/>
          </a:xfrm>
        </p:grpSpPr>
        <p:sp>
          <p:nvSpPr>
            <p:cNvPr id="61" name=""/>
            <p:cNvSpPr/>
            <p:nvPr/>
          </p:nvSpPr>
          <p:spPr>
            <a:xfrm>
              <a:off x="576000" y="907920"/>
              <a:ext cx="180036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4720" y="979200"/>
              <a:ext cx="205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La pobrez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Es un fenóme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multicaus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508720" y="981000"/>
            <a:ext cx="2952720" cy="1008000"/>
            <a:chOff x="5508720" y="981000"/>
            <a:chExt cx="2952720" cy="1008000"/>
          </a:xfrm>
        </p:grpSpPr>
        <p:sp>
          <p:nvSpPr>
            <p:cNvPr id="64" name=""/>
            <p:cNvSpPr/>
            <p:nvPr/>
          </p:nvSpPr>
          <p:spPr>
            <a:xfrm>
              <a:off x="5543640" y="981000"/>
              <a:ext cx="28814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1072800"/>
              <a:ext cx="295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Que debe ser  aborda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Por la red social y su ofer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Programátic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332000" y="6021360"/>
            <a:ext cx="4897440" cy="576000"/>
            <a:chOff x="1332000" y="6021360"/>
            <a:chExt cx="4897440" cy="576000"/>
          </a:xfrm>
        </p:grpSpPr>
        <p:sp>
          <p:nvSpPr>
            <p:cNvPr id="67" name=""/>
            <p:cNvSpPr/>
            <p:nvPr/>
          </p:nvSpPr>
          <p:spPr>
            <a:xfrm>
              <a:off x="1332000" y="6021360"/>
              <a:ext cx="4897440" cy="576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64000" y="6116400"/>
              <a:ext cx="41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0000"/>
                  </a:solidFill>
                  <a:latin typeface="Arial"/>
                </a:rPr>
                <a:t>Que adquiere características especif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5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rcRect l="51370" t="9115" r="2910" b="18186"/>
          <a:stretch/>
        </p:blipFill>
        <p:spPr>
          <a:xfrm>
            <a:off x="0" y="620640"/>
            <a:ext cx="539640" cy="54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0" t="0" r="0" b="22307"/>
          <a:stretch/>
        </p:blipFill>
        <p:spPr>
          <a:xfrm>
            <a:off x="8101080" y="260280"/>
            <a:ext cx="900000" cy="84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40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Mapa de Actores </a:t>
            </a:r>
            <a:br>
              <a:rPr sz="2400"/>
            </a:br>
            <a:r>
              <a:rPr b="1" i="1" lang="es-MX" sz="2400" spc="-1" strike="noStrike">
                <a:solidFill>
                  <a:srgbClr val="333399"/>
                </a:solidFill>
                <a:latin typeface="Arial"/>
              </a:rPr>
              <a:t>Sistema de Protección Social Chile Soli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212000" y="1484280"/>
            <a:ext cx="4881600" cy="5167080"/>
            <a:chOff x="4212000" y="1484280"/>
            <a:chExt cx="4881600" cy="5167080"/>
          </a:xfrm>
        </p:grpSpPr>
        <p:sp>
          <p:nvSpPr>
            <p:cNvPr id="74" name="_s19605"/>
            <p:cNvSpPr/>
            <p:nvPr/>
          </p:nvSpPr>
          <p:spPr>
            <a:xfrm flipH="1" flipV="1">
              <a:off x="5333400" y="2276640"/>
              <a:ext cx="677880" cy="10803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9604"/>
            <p:cNvSpPr/>
            <p:nvPr/>
          </p:nvSpPr>
          <p:spPr>
            <a:xfrm>
              <a:off x="4313520" y="1484280"/>
              <a:ext cx="133704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Fortalec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Gest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Municip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9603"/>
            <p:cNvSpPr/>
            <p:nvPr/>
          </p:nvSpPr>
          <p:spPr>
            <a:xfrm flipH="1">
              <a:off x="5509080" y="4076640"/>
              <a:ext cx="344160" cy="1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9602">
              <a:hlinkClick r:id="rId2" action="ppaction://hlinksldjump"/>
            </p:cNvPr>
            <p:cNvSpPr/>
            <p:nvPr/>
          </p:nvSpPr>
          <p:spPr>
            <a:xfrm>
              <a:off x="4212000" y="3429720"/>
              <a:ext cx="1337040" cy="12564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Particip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Sociedad Civil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Voluntari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Territor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Opera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9601"/>
            <p:cNvSpPr/>
            <p:nvPr/>
          </p:nvSpPr>
          <p:spPr>
            <a:xfrm flipH="1">
              <a:off x="5508720" y="4797720"/>
              <a:ext cx="431640" cy="8539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9600"/>
            <p:cNvSpPr/>
            <p:nvPr/>
          </p:nvSpPr>
          <p:spPr>
            <a:xfrm>
              <a:off x="4313520" y="5445000"/>
              <a:ext cx="1410480" cy="1186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onoc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Investig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9599"/>
            <p:cNvSpPr/>
            <p:nvPr/>
          </p:nvSpPr>
          <p:spPr>
            <a:xfrm>
              <a:off x="6732360" y="5229360"/>
              <a:ext cx="1080" cy="2282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9598">
              <a:hlinkClick r:id="rId5" action="ppaction://hlinksldjump"/>
            </p:cNvPr>
            <p:cNvSpPr/>
            <p:nvPr/>
          </p:nvSpPr>
          <p:spPr>
            <a:xfrm>
              <a:off x="6012000" y="5445000"/>
              <a:ext cx="1367640" cy="12063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Articu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sectorial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Servicios Públ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Dimen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hile Solidar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9597"/>
            <p:cNvSpPr/>
            <p:nvPr/>
          </p:nvSpPr>
          <p:spPr>
            <a:xfrm>
              <a:off x="7380000" y="4941360"/>
              <a:ext cx="432000" cy="79272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9596">
              <a:hlinkClick r:id="rId7" action="ppaction://hlinksldjump"/>
            </p:cNvPr>
            <p:cNvSpPr/>
            <p:nvPr/>
          </p:nvSpPr>
          <p:spPr>
            <a:xfrm>
              <a:off x="7673400" y="5445000"/>
              <a:ext cx="1393920" cy="118836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Incorpo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Teconologí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Información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9595"/>
            <p:cNvSpPr/>
            <p:nvPr/>
          </p:nvSpPr>
          <p:spPr>
            <a:xfrm>
              <a:off x="7667640" y="4076640"/>
              <a:ext cx="398520" cy="3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9594">
              <a:hlinkClick r:id="rId9" action="ppaction://hlinksldjump"/>
            </p:cNvPr>
            <p:cNvSpPr/>
            <p:nvPr/>
          </p:nvSpPr>
          <p:spPr>
            <a:xfrm>
              <a:off x="7852320" y="3344760"/>
              <a:ext cx="1241280" cy="12585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Fortalec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MIDE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9593"/>
            <p:cNvSpPr/>
            <p:nvPr/>
          </p:nvSpPr>
          <p:spPr>
            <a:xfrm flipV="1">
              <a:off x="7452000" y="2420640"/>
              <a:ext cx="597600" cy="10083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9592"/>
            <p:cNvSpPr/>
            <p:nvPr/>
          </p:nvSpPr>
          <p:spPr>
            <a:xfrm>
              <a:off x="7803720" y="1484280"/>
              <a:ext cx="1258920" cy="115236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Intercamb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Coope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Internac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9591"/>
            <p:cNvSpPr/>
            <p:nvPr/>
          </p:nvSpPr>
          <p:spPr>
            <a:xfrm flipV="1">
              <a:off x="6732360" y="2636640"/>
              <a:ext cx="1080" cy="359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9590">
              <a:hlinkClick r:id="rId12" action="ppaction://hlinksldjump"/>
            </p:cNvPr>
            <p:cNvSpPr/>
            <p:nvPr/>
          </p:nvSpPr>
          <p:spPr>
            <a:xfrm>
              <a:off x="6058080" y="1484280"/>
              <a:ext cx="1321560" cy="115236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Fortalecimi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Gestión Pú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6600"/>
                  </a:solidFill>
                  <a:latin typeface="Arial"/>
                </a:rPr>
                <a:t>Descentraliz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6600"/>
                  </a:solidFill>
                  <a:latin typeface="Arial"/>
                </a:rPr>
                <a:t>Regional y Provi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9589"/>
            <p:cNvSpPr/>
            <p:nvPr/>
          </p:nvSpPr>
          <p:spPr>
            <a:xfrm>
              <a:off x="5724360" y="2996280"/>
              <a:ext cx="1984320" cy="2256120"/>
            </a:xfrm>
            <a:prstGeom prst="ellips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99"/>
                  </a:solidFill>
                  <a:latin typeface="Arial"/>
                </a:rPr>
                <a:t>CHILE SOLID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5"/>
            <a:stretch/>
          </p:blipFill>
          <p:spPr>
            <a:xfrm>
              <a:off x="8459280" y="2349000"/>
              <a:ext cx="216360" cy="21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6"/>
            <a:stretch/>
          </p:blipFill>
          <p:spPr>
            <a:xfrm>
              <a:off x="8243640" y="6381720"/>
              <a:ext cx="215280" cy="212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"/>
          <p:cNvSpPr/>
          <p:nvPr/>
        </p:nvSpPr>
        <p:spPr>
          <a:xfrm>
            <a:off x="6732720" y="2997360"/>
            <a:ext cx="0" cy="2232000"/>
          </a:xfrm>
          <a:prstGeom prst="line">
            <a:avLst/>
          </a:prstGeom>
          <a:ln cap="rnd" w="1260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38760" y="4105440"/>
            <a:ext cx="1943280" cy="0"/>
          </a:xfrm>
          <a:prstGeom prst="line">
            <a:avLst/>
          </a:prstGeom>
          <a:ln cap="rnd" w="1260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411800">
            <a:off x="5755320" y="3357720"/>
            <a:ext cx="1067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Comic Sans MS"/>
              </a:rPr>
              <a:t>Evalu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75600">
            <a:off x="6998760" y="3357360"/>
            <a:ext cx="491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Comic Sans MS"/>
              </a:rPr>
              <a:t>SI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676600">
            <a:off x="5540400" y="450828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Comic Sans MS"/>
              </a:rPr>
              <a:t>Capacita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416000">
            <a:off x="6400080" y="4436640"/>
            <a:ext cx="149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Comic Sans MS"/>
              </a:rPr>
              <a:t>Fortalecimien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33399"/>
                </a:solidFill>
                <a:latin typeface="Comic Sans MS"/>
              </a:rPr>
              <a:t>Instituc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758880" cy="765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0920" y="1557360"/>
            <a:ext cx="1512720" cy="4606920"/>
            <a:chOff x="250920" y="1557360"/>
            <a:chExt cx="1512720" cy="4606920"/>
          </a:xfrm>
        </p:grpSpPr>
        <p:sp>
          <p:nvSpPr>
            <p:cNvPr id="101" name=""/>
            <p:cNvSpPr/>
            <p:nvPr/>
          </p:nvSpPr>
          <p:spPr>
            <a:xfrm>
              <a:off x="250920" y="155736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IDENTIFIC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920" y="220500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SALU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0920" y="292428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EDUCAC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0920" y="357336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DINAMICA FAMILI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920" y="422100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HABITABILIDA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0920" y="494172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TRABA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920" y="5661000"/>
              <a:ext cx="1512720" cy="5032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333399"/>
                  </a:solidFill>
                  <a:latin typeface="Arial"/>
                </a:rPr>
                <a:t>INGRES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0800000">
            <a:off x="1837800" y="1623600"/>
            <a:ext cx="142920" cy="453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50920" y="2276280"/>
            <a:ext cx="2089440" cy="936360"/>
            <a:chOff x="2050920" y="2276280"/>
            <a:chExt cx="2089440" cy="936360"/>
          </a:xfrm>
        </p:grpSpPr>
        <p:sp>
          <p:nvSpPr>
            <p:cNvPr id="110" name=""/>
            <p:cNvSpPr/>
            <p:nvPr/>
          </p:nvSpPr>
          <p:spPr>
            <a:xfrm rot="10800000">
              <a:off x="2050920" y="2276280"/>
              <a:ext cx="2089440" cy="936360"/>
            </a:xfrm>
            <a:custGeom>
              <a:avLst/>
              <a:gdLst>
                <a:gd name="textAreaLeft" fmla="*/ 326520 w 2089440"/>
                <a:gd name="textAreaRight" fmla="*/ 1828440 w 2089440"/>
                <a:gd name="textAreaTop" fmla="*/ 234000 h 936360"/>
                <a:gd name="textAreaBottom" fmla="*/ 70236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ff">
                <a:alpha val="60000"/>
              </a:srgbClr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8360" y="2637000"/>
              <a:ext cx="156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333399"/>
                  </a:solidFill>
                  <a:latin typeface="Arial"/>
                </a:rPr>
                <a:t>Apoyo psicosoci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79640" y="3573360"/>
            <a:ext cx="2160720" cy="936720"/>
            <a:chOff x="1979640" y="3573360"/>
            <a:chExt cx="2160720" cy="936720"/>
          </a:xfrm>
        </p:grpSpPr>
        <p:sp>
          <p:nvSpPr>
            <p:cNvPr id="113" name=""/>
            <p:cNvSpPr/>
            <p:nvPr/>
          </p:nvSpPr>
          <p:spPr>
            <a:xfrm rot="10800000">
              <a:off x="1979640" y="3573360"/>
              <a:ext cx="2160720" cy="936720"/>
            </a:xfrm>
            <a:custGeom>
              <a:avLst/>
              <a:gdLst>
                <a:gd name="textAreaLeft" fmla="*/ 337320 w 2160720"/>
                <a:gd name="textAreaRight" fmla="*/ 1890720 w 2160720"/>
                <a:gd name="textAreaTop" fmla="*/ 234000 h 936720"/>
                <a:gd name="textAreaBottom" fmla="*/ 7027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ff">
                <a:alpha val="60000"/>
              </a:srgbClr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0120" y="3933720"/>
              <a:ext cx="1847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333399"/>
                  </a:solidFill>
                  <a:latin typeface="Arial"/>
                </a:rPr>
                <a:t>Subsidios garantizado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050560" y="4941720"/>
            <a:ext cx="2087640" cy="936720"/>
            <a:chOff x="2050560" y="4941720"/>
            <a:chExt cx="2087640" cy="936720"/>
          </a:xfrm>
        </p:grpSpPr>
        <p:sp>
          <p:nvSpPr>
            <p:cNvPr id="116" name=""/>
            <p:cNvSpPr/>
            <p:nvPr/>
          </p:nvSpPr>
          <p:spPr>
            <a:xfrm rot="10800000">
              <a:off x="2050560" y="4941720"/>
              <a:ext cx="2087640" cy="936720"/>
            </a:xfrm>
            <a:custGeom>
              <a:avLst/>
              <a:gdLst>
                <a:gd name="textAreaLeft" fmla="*/ 326160 w 2087640"/>
                <a:gd name="textAreaRight" fmla="*/ 1827000 w 2087640"/>
                <a:gd name="textAreaTop" fmla="*/ 234000 h 936720"/>
                <a:gd name="textAreaBottom" fmla="*/ 70272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99ccff">
                <a:alpha val="60000"/>
              </a:srgbClr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68360" y="5157720"/>
              <a:ext cx="1597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333399"/>
                  </a:solidFill>
                  <a:latin typeface="Arial"/>
                </a:rPr>
                <a:t>Acceso preferente 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333399"/>
                  </a:solidFill>
                  <a:latin typeface="Arial"/>
                </a:rPr>
                <a:t>programas socia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8"/>
          <a:srcRect l="51370" t="9115" r="2910" b="18186"/>
          <a:stretch/>
        </p:blipFill>
        <p:spPr>
          <a:xfrm>
            <a:off x="0" y="765000"/>
            <a:ext cx="684360" cy="684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9"/>
          <a:stretch/>
        </p:blipFill>
        <p:spPr>
          <a:xfrm>
            <a:off x="8172360" y="234936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610480" y="670572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549" h="21600">
                <a:moveTo>
                  <a:pt x="30768" y="3794"/>
                </a:moveTo>
                <a:lnTo>
                  <a:pt x="44781" y="10800"/>
                </a:lnTo>
                <a:lnTo>
                  <a:pt x="3076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Coordinación gestión terri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2852640"/>
            <a:ext cx="2520720" cy="2057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49920" y="2291760"/>
            <a:ext cx="203400" cy="624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4229640" y="2176920"/>
            <a:ext cx="3600" cy="6570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432240" y="2341080"/>
            <a:ext cx="303120" cy="5828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323680" y="2775960"/>
            <a:ext cx="446040" cy="4820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759760" y="2901600"/>
            <a:ext cx="531000" cy="3225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383920" y="3801240"/>
            <a:ext cx="656640" cy="158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560560" y="3485520"/>
            <a:ext cx="559800" cy="14256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13400" y="4177800"/>
            <a:ext cx="644760" cy="1260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678400" y="4314960"/>
            <a:ext cx="480240" cy="3456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108240" y="4716360"/>
            <a:ext cx="411120" cy="48924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981240" y="4907880"/>
            <a:ext cx="157680" cy="6379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33280" y="4876200"/>
            <a:ext cx="147960" cy="63972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28280" y="4598640"/>
            <a:ext cx="453240" cy="47520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01920" y="981000"/>
            <a:ext cx="5680080" cy="5702400"/>
            <a:chOff x="1501920" y="981000"/>
            <a:chExt cx="5680080" cy="5702400"/>
          </a:xfrm>
        </p:grpSpPr>
        <p:grpSp>
          <p:nvGrpSpPr>
            <p:cNvPr id="137" name=""/>
            <p:cNvGrpSpPr/>
            <p:nvPr/>
          </p:nvGrpSpPr>
          <p:grpSpPr>
            <a:xfrm>
              <a:off x="4759560" y="981000"/>
              <a:ext cx="794880" cy="1258920"/>
              <a:chOff x="4759560" y="981000"/>
              <a:chExt cx="794880" cy="1258920"/>
            </a:xfrm>
          </p:grpSpPr>
          <p:pic>
            <p:nvPicPr>
              <p:cNvPr id="13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97360" y="981000"/>
                <a:ext cx="744480" cy="12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4759560" y="1473120"/>
                <a:ext cx="794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Tarapacá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616000" y="1557360"/>
              <a:ext cx="990000" cy="1077840"/>
              <a:chOff x="5616000" y="1557360"/>
              <a:chExt cx="990000" cy="107784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81520" y="1557360"/>
                <a:ext cx="79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5616000" y="1904760"/>
                <a:ext cx="990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Antofagast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372360" y="2781360"/>
              <a:ext cx="809640" cy="1081080"/>
              <a:chOff x="6372360" y="2781360"/>
              <a:chExt cx="809640" cy="10810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72360" y="2781360"/>
                <a:ext cx="741240" cy="10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6417720" y="3056040"/>
                <a:ext cx="7642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Atacam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635280" y="981000"/>
              <a:ext cx="1169640" cy="898560"/>
              <a:chOff x="3635280" y="981000"/>
              <a:chExt cx="1169640" cy="8985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35280" y="981000"/>
                <a:ext cx="107640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3703680" y="1257120"/>
                <a:ext cx="11012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Metropolitan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270840" y="3933720"/>
              <a:ext cx="872640" cy="1258920"/>
              <a:chOff x="6270840" y="3933720"/>
              <a:chExt cx="872640" cy="1258920"/>
            </a:xfrm>
          </p:grpSpPr>
          <p:pic>
            <p:nvPicPr>
              <p:cNvPr id="15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72360" y="3933720"/>
                <a:ext cx="679320" cy="125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6270840" y="4424400"/>
                <a:ext cx="8726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Coquimb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724360" y="5229360"/>
              <a:ext cx="1055160" cy="1118880"/>
              <a:chOff x="5724360" y="5229360"/>
              <a:chExt cx="1055160" cy="1118880"/>
            </a:xfrm>
          </p:grpSpPr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24360" y="5229360"/>
                <a:ext cx="98604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5889960" y="5504040"/>
                <a:ext cx="8895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Valparaís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370400" y="5762520"/>
              <a:ext cx="1324080" cy="898560"/>
              <a:chOff x="4370400" y="5762520"/>
              <a:chExt cx="1324080" cy="898560"/>
            </a:xfrm>
          </p:grpSpPr>
          <p:pic>
            <p:nvPicPr>
              <p:cNvPr id="1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0400" y="5762520"/>
                <a:ext cx="1324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4589280" y="6080040"/>
                <a:ext cx="84384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O’Higgin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76720" y="5748480"/>
              <a:ext cx="1019160" cy="934920"/>
              <a:chOff x="3276720" y="5748480"/>
              <a:chExt cx="1019160" cy="934920"/>
            </a:xfrm>
          </p:grpSpPr>
          <p:pic>
            <p:nvPicPr>
              <p:cNvPr id="15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276720" y="5748480"/>
                <a:ext cx="1019160" cy="93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>
                <a:off x="3540600" y="6080040"/>
                <a:ext cx="578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Ma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411280" y="5445000"/>
              <a:ext cx="806760" cy="901800"/>
              <a:chOff x="2411280" y="5445000"/>
              <a:chExt cx="806760" cy="901800"/>
            </a:xfrm>
          </p:grpSpPr>
          <p:pic>
            <p:nvPicPr>
              <p:cNvPr id="16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411280" y="5445000"/>
                <a:ext cx="806760" cy="90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2518920" y="5721480"/>
                <a:ext cx="6166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Biobí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644480" y="4581360"/>
              <a:ext cx="879480" cy="793800"/>
              <a:chOff x="1644480" y="4581360"/>
              <a:chExt cx="879480" cy="793800"/>
            </a:xfrm>
          </p:grpSpPr>
          <p:pic>
            <p:nvPicPr>
              <p:cNvPr id="1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2360" y="4581360"/>
                <a:ext cx="831600" cy="79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644480" y="4856040"/>
                <a:ext cx="857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Araucanía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501920" y="3068640"/>
              <a:ext cx="880200" cy="1432080"/>
              <a:chOff x="1501920" y="3068640"/>
              <a:chExt cx="880200" cy="1432080"/>
            </a:xfrm>
          </p:grpSpPr>
          <p:pic>
            <p:nvPicPr>
              <p:cNvPr id="1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19280" y="3068640"/>
                <a:ext cx="608040" cy="14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501920" y="3416400"/>
                <a:ext cx="8802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Los Lago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050920" y="1844640"/>
              <a:ext cx="653040" cy="1118880"/>
              <a:chOff x="2050920" y="1844640"/>
              <a:chExt cx="653040" cy="1118880"/>
            </a:xfrm>
          </p:grpSpPr>
          <p:pic>
            <p:nvPicPr>
              <p:cNvPr id="17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50920" y="1844640"/>
                <a:ext cx="63324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2104200" y="2336760"/>
                <a:ext cx="59976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Aysé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665440" y="1197000"/>
              <a:ext cx="936720" cy="1079640"/>
              <a:chOff x="2665440" y="1197000"/>
              <a:chExt cx="936720" cy="107964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90720" y="1197000"/>
                <a:ext cx="77796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665440" y="1400400"/>
                <a:ext cx="9367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</a:rPr>
                  <a:t>Magallan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">
            <a:hlinkClick r:id="rId14" action="ppaction://hlinksldjump"/>
          </p:cNvPr>
          <p:cNvSpPr/>
          <p:nvPr/>
        </p:nvSpPr>
        <p:spPr>
          <a:xfrm>
            <a:off x="779472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19640" y="2924280"/>
            <a:ext cx="136836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omité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reg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(CO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40360" y="3500280"/>
            <a:ext cx="136836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omité téc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rovin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(COTE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076640"/>
            <a:ext cx="158256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ubcomisione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omités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181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6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MIDE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79472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3429000"/>
            <a:ext cx="1871640" cy="11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66">
                  <a:alpha val="50196"/>
                </a:srgbClr>
              </a:gs>
            </a:gsLst>
            <a:lin ang="108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MIDE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6" idx="0"/>
            <a:endCxn id="188" idx="4"/>
          </p:cNvCxnSpPr>
          <p:nvPr/>
        </p:nvCxnSpPr>
        <p:spPr>
          <a:xfrm flipV="1">
            <a:off x="4716000" y="2577600"/>
            <a:ext cx="1080" cy="851760"/>
          </a:xfrm>
          <a:prstGeom prst="straightConnector1">
            <a:avLst/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89" name=""/>
          <p:cNvCxnSpPr>
            <a:stCxn id="186" idx="1"/>
            <a:endCxn id="190" idx="6"/>
          </p:cNvCxnSpPr>
          <p:nvPr/>
        </p:nvCxnSpPr>
        <p:spPr>
          <a:xfrm flipH="1" flipV="1">
            <a:off x="3792240" y="3141000"/>
            <a:ext cx="262080" cy="456120"/>
          </a:xfrm>
          <a:prstGeom prst="straightConnector1">
            <a:avLst/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91" name=""/>
          <p:cNvCxnSpPr>
            <a:stCxn id="186" idx="7"/>
            <a:endCxn id="192" idx="2"/>
          </p:cNvCxnSpPr>
          <p:nvPr/>
        </p:nvCxnSpPr>
        <p:spPr>
          <a:xfrm flipV="1">
            <a:off x="5376600" y="3141000"/>
            <a:ext cx="262080" cy="456120"/>
          </a:xfrm>
          <a:prstGeom prst="straightConnector1">
            <a:avLst/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93" name=""/>
          <p:cNvCxnSpPr>
            <a:stCxn id="186" idx="3"/>
            <a:endCxn id="194" idx="6"/>
          </p:cNvCxnSpPr>
          <p:nvPr/>
        </p:nvCxnSpPr>
        <p:spPr>
          <a:xfrm flipH="1">
            <a:off x="3647880" y="4413240"/>
            <a:ext cx="406800" cy="241920"/>
          </a:xfrm>
          <a:prstGeom prst="straightConnector1">
            <a:avLst/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95" name=""/>
          <p:cNvCxnSpPr>
            <a:stCxn id="186" idx="5"/>
            <a:endCxn id="196" idx="2"/>
          </p:cNvCxnSpPr>
          <p:nvPr/>
        </p:nvCxnSpPr>
        <p:spPr>
          <a:xfrm>
            <a:off x="5376960" y="4412880"/>
            <a:ext cx="334080" cy="313560"/>
          </a:xfrm>
          <a:prstGeom prst="straightConnector1">
            <a:avLst/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97" name=""/>
          <p:cNvCxnSpPr>
            <a:stCxn id="186" idx="4"/>
            <a:endCxn id="198" idx="0"/>
          </p:cNvCxnSpPr>
          <p:nvPr/>
        </p:nvCxnSpPr>
        <p:spPr>
          <a:xfrm>
            <a:off x="4716000" y="4581360"/>
            <a:ext cx="1080" cy="564480"/>
          </a:xfrm>
          <a:prstGeom prst="straightConnector1">
            <a:avLst/>
          </a:prstGeom>
          <a:ln w="25560">
            <a:solidFill>
              <a:srgbClr val="ff66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35280" y="1700280"/>
            <a:ext cx="2160720" cy="865080"/>
          </a:xfrm>
          <a:prstGeom prst="ellipse">
            <a:avLst/>
          </a:prstGeom>
          <a:gradFill rotWithShape="0">
            <a:gsLst>
              <a:gs pos="0">
                <a:srgbClr val="88d3f8"/>
              </a:gs>
              <a:gs pos="100000">
                <a:srgbClr val="000080">
                  <a:alpha val="70196"/>
                </a:srgbClr>
              </a:gs>
            </a:gsLst>
            <a:lin ang="108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Jurí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2708280"/>
            <a:ext cx="2160360" cy="865080"/>
          </a:xfrm>
          <a:prstGeom prst="ellipse">
            <a:avLst/>
          </a:prstGeom>
          <a:gradFill rotWithShape="0">
            <a:gsLst>
              <a:gs pos="0">
                <a:srgbClr val="88d3f8"/>
              </a:gs>
              <a:gs pos="100000">
                <a:srgbClr val="000080">
                  <a:alpha val="70196"/>
                </a:srgbClr>
              </a:gs>
            </a:gsLst>
            <a:lin ang="108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ver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5157720"/>
            <a:ext cx="2160720" cy="865080"/>
          </a:xfrm>
          <a:prstGeom prst="ellipse">
            <a:avLst/>
          </a:prstGeom>
          <a:gradFill rotWithShape="0">
            <a:gsLst>
              <a:gs pos="0">
                <a:srgbClr val="88d3f8"/>
              </a:gs>
              <a:gs pos="100000">
                <a:srgbClr val="000080">
                  <a:alpha val="70196"/>
                </a:srgbClr>
              </a:gs>
            </a:gsLst>
            <a:lin ang="108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Reg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74920" y="4221000"/>
            <a:ext cx="2160360" cy="865440"/>
          </a:xfrm>
          <a:prstGeom prst="ellipse">
            <a:avLst/>
          </a:prstGeom>
          <a:gradFill rotWithShape="0">
            <a:gsLst>
              <a:gs pos="0">
                <a:srgbClr val="88d3f8"/>
              </a:gs>
              <a:gs pos="100000">
                <a:srgbClr val="000080">
                  <a:alpha val="70196"/>
                </a:srgbClr>
              </a:gs>
            </a:gsLst>
            <a:lin ang="108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dministr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2920" y="4292640"/>
            <a:ext cx="2160720" cy="865080"/>
          </a:xfrm>
          <a:prstGeom prst="ellipse">
            <a:avLst/>
          </a:prstGeom>
          <a:gradFill rotWithShape="0">
            <a:gsLst>
              <a:gs pos="0">
                <a:srgbClr val="88d3f8"/>
              </a:gs>
              <a:gs pos="100000">
                <a:srgbClr val="000080">
                  <a:alpha val="70196"/>
                </a:srgbClr>
              </a:gs>
            </a:gsLst>
            <a:lin ang="108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Divi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2708280"/>
            <a:ext cx="2160720" cy="865080"/>
          </a:xfrm>
          <a:prstGeom prst="ellipse">
            <a:avLst/>
          </a:prstGeom>
          <a:gradFill rotWithShape="0">
            <a:gsLst>
              <a:gs pos="0">
                <a:srgbClr val="88d3f8"/>
              </a:gs>
              <a:gs pos="100000">
                <a:srgbClr val="000080">
                  <a:alpha val="70196"/>
                </a:srgbClr>
              </a:gs>
            </a:gsLst>
            <a:lin ang="10800000"/>
          </a:gra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F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"/>
          <p:cNvSpPr/>
          <p:nvPr/>
        </p:nvSpPr>
        <p:spPr>
          <a:xfrm>
            <a:off x="914400" y="1197000"/>
            <a:ext cx="7905600" cy="54007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Pilotos GAD + MIDE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635280" y="4797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3635280" y="429264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0800000">
            <a:off x="3635280" y="37893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0800000">
            <a:off x="3635280" y="328428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3649680" y="275256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637080" y="226224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3635280" y="1773000"/>
            <a:ext cx="976320" cy="215640"/>
          </a:xfrm>
          <a:prstGeom prst="rightArrow">
            <a:avLst>
              <a:gd name="adj1" fmla="val 50000"/>
              <a:gd name="adj2" fmla="val 113189"/>
            </a:avLst>
          </a:prstGeom>
          <a:gradFill rotWithShape="0">
            <a:gsLst>
              <a:gs pos="0">
                <a:srgbClr val="ffcc66"/>
              </a:gs>
              <a:gs pos="100000">
                <a:srgbClr val="ff3300">
                  <a:alpha val="60392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932360" y="1700280"/>
            <a:ext cx="3600360" cy="3384360"/>
            <a:chOff x="4932360" y="1700280"/>
            <a:chExt cx="3600360" cy="3384360"/>
          </a:xfrm>
        </p:grpSpPr>
        <p:sp>
          <p:nvSpPr>
            <p:cNvPr id="213" name=""/>
            <p:cNvSpPr/>
            <p:nvPr/>
          </p:nvSpPr>
          <p:spPr>
            <a:xfrm>
              <a:off x="4932360" y="170028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RCeI-Servicio Registro Civil e Identific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32360" y="220500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P-Instituto de Normalización Prev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32360" y="270828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NVU-Ministerio de Vivienda y Urbanism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932360" y="321300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II-Servicio de Impuestos Intern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GR-Tesorería General de la Repúbl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32360" y="422100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INSAL-Ministerio de Salu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32360" y="4724280"/>
              <a:ext cx="3600360" cy="360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UBDERE-Subsecretaría de Desarrollo Reg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979640" y="494172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87280" y="5373720"/>
            <a:ext cx="2089440" cy="503280"/>
          </a:xfrm>
          <a:prstGeom prst="ellipse">
            <a:avLst/>
          </a:prstGeom>
          <a:solidFill>
            <a:srgbClr val="ccff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vita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IDE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779976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42920" y="1773360"/>
            <a:ext cx="2376720" cy="3168360"/>
            <a:chOff x="1042920" y="1773360"/>
            <a:chExt cx="2376720" cy="3168360"/>
          </a:xfrm>
        </p:grpSpPr>
        <p:sp>
          <p:nvSpPr>
            <p:cNvPr id="224" name=""/>
            <p:cNvSpPr/>
            <p:nvPr/>
          </p:nvSpPr>
          <p:spPr>
            <a:xfrm>
              <a:off x="1835280" y="1916280"/>
              <a:ext cx="7905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G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2920" y="1773360"/>
              <a:ext cx="2376720" cy="31683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1638000" y="1969560"/>
              <a:ext cx="1187640" cy="2232000"/>
            </a:xfrm>
            <a:prstGeom prst="flowChartDelay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cffcc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atrocinad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inisterio de Econom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ubsecretarí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conom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1728000" y="3106080"/>
              <a:ext cx="1008000" cy="2232000"/>
            </a:xfrm>
            <a:prstGeom prst="flowChartDelay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ccffcc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ordinador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RY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MinSegP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3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Fortalecimiento gestión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779976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49760" y="5229360"/>
            <a:ext cx="1800000" cy="60948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Subsi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4292640"/>
            <a:ext cx="1800360" cy="60948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SECPL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87280" y="2852640"/>
            <a:ext cx="1800360" cy="60984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Encarg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Grupos Priorit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7640" y="2852640"/>
            <a:ext cx="1800360" cy="60984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Depart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4292640"/>
            <a:ext cx="1996920" cy="60948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Unidad de Interv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Famili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51200" y="1700280"/>
            <a:ext cx="1800360" cy="60948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660066"/>
                </a:solidFill>
                <a:latin typeface="Arial"/>
              </a:rPr>
              <a:t>DIDE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endCxn id="239" idx="2"/>
          </p:cNvCxnSpPr>
          <p:nvPr/>
        </p:nvCxnSpPr>
        <p:spPr>
          <a:xfrm flipV="1">
            <a:off x="4644720" y="2322000"/>
            <a:ext cx="6840" cy="602640"/>
          </a:xfrm>
          <a:prstGeom prst="straightConnector1">
            <a:avLst/>
          </a:prstGeom>
          <a:ln w="1260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1" name=""/>
          <p:cNvCxnSpPr>
            <a:endCxn id="234" idx="0"/>
          </p:cNvCxnSpPr>
          <p:nvPr/>
        </p:nvCxnSpPr>
        <p:spPr>
          <a:xfrm>
            <a:off x="4644720" y="4579920"/>
            <a:ext cx="5400" cy="637200"/>
          </a:xfrm>
          <a:prstGeom prst="straightConnector1">
            <a:avLst/>
          </a:prstGeom>
          <a:ln w="12600">
            <a:solidFill>
              <a:srgbClr val="800080"/>
            </a:solidFill>
            <a:miter/>
            <a:tailEnd len="med" type="triangle" w="med"/>
          </a:ln>
        </p:spPr>
      </p:cxnSp>
      <p:grpSp>
        <p:nvGrpSpPr>
          <p:cNvPr id="242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/>
          <p:cNvSpPr/>
          <p:nvPr/>
        </p:nvSpPr>
        <p:spPr>
          <a:xfrm>
            <a:off x="3733920" y="2895480"/>
            <a:ext cx="1828800" cy="160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8120" y="3427560"/>
            <a:ext cx="335268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ortal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/>
          <p:nvPr/>
        </p:nvCxnSpPr>
        <p:spPr>
          <a:xfrm flipV="1" rot="10800000">
            <a:off x="2999520" y="3752640"/>
            <a:ext cx="708840" cy="845280"/>
          </a:xfrm>
          <a:prstGeom prst="curvedConnector5">
            <a:avLst>
              <a:gd name="adj1" fmla="val 50863"/>
              <a:gd name="adj2" fmla="val 49978"/>
              <a:gd name="adj3" fmla="val 50863"/>
            </a:avLst>
          </a:prstGeom>
          <a:ln w="1260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rot="10800000">
            <a:off x="2999520" y="3156840"/>
            <a:ext cx="708840" cy="596160"/>
          </a:xfrm>
          <a:prstGeom prst="curvedConnector5">
            <a:avLst>
              <a:gd name="adj1" fmla="val 50863"/>
              <a:gd name="adj2" fmla="val 49969"/>
              <a:gd name="adj3" fmla="val 50863"/>
            </a:avLst>
          </a:prstGeom>
          <a:ln w="1260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V="1">
            <a:off x="5580000" y="3157200"/>
            <a:ext cx="635760" cy="596160"/>
          </a:xfrm>
          <a:prstGeom prst="curvedConnector5">
            <a:avLst>
              <a:gd name="adj1" fmla="val 50708"/>
              <a:gd name="adj2" fmla="val 49969"/>
              <a:gd name="adj3" fmla="val 50708"/>
            </a:avLst>
          </a:prstGeom>
          <a:ln w="1260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>
            <a:off x="5580000" y="3753000"/>
            <a:ext cx="564480" cy="845280"/>
          </a:xfrm>
          <a:prstGeom prst="curvedConnector5">
            <a:avLst>
              <a:gd name="adj1" fmla="val 50925"/>
              <a:gd name="adj2" fmla="val 49978"/>
              <a:gd name="adj3" fmla="val 50925"/>
            </a:avLst>
          </a:prstGeom>
          <a:ln w="1260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Sociedad Civil y Volunta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1" action="ppaction://hlinksldjump"/>
          </p:cNvPr>
          <p:cNvSpPr/>
          <p:nvPr/>
        </p:nvSpPr>
        <p:spPr>
          <a:xfrm>
            <a:off x="779976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6360" y="1628640"/>
            <a:ext cx="3600360" cy="1513080"/>
          </a:xfrm>
          <a:prstGeom prst="ellipse">
            <a:avLst/>
          </a:prstGeom>
          <a:solidFill>
            <a:srgbClr val="009999">
              <a:alpha val="3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Particip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Sociedad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Voluntari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Territorios opera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229360"/>
            <a:ext cx="2089080" cy="900000"/>
          </a:xfrm>
          <a:prstGeom prst="rect">
            <a:avLst/>
          </a:prstGeom>
          <a:solidFill>
            <a:srgbClr val="3366ff">
              <a:alpha val="4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Organiz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territo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40360" y="3860640"/>
            <a:ext cx="2089080" cy="900360"/>
          </a:xfrm>
          <a:prstGeom prst="rect">
            <a:avLst/>
          </a:prstGeom>
          <a:solidFill>
            <a:srgbClr val="333399">
              <a:alpha val="4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Famil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(sujeto de interv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Participati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47640" y="3860640"/>
            <a:ext cx="2089440" cy="900360"/>
          </a:xfrm>
          <a:prstGeom prst="rect">
            <a:avLst/>
          </a:prstGeom>
          <a:solidFill>
            <a:srgbClr val="009999">
              <a:alpha val="4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Organiz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Func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(Clubes deportivo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3300"/>
                </a:solidFill>
                <a:latin typeface="Arial"/>
              </a:rPr>
              <a:t>comités de adelant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32720" y="2637000"/>
            <a:ext cx="2089080" cy="647640"/>
          </a:xfrm>
          <a:prstGeom prst="rect">
            <a:avLst/>
          </a:prstGeom>
          <a:solidFill>
            <a:srgbClr val="99ccff">
              <a:alpha val="4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Empresari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2708280"/>
            <a:ext cx="2089080" cy="647640"/>
          </a:xfrm>
          <a:prstGeom prst="rect">
            <a:avLst/>
          </a:prstGeom>
          <a:solidFill>
            <a:srgbClr val="0000ff">
              <a:alpha val="4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ON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932360" y="5229360"/>
            <a:ext cx="2089080" cy="900000"/>
          </a:xfrm>
          <a:prstGeom prst="rect">
            <a:avLst/>
          </a:prstGeom>
          <a:solidFill>
            <a:srgbClr val="00ccff">
              <a:alpha val="40000"/>
            </a:srgbClr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Directiva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54" idx="2"/>
            <a:endCxn id="259" idx="0"/>
          </p:cNvCxnSpPr>
          <p:nvPr/>
        </p:nvCxnSpPr>
        <p:spPr>
          <a:xfrm flipH="1">
            <a:off x="1654920" y="2385720"/>
            <a:ext cx="1251720" cy="3135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4" idx="6"/>
            <a:endCxn id="258" idx="0"/>
          </p:cNvCxnSpPr>
          <p:nvPr/>
        </p:nvCxnSpPr>
        <p:spPr>
          <a:xfrm>
            <a:off x="6525720" y="2386080"/>
            <a:ext cx="1251720" cy="24192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4" idx="3"/>
            <a:endCxn id="257" idx="0"/>
          </p:cNvCxnSpPr>
          <p:nvPr/>
        </p:nvCxnSpPr>
        <p:spPr>
          <a:xfrm flipH="1">
            <a:off x="2592000" y="2928960"/>
            <a:ext cx="851760" cy="9230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4" idx="5"/>
            <a:endCxn id="256" idx="0"/>
          </p:cNvCxnSpPr>
          <p:nvPr/>
        </p:nvCxnSpPr>
        <p:spPr>
          <a:xfrm>
            <a:off x="5989320" y="2928960"/>
            <a:ext cx="996120" cy="9230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4"/>
            <a:endCxn id="255" idx="0"/>
          </p:cNvCxnSpPr>
          <p:nvPr/>
        </p:nvCxnSpPr>
        <p:spPr>
          <a:xfrm flipH="1">
            <a:off x="3529080" y="3151080"/>
            <a:ext cx="1187640" cy="20692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54" idx="4"/>
            <a:endCxn id="260" idx="0"/>
          </p:cNvCxnSpPr>
          <p:nvPr/>
        </p:nvCxnSpPr>
        <p:spPr>
          <a:xfrm>
            <a:off x="4716360" y="3151080"/>
            <a:ext cx="1261440" cy="20692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grpSp>
        <p:nvGrpSpPr>
          <p:cNvPr id="267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3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549600" y="2378160"/>
            <a:ext cx="2005200" cy="269712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operac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58920" y="1341360"/>
            <a:ext cx="936720" cy="2128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Bra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Venezu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48360" y="1268280"/>
            <a:ext cx="1152720" cy="24062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C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Jap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Mal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Nva. Zela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O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4653000"/>
            <a:ext cx="1152720" cy="7387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buSzPct val="10300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EE.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Co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SzPct val="103006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Nva. Zela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4653000"/>
            <a:ext cx="1152360" cy="182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buSzPct val="103006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6600"/>
                </a:solidFill>
                <a:latin typeface="Arial"/>
              </a:rPr>
              <a:t>25 paí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2123640" y="1886400"/>
            <a:ext cx="4825080" cy="3789720"/>
            <a:chOff x="2123640" y="1886400"/>
            <a:chExt cx="4825080" cy="3789720"/>
          </a:xfrm>
        </p:grpSpPr>
        <p:cxnSp>
          <p:nvCxnSpPr>
            <p:cNvPr id="277" name=""/>
            <p:cNvCxnSpPr/>
            <p:nvPr/>
          </p:nvCxnSpPr>
          <p:spPr>
            <a:xfrm flipV="1">
              <a:off x="6372360" y="2349000"/>
              <a:ext cx="576360" cy="253440"/>
            </a:xfrm>
            <a:prstGeom prst="bentConnector3">
              <a:avLst>
                <a:gd name="adj1" fmla="val 49875"/>
              </a:avLst>
            </a:prstGeom>
            <a:ln w="255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"/>
            <p:cNvCxnSpPr/>
            <p:nvPr/>
          </p:nvCxnSpPr>
          <p:spPr>
            <a:xfrm>
              <a:off x="6443640" y="4834080"/>
              <a:ext cx="505440" cy="180000"/>
            </a:xfrm>
            <a:prstGeom prst="bentConnector3">
              <a:avLst>
                <a:gd name="adj1" fmla="val 49679"/>
              </a:avLst>
            </a:prstGeom>
            <a:ln w="255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9" name=""/>
            <p:cNvCxnSpPr>
              <a:endCxn id="275" idx="3"/>
            </p:cNvCxnSpPr>
            <p:nvPr/>
          </p:nvCxnSpPr>
          <p:spPr>
            <a:xfrm rot="10800000">
              <a:off x="2123280" y="4744440"/>
              <a:ext cx="504000" cy="160920"/>
            </a:xfrm>
            <a:prstGeom prst="bentConnector3">
              <a:avLst>
                <a:gd name="adj1" fmla="val 49821"/>
              </a:avLst>
            </a:prstGeom>
            <a:ln w="255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280" name=""/>
            <p:cNvGrpSpPr/>
            <p:nvPr/>
          </p:nvGrpSpPr>
          <p:grpSpPr>
            <a:xfrm>
              <a:off x="2267280" y="1886400"/>
              <a:ext cx="4176360" cy="3789720"/>
              <a:chOff x="2267280" y="1886400"/>
              <a:chExt cx="4176360" cy="3789720"/>
            </a:xfrm>
          </p:grpSpPr>
          <p:sp>
            <p:nvSpPr>
              <p:cNvPr id="281" name=""/>
              <p:cNvSpPr/>
              <p:nvPr/>
            </p:nvSpPr>
            <p:spPr>
              <a:xfrm>
                <a:off x="5003640" y="4365720"/>
                <a:ext cx="1440000" cy="934920"/>
              </a:xfrm>
              <a:prstGeom prst="ellipse">
                <a:avLst/>
              </a:prstGeom>
              <a:solidFill>
                <a:srgbClr val="00ccff">
                  <a:alpha val="70000"/>
                </a:srgbClr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27280" y="4437000"/>
                <a:ext cx="1440000" cy="936720"/>
              </a:xfrm>
              <a:prstGeom prst="ellipse">
                <a:avLst/>
              </a:prstGeom>
              <a:solidFill>
                <a:srgbClr val="00ccff">
                  <a:alpha val="70000"/>
                </a:srgbClr>
              </a:solidFill>
              <a:ln w="1260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932360" y="2133720"/>
                <a:ext cx="1440000" cy="936360"/>
              </a:xfrm>
              <a:prstGeom prst="ellipse">
                <a:avLst/>
              </a:prstGeom>
              <a:solidFill>
                <a:srgbClr val="00ccff">
                  <a:alpha val="70000"/>
                </a:srgbClr>
              </a:solidFill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2267280" y="1886400"/>
                <a:ext cx="4115160" cy="3789720"/>
                <a:chOff x="2267280" y="1886400"/>
                <a:chExt cx="4115160" cy="378972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700720" y="2061000"/>
                  <a:ext cx="1430280" cy="935280"/>
                </a:xfrm>
                <a:prstGeom prst="ellipse">
                  <a:avLst/>
                </a:prstGeom>
                <a:solidFill>
                  <a:srgbClr val="00ccff">
                    <a:alpha val="70000"/>
                  </a:srgbClr>
                </a:solidFill>
                <a:ln w="1260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_s42027"/>
                <p:cNvSpPr/>
                <p:nvPr/>
              </p:nvSpPr>
              <p:spPr>
                <a:xfrm>
                  <a:off x="3250080" y="1886400"/>
                  <a:ext cx="2536920" cy="1287360"/>
                </a:xfrm>
                <a:custGeom>
                  <a:avLst/>
                  <a:gdLst>
                    <a:gd name="textAreaLeft" fmla="*/ 0 w 2536920"/>
                    <a:gd name="textAreaRight" fmla="*/ 2537280 w 2536920"/>
                    <a:gd name="textAreaTop" fmla="*/ 0 h 1287360"/>
                    <a:gd name="textAreaBottom" fmla="*/ 1287720 h 128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798" y="17930"/>
                      </a:moveTo>
                      <a:arcTo wR="-7200" hR="-7200" stAng="5880000" swAng="-2280000"/>
                      <a:lnTo>
                        <a:pt x="5400" y="1447"/>
                      </a:lnTo>
                      <a:arcTo wR="10800" hR="10800" stAng="-7200000" swAng="2280000"/>
                      <a:lnTo>
                        <a:pt x="12679" y="-2569"/>
                      </a:lnTo>
                      <a:lnTo>
                        <a:pt x="16509" y="2514"/>
                      </a:lnTo>
                      <a:lnTo>
                        <a:pt x="11426" y="63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8100000"/>
                </a:gra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_s42028"/>
                <p:cNvSpPr/>
                <p:nvPr/>
              </p:nvSpPr>
              <p:spPr>
                <a:xfrm rot="5400000">
                  <a:off x="4449960" y="3137040"/>
                  <a:ext cx="2576880" cy="1287720"/>
                </a:xfrm>
                <a:custGeom>
                  <a:avLst/>
                  <a:gdLst>
                    <a:gd name="textAreaLeft" fmla="*/ 0 w 2576880"/>
                    <a:gd name="textAreaRight" fmla="*/ 2577240 w 2576880"/>
                    <a:gd name="textAreaTop" fmla="*/ 0 h 1287720"/>
                    <a:gd name="textAreaBottom" fmla="*/ 1288080 h 128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798" y="17930"/>
                      </a:moveTo>
                      <a:arcTo wR="-7200" hR="-7200" stAng="5880000" swAng="-2280000"/>
                      <a:lnTo>
                        <a:pt x="5400" y="1447"/>
                      </a:lnTo>
                      <a:arcTo wR="10800" hR="10800" stAng="-7200000" swAng="2280000"/>
                      <a:lnTo>
                        <a:pt x="12679" y="-2569"/>
                      </a:lnTo>
                      <a:lnTo>
                        <a:pt x="16509" y="2514"/>
                      </a:lnTo>
                      <a:lnTo>
                        <a:pt x="11426" y="63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99"/>
                    </a:gs>
                    <a:gs pos="100000">
                      <a:srgbClr val="ffffff"/>
                    </a:gs>
                  </a:gsLst>
                  <a:lin ang="2700000"/>
                </a:gra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_s42029"/>
                <p:cNvSpPr/>
                <p:nvPr/>
              </p:nvSpPr>
              <p:spPr>
                <a:xfrm rot="10800000">
                  <a:off x="3246840" y="4388760"/>
                  <a:ext cx="2536920" cy="1287360"/>
                </a:xfrm>
                <a:custGeom>
                  <a:avLst/>
                  <a:gdLst>
                    <a:gd name="textAreaLeft" fmla="*/ 0 w 2536920"/>
                    <a:gd name="textAreaRight" fmla="*/ 2537280 w 2536920"/>
                    <a:gd name="textAreaTop" fmla="*/ 0 h 1287360"/>
                    <a:gd name="textAreaBottom" fmla="*/ 1287720 h 1287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798" y="17930"/>
                      </a:moveTo>
                      <a:arcTo wR="-7200" hR="-7200" stAng="5880000" swAng="-2280000"/>
                      <a:lnTo>
                        <a:pt x="5400" y="1447"/>
                      </a:lnTo>
                      <a:arcTo wR="10800" hR="10800" stAng="-7200000" swAng="2280000"/>
                      <a:lnTo>
                        <a:pt x="12679" y="-2569"/>
                      </a:lnTo>
                      <a:lnTo>
                        <a:pt x="16509" y="2514"/>
                      </a:lnTo>
                      <a:lnTo>
                        <a:pt x="11426" y="63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be0e3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_s42030"/>
                <p:cNvSpPr/>
                <p:nvPr/>
              </p:nvSpPr>
              <p:spPr>
                <a:xfrm rot="16200000">
                  <a:off x="2008440" y="3133800"/>
                  <a:ext cx="2576520" cy="1287720"/>
                </a:xfrm>
                <a:custGeom>
                  <a:avLst/>
                  <a:gdLst>
                    <a:gd name="textAreaLeft" fmla="*/ 0 w 2576520"/>
                    <a:gd name="textAreaRight" fmla="*/ 2576880 w 2576520"/>
                    <a:gd name="textAreaTop" fmla="*/ 0 h 1287720"/>
                    <a:gd name="textAreaBottom" fmla="*/ 1288080 h 128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9798" y="17930"/>
                      </a:moveTo>
                      <a:arcTo wR="-7200" hR="-7200" stAng="5880000" swAng="-2280000"/>
                      <a:lnTo>
                        <a:pt x="5400" y="1447"/>
                      </a:lnTo>
                      <a:arcTo wR="10800" hR="10800" stAng="-7200000" swAng="2280000"/>
                      <a:lnTo>
                        <a:pt x="12679" y="-2569"/>
                      </a:lnTo>
                      <a:lnTo>
                        <a:pt x="16509" y="2514"/>
                      </a:lnTo>
                      <a:lnTo>
                        <a:pt x="11426" y="63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n w="93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_s42031"/>
                <p:cNvSpPr/>
                <p:nvPr/>
              </p:nvSpPr>
              <p:spPr>
                <a:xfrm>
                  <a:off x="5148360" y="2061000"/>
                  <a:ext cx="956160" cy="9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333399"/>
                      </a:solidFill>
                      <a:latin typeface="Arial"/>
                    </a:rPr>
                    <a:t>Asia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333399"/>
                      </a:solidFill>
                      <a:latin typeface="Arial"/>
                    </a:rPr>
                    <a:t>Pacífico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_s42032"/>
                <p:cNvSpPr/>
                <p:nvPr/>
              </p:nvSpPr>
              <p:spPr>
                <a:xfrm>
                  <a:off x="2843280" y="4365000"/>
                  <a:ext cx="955800" cy="9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333399"/>
                      </a:solidFill>
                      <a:latin typeface="Arial"/>
                    </a:rPr>
                    <a:t>Unión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333399"/>
                      </a:solidFill>
                      <a:latin typeface="Arial"/>
                    </a:rPr>
                    <a:t>Europea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_s42033"/>
                <p:cNvSpPr/>
                <p:nvPr/>
              </p:nvSpPr>
              <p:spPr>
                <a:xfrm>
                  <a:off x="2915280" y="2061000"/>
                  <a:ext cx="95760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333399"/>
                      </a:solidFill>
                      <a:latin typeface="Arial"/>
                    </a:rPr>
                    <a:t>MERCOSU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_s42034"/>
                <p:cNvSpPr/>
                <p:nvPr/>
              </p:nvSpPr>
              <p:spPr>
                <a:xfrm>
                  <a:off x="5219280" y="4365000"/>
                  <a:ext cx="957600" cy="9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333399"/>
                      </a:solidFill>
                      <a:latin typeface="Arial"/>
                    </a:rPr>
                    <a:t>TLC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94" name=""/>
                <p:cNvCxnSpPr/>
                <p:nvPr/>
              </p:nvCxnSpPr>
              <p:spPr>
                <a:xfrm rot="10800000">
                  <a:off x="2266920" y="2203920"/>
                  <a:ext cx="433440" cy="324720"/>
                </a:xfrm>
                <a:prstGeom prst="bentConnector3">
                  <a:avLst>
                    <a:gd name="adj1" fmla="val 49958"/>
                  </a:avLst>
                </a:prstGeom>
                <a:ln w="25560">
                  <a:solidFill>
                    <a:srgbClr val="009999"/>
                  </a:solidFill>
                  <a:miter/>
                  <a:headEnd len="med" type="triangle" w="med"/>
                  <a:tailEnd len="med" type="triangle" w="med"/>
                </a:ln>
              </p:spPr>
            </p:cxnSp>
          </p:grpSp>
        </p:grpSp>
      </p:grpSp>
      <p:sp>
        <p:nvSpPr>
          <p:cNvPr id="295" name=""/>
          <p:cNvSpPr/>
          <p:nvPr/>
        </p:nvSpPr>
        <p:spPr>
          <a:xfrm>
            <a:off x="7799760" y="616572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808080"/>
                </a:solidFill>
                <a:latin typeface="Arial"/>
              </a:rPr>
              <a:t>V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0" y="0"/>
            <a:ext cx="838080" cy="1676520"/>
            <a:chOff x="0" y="0"/>
            <a:chExt cx="838080" cy="1676520"/>
          </a:xfrm>
        </p:grpSpPr>
        <p:pic>
          <p:nvPicPr>
            <p:cNvPr id="297" name="" descr=""/>
            <p:cNvPicPr/>
            <p:nvPr/>
          </p:nvPicPr>
          <p:blipFill>
            <a:blip r:embed="rId23"/>
            <a:stretch/>
          </p:blipFill>
          <p:spPr>
            <a:xfrm>
              <a:off x="0" y="0"/>
              <a:ext cx="830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4"/>
            <a:srcRect l="51370" t="9115" r="2910" b="18186"/>
            <a:stretch/>
          </p:blipFill>
          <p:spPr>
            <a:xfrm>
              <a:off x="0" y="838080"/>
              <a:ext cx="838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3:48:50Z</dcterms:created>
  <dc:creator>Jaime Toro</dc:creator>
  <dc:description/>
  <dc:language>en-US</dc:language>
  <cp:lastModifiedBy>Usuario</cp:lastModifiedBy>
  <dcterms:modified xsi:type="dcterms:W3CDTF">2005-07-20T16:47:43Z</dcterms:modified>
  <cp:revision>81</cp:revision>
  <dc:subject/>
  <dc:title>Diapositiva 1</dc:title>
</cp:coreProperties>
</file>