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0.png" ContentType="image/png"/>
  <Override PartName="/ppt/media/image5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07B-129A-45F7-BD52-7ACBABF9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16B-F3A3-425C-9AAE-73803C0F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83C-8A7B-485A-8EA9-FBFB23B2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C755-8432-48F2-9CC9-09CBAB4B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B919-DFB1-44F7-ADDB-C67FB2D0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7EB8-E6A1-4D0E-B7C6-FE90662E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6609-8EC7-4D3A-8742-2D2C9A13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5D21-A3D4-4F9E-952A-C87CAFCA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EAD8-7C0C-44FB-A3AC-179D42B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132E-1AB6-4D30-A9C6-E23B294D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3C34-C8C3-4658-B305-587F1A0D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991-3905-4688-B0BE-AE38487D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D197-18F7-4525-92C9-872E114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F12D-CD70-4A1C-902C-9D7FE78E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F387-E147-4D6C-AEF4-A153BC4D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E4CF-7CF9-4D80-97D9-68CDC13B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C229-3F5B-4795-9AE2-6D1B82A2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DEB-3512-4067-AC4A-803D0A52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9B6-D481-4A8D-BC72-BA77AA64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EA4-8E35-4276-A29F-896AB0D3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8F6-1172-48A4-BF46-CDC7B599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CD6-27D0-41FD-BEC4-C38157F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9D9-93BC-41F2-B31A-81509B10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C61E-7011-45D7-9B47-A883F359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5623-1336-45F5-8EC1-5967DF72AD2C}" type="slidenum">
              <a:rPr b="0" lang="pt-BR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095880"/>
            <a:ext cx="175248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6172200" y="6095880"/>
          <a:ext cx="121932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6095880"/>
                    <a:ext cx="12193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6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7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C375-0F12-461E-B368-D4B8293AB1A5}" type="slidenum">
              <a:rPr b="0" lang="pt-BR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968544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Verdana"/>
              </a:rPr>
              <a:t>Programme  Bolsa Famil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inistry of Social Development and Fight Against Hu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980720" y="1980720"/>
            <a:ext cx="49539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914400" y="6095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hile, July 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90720" y="3048120"/>
          <a:ext cx="2666880" cy="17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8120"/>
                    <a:ext cx="26668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24280" y="2209680"/>
            <a:ext cx="3372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1523880"/>
            <a:ext cx="7238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 Narrow"/>
                <a:ea typeface="Arial"/>
              </a:rPr>
              <a:t>Obje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270160"/>
            <a:ext cx="83818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eradicate hunger in Brazil promoting social inclusion of population with difficult access to foo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937040"/>
            <a:ext cx="8305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Arial"/>
              </a:rPr>
              <a:t>Brazilian population with difficult access to food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191120"/>
            <a:ext cx="7239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Arial Narrow"/>
                <a:ea typeface="Arial"/>
              </a:rPr>
              <a:t>Target Pub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80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ahoma"/>
              </a:rPr>
              <a:t>Zero Hun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96760" y="1341360"/>
            <a:ext cx="249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Narrow"/>
                <a:ea typeface="Arial"/>
              </a:rPr>
              <a:t>Joining</a:t>
            </a:r>
            <a:r>
              <a:rPr b="0" lang="en-GB" sz="4000" spc="-1" strike="noStrike">
                <a:solidFill>
                  <a:srgbClr val="ffcc00"/>
                </a:solidFill>
                <a:latin typeface="Arial Narrow"/>
                <a:ea typeface="Arial"/>
              </a:rPr>
              <a:t> ax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494080"/>
            <a:ext cx="7772400" cy="34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creasing the access to food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sub -axis: Income transfer Programmes– Programme Bolsa Famil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trengthening Family Agricul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romoting income generating processe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Narrow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Joining and mobilis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380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ahoma"/>
              </a:rPr>
              <a:t>Zero Hun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cc00"/>
                </a:solidFill>
                <a:latin typeface="Verdana"/>
              </a:rPr>
              <a:t>Bolsa Família Programme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he Bolsa Familia Programme is one of the principal actions of Zero Hunger,  conceived as an intersectional public policy which 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unites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various public and social agencies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around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the ethical imperative of hunger eradication  and the promotion of social inclusion in Brazil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Verdana"/>
              </a:rPr>
              <a:t>Bolsa Família Programm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Tahoma"/>
              </a:rPr>
              <a:t>Law 10.836, of 09 January 2004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Tahoma"/>
              </a:rPr>
              <a:t>Unified social benefits provided by the Federal Government 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Tahoma"/>
              </a:rPr>
              <a:t>Bolsa Escol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olsa Alimentaçã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xílio-Gá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artão Alimentaçã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Verdana"/>
              </a:rPr>
              <a:t>Bolsa Família Programm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oney Transfer programme conditioned by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mmediate poverty decrease through money transfer 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verty eradication and promotion of social inclusion through basic social rights  (such as health and education)  and the access to complementary polici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mplementary programmes: co-ordination of efforts by governments and society towards the implementation of social programmes/policies  for the development of families belonging to the Program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152280"/>
            <a:ext cx="7792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cc00"/>
                </a:solidFill>
                <a:latin typeface="Tahoma"/>
              </a:rPr>
              <a:t>Goals </a:t>
            </a:r>
            <a:r>
              <a:rPr b="0" lang="es-GT" sz="3200" spc="-1" strike="noStrike">
                <a:solidFill>
                  <a:srgbClr val="ffcc00"/>
                </a:solidFill>
                <a:latin typeface="Tahoma"/>
              </a:rPr>
              <a:t>(famil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95280"/>
            <a:ext cx="7620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Tahoma"/>
              </a:rPr>
              <a:t>2004   6,5 million </a:t>
            </a:r>
            <a:r>
              <a:rPr b="0" lang="es-G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GT" sz="2800" spc="-1" strike="noStrike">
                <a:solidFill>
                  <a:srgbClr val="ffffff"/>
                </a:solidFill>
                <a:latin typeface="Tahoma"/>
              </a:rPr>
              <a:t>U$ 2,2 b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Tahoma"/>
              </a:rPr>
              <a:t>2005   8,7 million </a:t>
            </a:r>
            <a:r>
              <a:rPr b="0" lang="es-G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GT" sz="2800" spc="-1" strike="noStrike">
                <a:solidFill>
                  <a:srgbClr val="ffffff"/>
                </a:solidFill>
                <a:latin typeface="Tahoma"/>
              </a:rPr>
              <a:t>U$ 2,6 b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ffffff"/>
                </a:solidFill>
                <a:latin typeface="Tahoma"/>
              </a:rPr>
              <a:t>2006   11,2 million </a:t>
            </a:r>
            <a:r>
              <a:rPr b="0" lang="es-GT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GT" sz="2800" spc="-1" strike="noStrike">
                <a:solidFill>
                  <a:srgbClr val="ffffff"/>
                </a:solidFill>
                <a:latin typeface="Tahoma"/>
              </a:rPr>
              <a:t>U$ 2,9 bill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00"/>
                </a:solidFill>
                <a:latin typeface="Verdana"/>
              </a:rPr>
              <a:t>Characteristics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  <a:ea typeface="Arial"/>
              </a:rPr>
              <a:t>Focused on families rather than on individual members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  <a:ea typeface="Arial"/>
              </a:rPr>
              <a:t>Unification of selection criteria and beneficiary conditions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  <a:ea typeface="Arial"/>
              </a:rPr>
              <a:t>Integration of efforts between different levels of the government (de-centralised, intersectional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National coverage with gradual implementation in municipalities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00"/>
                </a:solidFill>
                <a:latin typeface="Verdana"/>
              </a:rPr>
              <a:t>Characteristics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Government commitment and that of the familie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Direct transfer of income to the families  (through bank car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Supervision through government control as well as social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Arial"/>
              </a:rPr>
              <a:t>State bank as an operating agent: system development  (registry, selection), payment of benefits, distribution of ca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ahoma"/>
              </a:rPr>
              <a:t>Complexiti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Dimension, number of assisted families (7 million) and economic resources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resent in 5.542 municipalities (99,6%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Territorial and socio-economic inequality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Intersectional (health, education, social assistance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Federal ‘Design’ and necessity of constructing consensuses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ss of unification and coexistence with other programmes (integration of databases of other concepts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sses of integration of income transfer with other areas of the governmen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98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00"/>
                </a:solidFill>
                <a:latin typeface="Verdana"/>
              </a:rPr>
              <a:t>Selection Criteria and value of the benefit*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2819520"/>
            <a:ext cx="2133720" cy="609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198900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Extremely poor families: Monthly household income per capita of over US$ 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1981080"/>
            <a:ext cx="56390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ffff"/>
                </a:solidFill>
                <a:latin typeface="Verdana"/>
              </a:rPr>
              <a:t>Fixed benefit: US$ 20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GB" sz="2100" spc="-1" strike="noStrike">
                <a:solidFill>
                  <a:srgbClr val="ffffff"/>
                </a:solidFill>
                <a:latin typeface="Verdana"/>
              </a:rPr>
              <a:t>Variable benefit: over US$ 18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30660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US$ 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3352680"/>
            <a:ext cx="259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Children between 0-15 yea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4292640"/>
            <a:ext cx="2971800" cy="26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Poor families: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nthly household income per capita 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of between US$ 20 and US$ 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x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1 US$ = 2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4581360"/>
            <a:ext cx="48769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Variable benefit: o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US$ 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2057400"/>
            <a:ext cx="76320" cy="83808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080"/>
              <a:gd name="textAreaBottom" fmla="*/ 80316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335268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4724280"/>
            <a:ext cx="76320" cy="838440"/>
          </a:xfrm>
          <a:custGeom>
            <a:avLst/>
            <a:gdLst>
              <a:gd name="textAreaLeft" fmla="*/ 22320 w 76320"/>
              <a:gd name="textAreaRight" fmla="*/ 76320 w 7632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razil_shanghai" descr=""/>
          <p:cNvPicPr/>
          <p:nvPr/>
        </p:nvPicPr>
        <p:blipFill>
          <a:blip r:embed="rId1"/>
          <a:stretch/>
        </p:blipFill>
        <p:spPr>
          <a:xfrm>
            <a:off x="-609480" y="1143000"/>
            <a:ext cx="7705440" cy="5429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6400" y="0"/>
            <a:ext cx="8607600" cy="62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Tahoma"/>
              </a:rPr>
              <a:t>Brazil in South Amer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Population: 184 mill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Area: </a:t>
            </a: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8,514,215.3 km²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26 States plus the Federal 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District  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5.562 municipalities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Poor population: 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estimated 11 million of 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families (44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mill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peopl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Extremely poor 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population: 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estimated  4,5 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million families (18 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million peopl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00"/>
                </a:solidFill>
                <a:latin typeface="Verdana"/>
              </a:rPr>
              <a:t>Unique registry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  <a:ea typeface="Arial"/>
              </a:rPr>
              <a:t>Conceived to make existing sector programme integration viable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  <a:ea typeface="Arial"/>
              </a:rPr>
              <a:t>Responsibility of municipaliti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  <a:ea typeface="Arial"/>
              </a:rPr>
              <a:t>Data and information gathering  tool whose objective is to identify all the families in conditions of poverty in the country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 algn="just">
              <a:lnSpc>
                <a:spcPct val="80000"/>
              </a:lnSpc>
              <a:spcBef>
                <a:spcPts val="1100"/>
              </a:spcBef>
              <a:buClr>
                <a:srgbClr val="ff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  <a:ea typeface="Arial"/>
              </a:rPr>
              <a:t>Starting from the basis of the registry  families</a:t>
            </a:r>
            <a:r>
              <a:rPr b="1" lang="es-CL" sz="2200" spc="-1" strike="noStrike">
                <a:solidFill>
                  <a:srgbClr val="ffffff"/>
                </a:solidFill>
                <a:latin typeface="Verdana"/>
                <a:ea typeface="Arial"/>
              </a:rPr>
              <a:t> who receive a benfit</a:t>
            </a:r>
            <a:r>
              <a:rPr b="1" lang="en-GB" sz="22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1" lang="es-CL" sz="2200" spc="-1" strike="noStrike">
                <a:solidFill>
                  <a:srgbClr val="ffffff"/>
                </a:solidFill>
                <a:latin typeface="Verdana"/>
                <a:ea typeface="Arial"/>
              </a:rPr>
              <a:t>from</a:t>
            </a:r>
            <a:r>
              <a:rPr b="1" lang="en-GB" sz="2200" spc="-1" strike="noStrike">
                <a:solidFill>
                  <a:srgbClr val="ffffff"/>
                </a:solidFill>
                <a:latin typeface="Verdana"/>
                <a:ea typeface="Arial"/>
              </a:rPr>
              <a:t> Bolsa-Família are selected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838080"/>
            <a:ext cx="144792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in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838080"/>
            <a:ext cx="1600200" cy="609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unicip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838080"/>
            <a:ext cx="160020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inanc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838080"/>
            <a:ext cx="129528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15364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Operational Flow of the 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5486400"/>
            <a:ext cx="121932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Reimburs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320" y="1600200"/>
            <a:ext cx="144756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Defin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rite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and gui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1676520"/>
            <a:ext cx="1981080" cy="761760"/>
          </a:xfrm>
          <a:prstGeom prst="rect">
            <a:avLst/>
          </a:prstGeom>
          <a:solidFill>
            <a:srgbClr val="14b5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24280" y="1828800"/>
            <a:ext cx="2895840" cy="60948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Processing 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2819520"/>
            <a:ext cx="144756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nces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author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895480"/>
            <a:ext cx="2895480" cy="60984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enerating repor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20574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205740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2514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599840" y="320040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3962520"/>
            <a:ext cx="3124080" cy="60948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Generation  payment lis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4648320"/>
            <a:ext cx="144756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mission </a:t>
            </a: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o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</a:rPr>
              <a:t>payment or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5105520"/>
            <a:ext cx="2895840" cy="609480"/>
          </a:xfrm>
          <a:prstGeom prst="flowChartInputOutpu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Payment exec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3733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4191120"/>
            <a:ext cx="3962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4572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599840" y="480060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541008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7150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59436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00"/>
                </a:solidFill>
                <a:latin typeface="Verdana"/>
              </a:rPr>
              <a:t>Conditions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62320" y="1219320"/>
            <a:ext cx="609588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Pregnant and breast-feeding wom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Visits to health centres during pre-natal and post-natal ca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Growth and nutrition follow-up in children of between </a:t>
            </a:r>
            <a:r>
              <a:rPr b="0" lang="es-CL" sz="22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and 6 years ol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Updating vaccin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Verdana"/>
              </a:rPr>
              <a:t>School attendance in children of 6 to 15 years old (85%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2640" y="3917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752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Tahoma"/>
              </a:rPr>
              <a:t>Heal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5157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Tahoma"/>
              </a:rPr>
              <a:t>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032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00"/>
                </a:solidFill>
                <a:latin typeface="Verdana"/>
              </a:rPr>
              <a:t>Complementary Programmes</a:t>
            </a:r>
            <a:endParaRPr b="0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Government initiatives which help families reach a status of auto-sufficie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equirements for integrated ac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finition of territorial prioritie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esearch of family profi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cal vo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cal programmes and 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26708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144000"/>
            <a:ext cx="88390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c00"/>
                </a:solidFill>
                <a:latin typeface="Verdana"/>
              </a:rPr>
              <a:t>Examples of Complementary Programmes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grammes for the generation of income and work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grammes for professional training and re-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Micro-credi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iteracy Program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ivil identification program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90720" y="22510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62485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Tahoma"/>
              </a:rPr>
              <a:t>Social Control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523880"/>
            <a:ext cx="86421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ncil or Committee designed by municipal Public Division,  respecting the intersectional condition and parity between the government and societ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ermanent character, with monitoring, evaluating and supervising the execution of the programm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lementation of Social Control as a requirement for municipal adhesion in the  Bolsa Familia program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26708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29664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00"/>
                </a:solidFill>
                <a:latin typeface="Verdana"/>
              </a:rPr>
              <a:t>Results</a:t>
            </a:r>
            <a:br>
              <a:rPr sz="4800"/>
            </a:br>
            <a:r>
              <a:rPr b="0" lang="en-GB" sz="1200" spc="-1" strike="noStrike">
                <a:solidFill>
                  <a:srgbClr val="ffcc00"/>
                </a:solidFill>
                <a:latin typeface="Verdana"/>
              </a:rPr>
              <a:t>July 2005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1514520" cy="1528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86600" y="31240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52280" y="4952880"/>
            <a:ext cx="2314800" cy="1079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05120" y="1600200"/>
            <a:ext cx="6411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5.542 municipalities – 99,6%  of Brazilian municipal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56000" y="3657600"/>
            <a:ext cx="40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7,3 million of famil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71640" y="558972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Verdana"/>
              </a:rPr>
              <a:t>32 million of peop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90920"/>
            <a:ext cx="685800" cy="99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419360" y="4419720"/>
            <a:ext cx="533160" cy="9144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267080" y="182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Tahoma"/>
              </a:rPr>
              <a:t>Families by Region</a:t>
            </a:r>
            <a:br>
              <a:rPr sz="3600"/>
            </a:b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52280" y="1163520"/>
          <a:ext cx="8686800" cy="46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63520"/>
                    <a:ext cx="8686800" cy="46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26920" y="404640"/>
            <a:ext cx="77932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Impact of </a:t>
            </a:r>
            <a:r>
              <a:rPr b="0" lang="en-GB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Bolsa Família Programme in the life of beneficiari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en-GB" sz="2400" spc="-1" strike="noStrike">
                <a:solidFill>
                  <a:srgbClr val="ffcc00"/>
                </a:solidFill>
                <a:latin typeface="Tahoma"/>
              </a:rPr>
              <a:t>fir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21337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25360"/>
            <a:ext cx="8138880" cy="29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Necessity of benefits due to the lack of access to remunerated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mpact of nutritional 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mportance of benefit regularity in the preparation of family budget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Importance of the benefit for local comme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hildren´s commitment to school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attend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228600" y="2971800"/>
          <a:ext cx="2514600" cy="16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25146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0" y="60948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ffffff"/>
                </a:solidFill>
                <a:latin typeface="Tahoma"/>
              </a:rPr>
              <a:t>Ministry of Social Development and Fight Against Hu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124080" y="2133720"/>
            <a:ext cx="5321520" cy="35478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8960" y="5715000"/>
            <a:ext cx="53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tact: antonio.claret@mds.gov.b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ahoma"/>
              </a:rPr>
              <a:t>Brazil and Latin America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590920"/>
            <a:ext cx="609840" cy="19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809880"/>
            <a:ext cx="609480" cy="6858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12952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GDP² – 200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2590920"/>
            <a:ext cx="609480" cy="1904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3657600"/>
            <a:ext cx="609480" cy="83808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9528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Population¹ – 200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12193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ild mortality³ -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3000000">
            <a:off x="395280" y="4860000"/>
            <a:ext cx="10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530,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3000000">
            <a:off x="1098360" y="4844160"/>
            <a:ext cx="13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75,1 (33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000000">
            <a:off x="3404520" y="489888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3.78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3000000">
            <a:off x="4279680" y="4783680"/>
            <a:ext cx="106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.355 (36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819520"/>
            <a:ext cx="609840" cy="1676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3124080"/>
            <a:ext cx="609480" cy="13716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3000000">
            <a:off x="6621120" y="495972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3000000">
            <a:off x="7360920" y="482940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791320"/>
            <a:ext cx="47242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In millions of inhabitants. Source:  C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In millions of US$, constant prices. Source: C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For each thousand live births. Source: World Ban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9810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Latin America and the Caribbe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320040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Braz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26668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Braz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21337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Latin Amer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304812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Tahoma"/>
              </a:rPr>
              <a:t>Brazi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3640" y="1989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Latin America and the Caribbe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: : :  regiões do Brasil  : : :"/>
          <p:cNvPicPr/>
          <p:nvPr/>
        </p:nvPicPr>
        <p:blipFill>
          <a:blip r:embed="rId1"/>
          <a:stretch/>
        </p:blipFill>
        <p:spPr>
          <a:xfrm>
            <a:off x="1523880" y="1285920"/>
            <a:ext cx="6782040" cy="4829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Verdana"/>
              </a:rPr>
              <a:t>Brazil – Geographical Reg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792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ahoma"/>
              </a:rPr>
              <a:t>Brazil – regional imbalanc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hild mortality by region/20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553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ource: IB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4360" y="2492280"/>
          <a:ext cx="8135640" cy="389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813564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ahoma"/>
              </a:rPr>
              <a:t>Brazil – regional imbalanc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12193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838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lliteracy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te per person over 15 years old  -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64008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ource: IB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14400" y="1447920"/>
          <a:ext cx="7162920" cy="48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162920" cy="48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793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ffffff"/>
                </a:solidFill>
                <a:latin typeface="Tahoma"/>
              </a:rPr>
              <a:t>Child labour rate - 2002</a:t>
            </a: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57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3600" spc="-1" strike="noStrike">
                <a:solidFill>
                  <a:srgbClr val="ffcc00"/>
                </a:solidFill>
                <a:latin typeface="Tahoma"/>
              </a:rPr>
              <a:t>Brazil – regional imbal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6477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Fuente: IB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1625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Income distribution for the poorest 50% and for the richest 1%, in relation to total income – 2002</a:t>
            </a:r>
            <a:r>
              <a:rPr b="0" lang="en-GB" sz="1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80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ahoma"/>
              </a:rPr>
              <a:t>Brazil – social inequa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6172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ource: IPEA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200400"/>
            <a:ext cx="761760" cy="15238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3276720"/>
            <a:ext cx="762120" cy="144756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3000000">
            <a:off x="3252600" y="531072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3,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000000">
            <a:off x="5440320" y="5288400"/>
            <a:ext cx="10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3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1% rich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*1,7 million peo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057400"/>
            <a:ext cx="26672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50% poo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*86,5 million peo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1360" y="3124080"/>
            <a:ext cx="8801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432080"/>
            <a:ext cx="83822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he Programme Zero Hunger is a strategy of the federal Brazilian government to ensure the right of all human beings to adequate nutrition, reaching those with difficulties to access nutri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his strategy consists of promoting</a:t>
            </a:r>
            <a:r>
              <a:rPr b="0" lang="es-CL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utritional security and it contributes towards the eradication of extreme poverty   and towards the enrichment of the most vulnerable part of popula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380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Tahoma"/>
              </a:rPr>
              <a:t>Zero Hung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drigo Pavez</cp:lastModifiedBy>
  <dcterms:modified xsi:type="dcterms:W3CDTF">2005-07-19T04:33:37Z</dcterms:modified>
  <cp:revision>5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7679528</vt:r8>
  </property>
  <property fmtid="{D5CDD505-2E9C-101B-9397-08002B2CF9AE}" pid="3" name="_AuthorEmail">
    <vt:lpwstr>mramirez@mideplan.cl</vt:lpwstr>
  </property>
  <property fmtid="{D5CDD505-2E9C-101B-9397-08002B2CF9AE}" pid="4" name="_AuthorEmailDisplayName">
    <vt:lpwstr>Marcelo Ramirez V.</vt:lpwstr>
  </property>
  <property fmtid="{D5CDD505-2E9C-101B-9397-08002B2CF9AE}" pid="5" name="_EmailSubject">
    <vt:lpwstr>[Fwd: Información]</vt:lpwstr>
  </property>
  <property fmtid="{D5CDD505-2E9C-101B-9397-08002B2CF9AE}" pid="6" name="_PreviousAdHocReviewCycleID">
    <vt:r8>1858866877</vt:r8>
  </property>
  <property fmtid="{D5CDD505-2E9C-101B-9397-08002B2CF9AE}" pid="7" name="_ReviewingToolsShownOnce">
    <vt:lpwstr/>
  </property>
</Properties>
</file>