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DA25-2C32-44D2-AF8E-5AE93AA26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8FE7-91F1-4B69-A824-DE3C63AA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380520" y="4355640"/>
            <a:ext cx="624852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241-F6C6-4C5F-A859-694EC17C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798-21AA-4D8C-A6B9-2FE81AAC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300-3F2A-4855-A47C-969330A0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2F2-96A0-4CE0-BE61-94BBF35B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A22D-0A5F-4E1A-B40C-DBEBBA7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D8B-8E82-4F9C-8618-F1BAC10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9074-A562-48D6-AE2E-21FE2118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541-CEA8-43CD-A522-37A8E9B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875-A3A5-4C5E-86A0-2D2134E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E29-8CE9-48EE-8EFF-F5402540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405-8A50-451B-8C7C-4C5F4CD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D751-73F5-424A-8019-963F5563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4377-13C0-4368-B106-EF93FFD11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440" y="5867280"/>
            <a:ext cx="7934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ffff"/>
                </a:solidFill>
                <a:latin typeface="Comic Sans MS"/>
              </a:rPr>
              <a:t>Office of Education, Science and 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1768320"/>
            <a:ext cx="8915400" cy="34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00"/>
                </a:solidFill>
                <a:latin typeface="Comic Sans MS"/>
              </a:rPr>
              <a:t>Learning Communities: The Experience of Puente – Chile Solid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00"/>
                </a:solidFill>
                <a:latin typeface="Comic Sans MS"/>
              </a:rPr>
              <a:t>Framing the reflec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00"/>
                </a:solidFill>
                <a:latin typeface="Comic Sans MS"/>
              </a:rPr>
              <a:t>July 18 – 22 2005, Viña del Mar –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tarting the Reflec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447920"/>
            <a:ext cx="83059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Future A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9440" indent="-177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Share and continue building in a collective manner the conclusions of th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9440" indent="-177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Report and request follow – up through the existing political channels for dialogue: your Ministries, CIDES, 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9440" indent="-17784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Agree on future 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trategy and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3080" y="152388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is initiative seeks to identify, systematically organize and share consolidated experiences among countries of the Hemi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imultaneously, it seeks to advise, accompany and communicate through virtual tools with and among those countries; as they critically transfer different experiences to their own contex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t opens a space for dialogue with all the actors involved in education: civil society, political body, international institutions and research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39400" y="2590920"/>
            <a:ext cx="3485880" cy="628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064880"/>
            <a:ext cx="73915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3300"/>
                </a:solidFill>
                <a:latin typeface="Arial"/>
              </a:rPr>
              <a:t>What do we have to</a:t>
            </a:r>
            <a:r>
              <a:rPr b="1" lang="es-ES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3000" spc="-1" strike="noStrike">
                <a:solidFill>
                  <a:srgbClr val="ff3300"/>
                </a:solidFill>
                <a:latin typeface="Arial"/>
              </a:rPr>
              <a:t>overcome</a:t>
            </a:r>
            <a:r>
              <a:rPr b="1" lang="es-ES" sz="3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828800"/>
            <a:ext cx="5181480" cy="40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Arial"/>
              </a:rPr>
              <a:t>A modality of transference that implies th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ome experiences are better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irst we learn and then we apply what w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ocal knowledge is not relev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the benefit is obtained at the end of the proc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14065" t="36723" r="60157" b="14062"/>
          <a:stretch/>
        </p:blipFill>
        <p:spPr>
          <a:xfrm>
            <a:off x="304920" y="1447920"/>
            <a:ext cx="3200400" cy="4819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12920" y="3368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3cc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0240" y="3693960"/>
            <a:ext cx="1497240" cy="195480"/>
          </a:xfrm>
          <a:prstGeom prst="rightArrow">
            <a:avLst>
              <a:gd name="adj1" fmla="val 50843"/>
              <a:gd name="adj2" fmla="val 584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4182000">
            <a:off x="2172240" y="2770920"/>
            <a:ext cx="1808280" cy="171360"/>
          </a:xfrm>
          <a:prstGeom prst="rightArrow">
            <a:avLst>
              <a:gd name="adj1" fmla="val 50000"/>
              <a:gd name="adj2" fmla="val 14490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3646400">
            <a:off x="3122280" y="4436640"/>
            <a:ext cx="2128680" cy="150840"/>
          </a:xfrm>
          <a:prstGeom prst="rightArrow">
            <a:avLst>
              <a:gd name="adj1" fmla="val 50843"/>
              <a:gd name="adj2" fmla="val 10767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7695200">
            <a:off x="1950840" y="4612680"/>
            <a:ext cx="2054520" cy="162000"/>
          </a:xfrm>
          <a:prstGeom prst="rightArrow">
            <a:avLst>
              <a:gd name="adj1" fmla="val 50843"/>
              <a:gd name="adj2" fmla="val 9676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6320" y="5562720"/>
            <a:ext cx="174600" cy="185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6280" y="1812960"/>
            <a:ext cx="439920" cy="39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5257800"/>
            <a:ext cx="236520" cy="217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6680" y="3320640"/>
            <a:ext cx="17445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Academy, Observatories Institution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2314440"/>
            <a:ext cx="4419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for a permanent and direct dialogu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875040"/>
            <a:ext cx="4876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that results is something unique to the sum of its parts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0040" y="2209680"/>
            <a:ext cx="283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Political wil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995720"/>
            <a:ext cx="44197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that is informed by theo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081440"/>
            <a:ext cx="6477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3300"/>
                </a:solidFill>
                <a:latin typeface="Arial"/>
              </a:rPr>
              <a:t>What does a critical transference involve</a:t>
            </a:r>
            <a:r>
              <a:rPr b="1" lang="es-ES" sz="2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54440" y="1773720"/>
            <a:ext cx="1607400" cy="47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untry  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01520" y="5500800"/>
            <a:ext cx="14040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untry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5500800"/>
            <a:ext cx="14040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untry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1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7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7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6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6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7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6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849920" y="5105520"/>
            <a:ext cx="331560" cy="317520"/>
          </a:xfrm>
          <a:prstGeom prst="diamond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861400">
            <a:off x="3122280" y="4436640"/>
            <a:ext cx="2128680" cy="150840"/>
          </a:xfrm>
          <a:prstGeom prst="rightArrow">
            <a:avLst>
              <a:gd name="adj1" fmla="val 50843"/>
              <a:gd name="adj2" fmla="val 107671"/>
            </a:avLst>
          </a:prstGeom>
          <a:gradFill rotWithShape="0">
            <a:gsLst>
              <a:gs pos="0">
                <a:srgbClr val="ff6600"/>
              </a:gs>
              <a:gs pos="100000">
                <a:srgbClr val="33cc33"/>
              </a:gs>
            </a:gsLst>
            <a:lin ang="79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7006800">
            <a:off x="2015280" y="4527360"/>
            <a:ext cx="2054520" cy="161640"/>
          </a:xfrm>
          <a:prstGeom prst="rightArrow">
            <a:avLst>
              <a:gd name="adj1" fmla="val 50843"/>
              <a:gd name="adj2" fmla="val 96976"/>
            </a:avLst>
          </a:prstGeom>
          <a:gradFill rotWithShape="0">
            <a:gsLst>
              <a:gs pos="0">
                <a:srgbClr val="ff3300"/>
              </a:gs>
              <a:gs pos="100000">
                <a:srgbClr val="00ff00"/>
              </a:gs>
            </a:gsLst>
            <a:lin ang="37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4952000">
            <a:off x="2229480" y="2972160"/>
            <a:ext cx="1808280" cy="171360"/>
          </a:xfrm>
          <a:prstGeom prst="rightArrow">
            <a:avLst>
              <a:gd name="adj1" fmla="val 50000"/>
              <a:gd name="adj2" fmla="val 144902"/>
            </a:avLst>
          </a:prstGeom>
          <a:gradFill rotWithShape="0">
            <a:gsLst>
              <a:gs pos="0">
                <a:srgbClr val="33cc33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12920" y="33685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3cc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4000" y="1812960"/>
            <a:ext cx="439560" cy="39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21804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hat returns key knowledge to the enrichment and development of national initi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74920" y="5546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8440" y="5202360"/>
            <a:ext cx="660600" cy="587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ff00"/>
              </a:gs>
              <a:gs pos="50000">
                <a:srgbClr val="ff3300"/>
              </a:gs>
              <a:gs pos="100000">
                <a:srgbClr val="00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667400"/>
            <a:ext cx="765000" cy="753840"/>
          </a:xfrm>
          <a:prstGeom prst="diamond">
            <a:avLst/>
          </a:prstGeom>
          <a:gradFill rotWithShape="0">
            <a:gsLst>
              <a:gs pos="0">
                <a:srgbClr val="ff3300"/>
              </a:gs>
              <a:gs pos="100000">
                <a:srgbClr val="33cc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89320" y="1660680"/>
            <a:ext cx="608040" cy="549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cc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2960" y="1756080"/>
            <a:ext cx="14040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untry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1520" y="5500800"/>
            <a:ext cx="14040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untry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500800"/>
            <a:ext cx="140400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untry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970520"/>
            <a:ext cx="4495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that lowers co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that                                                continuously links               theory  and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314440"/>
            <a:ext cx="4419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for a permanent and direct dialogu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0040" y="2209680"/>
            <a:ext cx="2835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Political will</a:t>
            </a:r>
            <a:r>
              <a:rPr b="1" lang="es-E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081440"/>
            <a:ext cx="6477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3300"/>
                </a:solidFill>
                <a:latin typeface="Arial"/>
              </a:rPr>
              <a:t>What does a critical transference involve</a:t>
            </a:r>
            <a:r>
              <a:rPr b="1" lang="es-ES" sz="2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7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7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4080" y="1905120"/>
            <a:ext cx="5715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All of the countries have valuable lessons to 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Horizontal Cooperation augments the national systems capacity to reflect and learn from ourselves and the experience of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</a:rPr>
              <a:t>The genuine political will for sharing is as important as what is being shared itself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8281" t="38283" r="35158" b="17188"/>
          <a:stretch/>
        </p:blipFill>
        <p:spPr>
          <a:xfrm>
            <a:off x="76320" y="914400"/>
            <a:ext cx="3276360" cy="512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081440"/>
            <a:ext cx="647712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3300"/>
                </a:solidFill>
                <a:latin typeface="Arial"/>
              </a:rPr>
              <a:t>What does a critical transference involve</a:t>
            </a:r>
            <a:r>
              <a:rPr b="1" lang="es-ES" sz="2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0"/>
            <a:ext cx="411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21466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formation can be disseminated but knowledge must be built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10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A shared space for dialgo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8335" t="28031" r="10702" b="20544"/>
          <a:stretch/>
        </p:blipFill>
        <p:spPr>
          <a:xfrm>
            <a:off x="698400" y="1790640"/>
            <a:ext cx="7810560" cy="372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Knowledge and Advisor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46280" y="152280"/>
            <a:ext cx="83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</a:rPr>
              <a:t>Starting the Reflec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2952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Sharing information throug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3886200"/>
            <a:ext cx="83059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Creating consensus on concepts for future 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We will present some conclusions for your consi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The dialogue will continue through virtua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752480"/>
            <a:ext cx="87631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 Th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presen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 th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Information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- The Comparativ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Matrix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on social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  protection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5:18:55Z</dcterms:created>
  <dc:creator> </dc:creator>
  <dc:description/>
  <dc:language>en-US</dc:language>
  <cp:lastModifiedBy>OAS</cp:lastModifiedBy>
  <cp:lastPrinted>2005-04-01T21:55:26Z</cp:lastPrinted>
  <dcterms:modified xsi:type="dcterms:W3CDTF">2005-07-20T20:29:05Z</dcterms:modified>
  <cp:revision>62</cp:revision>
  <dc:subject/>
  <dc:title>Slide 1</dc:title>
</cp:coreProperties>
</file>