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7CD-3744-4441-9340-D4229E1A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92F2-5FC6-45D5-8AF0-041E6226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7E2-0CB0-44EE-BB58-63D1AC55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31A-2475-4BA1-942E-9F8C57FD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E08F-8770-487B-8E17-D7F76C07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7DB-26FF-4E80-AD08-FDC49BDA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2AD-4566-4352-A6E2-83719FD1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BA09-A770-4B57-9842-3BEAFC87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CEC-F978-44C3-BD93-8DBBD74E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D3C-5F2B-443E-8A67-213047DA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8F5-7124-4AE2-AABD-1AA2F08F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65F-BA65-414F-A3AC-4F93A099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448F-E8FB-49F1-B6E3-6893C4BB30D1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207800" cy="1218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rcRect l="51370" t="9115" r="2910" b="18186"/>
          <a:stretch/>
        </p:blipFill>
        <p:spPr>
          <a:xfrm>
            <a:off x="250920" y="14130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4653000"/>
            <a:ext cx="9144000" cy="220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5.jpe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5.jpe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5.jpe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5.jpeg"/><Relationship Id="rId37" Type="http://schemas.openxmlformats.org/officeDocument/2006/relationships/image" Target="../media/image4.png"/><Relationship Id="rId38" Type="http://schemas.openxmlformats.org/officeDocument/2006/relationships/image" Target="../media/image4.png"/><Relationship Id="rId39" Type="http://schemas.openxmlformats.org/officeDocument/2006/relationships/image" Target="../media/image4.png"/><Relationship Id="rId40" Type="http://schemas.openxmlformats.org/officeDocument/2006/relationships/image" Target="../media/image4.png"/><Relationship Id="rId41" Type="http://schemas.openxmlformats.org/officeDocument/2006/relationships/image" Target="../media/image4.png"/><Relationship Id="rId42" Type="http://schemas.openxmlformats.org/officeDocument/2006/relationships/image" Target="../media/image4.png"/><Relationship Id="rId43" Type="http://schemas.openxmlformats.org/officeDocument/2006/relationships/image" Target="../media/image4.png"/><Relationship Id="rId44" Type="http://schemas.openxmlformats.org/officeDocument/2006/relationships/image" Target="../media/image4.png"/><Relationship Id="rId45" Type="http://schemas.openxmlformats.org/officeDocument/2006/relationships/image" Target="../media/image4.png"/><Relationship Id="rId46" Type="http://schemas.openxmlformats.org/officeDocument/2006/relationships/image" Target="../media/image4.png"/><Relationship Id="rId47" Type="http://schemas.openxmlformats.org/officeDocument/2006/relationships/image" Target="../media/image5.jpeg"/><Relationship Id="rId48" Type="http://schemas.openxmlformats.org/officeDocument/2006/relationships/image" Target="../media/image4.png"/><Relationship Id="rId49" Type="http://schemas.openxmlformats.org/officeDocument/2006/relationships/image" Target="../media/image4.png"/><Relationship Id="rId50" Type="http://schemas.openxmlformats.org/officeDocument/2006/relationships/image" Target="../media/image4.png"/><Relationship Id="rId51" Type="http://schemas.openxmlformats.org/officeDocument/2006/relationships/image" Target="../media/image4.png"/><Relationship Id="rId52" Type="http://schemas.openxmlformats.org/officeDocument/2006/relationships/image" Target="../media/image4.png"/><Relationship Id="rId53" Type="http://schemas.openxmlformats.org/officeDocument/2006/relationships/image" Target="../media/image4.png"/><Relationship Id="rId54" Type="http://schemas.openxmlformats.org/officeDocument/2006/relationships/image" Target="../media/image5.jpeg"/><Relationship Id="rId55" Type="http://schemas.openxmlformats.org/officeDocument/2006/relationships/image" Target="../media/image4.png"/><Relationship Id="rId56" Type="http://schemas.openxmlformats.org/officeDocument/2006/relationships/image" Target="../media/image4.png"/><Relationship Id="rId57" Type="http://schemas.openxmlformats.org/officeDocument/2006/relationships/image" Target="../media/image4.png"/><Relationship Id="rId58" Type="http://schemas.openxmlformats.org/officeDocument/2006/relationships/image" Target="../media/image4.png"/><Relationship Id="rId59" Type="http://schemas.openxmlformats.org/officeDocument/2006/relationships/image" Target="../media/image4.png"/><Relationship Id="rId60" Type="http://schemas.openxmlformats.org/officeDocument/2006/relationships/image" Target="../media/image5.jpeg"/><Relationship Id="rId61" Type="http://schemas.openxmlformats.org/officeDocument/2006/relationships/image" Target="../media/image4.png"/><Relationship Id="rId62" Type="http://schemas.openxmlformats.org/officeDocument/2006/relationships/image" Target="../media/image4.png"/><Relationship Id="rId63" Type="http://schemas.openxmlformats.org/officeDocument/2006/relationships/image" Target="../media/image4.png"/><Relationship Id="rId64" Type="http://schemas.openxmlformats.org/officeDocument/2006/relationships/image" Target="../media/image4.png"/><Relationship Id="rId65" Type="http://schemas.openxmlformats.org/officeDocument/2006/relationships/image" Target="../media/image4.png"/><Relationship Id="rId66" Type="http://schemas.openxmlformats.org/officeDocument/2006/relationships/image" Target="../media/image4.png"/><Relationship Id="rId67" Type="http://schemas.openxmlformats.org/officeDocument/2006/relationships/image" Target="../media/image4.png"/><Relationship Id="rId68" Type="http://schemas.openxmlformats.org/officeDocument/2006/relationships/image" Target="../media/image4.png"/><Relationship Id="rId69" Type="http://schemas.openxmlformats.org/officeDocument/2006/relationships/image" Target="../media/image4.png"/><Relationship Id="rId70" Type="http://schemas.openxmlformats.org/officeDocument/2006/relationships/image" Target="../media/image4.png"/><Relationship Id="rId71" Type="http://schemas.openxmlformats.org/officeDocument/2006/relationships/image" Target="../media/image5.jpeg"/><Relationship Id="rId72" Type="http://schemas.openxmlformats.org/officeDocument/2006/relationships/image" Target="../media/image4.png"/><Relationship Id="rId73" Type="http://schemas.openxmlformats.org/officeDocument/2006/relationships/image" Target="../media/image4.png"/><Relationship Id="rId74" Type="http://schemas.openxmlformats.org/officeDocument/2006/relationships/image" Target="../media/image4.png"/><Relationship Id="rId75" Type="http://schemas.openxmlformats.org/officeDocument/2006/relationships/image" Target="../media/image4.png"/><Relationship Id="rId76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2.xml"/><Relationship Id="rId3" Type="http://schemas.openxmlformats.org/officeDocument/2006/relationships/slide" Target="slide17.xml"/><Relationship Id="rId4" Type="http://schemas.openxmlformats.org/officeDocument/2006/relationships/slide" Target="slide14.xml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84360" y="1268280"/>
            <a:ext cx="48243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212187"/>
                </a:solidFill>
                <a:latin typeface="Arial"/>
              </a:rPr>
              <a:t>CHILE SOLIDARIO: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212187"/>
                </a:solidFill>
                <a:latin typeface="Arial"/>
              </a:rPr>
              <a:t>SISTEMA DE PROTECCIÓN SOCIAL A LAS FAMILIAS  MAS  POBRES DEL PAÍS 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152280" y="4648320"/>
            <a:ext cx="4572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4724280"/>
            <a:ext cx="57592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187"/>
                </a:solidFill>
                <a:latin typeface="Univers (W1)"/>
                <a:ea typeface="Arial"/>
              </a:rPr>
              <a:t>Sr. Rodrigo Negrín Mödinger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187"/>
                </a:solidFill>
                <a:latin typeface="Univers (W1)"/>
                <a:ea typeface="Arial"/>
              </a:rPr>
              <a:t>Secretario Ejecutivo Chile Solidari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2187"/>
                </a:solidFill>
                <a:latin typeface="Univers (W1)"/>
                <a:ea typeface="Arial"/>
              </a:rPr>
              <a:t>Reñaca, Julio 200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700360" y="33336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Univers (W1)"/>
              </a:rPr>
              <a:t>¿Qué es el Programa Puente?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Univers (W1)"/>
              </a:rPr>
              <a:t>(Bono de Protección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95640" y="1413000"/>
            <a:ext cx="648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Univers (W1)"/>
              </a:rPr>
              <a:t>El Programa Puente es una intervención psicosocial, de carácter temporal,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Univers (W1)"/>
              </a:rPr>
              <a:t>cuyo objetivo es apoyar personalizadamente durante 24 meses a las familias más pobres del país en la superación de su situación de extrema pobreza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3357720"/>
            <a:ext cx="7993080" cy="2837160"/>
          </a:xfrm>
          <a:prstGeom prst="rect">
            <a:avLst/>
          </a:prstGeom>
          <a:solidFill>
            <a:srgbClr val="0000ff"/>
          </a:solidFill>
          <a:ln w="349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El resultado comprometido es que, al terminar la intervención, al menos el 70% de las familias participantes sean familias que: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tengan prácticas de apoyo mutuo,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se integren al medio local donde residen,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accedan efectivamente a los beneficios sociales dirigidos a ellos,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se integren a las redes locales existentes, y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tengan un ingreso per cápita superior a la línea de la extrema pobreza.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752480" y="2057400"/>
            <a:ext cx="297180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Identificació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Salu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Educació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Dinámica Familia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Habitabilida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Trabaj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ff"/>
                </a:solidFill>
                <a:latin typeface="Arial"/>
              </a:rPr>
              <a:t>Ingreso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2057400"/>
            <a:ext cx="342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Arial"/>
              </a:rPr>
              <a:t>La estrategia de intervención asume que: una familia está habilitada y en condiciones de superar su condición de extrema pobreza cuando alcanza las 53 condiciones mínimas de calidad de vida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60948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Univers (W1)"/>
              </a:rPr>
              <a:t>Durante el proceso se trabaja en 7 dimensiones que en total contienen 53 condiciones mínimas de calidad de vida</a:t>
            </a:r>
            <a:r>
              <a:rPr b="0" lang="es-MX" sz="2400" spc="-1" strike="noStrike">
                <a:solidFill>
                  <a:srgbClr val="333399"/>
                </a:solidFill>
                <a:latin typeface="Univers (W1)"/>
              </a:rPr>
              <a:t>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8244000" y="6381720"/>
            <a:ext cx="504720" cy="21600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424" h="21600">
                <a:moveTo>
                  <a:pt x="0" y="0"/>
                </a:moveTo>
                <a:lnTo>
                  <a:pt x="50424" y="0"/>
                </a:lnTo>
                <a:lnTo>
                  <a:pt x="50424" y="21600"/>
                </a:lnTo>
                <a:lnTo>
                  <a:pt x="0" y="21600"/>
                </a:lnTo>
                <a:close/>
              </a:path>
              <a:path fill="lightenLess" w="50424" h="21600">
                <a:moveTo>
                  <a:pt x="0" y="0"/>
                </a:moveTo>
                <a:lnTo>
                  <a:pt x="50424" y="0"/>
                </a:lnTo>
                <a:lnTo>
                  <a:pt x="49024" y="1400"/>
                </a:lnTo>
                <a:lnTo>
                  <a:pt x="1400" y="1400"/>
                </a:lnTo>
                <a:close/>
              </a:path>
              <a:path fill="darken" w="50424" h="21600">
                <a:moveTo>
                  <a:pt x="50424" y="0"/>
                </a:moveTo>
                <a:lnTo>
                  <a:pt x="50424" y="21600"/>
                </a:lnTo>
                <a:lnTo>
                  <a:pt x="49024" y="20200"/>
                </a:lnTo>
                <a:lnTo>
                  <a:pt x="49024" y="1400"/>
                </a:lnTo>
                <a:close/>
              </a:path>
              <a:path fill="darkenLess" w="50424" h="21600">
                <a:moveTo>
                  <a:pt x="50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24" y="20200"/>
                </a:lnTo>
                <a:close/>
              </a:path>
              <a:path fill="lighten" w="50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24" h="21600">
                <a:moveTo>
                  <a:pt x="18205" y="10800"/>
                </a:moveTo>
                <a:lnTo>
                  <a:pt x="32218" y="3794"/>
                </a:lnTo>
                <a:lnTo>
                  <a:pt x="32218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763640" y="1341360"/>
            <a:ext cx="698508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87"/>
                </a:solidFill>
                <a:latin typeface="Univers (W1)"/>
              </a:rPr>
              <a:t>A los integrantes de las familias del Sistema de protección Social Chile Solidario se les garantizará el acceso a los siguientes Subsidios Monetarios, siempre que: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21218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87"/>
                </a:solidFill>
                <a:latin typeface="Univers (W1)"/>
              </a:rPr>
              <a:t>no hayan accedido a ellos por el proceso ordinario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21218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87"/>
                </a:solidFill>
                <a:latin typeface="Univers (W1)"/>
              </a:rPr>
              <a:t>cumplan con los requisitos establecidos en los respectivos cuerpos legales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21218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12187"/>
                </a:solidFill>
                <a:latin typeface="Univers (W1)"/>
              </a:rPr>
              <a:t>cuando hayan cumplido 12 meses desde su ingreso al Sistema.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24000" y="62064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UBSIDIOS MONETARIO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ARANTIZADO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692360" y="2060280"/>
            <a:ext cx="6765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12187"/>
                </a:solidFill>
                <a:latin typeface="Univers (W1)"/>
              </a:rPr>
              <a:t>Pensión asistencial de vejez e invalidez - PASI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12187"/>
                </a:solidFill>
                <a:latin typeface="Univers (W1)"/>
              </a:rPr>
              <a:t>Subsidio Unico Familiar - SUF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12187"/>
                </a:solidFill>
                <a:latin typeface="Univers (W1)"/>
              </a:rPr>
              <a:t>Subsidio al Consumo de Agua Potable - SAP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124000" y="62064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SUBSIDIOS MONETARIO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GARANTIZADO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8317080" y="6453360"/>
            <a:ext cx="502920" cy="21564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328" h="21600">
                <a:moveTo>
                  <a:pt x="0" y="0"/>
                </a:moveTo>
                <a:lnTo>
                  <a:pt x="50328" y="0"/>
                </a:lnTo>
                <a:lnTo>
                  <a:pt x="50328" y="21600"/>
                </a:lnTo>
                <a:lnTo>
                  <a:pt x="0" y="21600"/>
                </a:lnTo>
                <a:close/>
              </a:path>
              <a:path fill="lightenLess" w="50328" h="21600">
                <a:moveTo>
                  <a:pt x="0" y="0"/>
                </a:moveTo>
                <a:lnTo>
                  <a:pt x="50328" y="0"/>
                </a:lnTo>
                <a:lnTo>
                  <a:pt x="48928" y="1400"/>
                </a:lnTo>
                <a:lnTo>
                  <a:pt x="1400" y="1400"/>
                </a:lnTo>
                <a:close/>
              </a:path>
              <a:path fill="darken" w="50328" h="21600">
                <a:moveTo>
                  <a:pt x="50328" y="0"/>
                </a:moveTo>
                <a:lnTo>
                  <a:pt x="50328" y="21600"/>
                </a:lnTo>
                <a:lnTo>
                  <a:pt x="48928" y="20200"/>
                </a:lnTo>
                <a:lnTo>
                  <a:pt x="48928" y="1400"/>
                </a:lnTo>
                <a:close/>
              </a:path>
              <a:path fill="darkenLess" w="50328" h="21600">
                <a:moveTo>
                  <a:pt x="50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28" y="20200"/>
                </a:lnTo>
                <a:close/>
              </a:path>
              <a:path fill="lighten" w="50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28" h="21600">
                <a:moveTo>
                  <a:pt x="18158" y="10800"/>
                </a:moveTo>
                <a:lnTo>
                  <a:pt x="32170" y="3794"/>
                </a:lnTo>
                <a:lnTo>
                  <a:pt x="32170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08000" y="620640"/>
            <a:ext cx="654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Univers (W1)"/>
                <a:ea typeface="Arial"/>
              </a:rPr>
              <a:t>ACCESO PREFERENTE A LA OFERTA PUBLIC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86" name="spacer" descr=""/>
          <p:cNvPicPr/>
          <p:nvPr/>
        </p:nvPicPr>
        <p:blipFill>
          <a:blip r:embed="rId1"/>
          <a:stretch/>
        </p:blipFill>
        <p:spPr>
          <a:xfrm>
            <a:off x="900000" y="2174760"/>
            <a:ext cx="47880" cy="142920"/>
          </a:xfrm>
          <a:prstGeom prst="rect">
            <a:avLst/>
          </a:prstGeom>
          <a:ln w="0">
            <a:noFill/>
          </a:ln>
        </p:spPr>
      </p:pic>
      <p:pic>
        <p:nvPicPr>
          <p:cNvPr id="187" name="spacer" descr=""/>
          <p:cNvPicPr/>
          <p:nvPr/>
        </p:nvPicPr>
        <p:blipFill>
          <a:blip r:embed="rId2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188" name="spacer" descr=""/>
          <p:cNvPicPr/>
          <p:nvPr/>
        </p:nvPicPr>
        <p:blipFill>
          <a:blip r:embed="rId3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189" name="spacer" descr=""/>
          <p:cNvPicPr/>
          <p:nvPr/>
        </p:nvPicPr>
        <p:blipFill>
          <a:blip r:embed="rId4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190" name="spacer" descr=""/>
          <p:cNvPicPr/>
          <p:nvPr/>
        </p:nvPicPr>
        <p:blipFill>
          <a:blip r:embed="rId5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191" name="cumpleblanco" descr=""/>
          <p:cNvPicPr/>
          <p:nvPr/>
        </p:nvPicPr>
        <p:blipFill>
          <a:blip r:embed="rId6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192" name="spacer" descr=""/>
          <p:cNvPicPr/>
          <p:nvPr/>
        </p:nvPicPr>
        <p:blipFill>
          <a:blip r:embed="rId7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193" name="spacer" descr=""/>
          <p:cNvPicPr/>
          <p:nvPr/>
        </p:nvPicPr>
        <p:blipFill>
          <a:blip r:embed="rId8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194" name="spacer" descr=""/>
          <p:cNvPicPr/>
          <p:nvPr/>
        </p:nvPicPr>
        <p:blipFill>
          <a:blip r:embed="rId9"/>
          <a:stretch/>
        </p:blipFill>
        <p:spPr>
          <a:xfrm>
            <a:off x="900000" y="2174760"/>
            <a:ext cx="47880" cy="142920"/>
          </a:xfrm>
          <a:prstGeom prst="rect">
            <a:avLst/>
          </a:prstGeom>
          <a:ln w="0">
            <a:noFill/>
          </a:ln>
        </p:spPr>
      </p:pic>
      <p:pic>
        <p:nvPicPr>
          <p:cNvPr id="195" name="spacer" descr=""/>
          <p:cNvPicPr/>
          <p:nvPr/>
        </p:nvPicPr>
        <p:blipFill>
          <a:blip r:embed="rId10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196" name="spacer" descr=""/>
          <p:cNvPicPr/>
          <p:nvPr/>
        </p:nvPicPr>
        <p:blipFill>
          <a:blip r:embed="rId11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197" name="cumpleblanco" descr=""/>
          <p:cNvPicPr/>
          <p:nvPr/>
        </p:nvPicPr>
        <p:blipFill>
          <a:blip r:embed="rId12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198" name="spacer" descr=""/>
          <p:cNvPicPr/>
          <p:nvPr/>
        </p:nvPicPr>
        <p:blipFill>
          <a:blip r:embed="rId13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199" name="spacer" descr=""/>
          <p:cNvPicPr/>
          <p:nvPr/>
        </p:nvPicPr>
        <p:blipFill>
          <a:blip r:embed="rId14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00" name="spacer" descr=""/>
          <p:cNvPicPr/>
          <p:nvPr/>
        </p:nvPicPr>
        <p:blipFill>
          <a:blip r:embed="rId15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01" name="spacer" descr=""/>
          <p:cNvPicPr/>
          <p:nvPr/>
        </p:nvPicPr>
        <p:blipFill>
          <a:blip r:embed="rId16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02" name="spacer" descr=""/>
          <p:cNvPicPr/>
          <p:nvPr/>
        </p:nvPicPr>
        <p:blipFill>
          <a:blip r:embed="rId17"/>
          <a:stretch/>
        </p:blipFill>
        <p:spPr>
          <a:xfrm>
            <a:off x="900000" y="2174760"/>
            <a:ext cx="47880" cy="142920"/>
          </a:xfrm>
          <a:prstGeom prst="rect">
            <a:avLst/>
          </a:prstGeom>
          <a:ln w="0">
            <a:noFill/>
          </a:ln>
        </p:spPr>
      </p:pic>
      <p:pic>
        <p:nvPicPr>
          <p:cNvPr id="203" name="spacer" descr=""/>
          <p:cNvPicPr/>
          <p:nvPr/>
        </p:nvPicPr>
        <p:blipFill>
          <a:blip r:embed="rId18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04" name="spacer" descr=""/>
          <p:cNvPicPr/>
          <p:nvPr/>
        </p:nvPicPr>
        <p:blipFill>
          <a:blip r:embed="rId19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05" name="spacer" descr=""/>
          <p:cNvPicPr/>
          <p:nvPr/>
        </p:nvPicPr>
        <p:blipFill>
          <a:blip r:embed="rId20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06" name="spacer" descr=""/>
          <p:cNvPicPr/>
          <p:nvPr/>
        </p:nvPicPr>
        <p:blipFill>
          <a:blip r:embed="rId21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07" name="spacer" descr=""/>
          <p:cNvPicPr/>
          <p:nvPr/>
        </p:nvPicPr>
        <p:blipFill>
          <a:blip r:embed="rId22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08" name="cumpleblanco" descr=""/>
          <p:cNvPicPr/>
          <p:nvPr/>
        </p:nvPicPr>
        <p:blipFill>
          <a:blip r:embed="rId23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09" name="spacer" descr=""/>
          <p:cNvPicPr/>
          <p:nvPr/>
        </p:nvPicPr>
        <p:blipFill>
          <a:blip r:embed="rId24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900000" y="2174760"/>
            <a:ext cx="7488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2174760"/>
            <a:ext cx="279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2174760"/>
            <a:ext cx="7488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00000" y="2174760"/>
            <a:ext cx="279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2174760"/>
            <a:ext cx="7488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00000" y="2174760"/>
            <a:ext cx="279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34" name="spacer" descr=""/>
          <p:cNvPicPr/>
          <p:nvPr/>
        </p:nvPicPr>
        <p:blipFill>
          <a:blip r:embed="rId25"/>
          <a:stretch/>
        </p:blipFill>
        <p:spPr>
          <a:xfrm>
            <a:off x="900000" y="2174760"/>
            <a:ext cx="47880" cy="142920"/>
          </a:xfrm>
          <a:prstGeom prst="rect">
            <a:avLst/>
          </a:prstGeom>
          <a:ln w="0">
            <a:noFill/>
          </a:ln>
        </p:spPr>
      </p:pic>
      <p:pic>
        <p:nvPicPr>
          <p:cNvPr id="235" name="spacer" descr=""/>
          <p:cNvPicPr/>
          <p:nvPr/>
        </p:nvPicPr>
        <p:blipFill>
          <a:blip r:embed="rId26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36" name="spacer" descr=""/>
          <p:cNvPicPr/>
          <p:nvPr/>
        </p:nvPicPr>
        <p:blipFill>
          <a:blip r:embed="rId27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37" name="spacer" descr=""/>
          <p:cNvPicPr/>
          <p:nvPr/>
        </p:nvPicPr>
        <p:blipFill>
          <a:blip r:embed="rId28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38" name="spacer" descr=""/>
          <p:cNvPicPr/>
          <p:nvPr/>
        </p:nvPicPr>
        <p:blipFill>
          <a:blip r:embed="rId29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39" name="cumpleblanco" descr=""/>
          <p:cNvPicPr/>
          <p:nvPr/>
        </p:nvPicPr>
        <p:blipFill>
          <a:blip r:embed="rId30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40" name="spacer" descr=""/>
          <p:cNvPicPr/>
          <p:nvPr/>
        </p:nvPicPr>
        <p:blipFill>
          <a:blip r:embed="rId31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41" name="spacer" descr=""/>
          <p:cNvPicPr/>
          <p:nvPr/>
        </p:nvPicPr>
        <p:blipFill>
          <a:blip r:embed="rId32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42" name="spacer" descr=""/>
          <p:cNvPicPr/>
          <p:nvPr/>
        </p:nvPicPr>
        <p:blipFill>
          <a:blip r:embed="rId33"/>
          <a:stretch/>
        </p:blipFill>
        <p:spPr>
          <a:xfrm>
            <a:off x="900000" y="2174760"/>
            <a:ext cx="47880" cy="142920"/>
          </a:xfrm>
          <a:prstGeom prst="rect">
            <a:avLst/>
          </a:prstGeom>
          <a:ln w="0">
            <a:noFill/>
          </a:ln>
        </p:spPr>
      </p:pic>
      <p:pic>
        <p:nvPicPr>
          <p:cNvPr id="243" name="spacer" descr=""/>
          <p:cNvPicPr/>
          <p:nvPr/>
        </p:nvPicPr>
        <p:blipFill>
          <a:blip r:embed="rId34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44" name="spacer" descr=""/>
          <p:cNvPicPr/>
          <p:nvPr/>
        </p:nvPicPr>
        <p:blipFill>
          <a:blip r:embed="rId35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45" name="cumpleblanco" descr=""/>
          <p:cNvPicPr/>
          <p:nvPr/>
        </p:nvPicPr>
        <p:blipFill>
          <a:blip r:embed="rId36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46" name="spacer" descr=""/>
          <p:cNvPicPr/>
          <p:nvPr/>
        </p:nvPicPr>
        <p:blipFill>
          <a:blip r:embed="rId37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47" name="spacer" descr=""/>
          <p:cNvPicPr/>
          <p:nvPr/>
        </p:nvPicPr>
        <p:blipFill>
          <a:blip r:embed="rId38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48" name="spacer" descr=""/>
          <p:cNvPicPr/>
          <p:nvPr/>
        </p:nvPicPr>
        <p:blipFill>
          <a:blip r:embed="rId39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49" name="spacer" descr=""/>
          <p:cNvPicPr/>
          <p:nvPr/>
        </p:nvPicPr>
        <p:blipFill>
          <a:blip r:embed="rId40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50" name="spacer" descr=""/>
          <p:cNvPicPr/>
          <p:nvPr/>
        </p:nvPicPr>
        <p:blipFill>
          <a:blip r:embed="rId41"/>
          <a:stretch/>
        </p:blipFill>
        <p:spPr>
          <a:xfrm>
            <a:off x="900000" y="2174760"/>
            <a:ext cx="47880" cy="142920"/>
          </a:xfrm>
          <a:prstGeom prst="rect">
            <a:avLst/>
          </a:prstGeom>
          <a:ln w="0">
            <a:noFill/>
          </a:ln>
        </p:spPr>
      </p:pic>
      <p:pic>
        <p:nvPicPr>
          <p:cNvPr id="251" name="spacer" descr=""/>
          <p:cNvPicPr/>
          <p:nvPr/>
        </p:nvPicPr>
        <p:blipFill>
          <a:blip r:embed="rId42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52" name="spacer" descr=""/>
          <p:cNvPicPr/>
          <p:nvPr/>
        </p:nvPicPr>
        <p:blipFill>
          <a:blip r:embed="rId43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53" name="spacer" descr=""/>
          <p:cNvPicPr/>
          <p:nvPr/>
        </p:nvPicPr>
        <p:blipFill>
          <a:blip r:embed="rId44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54" name="spacer" descr=""/>
          <p:cNvPicPr/>
          <p:nvPr/>
        </p:nvPicPr>
        <p:blipFill>
          <a:blip r:embed="rId45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55" name="spacer" descr=""/>
          <p:cNvPicPr/>
          <p:nvPr/>
        </p:nvPicPr>
        <p:blipFill>
          <a:blip r:embed="rId46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56" name="cumpleblanco" descr=""/>
          <p:cNvPicPr/>
          <p:nvPr/>
        </p:nvPicPr>
        <p:blipFill>
          <a:blip r:embed="rId47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57" name="spacer" descr=""/>
          <p:cNvPicPr/>
          <p:nvPr/>
        </p:nvPicPr>
        <p:blipFill>
          <a:blip r:embed="rId48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900000" y="2174760"/>
            <a:ext cx="7488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00000" y="2174760"/>
            <a:ext cx="279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00000" y="2174760"/>
            <a:ext cx="7488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2174760"/>
            <a:ext cx="279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2174760"/>
            <a:ext cx="7488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2174760"/>
            <a:ext cx="279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82" name="spacer" descr=""/>
          <p:cNvPicPr/>
          <p:nvPr/>
        </p:nvPicPr>
        <p:blipFill>
          <a:blip r:embed="rId49"/>
          <a:stretch/>
        </p:blipFill>
        <p:spPr>
          <a:xfrm>
            <a:off x="900000" y="2174760"/>
            <a:ext cx="47880" cy="142920"/>
          </a:xfrm>
          <a:prstGeom prst="rect">
            <a:avLst/>
          </a:prstGeom>
          <a:ln w="0">
            <a:noFill/>
          </a:ln>
        </p:spPr>
      </p:pic>
      <p:pic>
        <p:nvPicPr>
          <p:cNvPr id="283" name="spacer" descr=""/>
          <p:cNvPicPr/>
          <p:nvPr/>
        </p:nvPicPr>
        <p:blipFill>
          <a:blip r:embed="rId50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84" name="spacer" descr=""/>
          <p:cNvPicPr/>
          <p:nvPr/>
        </p:nvPicPr>
        <p:blipFill>
          <a:blip r:embed="rId51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85" name="spacer" descr=""/>
          <p:cNvPicPr/>
          <p:nvPr/>
        </p:nvPicPr>
        <p:blipFill>
          <a:blip r:embed="rId52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86" name="spacer" descr=""/>
          <p:cNvPicPr/>
          <p:nvPr/>
        </p:nvPicPr>
        <p:blipFill>
          <a:blip r:embed="rId53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87" name="cumpleblanco" descr=""/>
          <p:cNvPicPr/>
          <p:nvPr/>
        </p:nvPicPr>
        <p:blipFill>
          <a:blip r:embed="rId54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88" name="spacer" descr=""/>
          <p:cNvPicPr/>
          <p:nvPr/>
        </p:nvPicPr>
        <p:blipFill>
          <a:blip r:embed="rId55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89" name="spacer" descr=""/>
          <p:cNvPicPr/>
          <p:nvPr/>
        </p:nvPicPr>
        <p:blipFill>
          <a:blip r:embed="rId56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90" name="spacer" descr=""/>
          <p:cNvPicPr/>
          <p:nvPr/>
        </p:nvPicPr>
        <p:blipFill>
          <a:blip r:embed="rId57"/>
          <a:stretch/>
        </p:blipFill>
        <p:spPr>
          <a:xfrm>
            <a:off x="900000" y="2174760"/>
            <a:ext cx="47880" cy="142920"/>
          </a:xfrm>
          <a:prstGeom prst="rect">
            <a:avLst/>
          </a:prstGeom>
          <a:ln w="0">
            <a:noFill/>
          </a:ln>
        </p:spPr>
      </p:pic>
      <p:pic>
        <p:nvPicPr>
          <p:cNvPr id="291" name="spacer" descr=""/>
          <p:cNvPicPr/>
          <p:nvPr/>
        </p:nvPicPr>
        <p:blipFill>
          <a:blip r:embed="rId58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92" name="spacer" descr=""/>
          <p:cNvPicPr/>
          <p:nvPr/>
        </p:nvPicPr>
        <p:blipFill>
          <a:blip r:embed="rId59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93" name="cumpleblanco" descr=""/>
          <p:cNvPicPr/>
          <p:nvPr/>
        </p:nvPicPr>
        <p:blipFill>
          <a:blip r:embed="rId60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94" name="spacer" descr=""/>
          <p:cNvPicPr/>
          <p:nvPr/>
        </p:nvPicPr>
        <p:blipFill>
          <a:blip r:embed="rId61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95" name="spacer" descr=""/>
          <p:cNvPicPr/>
          <p:nvPr/>
        </p:nvPicPr>
        <p:blipFill>
          <a:blip r:embed="rId62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96" name="spacer" descr=""/>
          <p:cNvPicPr/>
          <p:nvPr/>
        </p:nvPicPr>
        <p:blipFill>
          <a:blip r:embed="rId63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97" name="spacer" descr=""/>
          <p:cNvPicPr/>
          <p:nvPr/>
        </p:nvPicPr>
        <p:blipFill>
          <a:blip r:embed="rId64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298" name="spacer" descr=""/>
          <p:cNvPicPr/>
          <p:nvPr/>
        </p:nvPicPr>
        <p:blipFill>
          <a:blip r:embed="rId65"/>
          <a:stretch/>
        </p:blipFill>
        <p:spPr>
          <a:xfrm>
            <a:off x="900000" y="2174760"/>
            <a:ext cx="47880" cy="142920"/>
          </a:xfrm>
          <a:prstGeom prst="rect">
            <a:avLst/>
          </a:prstGeom>
          <a:ln w="0">
            <a:noFill/>
          </a:ln>
        </p:spPr>
      </p:pic>
      <p:pic>
        <p:nvPicPr>
          <p:cNvPr id="299" name="spacer" descr=""/>
          <p:cNvPicPr/>
          <p:nvPr/>
        </p:nvPicPr>
        <p:blipFill>
          <a:blip r:embed="rId66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300" name="spacer" descr=""/>
          <p:cNvPicPr/>
          <p:nvPr/>
        </p:nvPicPr>
        <p:blipFill>
          <a:blip r:embed="rId67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301" name="spacer" descr=""/>
          <p:cNvPicPr/>
          <p:nvPr/>
        </p:nvPicPr>
        <p:blipFill>
          <a:blip r:embed="rId68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302" name="spacer" descr=""/>
          <p:cNvPicPr/>
          <p:nvPr/>
        </p:nvPicPr>
        <p:blipFill>
          <a:blip r:embed="rId69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303" name="spacer" descr=""/>
          <p:cNvPicPr/>
          <p:nvPr/>
        </p:nvPicPr>
        <p:blipFill>
          <a:blip r:embed="rId70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304" name="cumpleblanco" descr=""/>
          <p:cNvPicPr/>
          <p:nvPr/>
        </p:nvPicPr>
        <p:blipFill>
          <a:blip r:embed="rId71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305" name="spacer" descr=""/>
          <p:cNvPicPr/>
          <p:nvPr/>
        </p:nvPicPr>
        <p:blipFill>
          <a:blip r:embed="rId72"/>
          <a:stretch/>
        </p:blipFill>
        <p:spPr>
          <a:xfrm>
            <a:off x="900000" y="2174760"/>
            <a:ext cx="238320" cy="2383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900000" y="2174760"/>
            <a:ext cx="7488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00000" y="2174760"/>
            <a:ext cx="279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00000" y="2174760"/>
            <a:ext cx="7488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2174760"/>
            <a:ext cx="279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2174760"/>
            <a:ext cx="7488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00000" y="2174760"/>
            <a:ext cx="27936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00000" y="2174760"/>
            <a:ext cx="2509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330" name="spacer" descr=""/>
          <p:cNvPicPr/>
          <p:nvPr/>
        </p:nvPicPr>
        <p:blipFill>
          <a:blip r:embed="rId73"/>
          <a:stretch/>
        </p:blipFill>
        <p:spPr>
          <a:xfrm>
            <a:off x="1301760" y="2028960"/>
            <a:ext cx="47520" cy="142920"/>
          </a:xfrm>
          <a:prstGeom prst="rect">
            <a:avLst/>
          </a:prstGeom>
          <a:ln w="0">
            <a:noFill/>
          </a:ln>
        </p:spPr>
      </p:pic>
      <p:pic>
        <p:nvPicPr>
          <p:cNvPr id="331" name="spacer" descr=""/>
          <p:cNvPicPr/>
          <p:nvPr/>
        </p:nvPicPr>
        <p:blipFill>
          <a:blip r:embed="rId74"/>
          <a:stretch/>
        </p:blipFill>
        <p:spPr>
          <a:xfrm>
            <a:off x="1301760" y="2028960"/>
            <a:ext cx="47520" cy="142920"/>
          </a:xfrm>
          <a:prstGeom prst="rect">
            <a:avLst/>
          </a:prstGeom>
          <a:ln w="0">
            <a:noFill/>
          </a:ln>
        </p:spPr>
      </p:pic>
      <p:pic>
        <p:nvPicPr>
          <p:cNvPr id="332" name="spacer" descr=""/>
          <p:cNvPicPr/>
          <p:nvPr/>
        </p:nvPicPr>
        <p:blipFill>
          <a:blip r:embed="rId75"/>
          <a:stretch/>
        </p:blipFill>
        <p:spPr>
          <a:xfrm>
            <a:off x="1301760" y="2028960"/>
            <a:ext cx="47520" cy="142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301760" y="2028960"/>
            <a:ext cx="745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01760" y="2028960"/>
            <a:ext cx="745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01760" y="2028960"/>
            <a:ext cx="74520" cy="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1907640" y="1844280"/>
            <a:ext cx="655164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828a2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828a2"/>
                </a:solidFill>
                <a:latin typeface="Univers (W1)"/>
              </a:rPr>
              <a:t>Intervención </a:t>
            </a:r>
            <a:r>
              <a:rPr b="1" lang="es-MX" sz="2400" spc="-1" strike="noStrike">
                <a:solidFill>
                  <a:srgbClr val="2828a2"/>
                </a:solidFill>
                <a:latin typeface="Univers (W1)"/>
              </a:rPr>
              <a:t>dual</a:t>
            </a:r>
            <a:r>
              <a:rPr b="0" lang="es-MX" sz="2400" spc="-1" strike="noStrike">
                <a:solidFill>
                  <a:srgbClr val="2828a2"/>
                </a:solidFill>
                <a:latin typeface="Univers (W1)"/>
              </a:rPr>
              <a:t> (promoción y asistencia) e </a:t>
            </a:r>
            <a:r>
              <a:rPr b="1" lang="es-MX" sz="2400" spc="-1" strike="noStrike">
                <a:solidFill>
                  <a:srgbClr val="2828a2"/>
                </a:solidFill>
                <a:latin typeface="Univers (W1)"/>
              </a:rPr>
              <a:t>integral</a:t>
            </a:r>
            <a:r>
              <a:rPr b="0" lang="es-MX" sz="2400" spc="-1" strike="noStrike">
                <a:solidFill>
                  <a:srgbClr val="2828a2"/>
                </a:solidFill>
                <a:latin typeface="Univers (W1)"/>
              </a:rPr>
              <a:t> (multidimensional) enfocado sobre un solo sujeto: la famil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2828a2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828a2"/>
                </a:solidFill>
                <a:latin typeface="Univers (W1)"/>
              </a:rPr>
              <a:t>Diversos programas de la oferta pública en convenio de transferencias de recursos presupuestarios a través de Chile Solidario, focalizados y pertinentes a la población objetivo: los más pobres dentro de los pobre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360" y="609480"/>
            <a:ext cx="67658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Univers (W1)"/>
              </a:rPr>
              <a:t>Programas –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050920" y="1413000"/>
            <a:ext cx="68421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828a2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Univers (W1)"/>
              </a:rPr>
              <a:t>Dirección General de Movilización Naciona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828a2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Univers (W1)"/>
              </a:rPr>
              <a:t>Servicio de Registro civil e identificació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828a2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Univers (W1)"/>
              </a:rPr>
              <a:t>Gendarmería de Chi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828a2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Univers (W1)"/>
              </a:rPr>
              <a:t>Fondo Nacional de Salu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828a2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Univers (W1)"/>
              </a:rPr>
              <a:t>Fondo de Solidaridad e Inversión Socia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828a2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Univers (W1)"/>
              </a:rPr>
              <a:t>Subsecretaría de Bienes Nacional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828a2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Univers (W1)"/>
              </a:rPr>
              <a:t>Fondo Nacional de la Discapacida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828a2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Univers (W1)"/>
              </a:rPr>
              <a:t>Junta Nacional de Auxilio Escolar y Beca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828a2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Univers (W1)"/>
              </a:rPr>
              <a:t>Ministerio de Educació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828a2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Univers (W1)"/>
              </a:rPr>
              <a:t>Fundación Integr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9087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Univers (W1)"/>
              </a:rPr>
              <a:t>Programas –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rId1" action="ppaction://hlinksldjump"/>
          </p:cNvPr>
          <p:cNvSpPr/>
          <p:nvPr/>
        </p:nvSpPr>
        <p:spPr>
          <a:xfrm>
            <a:off x="853272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10800"/>
                </a:moveTo>
                <a:lnTo>
                  <a:pt x="28589" y="3794"/>
                </a:lnTo>
                <a:lnTo>
                  <a:pt x="28589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63640" y="981000"/>
            <a:ext cx="691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24000" y="981000"/>
            <a:ext cx="6462720" cy="53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828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Arial"/>
              </a:rPr>
              <a:t>Fundación Prodemu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828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Arial"/>
              </a:rPr>
              <a:t>Servicio Nacional de Menor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828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828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Arial"/>
              </a:rPr>
              <a:t>CONAF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828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828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Arial"/>
              </a:rPr>
              <a:t>Servicio Nacional de la Muj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828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828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Arial"/>
              </a:rPr>
              <a:t>INDAP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828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828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Arial"/>
              </a:rPr>
              <a:t>CONAD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828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828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828a2"/>
                </a:solidFill>
                <a:latin typeface="Arial"/>
              </a:rPr>
              <a:t>SENC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buClr>
                <a:srgbClr val="2828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Univers (W1)"/>
              </a:rPr>
              <a:t>Seguimiento</a:t>
            </a:r>
            <a:br>
              <a:rPr sz="2800"/>
            </a:br>
            <a:r>
              <a:rPr b="1" lang="es-MX" sz="2800" spc="-1" strike="noStrike">
                <a:solidFill>
                  <a:srgbClr val="800000"/>
                </a:solidFill>
                <a:latin typeface="Univers (W1)"/>
              </a:rPr>
              <a:t>(Bono de Egre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1800360" cy="20196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2556000" y="213372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Arial"/>
              </a:rPr>
              <a:t>Puent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67280" y="1341360"/>
            <a:ext cx="2233440" cy="70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ínea Base Egreso (53 CM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7280" y="2349360"/>
            <a:ext cx="2233440" cy="703800"/>
          </a:xfrm>
          <a:prstGeom prst="rect">
            <a:avLst/>
          </a:prstGeom>
          <a:solidFill>
            <a:srgbClr val="212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ínea Base Ficha Final (53 CM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40360" y="3213000"/>
            <a:ext cx="6490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19640" y="3860640"/>
            <a:ext cx="2233440" cy="1326240"/>
          </a:xfrm>
          <a:prstGeom prst="rect">
            <a:avLst/>
          </a:prstGeom>
          <a:solidFill>
            <a:srgbClr val="212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guimient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16720" y="3933720"/>
            <a:ext cx="2233440" cy="7038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formación Oferta Públic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0920" y="4005360"/>
            <a:ext cx="2233440" cy="1008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formación Gestores Territoriale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429264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4365720"/>
            <a:ext cx="648000" cy="360360"/>
          </a:xfrm>
          <a:prstGeom prst="leftArrow">
            <a:avLst>
              <a:gd name="adj1" fmla="val 50000"/>
              <a:gd name="adj2" fmla="val 4495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16720" y="4581360"/>
            <a:ext cx="2233440" cy="703800"/>
          </a:xfrm>
          <a:prstGeom prst="rect">
            <a:avLst/>
          </a:prstGeom>
          <a:solidFill>
            <a:srgbClr val="212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guimiento administrativ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0920" y="5013360"/>
            <a:ext cx="2233440" cy="703800"/>
          </a:xfrm>
          <a:prstGeom prst="rect">
            <a:avLst/>
          </a:prstGeom>
          <a:solidFill>
            <a:srgbClr val="212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guimiento de terren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522936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00360" y="5805360"/>
            <a:ext cx="3743280" cy="703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dicadores de Proceso por Programa en convenio CH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1557360"/>
            <a:ext cx="720720" cy="1295280"/>
          </a:xfrm>
          <a:custGeom>
            <a:avLst/>
            <a:gdLst>
              <a:gd name="textAreaLeft" fmla="*/ 96480 w 720720"/>
              <a:gd name="textAreaRight" fmla="*/ 624240 w 7207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451640" y="1557360"/>
            <a:ext cx="1513080" cy="1167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ambio de Estad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(Reversión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692360" y="2781360"/>
            <a:ext cx="669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908000" y="260280"/>
            <a:ext cx="65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yectoria de familias en el Sistema de Protección Social Chile Solidari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50920" y="1197000"/>
            <a:ext cx="6782040" cy="762120"/>
          </a:xfrm>
          <a:prstGeom prst="rightArrow">
            <a:avLst>
              <a:gd name="adj1" fmla="val 46667"/>
              <a:gd name="adj2" fmla="val 6179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08000" y="18446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 al 24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76720" y="18446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5 y 26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6000" y="24210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32360" y="18446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7 al 4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84720" y="18446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1 al 6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63640" y="29242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 Puente – Fosi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64000" y="2924280"/>
            <a:ext cx="24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deplan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27640" y="29242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unicipio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2252160" y="2147760"/>
            <a:ext cx="571680" cy="685800"/>
          </a:xfrm>
          <a:custGeom>
            <a:avLst/>
            <a:gdLst>
              <a:gd name="textAreaLeft" fmla="*/ 89280 w 571680"/>
              <a:gd name="textAreaRight" fmla="*/ 500400 w 5716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8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5400000">
            <a:off x="4363920" y="1404720"/>
            <a:ext cx="685800" cy="22860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1320 h 2286000"/>
              <a:gd name="textAreaBottom" fmla="*/ 1714680 h 22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8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5400000">
            <a:off x="7095960" y="2128680"/>
            <a:ext cx="609480" cy="76176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8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36000" y="11253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ño 5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08000" y="112536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ño 1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008000" y="3860640"/>
          <a:ext cx="7885080" cy="2889360"/>
        </p:xfrm>
        <a:graphic>
          <a:graphicData uri="http://schemas.openxmlformats.org/drawingml/2006/table">
            <a:tbl>
              <a:tblPr/>
              <a:tblGrid>
                <a:gridCol w="2617920"/>
                <a:gridCol w="2266920"/>
                <a:gridCol w="2146320"/>
                <a:gridCol w="853920"/>
              </a:tblGrid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MILIAS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hortes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as Programa Puente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se Seguimiento CHS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hortes junio - diciembre 2002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784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.875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hortes enero - junio 2003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.223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717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hortes julio - diciembre 2003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.252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hortes enero - junio 2004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.930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hortes julio - diciembre 2004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.346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hortes enero - junio 2005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.889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activas y seguimiento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8.424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.592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8.016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contactadas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5.296</a:t>
                      </a:r>
                      <a:endParaRPr b="0" lang="en-US" sz="13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763280" y="333000"/>
            <a:ext cx="70563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Univers (W1)"/>
              </a:rPr>
              <a:t>	</a:t>
            </a:r>
            <a:r>
              <a:rPr b="1" lang="es-MX" sz="2400" spc="-1" strike="noStrike">
                <a:solidFill>
                  <a:srgbClr val="800000"/>
                </a:solidFill>
                <a:latin typeface="Univers (W1)"/>
              </a:rPr>
              <a:t>Para realizar el seguimiento de las familias es necesario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12187"/>
                </a:solidFill>
                <a:latin typeface="Univers (W1)"/>
              </a:rPr>
              <a:t>Que los componentes permanentes del Sistema sigan disponibles para las familias durante los 36 meses siguientes al Egreso del Puente (Bono de Egreso)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12187"/>
                </a:solidFill>
                <a:latin typeface="Univers (W1)"/>
              </a:rPr>
              <a:t>Que la RED de servicios que ejecutan la oferta preferente informe a MIDEPLAN de las prestaciones otorgadas a las familias en la Fase de Seguimiento a través de la integración de bases de datos.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12187"/>
                </a:solidFill>
                <a:latin typeface="Univers (W1)"/>
              </a:rPr>
              <a:t>Que, durante un período transitorio, MIDEPLAN establezca un vínculo con las familias en Seguimiento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12187"/>
                </a:solidFill>
                <a:latin typeface="Univers (W1)"/>
              </a:rPr>
              <a:t>Que, en este período transitorio, el MUNICIPIO se fortalezca y gradualmente asuma la tarea. Las familias estarán habilitadas para actuar y vincularse autónomamente en la Red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12187"/>
                </a:solidFill>
                <a:latin typeface="Univers (W1)"/>
              </a:rPr>
              <a:t>Que, en este período transitorio, la RED se fortalezca y transite hacia la gestión integrada de la protección social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8" name="">
            <a:hlinkClick r:id="rId1" action="ppaction://hlinksldjump"/>
          </p:cNvPr>
          <p:cNvSpPr/>
          <p:nvPr/>
        </p:nvSpPr>
        <p:spPr>
          <a:xfrm>
            <a:off x="8388360" y="6381720"/>
            <a:ext cx="360360" cy="21600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12" y="1400"/>
                </a:lnTo>
                <a:lnTo>
                  <a:pt x="1400" y="140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12" y="20200"/>
                </a:lnTo>
                <a:lnTo>
                  <a:pt x="34612" y="140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12" y="2020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12" h="21600">
                <a:moveTo>
                  <a:pt x="11000" y="10800"/>
                </a:moveTo>
                <a:lnTo>
                  <a:pt x="25012" y="3794"/>
                </a:lnTo>
                <a:lnTo>
                  <a:pt x="25012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68360" y="476280"/>
            <a:ext cx="55436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800000"/>
                </a:solidFill>
                <a:latin typeface="Univers (W1)"/>
                <a:ea typeface="Times New Roman"/>
              </a:rPr>
              <a:t>Evolución de la incidencia de la pobreza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800000"/>
                </a:solidFill>
                <a:latin typeface="Univers (W1)"/>
                <a:ea typeface="Times New Roman"/>
              </a:rPr>
              <a:t>y de la indigenci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800000"/>
                </a:solidFill>
                <a:latin typeface="Univers (W1)"/>
                <a:ea typeface="Times New Roman"/>
              </a:rPr>
              <a:t>1990-2003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800000"/>
                </a:solidFill>
                <a:latin typeface="Univers (W1)"/>
                <a:ea typeface="Times New Roman"/>
              </a:rPr>
              <a:t>(Porcentaje de la población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57913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(W1)"/>
              </a:rPr>
              <a:t>Indigent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79132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(W1)"/>
              </a:rPr>
              <a:t>Pobres no Indigent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19280" y="1773360"/>
            <a:ext cx="6754680" cy="4323600"/>
            <a:chOff x="1619280" y="1773360"/>
            <a:chExt cx="6754680" cy="4323600"/>
          </a:xfrm>
        </p:grpSpPr>
        <p:sp>
          <p:nvSpPr>
            <p:cNvPr id="51" name=""/>
            <p:cNvSpPr/>
            <p:nvPr/>
          </p:nvSpPr>
          <p:spPr>
            <a:xfrm>
              <a:off x="2429640" y="2152440"/>
              <a:ext cx="40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3399"/>
                  </a:solidFill>
                  <a:latin typeface="Arial Narrow"/>
                  <a:ea typeface="Times New Roman"/>
                </a:rPr>
                <a:t>38,6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35240" y="1773360"/>
              <a:ext cx="677160" cy="985680"/>
            </a:xfrm>
            <a:prstGeom prst="ellipse">
              <a:avLst/>
            </a:prstGeom>
            <a:noFill/>
            <a:ln w="381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78520" y="4893480"/>
              <a:ext cx="567000" cy="276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8520" y="3907440"/>
              <a:ext cx="567000" cy="98604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619280" y="2265840"/>
              <a:ext cx="6404760" cy="3831120"/>
              <a:chOff x="1619280" y="2265840"/>
              <a:chExt cx="6404760" cy="3831120"/>
            </a:xfrm>
          </p:grpSpPr>
          <p:sp>
            <p:nvSpPr>
              <p:cNvPr id="56" name=""/>
              <p:cNvSpPr/>
              <p:nvPr/>
            </p:nvSpPr>
            <p:spPr>
              <a:xfrm>
                <a:off x="2279880" y="4295880"/>
                <a:ext cx="570600" cy="879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159000" y="4578840"/>
                <a:ext cx="551520" cy="5972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082760" y="4654800"/>
                <a:ext cx="577080" cy="521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006880" y="4741560"/>
                <a:ext cx="560520" cy="434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69080" y="4741560"/>
                <a:ext cx="602640" cy="434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854760" y="4817520"/>
                <a:ext cx="567000" cy="358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79880" y="2520000"/>
                <a:ext cx="570600" cy="17758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159000" y="2937240"/>
                <a:ext cx="551520" cy="1641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82760" y="3297600"/>
                <a:ext cx="577080" cy="13568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006880" y="3578760"/>
                <a:ext cx="560520" cy="11944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9080" y="3684600"/>
                <a:ext cx="602640" cy="11044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54760" y="3787200"/>
                <a:ext cx="567000" cy="1029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091240" y="2430000"/>
                <a:ext cx="2520" cy="274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13120" y="5176080"/>
                <a:ext cx="781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13120" y="4831560"/>
                <a:ext cx="781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013120" y="4487040"/>
                <a:ext cx="781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013120" y="4147200"/>
                <a:ext cx="78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13120" y="3804480"/>
                <a:ext cx="78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13120" y="3457080"/>
                <a:ext cx="781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13120" y="3117240"/>
                <a:ext cx="781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013120" y="2773080"/>
                <a:ext cx="781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013120" y="2430000"/>
                <a:ext cx="78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2091240" y="5175720"/>
                <a:ext cx="2520" cy="8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2974320" y="5175720"/>
                <a:ext cx="0" cy="8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3898080" y="5175720"/>
                <a:ext cx="2160" cy="8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4822200" y="5175720"/>
                <a:ext cx="2160" cy="8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5745960" y="5175720"/>
                <a:ext cx="2160" cy="8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669720" y="5175720"/>
                <a:ext cx="0" cy="8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7665480" y="5175720"/>
                <a:ext cx="2160" cy="8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94360" y="4590000"/>
                <a:ext cx="40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12,9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323520" y="4727520"/>
                <a:ext cx="290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8,8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245840" y="4773240"/>
                <a:ext cx="290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7,6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169600" y="4831560"/>
                <a:ext cx="290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5,8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69600" y="4831560"/>
                <a:ext cx="290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5,6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017480" y="4831560"/>
                <a:ext cx="290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5,7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394360" y="3264120"/>
                <a:ext cx="40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25,7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275640" y="3611880"/>
                <a:ext cx="40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23,8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193280" y="3833280"/>
                <a:ext cx="40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19,9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061600" y="3991320"/>
                <a:ext cx="40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17,4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021720" y="4087440"/>
                <a:ext cx="40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16,1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966360" y="4131720"/>
                <a:ext cx="40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14,9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59680" y="5014800"/>
                <a:ext cx="11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0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759680" y="4667400"/>
                <a:ext cx="116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5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19280" y="4327560"/>
                <a:ext cx="232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10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19280" y="3986640"/>
                <a:ext cx="232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15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619280" y="3643560"/>
                <a:ext cx="232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20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19280" y="3300840"/>
                <a:ext cx="232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25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619280" y="2959200"/>
                <a:ext cx="232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30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19280" y="2616480"/>
                <a:ext cx="232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35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19280" y="2268720"/>
                <a:ext cx="232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40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19480" y="5430240"/>
                <a:ext cx="46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1990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23880" y="5430240"/>
                <a:ext cx="46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1992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04720" y="5430240"/>
                <a:ext cx="46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1994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51160" y="5430240"/>
                <a:ext cx="46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1996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43240" y="5430240"/>
                <a:ext cx="46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1998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976440" y="5430240"/>
                <a:ext cx="464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  <a:ea typeface="Times New Roman"/>
                  </a:rPr>
                  <a:t>2000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3466800" y="5862600"/>
                <a:ext cx="122760" cy="1515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70920" y="579240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5498640" y="5867640"/>
                <a:ext cx="122760" cy="145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697000" y="5792400"/>
                <a:ext cx="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90040" y="2521800"/>
                <a:ext cx="40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32,6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242240" y="2896200"/>
                <a:ext cx="40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27,5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147640" y="3193200"/>
                <a:ext cx="40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23,2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012360" y="3270600"/>
                <a:ext cx="40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21,7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944760" y="3344760"/>
                <a:ext cx="406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3399"/>
                    </a:solidFill>
                    <a:latin typeface="Arial Narrow"/>
                    <a:ea typeface="Times New Roman"/>
                  </a:rPr>
                  <a:t>20,6</a:t>
                </a:r>
                <a:endParaRPr b="0" lang="en-US" sz="20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22200" y="4578840"/>
                <a:ext cx="2794320" cy="834120"/>
              </a:xfrm>
              <a:prstGeom prst="rect">
                <a:avLst/>
              </a:prstGeom>
              <a:noFill/>
              <a:ln w="28440">
                <a:solidFill>
                  <a:srgbClr val="9933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cxnSp>
            <p:nvCxnSpPr>
              <p:cNvPr id="122" name=""/>
              <p:cNvCxnSpPr>
                <a:stCxn id="52" idx="6"/>
                <a:endCxn id="123" idx="0"/>
              </p:cNvCxnSpPr>
              <p:nvPr/>
            </p:nvCxnSpPr>
            <p:spPr>
              <a:xfrm>
                <a:off x="2927520" y="2265840"/>
                <a:ext cx="5096880" cy="702000"/>
              </a:xfrm>
              <a:prstGeom prst="bentConnector2">
                <a:avLst/>
              </a:prstGeom>
              <a:ln w="9360">
                <a:solidFill>
                  <a:srgbClr val="993366"/>
                </a:solidFill>
                <a:prstDash val="dash"/>
                <a:miter/>
                <a:tailEnd len="med" type="triangle" w="med"/>
              </a:ln>
            </p:spPr>
          </p:cxnSp>
          <p:sp>
            <p:nvSpPr>
              <p:cNvPr id="124" name=""/>
              <p:cNvSpPr/>
              <p:nvPr/>
            </p:nvSpPr>
            <p:spPr>
              <a:xfrm flipV="1">
                <a:off x="7593840" y="5096880"/>
                <a:ext cx="0" cy="8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7939440" y="4825440"/>
              <a:ext cx="29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 Narrow"/>
                  <a:ea typeface="Times New Roman"/>
                </a:rPr>
                <a:t>4,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90480" y="4125600"/>
              <a:ext cx="40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 Narrow"/>
                  <a:ea typeface="Times New Roman"/>
                </a:rPr>
                <a:t>14,1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2360" y="5424120"/>
              <a:ext cx="46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2003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80400" y="3452400"/>
              <a:ext cx="40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Arial Narrow"/>
                  <a:ea typeface="Times New Roman"/>
                </a:rPr>
                <a:t>18,8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75920" y="2986560"/>
              <a:ext cx="698040" cy="986040"/>
            </a:xfrm>
            <a:prstGeom prst="ellipse">
              <a:avLst/>
            </a:prstGeom>
            <a:noFill/>
            <a:ln w="38160">
              <a:solidFill>
                <a:srgbClr val="99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518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Algunos Log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721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1341360"/>
            <a:ext cx="6923160" cy="70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800000"/>
                </a:solidFill>
                <a:latin typeface="Univers (W1)"/>
                <a:ea typeface="Arial"/>
              </a:rPr>
              <a:t>El programa se encuentra operando en 336 comunas del país (100% de las comunas consideradas)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Univers (W1)"/>
                <a:ea typeface="Arial"/>
              </a:rPr>
              <a:t> </a:t>
            </a:r>
            <a:r>
              <a:rPr b="1" lang="es-CL" sz="2000" spc="-1" strike="noStrike">
                <a:solidFill>
                  <a:srgbClr val="800000"/>
                </a:solidFill>
                <a:latin typeface="Univers (W1)"/>
                <a:ea typeface="Arial"/>
              </a:rPr>
              <a:t>A</a:t>
            </a:r>
            <a:r>
              <a:rPr b="1" lang="en-US" sz="2000" spc="-1" strike="noStrike">
                <a:solidFill>
                  <a:srgbClr val="800000"/>
                </a:solidFill>
                <a:latin typeface="Univers (W1)"/>
                <a:ea typeface="Arial"/>
              </a:rPr>
              <a:t> través del Programa Puente, se </a:t>
            </a:r>
            <a:r>
              <a:rPr b="1" lang="es-ES" sz="2000" spc="-1" strike="noStrike">
                <a:solidFill>
                  <a:srgbClr val="800000"/>
                </a:solidFill>
                <a:latin typeface="Univers (W1)"/>
                <a:ea typeface="Arial"/>
              </a:rPr>
              <a:t>ha contactado a más de 175.000 familias; el 95% de estas familias han aceptado incorporarse al Sistema Chile Solidario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0000"/>
                </a:solidFill>
                <a:latin typeface="Univers (W1)"/>
              </a:rPr>
              <a:t>Más de 30.000 familias cuentan con cédula de identidad para cada uno de sus integrantes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0000"/>
                </a:solidFill>
                <a:latin typeface="Univers (W1)"/>
              </a:rPr>
              <a:t>5.103 familias con hijos en edad preescolar han podido incorporar a sus niños, al nivel de educación pre-básica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0000"/>
                </a:solidFill>
                <a:latin typeface="Univers (W1)"/>
              </a:rPr>
              <a:t>9.611 familias con adultos analfabetos han cambiado su vida y su destino, aprendiendo a leer y escribir.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7" dur="1" fill="hold"/>
                                  <p:tgtEl>
                                    <p:spTgt spid="3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763640" y="1700280"/>
            <a:ext cx="684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0000"/>
                </a:solidFill>
                <a:latin typeface="Arial"/>
              </a:rPr>
              <a:t>27.458 familias en las que todos sus integrantes adultos se encontraban desocupados, ahora cuentan con un pequeño negocio o un empleo para al menos uno de sus integrantes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0000"/>
                </a:solidFill>
                <a:latin typeface="Arial"/>
              </a:rPr>
              <a:t>17.572 familias están ahorrando y han postulado a un programa de vivienda social.  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0000"/>
                </a:solidFill>
                <a:latin typeface="Arial"/>
              </a:rPr>
              <a:t>25.683 familias han reparado sus viviendas que antes se llovían y penetraba el frío y  viento por sus paredes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43280" y="62064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Univers (W1)"/>
              </a:rPr>
              <a:t>Algunos Logro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50920" y="457200"/>
            <a:ext cx="6407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Univers (W1)"/>
              </a:rPr>
              <a:t>Desafíos, a nivel de cumplimiento con las familia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2050920" y="1066680"/>
          <a:ext cx="6769080" cy="5329440"/>
        </p:xfrm>
        <a:graphic>
          <a:graphicData uri="http://schemas.openxmlformats.org/drawingml/2006/table">
            <a:tbl>
              <a:tblPr/>
              <a:tblGrid>
                <a:gridCol w="1928880"/>
                <a:gridCol w="2422440"/>
                <a:gridCol w="2417760"/>
              </a:tblGrid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mensión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ición Mínima más Requerida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dición Mínima con Menor Avance Relativo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icación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tención Cédula de Identidad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cripción en el Registro Nacional de la Discapacidad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ud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jeres mayores de 35 años tengan el PAP al día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habilitación de Discapacitados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ultos sepan leer y escribir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erción escolar de niños discapacitados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námica Familiar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ocimiento de recursos comunitarios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ención a violencia intrafamiliar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bitabilidad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 la casa esté sellada, no se llueva y  no se inunde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 la casa esté sellada, no se llueva y  no se inunde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bajo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 menos un adulto trabajando y con una remuneración estable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 menos un adulto trabajando y con una remuneración estable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 por sobre la línea de indigencia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 por sobre la línea de indigencia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 resum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7020000" y="1989000"/>
            <a:ext cx="1728720" cy="15462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rcRect l="0" t="0" r="0" b="22307"/>
          <a:stretch/>
        </p:blipFill>
        <p:spPr>
          <a:xfrm>
            <a:off x="1547640" y="2133720"/>
            <a:ext cx="1152720" cy="10951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6877080" y="4221000"/>
            <a:ext cx="1746360" cy="1562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692360" y="4149720"/>
            <a:ext cx="1655640" cy="1800360"/>
          </a:xfrm>
          <a:prstGeom prst="flowChartMagneticDisk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63640" y="4724280"/>
            <a:ext cx="15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Bases de Dato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35280" y="4149720"/>
            <a:ext cx="2808360" cy="1167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aptur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stado de la Familia”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64000" y="2492280"/>
            <a:ext cx="259056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tegració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43280" y="3716280"/>
            <a:ext cx="1512720" cy="863640"/>
          </a:xfrm>
          <a:prstGeom prst="uturnArrow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59280" y="2997360"/>
            <a:ext cx="432000" cy="934920"/>
          </a:xfrm>
          <a:prstGeom prst="upArrow">
            <a:avLst>
              <a:gd name="adj1" fmla="val 50000"/>
              <a:gd name="adj2" fmla="val 5410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76720" y="907920"/>
            <a:ext cx="3311280" cy="703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Gestión Integrada para la Protección Socia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1700280"/>
            <a:ext cx="432000" cy="649080"/>
          </a:xfrm>
          <a:prstGeom prst="upArrow">
            <a:avLst>
              <a:gd name="adj1" fmla="val 50000"/>
              <a:gd name="adj2" fmla="val 37563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43280" y="2492280"/>
            <a:ext cx="576360" cy="360360"/>
          </a:xfrm>
          <a:prstGeom prst="rightArrow">
            <a:avLst>
              <a:gd name="adj1" fmla="val 49778"/>
              <a:gd name="adj2" fmla="val 400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77080" y="5084640"/>
            <a:ext cx="1727280" cy="703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hile Solidari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866560" y="3716280"/>
            <a:ext cx="1295640" cy="863640"/>
          </a:xfrm>
          <a:prstGeom prst="uturnArrow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6300000" y="256536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93080" y="2924280"/>
            <a:ext cx="1547640" cy="3988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unicipi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84360" y="260280"/>
            <a:ext cx="50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Univers (W1)"/>
              </a:rPr>
              <a:t>Desafíos: a nivel del Sistem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0000"/>
                </a:solidFill>
                <a:latin typeface="Univers (W1)"/>
              </a:rPr>
              <a:t>Mapa de Ac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69850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4067280" y="907920"/>
            <a:ext cx="41050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189000"/>
            <a:ext cx="756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Evaluación, Seguimiento y Monitore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del Sistema de Protecció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Social Chile Solidari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73320" y="3314880"/>
            <a:ext cx="3335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3521160"/>
            <a:ext cx="1214640" cy="1347840"/>
          </a:xfrm>
          <a:prstGeom prst="rect">
            <a:avLst/>
          </a:prstGeom>
          <a:solidFill>
            <a:srgbClr val="212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Familias en extrema pobreza desvinculadas de la red social públic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524720" y="2133720"/>
            <a:ext cx="1400040" cy="1319040"/>
          </a:xfrm>
          <a:prstGeom prst="rect">
            <a:avLst/>
          </a:prstGeom>
          <a:solidFill>
            <a:srgbClr val="212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amilias superan condiciones de extrema pobreza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79640" y="1557360"/>
            <a:ext cx="5227560" cy="4524480"/>
          </a:xfrm>
          <a:prstGeom prst="rect">
            <a:avLst/>
          </a:prstGeom>
          <a:solidFill>
            <a:srgbClr val="2828a2">
              <a:alpha val="65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Verdana"/>
              </a:rPr>
              <a:t>Condiciones mínimas de calidad de vida en las dimensiones de identificación, salud, educación, dinámica familiar, habitabilidad, trabajo e ingreso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55680" y="3216240"/>
            <a:ext cx="1281240" cy="1508040"/>
          </a:xfrm>
          <a:prstGeom prst="rect">
            <a:avLst/>
          </a:prstGeom>
          <a:solidFill>
            <a:srgbClr val="99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poyo psicosocial y Bono de Protecció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OGRAMA PUENT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80000" y="3521160"/>
            <a:ext cx="1336680" cy="844560"/>
          </a:xfrm>
          <a:prstGeom prst="rect">
            <a:avLst/>
          </a:prstGeom>
          <a:solidFill>
            <a:srgbClr val="99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ono de Egreso y Seguimiento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95520" y="3898800"/>
            <a:ext cx="56016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04000" y="3860640"/>
            <a:ext cx="56052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35280" y="2492280"/>
            <a:ext cx="1959120" cy="59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bsidios Garantizado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64000" y="5157720"/>
            <a:ext cx="1960560" cy="725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Acceso preferente a programas de promoción social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8346960" y="4851000"/>
            <a:ext cx="0" cy="600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80360" y="2781360"/>
            <a:ext cx="0" cy="2160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524720" y="4365720"/>
            <a:ext cx="1400040" cy="1224000"/>
          </a:xfrm>
          <a:prstGeom prst="rect">
            <a:avLst/>
          </a:prstGeom>
          <a:solidFill>
            <a:srgbClr val="212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Familias participando en forma autónoma en la Red Social Públic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80360" y="2781360"/>
            <a:ext cx="144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380360" y="4941720"/>
            <a:ext cx="14436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56000" y="4724280"/>
            <a:ext cx="936360" cy="72072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627280" y="2637000"/>
            <a:ext cx="936720" cy="57600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580000" y="4292280"/>
            <a:ext cx="792360" cy="115236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651640" y="2708280"/>
            <a:ext cx="865080" cy="792000"/>
          </a:xfrm>
          <a:prstGeom prst="line">
            <a:avLst/>
          </a:prstGeom>
          <a:ln w="381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92360" y="3933720"/>
            <a:ext cx="208764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596360" y="981000"/>
            <a:ext cx="1214280" cy="792360"/>
          </a:xfrm>
          <a:prstGeom prst="rect">
            <a:avLst/>
          </a:prstGeom>
          <a:solidFill>
            <a:srgbClr val="212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ahoma"/>
              </a:rPr>
              <a:t>Evaluación de Impacto Cuantitativ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67640" y="5950080"/>
            <a:ext cx="1214280" cy="718920"/>
          </a:xfrm>
          <a:prstGeom prst="rect">
            <a:avLst/>
          </a:prstGeom>
          <a:solidFill>
            <a:srgbClr val="212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ahoma"/>
              </a:rPr>
              <a:t>Evaluación de impacto cualitativ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172360" y="1773360"/>
            <a:ext cx="0" cy="360360"/>
          </a:xfrm>
          <a:prstGeom prst="line">
            <a:avLst/>
          </a:prstGeom>
          <a:ln w="3168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8172360" y="5589360"/>
            <a:ext cx="0" cy="3603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11280" y="6381720"/>
            <a:ext cx="396108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valuación de Proces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306680" y="4555800"/>
            <a:ext cx="243000" cy="3313080"/>
          </a:xfrm>
          <a:custGeom>
            <a:avLst/>
            <a:gdLst>
              <a:gd name="textAreaLeft" fmla="*/ 155160 w 243000"/>
              <a:gd name="textAreaRight" fmla="*/ 243360 w 243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59280" y="4653000"/>
            <a:ext cx="3457440" cy="431640"/>
          </a:xfrm>
          <a:prstGeom prst="rightArrow">
            <a:avLst>
              <a:gd name="adj1" fmla="val 50000"/>
              <a:gd name="adj2" fmla="val 20025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92360" y="472428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Control Social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124080" y="32767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8101080" y="4869000"/>
            <a:ext cx="0" cy="57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16360" y="35733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618920" y="1557360"/>
            <a:ext cx="714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-711360">
              <a:lnSpc>
                <a:spcPct val="90000"/>
              </a:lnSpc>
              <a:spcBef>
                <a:spcPts val="499"/>
              </a:spcBef>
              <a:buClr>
                <a:srgbClr val="21218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12187"/>
                </a:solidFill>
                <a:latin typeface="Univers (W1)"/>
              </a:rPr>
              <a:t>Nuevo enfoque institucional de confluencia entre política indígena y política superación de la pobreza (y no competencia)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499"/>
              </a:spcBef>
              <a:buClr>
                <a:srgbClr val="21218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12187"/>
                </a:solidFill>
                <a:latin typeface="Univers (W1)"/>
              </a:rPr>
              <a:t>Aprendizajes metodológicos entre Programa Orígenes y Sistema Chile Solidario: complementariedad posible entre lógicas comunitarias y familiares de intervención socia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499"/>
              </a:spcBef>
              <a:buClr>
                <a:srgbClr val="21218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12187"/>
                </a:solidFill>
                <a:latin typeface="Univers (W1)"/>
              </a:rPr>
              <a:t>Política Indígena de Nuevo Trato: con orientaciones base para la pertinencia étnica en ámbito públic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499"/>
              </a:spcBef>
              <a:buClr>
                <a:srgbClr val="212187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12187"/>
                </a:solidFill>
                <a:latin typeface="Univers (W1)"/>
              </a:rPr>
              <a:t>Proyecto Asistencia Técnica Chile Solidario- Banco Mundial: con anexo indígena para aspectos de adecuación étnico cultural del Sistem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Univers (W1)"/>
              </a:rPr>
              <a:t>Consideraciones étnicas en </a:t>
            </a:r>
            <a:br>
              <a:rPr sz="2800"/>
            </a:br>
            <a:r>
              <a:rPr b="1" lang="es-MX" sz="2800" spc="-1" strike="noStrike">
                <a:solidFill>
                  <a:srgbClr val="800000"/>
                </a:solidFill>
                <a:latin typeface="Univers (W1)"/>
              </a:rPr>
              <a:t>Chile Soli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68360" y="1413000"/>
            <a:ext cx="8064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68389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800000"/>
                </a:solidFill>
                <a:latin typeface="Univers (W1)"/>
              </a:rPr>
              <a:t>Acciones realizad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63640" y="1268280"/>
            <a:ext cx="66945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12187"/>
                </a:solidFill>
                <a:latin typeface="Univers (W1)"/>
              </a:rPr>
              <a:t>Identificación étnica en Programa Puente y Seguimiento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12187"/>
                </a:solidFill>
                <a:latin typeface="Univers (W1)"/>
              </a:rPr>
              <a:t>Diseño de metodología de intervención con pertinencia étnica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12187"/>
                </a:solidFill>
                <a:latin typeface="Univers (W1)"/>
              </a:rPr>
              <a:t>Coordinación Institucional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12187"/>
                </a:solidFill>
                <a:latin typeface="Univers (W1)"/>
              </a:rPr>
              <a:t>	</a:t>
            </a:r>
            <a:r>
              <a:rPr b="1" lang="es-MX" sz="2400" spc="-1" strike="noStrike">
                <a:solidFill>
                  <a:srgbClr val="212187"/>
                </a:solidFill>
                <a:latin typeface="Univers (W1)"/>
              </a:rPr>
              <a:t>-</a:t>
            </a:r>
            <a:r>
              <a:rPr b="1" lang="es-MX" sz="2400" spc="-1" strike="noStrike">
                <a:solidFill>
                  <a:srgbClr val="212187"/>
                </a:solidFill>
                <a:latin typeface="Univers (W1)"/>
              </a:rPr>
              <a:t>	</a:t>
            </a:r>
            <a:r>
              <a:rPr b="1" lang="es-MX" sz="2400" spc="-1" strike="noStrike">
                <a:solidFill>
                  <a:srgbClr val="212187"/>
                </a:solidFill>
                <a:latin typeface="Univers (W1)"/>
              </a:rPr>
              <a:t>Subsecretaría MIDEPLAN, en su rol de Coordinador de política pública indígen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12187"/>
                </a:solidFill>
                <a:latin typeface="Univers (W1)"/>
              </a:rPr>
              <a:t>	</a:t>
            </a:r>
            <a:r>
              <a:rPr b="1" lang="es-MX" sz="2400" spc="-1" strike="noStrike">
                <a:solidFill>
                  <a:srgbClr val="212187"/>
                </a:solidFill>
                <a:latin typeface="Univers (W1)"/>
              </a:rPr>
              <a:t>-</a:t>
            </a:r>
            <a:r>
              <a:rPr b="1" lang="es-MX" sz="2400" spc="-1" strike="noStrike">
                <a:solidFill>
                  <a:srgbClr val="212187"/>
                </a:solidFill>
                <a:latin typeface="Univers (W1)"/>
              </a:rPr>
              <a:t>	</a:t>
            </a:r>
            <a:r>
              <a:rPr b="1" lang="es-MX" sz="2400" spc="-1" strike="noStrike">
                <a:solidFill>
                  <a:srgbClr val="212187"/>
                </a:solidFill>
                <a:latin typeface="Univers (W1)"/>
              </a:rPr>
              <a:t>CONAD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12187"/>
                </a:solidFill>
                <a:latin typeface="Univers (W1)"/>
              </a:rPr>
              <a:t>	</a:t>
            </a:r>
            <a:r>
              <a:rPr b="1" lang="es-MX" sz="2400" spc="-1" strike="noStrike">
                <a:solidFill>
                  <a:srgbClr val="212187"/>
                </a:solidFill>
                <a:latin typeface="Univers (W1)"/>
              </a:rPr>
              <a:t>- </a:t>
            </a:r>
            <a:r>
              <a:rPr b="1" lang="es-MX" sz="2400" spc="-1" strike="noStrike">
                <a:solidFill>
                  <a:srgbClr val="212187"/>
                </a:solidFill>
                <a:latin typeface="Univers (W1)"/>
              </a:rPr>
              <a:t>	</a:t>
            </a:r>
            <a:r>
              <a:rPr b="1" lang="es-MX" sz="2400" spc="-1" strike="noStrike">
                <a:solidFill>
                  <a:srgbClr val="212187"/>
                </a:solidFill>
                <a:latin typeface="Univers (W1)"/>
              </a:rPr>
              <a:t>Programa Orígen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4067280" y="907920"/>
            <a:ext cx="41050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10920" y="333360"/>
            <a:ext cx="5704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Univers (W1)"/>
              </a:rPr>
              <a:t>DIAGNOSTICO:</a:t>
            </a:r>
            <a:br>
              <a:rPr sz="2800"/>
            </a:br>
            <a:r>
              <a:rPr b="1" lang="es-ES_tradnl" sz="2800" spc="-1" strike="noStrike">
                <a:solidFill>
                  <a:srgbClr val="990033"/>
                </a:solidFill>
                <a:latin typeface="Univers (W1)"/>
              </a:rPr>
              <a:t>El inicio de Chile Solid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1483920"/>
            <a:ext cx="721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212187"/>
                </a:solidFill>
                <a:latin typeface="Univers (W1)"/>
              </a:rPr>
              <a:t>El crecimiento económico no es suficiente como estrategia de disminución de la pobreza.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12187"/>
                </a:solidFill>
                <a:latin typeface="Univers (W1)"/>
              </a:rPr>
              <a:t>Existencia de un conjunto de prestaciones sociales instaladas en gran número de instituciones y programas, sin interacción entre sí y con lógicas de operación y focalización diversas.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12187"/>
                </a:solidFill>
                <a:latin typeface="Univers (W1)"/>
                <a:ea typeface="Arial"/>
              </a:rPr>
              <a:t>Ausencia de una red de información que vincule servicios de acceso.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12187"/>
                </a:solidFill>
                <a:latin typeface="Univers (W1)"/>
                <a:ea typeface="Arial"/>
              </a:rPr>
              <a:t>Carencia de criterios compartidos de elegibilidad.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12187"/>
                </a:solidFill>
                <a:latin typeface="Univers (W1)"/>
              </a:rPr>
              <a:t>La pobreza se reproduce intergeneracionalmente y afecta a los sujetos en cada una de  las etapas de su ciclo de vida.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24000" y="457200"/>
            <a:ext cx="5400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Univers (W1)"/>
              </a:rPr>
              <a:t>CONSECU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520" y="1371240"/>
            <a:ext cx="72165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 algn="just">
              <a:lnSpc>
                <a:spcPct val="120000"/>
              </a:lnSpc>
              <a:spcBef>
                <a:spcPts val="499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12187"/>
                </a:solidFill>
                <a:latin typeface="Univers (W1)"/>
                <a:ea typeface="Arial"/>
              </a:rPr>
              <a:t>Duplicación de funciones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 algn="just">
              <a:lnSpc>
                <a:spcPct val="120000"/>
              </a:lnSpc>
              <a:spcBef>
                <a:spcPts val="499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12187"/>
                </a:solidFill>
                <a:latin typeface="Univers (W1)"/>
                <a:ea typeface="Arial"/>
              </a:rPr>
              <a:t>Altos costos administrativos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 algn="just">
              <a:lnSpc>
                <a:spcPct val="120000"/>
              </a:lnSpc>
              <a:spcBef>
                <a:spcPts val="499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12187"/>
                </a:solidFill>
                <a:latin typeface="Univers (W1)"/>
                <a:ea typeface="Arial"/>
              </a:rPr>
              <a:t>Pérdida de sinergia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 algn="just">
              <a:lnSpc>
                <a:spcPct val="120000"/>
              </a:lnSpc>
              <a:spcBef>
                <a:spcPts val="499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12187"/>
                </a:solidFill>
                <a:latin typeface="Univers (W1)"/>
                <a:ea typeface="Arial"/>
              </a:rPr>
              <a:t>Dispersión de prestaciones exige a potenciales beneficiarios autoidentificar su carencia, la prestación apropiada a la misma y la ventanilla para postular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 algn="just">
              <a:lnSpc>
                <a:spcPct val="120000"/>
              </a:lnSpc>
              <a:spcBef>
                <a:spcPts val="499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12187"/>
                </a:solidFill>
                <a:latin typeface="Univers (W1)"/>
                <a:ea typeface="Arial"/>
              </a:rPr>
              <a:t>Ausencia de coordinación lleva a la concentración de prestaciones en subgrupo de usuarios con facilidad de acceso al sistema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-332640" algn="just">
              <a:lnSpc>
                <a:spcPct val="120000"/>
              </a:lnSpc>
              <a:spcBef>
                <a:spcPts val="499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12187"/>
                </a:solidFill>
                <a:latin typeface="Univers (W1)"/>
                <a:ea typeface="Arial"/>
              </a:rPr>
              <a:t>Complejidad institucional del sistema margina a potenciales beneficiarios meritorios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2640" indent="0" algn="just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7640" y="404640"/>
            <a:ext cx="669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Univers (W1)"/>
              </a:rPr>
              <a:t>Desafío: Rediseño Institu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26720" y="1699920"/>
            <a:ext cx="6821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12187"/>
                </a:solidFill>
                <a:latin typeface="Univers (W1)"/>
                <a:ea typeface="Arial"/>
              </a:rPr>
              <a:t>Articular el conjunto de transferencias, subsidios, fondos y programas  como un sistema, tanto desde el punto de vista institucional como programático y de gestión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12187"/>
                </a:solidFill>
                <a:latin typeface="Univers (W1)"/>
                <a:ea typeface="Arial"/>
              </a:rPr>
              <a:t>Hacer coincidir la focalización en las familias extremadamente pobres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212187"/>
              </a:buClr>
              <a:buFont typeface="Univers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12187"/>
                </a:solidFill>
                <a:latin typeface="Univers (W1)"/>
                <a:ea typeface="Arial"/>
              </a:rPr>
              <a:t>Compatibilizar la focalización con las capacidades financieras y fiscales.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981080" y="22860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Univers (W1)"/>
              </a:rPr>
              <a:t>Cambios en la Política Soci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523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1371600"/>
            <a:ext cx="6019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63640" y="914400"/>
          <a:ext cx="71294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14400"/>
                    <a:ext cx="712944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457200"/>
            <a:ext cx="80773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Univers (W1)"/>
              </a:rPr>
              <a:t>¿ Qué  es  CHILE  SOLIDARIO?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1125360"/>
            <a:ext cx="6934320" cy="32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9900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212187"/>
                </a:solidFill>
                <a:latin typeface="Arial"/>
                <a:ea typeface="Arial"/>
              </a:rPr>
              <a:t> </a:t>
            </a:r>
            <a:r>
              <a:rPr b="1" lang="es-MX" sz="2100" spc="-1" strike="noStrike">
                <a:solidFill>
                  <a:srgbClr val="212187"/>
                </a:solidFill>
                <a:latin typeface="Univers (W1)"/>
                <a:ea typeface="Arial"/>
              </a:rPr>
              <a:t>CHILE SOLIDARIO  es un sistema de protección social, prioritario para el Gobierno, con una perspectiva integradora, que combina la asistencia y promoción, para abordar la extrema pobreza en que viven hoy alrededor de 225.000  familias  en el país.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9900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212187"/>
                </a:solidFill>
                <a:latin typeface="Univers (W1)"/>
                <a:ea typeface="Arial"/>
              </a:rPr>
              <a:t>  </a:t>
            </a:r>
            <a:r>
              <a:rPr b="1" lang="es-ES" sz="2100" spc="-1" strike="noStrike">
                <a:solidFill>
                  <a:srgbClr val="212187"/>
                </a:solidFill>
                <a:latin typeface="Univers (W1)"/>
                <a:ea typeface="Arial"/>
              </a:rPr>
              <a:t>Está inspirado en el principio de solidaridad e integr</a:t>
            </a:r>
            <a:r>
              <a:rPr b="1" lang="es-MX" sz="2100" spc="-1" strike="noStrike">
                <a:solidFill>
                  <a:srgbClr val="212187"/>
                </a:solidFill>
                <a:latin typeface="Univers (W1)"/>
                <a:ea typeface="Arial"/>
              </a:rPr>
              <a:t>alidad</a:t>
            </a:r>
            <a:r>
              <a:rPr b="1" lang="es-ES" sz="2100" spc="-1" strike="noStrike">
                <a:solidFill>
                  <a:srgbClr val="212187"/>
                </a:solidFill>
                <a:latin typeface="Univers (W1)"/>
                <a:ea typeface="Arial"/>
              </a:rPr>
              <a:t> del esfuerzo de todos los niveles del Estado y la Sociedad Civil.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4495680"/>
            <a:ext cx="7925040" cy="1434600"/>
          </a:xfrm>
          <a:prstGeom prst="rect">
            <a:avLst/>
          </a:prstGeom>
          <a:noFill/>
          <a:ln w="936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990033"/>
                </a:solidFill>
                <a:latin typeface="Univers (W1)"/>
                <a:ea typeface="Arial"/>
              </a:rPr>
              <a:t>Su  Misión es:</a:t>
            </a:r>
            <a:r>
              <a:rPr b="1" lang="es-MX" sz="2200" spc="-1" strike="noStrike">
                <a:solidFill>
                  <a:srgbClr val="212187"/>
                </a:solidFill>
                <a:latin typeface="Univers (W1)"/>
                <a:ea typeface="Arial"/>
              </a:rPr>
              <a:t> “Incorporar a las familias en extrema pobreza a la Red de Protección Social del Estado, de modo que éstas puedan acceder a mejores condiciones de vida.”</a:t>
            </a:r>
            <a:endParaRPr b="0" lang="en-US" sz="2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87280" y="260280"/>
            <a:ext cx="756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Sistema de Protección Social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Arial"/>
              </a:rPr>
              <a:t>Chile Solidario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73320" y="3314880"/>
            <a:ext cx="3335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3521160"/>
            <a:ext cx="1214640" cy="1347840"/>
          </a:xfrm>
          <a:prstGeom prst="rect">
            <a:avLst/>
          </a:prstGeom>
          <a:solidFill>
            <a:srgbClr val="212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Familias en extrema pobreza desvinculadas de la red social públic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24720" y="2133720"/>
            <a:ext cx="1400040" cy="1319040"/>
          </a:xfrm>
          <a:prstGeom prst="rect">
            <a:avLst/>
          </a:prstGeom>
          <a:solidFill>
            <a:srgbClr val="212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amilias superan condiciones de extrema pobreza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1557360"/>
            <a:ext cx="5227560" cy="4524480"/>
          </a:xfrm>
          <a:prstGeom prst="rect">
            <a:avLst/>
          </a:prstGeom>
          <a:solidFill>
            <a:srgbClr val="2828a2">
              <a:alpha val="65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ndiciones mínimas de calidad de vida en las dimensiones de identificación, salud, educación, dinámica familiar, habitabilidad, trabajo e ingreso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55680" y="3216240"/>
            <a:ext cx="1281240" cy="1508040"/>
          </a:xfrm>
          <a:prstGeom prst="rect">
            <a:avLst/>
          </a:prstGeom>
          <a:solidFill>
            <a:srgbClr val="99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poyo psicosocial y Bono de Protecció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ROGRAMA PUENT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521160"/>
            <a:ext cx="1336680" cy="844560"/>
          </a:xfrm>
          <a:prstGeom prst="rect">
            <a:avLst/>
          </a:prstGeom>
          <a:solidFill>
            <a:srgbClr val="99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ono de Egreso y Seguimiento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5520" y="3898800"/>
            <a:ext cx="56016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04000" y="3860640"/>
            <a:ext cx="56052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2492280"/>
            <a:ext cx="1959120" cy="59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bsidios Garantizado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64000" y="5157720"/>
            <a:ext cx="1960560" cy="725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Acceso preferente a programas de promoción social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346960" y="4851000"/>
            <a:ext cx="0" cy="600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80360" y="2781360"/>
            <a:ext cx="0" cy="216036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4365720"/>
            <a:ext cx="1400040" cy="1224000"/>
          </a:xfrm>
          <a:prstGeom prst="rect">
            <a:avLst/>
          </a:prstGeom>
          <a:solidFill>
            <a:srgbClr val="2121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Familias participando en forma autónoma en la Red Social Públic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360" y="2781360"/>
            <a:ext cx="1443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80360" y="4941720"/>
            <a:ext cx="14436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4724280"/>
            <a:ext cx="936360" cy="72072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627280" y="2637000"/>
            <a:ext cx="936720" cy="57600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580000" y="4292280"/>
            <a:ext cx="792360" cy="1152360"/>
          </a:xfrm>
          <a:prstGeom prst="line">
            <a:avLst/>
          </a:prstGeom>
          <a:ln w="2844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51640" y="2708280"/>
            <a:ext cx="865080" cy="792000"/>
          </a:xfrm>
          <a:prstGeom prst="line">
            <a:avLst/>
          </a:prstGeom>
          <a:ln w="381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3933720"/>
            <a:ext cx="2087640" cy="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3203640" y="4581360"/>
            <a:ext cx="216000" cy="142920"/>
          </a:xfrm>
          <a:custGeom>
            <a:avLst/>
            <a:gdLst>
              <a:gd name="textAreaLeft" fmla="*/ 9000 w 216000"/>
              <a:gd name="textAreaRight" fmla="*/ 207000 w 21600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32617" h="21600">
                <a:moveTo>
                  <a:pt x="0" y="0"/>
                </a:moveTo>
                <a:lnTo>
                  <a:pt x="32617" y="0"/>
                </a:lnTo>
                <a:lnTo>
                  <a:pt x="32617" y="21600"/>
                </a:lnTo>
                <a:lnTo>
                  <a:pt x="0" y="21600"/>
                </a:lnTo>
                <a:close/>
              </a:path>
              <a:path fill="lightenLess" w="32617" h="21600">
                <a:moveTo>
                  <a:pt x="0" y="0"/>
                </a:moveTo>
                <a:lnTo>
                  <a:pt x="32617" y="0"/>
                </a:lnTo>
                <a:lnTo>
                  <a:pt x="31217" y="1400"/>
                </a:lnTo>
                <a:lnTo>
                  <a:pt x="1400" y="1400"/>
                </a:lnTo>
                <a:close/>
              </a:path>
              <a:path fill="darken" w="32617" h="21600">
                <a:moveTo>
                  <a:pt x="32617" y="0"/>
                </a:moveTo>
                <a:lnTo>
                  <a:pt x="32617" y="21600"/>
                </a:lnTo>
                <a:lnTo>
                  <a:pt x="31217" y="20200"/>
                </a:lnTo>
                <a:lnTo>
                  <a:pt x="31217" y="1400"/>
                </a:lnTo>
                <a:close/>
              </a:path>
              <a:path fill="darkenLess" w="32617" h="21600">
                <a:moveTo>
                  <a:pt x="326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17" y="20200"/>
                </a:lnTo>
                <a:close/>
              </a:path>
              <a:path fill="lighten" w="326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17" h="21600">
                <a:moveTo>
                  <a:pt x="9302" y="3794"/>
                </a:moveTo>
                <a:lnTo>
                  <a:pt x="23315" y="10800"/>
                </a:lnTo>
                <a:lnTo>
                  <a:pt x="930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5364000" y="2924280"/>
            <a:ext cx="216000" cy="142920"/>
          </a:xfrm>
          <a:custGeom>
            <a:avLst/>
            <a:gdLst>
              <a:gd name="textAreaLeft" fmla="*/ 9000 w 216000"/>
              <a:gd name="textAreaRight" fmla="*/ 207000 w 21600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32617" h="21600">
                <a:moveTo>
                  <a:pt x="0" y="0"/>
                </a:moveTo>
                <a:lnTo>
                  <a:pt x="32617" y="0"/>
                </a:lnTo>
                <a:lnTo>
                  <a:pt x="32617" y="21600"/>
                </a:lnTo>
                <a:lnTo>
                  <a:pt x="0" y="21600"/>
                </a:lnTo>
                <a:close/>
              </a:path>
              <a:path fill="lightenLess" w="32617" h="21600">
                <a:moveTo>
                  <a:pt x="0" y="0"/>
                </a:moveTo>
                <a:lnTo>
                  <a:pt x="32617" y="0"/>
                </a:lnTo>
                <a:lnTo>
                  <a:pt x="31217" y="1400"/>
                </a:lnTo>
                <a:lnTo>
                  <a:pt x="1400" y="1400"/>
                </a:lnTo>
                <a:close/>
              </a:path>
              <a:path fill="darken" w="32617" h="21600">
                <a:moveTo>
                  <a:pt x="32617" y="0"/>
                </a:moveTo>
                <a:lnTo>
                  <a:pt x="32617" y="21600"/>
                </a:lnTo>
                <a:lnTo>
                  <a:pt x="31217" y="20200"/>
                </a:lnTo>
                <a:lnTo>
                  <a:pt x="31217" y="1400"/>
                </a:lnTo>
                <a:close/>
              </a:path>
              <a:path fill="darkenLess" w="32617" h="21600">
                <a:moveTo>
                  <a:pt x="326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17" y="20200"/>
                </a:lnTo>
                <a:close/>
              </a:path>
              <a:path fill="lighten" w="326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17" h="21600">
                <a:moveTo>
                  <a:pt x="9302" y="3794"/>
                </a:moveTo>
                <a:lnTo>
                  <a:pt x="23315" y="10800"/>
                </a:lnTo>
                <a:lnTo>
                  <a:pt x="9302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6732720" y="4221000"/>
            <a:ext cx="215640" cy="142920"/>
          </a:xfrm>
          <a:custGeom>
            <a:avLst/>
            <a:gdLst>
              <a:gd name="textAreaLeft" fmla="*/ 9000 w 215640"/>
              <a:gd name="textAreaRight" fmla="*/ 206640 w 21564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">
            <a:hlinkClick r:id="rId4" action="ppaction://hlinksldjump"/>
          </p:cNvPr>
          <p:cNvSpPr/>
          <p:nvPr/>
        </p:nvSpPr>
        <p:spPr>
          <a:xfrm>
            <a:off x="5292720" y="5734080"/>
            <a:ext cx="216000" cy="142920"/>
          </a:xfrm>
          <a:custGeom>
            <a:avLst/>
            <a:gdLst>
              <a:gd name="textAreaLeft" fmla="*/ 9000 w 216000"/>
              <a:gd name="textAreaRight" fmla="*/ 207000 w 21600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32617" h="21600">
                <a:moveTo>
                  <a:pt x="0" y="0"/>
                </a:moveTo>
                <a:lnTo>
                  <a:pt x="32617" y="0"/>
                </a:lnTo>
                <a:lnTo>
                  <a:pt x="32617" y="21600"/>
                </a:lnTo>
                <a:lnTo>
                  <a:pt x="0" y="21600"/>
                </a:lnTo>
                <a:close/>
              </a:path>
              <a:path fill="lightenLess" w="32617" h="21600">
                <a:moveTo>
                  <a:pt x="0" y="0"/>
                </a:moveTo>
                <a:lnTo>
                  <a:pt x="32617" y="0"/>
                </a:lnTo>
                <a:lnTo>
                  <a:pt x="31217" y="1400"/>
                </a:lnTo>
                <a:lnTo>
                  <a:pt x="1400" y="1400"/>
                </a:lnTo>
                <a:close/>
              </a:path>
              <a:path fill="darken" w="32617" h="21600">
                <a:moveTo>
                  <a:pt x="32617" y="0"/>
                </a:moveTo>
                <a:lnTo>
                  <a:pt x="32617" y="21600"/>
                </a:lnTo>
                <a:lnTo>
                  <a:pt x="31217" y="20200"/>
                </a:lnTo>
                <a:lnTo>
                  <a:pt x="31217" y="1400"/>
                </a:lnTo>
                <a:close/>
              </a:path>
              <a:path fill="darkenLess" w="32617" h="21600">
                <a:moveTo>
                  <a:pt x="326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17" y="20200"/>
                </a:lnTo>
                <a:close/>
              </a:path>
              <a:path fill="lighten" w="326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17" h="21600">
                <a:moveTo>
                  <a:pt x="9302" y="3794"/>
                </a:moveTo>
                <a:lnTo>
                  <a:pt x="23315" y="10800"/>
                </a:lnTo>
                <a:lnTo>
                  <a:pt x="9302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6877080" y="5877000"/>
            <a:ext cx="287280" cy="21600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" name="">
            <a:hlinkClick r:id="rId5" action="ppaction://hlinksldjump"/>
          </p:cNvPr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3794"/>
                </a:moveTo>
                <a:lnTo>
                  <a:pt x="22175" y="10800"/>
                </a:lnTo>
                <a:lnTo>
                  <a:pt x="816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23640" y="457200"/>
            <a:ext cx="5472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SOPORTES LEG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68360" y="2204640"/>
            <a:ext cx="6048720" cy="30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1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194"/>
                </a:solidFill>
                <a:latin typeface="Arial"/>
                <a:ea typeface="Arial"/>
              </a:rPr>
              <a:t>Leyes de Presupuesto del Sector Público Año 2003, Año 2004 y Año 2005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1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194"/>
                </a:solidFill>
                <a:latin typeface="Arial"/>
                <a:ea typeface="Arial"/>
              </a:rPr>
              <a:t>Ley de</a:t>
            </a:r>
            <a:r>
              <a:rPr b="0" lang="es-ES" sz="2000" spc="-1" strike="noStrike">
                <a:solidFill>
                  <a:srgbClr val="003194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3194"/>
                </a:solidFill>
                <a:latin typeface="Arial"/>
                <a:ea typeface="Arial"/>
              </a:rPr>
              <a:t>Reforma Tributaria para financiamiento Plan AUGE y Chile Solidario (2003)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31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194"/>
                </a:solidFill>
                <a:latin typeface="Arial"/>
                <a:ea typeface="Arial"/>
              </a:rPr>
              <a:t>Ley y Reglamento Chile Solidario</a:t>
            </a:r>
            <a:r>
              <a:rPr b="0" lang="es-ES" sz="2000" spc="-1" strike="noStrike">
                <a:solidFill>
                  <a:srgbClr val="003194"/>
                </a:solidFill>
                <a:latin typeface="Arial"/>
                <a:ea typeface="Arial"/>
              </a:rPr>
              <a:t>, </a:t>
            </a:r>
            <a:r>
              <a:rPr b="1" lang="es-ES" sz="2000" spc="-1" strike="noStrike">
                <a:solidFill>
                  <a:srgbClr val="003194"/>
                </a:solidFill>
                <a:latin typeface="Arial"/>
                <a:ea typeface="Arial"/>
              </a:rPr>
              <a:t>promulga</a:t>
            </a:r>
            <a:r>
              <a:rPr b="1" lang="es-CL" sz="2000" spc="-1" strike="noStrike">
                <a:solidFill>
                  <a:srgbClr val="003194"/>
                </a:solidFill>
                <a:latin typeface="Arial"/>
                <a:ea typeface="Arial"/>
              </a:rPr>
              <a:t>da el 14 de Mayo de </a:t>
            </a:r>
            <a:r>
              <a:rPr b="1" lang="es-ES" sz="2000" spc="-1" strike="noStrike">
                <a:solidFill>
                  <a:srgbClr val="003194"/>
                </a:solidFill>
                <a:latin typeface="Arial"/>
                <a:ea typeface="Arial"/>
              </a:rPr>
              <a:t>2004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8388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5:09:20Z</dcterms:created>
  <dc:creator>Jlopez</dc:creator>
  <dc:description/>
  <dc:language>en-US</dc:language>
  <cp:lastModifiedBy>pbaeza</cp:lastModifiedBy>
  <dcterms:modified xsi:type="dcterms:W3CDTF">2005-07-19T14:00:05Z</dcterms:modified>
  <cp:revision>275</cp:revision>
  <dc:subject/>
  <dc:title>Presentación de PowerPoint</dc:title>
</cp:coreProperties>
</file>