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B96D-9A85-4892-9757-BECC5E3F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5B4-DBFC-420B-B9E4-DA6EC331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673-188F-44CD-878C-46CFB501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7D8-BE5A-4909-96C4-2349C3B5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3E6B-FA58-4BD5-A689-FF3C0CC8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C32B-5CCE-4BCC-AABF-ABECAA1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B0D9-5074-4C80-A8A5-21CC084E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922F-9B3C-439C-991D-E4064B2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332B-3951-498E-A506-3D09D1B8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AC2E-9CB1-493D-8955-3A39A6E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98F-A345-415E-8939-54F24273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D947-A0A1-4424-8274-D9D39C87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085-D5BB-4916-BAC7-44E2E9B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1BD-67FF-4915-A16F-384EBA2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3D14-833D-41E4-ADF8-ACA313D7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52A-C16C-45C5-AB50-07E1E1BA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B1FB-E4F6-4987-8172-7E5F98A1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89BA-61FC-44E8-A36E-CFCD5AB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882-9AAE-4B71-81D3-A62CD26F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686-F392-413A-A16F-2160EB62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945-9E77-4F43-9E04-3D32EFFB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227-45A3-4029-B3E1-3EE43F1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3D2-1977-4F94-B9A6-901B1C0E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465-54F0-4996-84DE-295E60B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247-C4FB-4FF3-8ED2-7E40634A7D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66C9-C375-4F70-8CB3-10C132649B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POVERTY ALLEVIAT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e4a8"/>
                </a:solidFill>
                <a:latin typeface="Comic Sans MS"/>
              </a:rPr>
              <a:t>THE JAMAICA SOCIAL INVESTMENT FUND</a:t>
            </a:r>
            <a:r>
              <a:rPr b="1" lang="en-US" sz="3200" spc="-1" strike="noStrike">
                <a:solidFill>
                  <a:srgbClr val="00e4a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e4a8"/>
                </a:solidFill>
                <a:latin typeface="Comic Sans MS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pite achievements much remains to be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rtance of partnership with NGO and private se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rumental in drawing attention to the issue of poverty in Jama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OF THE JS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in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jor plank in the Government of Jamaica’s National Poverty Eradication Pr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ew on experiences of SIF’s in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ly designed as an emergency respons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the most successful in the Caribbe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CHNICAL ASSIS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i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. Vincent &amp; the Grenad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. L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inidad &amp; Toba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ldo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JSIF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-drive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arture from traditional mode of project 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ies involved in identifying priority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s social capi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TY-DRIVEN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-based contracting gives communities greater autonomy over thei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ies responsible for procuring goods, labour and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scepticism replaced by growing conf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ust is replic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HIE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tical commi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itutional aut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quality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-based Board of Dir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cy &amp; c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orous aud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targ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ty particip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ion with line minis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HIE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34 projects successfully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$33 million disbur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2 million benefici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5% investment in edu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HIE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2057400"/>
          <a:ext cx="762012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620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racting &amp; retaining high quality professio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 of completed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peration of line minis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ging tru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17:28:52Z</dcterms:created>
  <dc:creator>JSIF</dc:creator>
  <dc:description/>
  <dc:language>en-US</dc:language>
  <cp:lastModifiedBy>JSIF</cp:lastModifiedBy>
  <dcterms:modified xsi:type="dcterms:W3CDTF">2005-07-14T21:52:46Z</dcterms:modified>
  <cp:revision>7</cp:revision>
  <dc:subject/>
  <dc:title>POVERTY ALLEVIATION</dc:title>
</cp:coreProperties>
</file>