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1E39E-898F-415B-A459-D0188BE8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6969D-A837-42DB-A727-25358B0C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4EAEF-E864-41DD-A23C-52D873A4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A4CE3-12A1-418E-A508-89BDDA75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9E1C-98EF-4CB1-B856-5DF601D1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2690-B134-455E-84A4-E9975064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095D-C1B1-44E8-BC77-30FF0879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8AA0-2D8C-4798-AA06-8D3C0BE7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BD6D-4FE1-48A8-B4E1-194C5B01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2B94-C361-43C6-B732-A7E9B3AA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4953-1476-42C6-BDDB-207C6E4C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6AB06-ACDB-4525-9845-EB3F72FE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DC45-6FBF-4631-9136-D22521A1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9CE3-2BF0-4C07-BB2C-5914A5EF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A92E-686E-4B9F-8F41-F5B986EF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FED7-2DDF-4A67-8BFD-0655DA26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5116-9080-47C4-AB43-F385AA6B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A00C7-2900-40FB-9C8B-4FED2CF4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2A5F2-2BF5-42B8-8CBA-BB01ABEB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12620-C807-4700-B57B-B9C68C5A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58F2E-8655-4D53-9F8A-FF8C8043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8FF32-FCE4-4FED-B4C5-8761CF01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5E4CB-3C4E-4246-B3C7-B929FC68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A4569-BAF0-472A-9B8C-142972F6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8443-B548-45A3-951E-CA842868793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052E-6B30-4EEC-A113-5856A839F70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puente.cl/index2.html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COMUNIDAD DE APRENDIZAJE PUENTE: EXPERIENCIA Y APRENDIZ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58920" y="3983040"/>
            <a:ext cx="760320" cy="887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5280" y="3736800"/>
            <a:ext cx="1711080" cy="1374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UNIDADES DE INTERVENCION  Y SUS PARTICULARIDADES EN LA PROVINCI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MPONENTE CIRCULO DE ANALISIS DE LA PRACTIC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unas :  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írculos de Análisis de la Práctica :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es : 6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unas : Valparaíso 3, Viña del Mar 2, Quilpué 2, Villa Alemana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chuncaví, Casablanca, Con Con y Quintero  no partici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MPONENTE UNIVERS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ITULO AÑO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e de la Provincia :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ITULO AÑO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es de la Provincia :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omponente Agencia e Instit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es de la Provincia Año 2004 y 2005 :  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so : Salud y Discapa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so : Asesoría Juríd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so : Resolución de Confli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so : Autocuid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Una experiencia : Viña del 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Equipo de Viña del Mar es uno de los más grandes del país : 20 Apoyos Famili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gió la necesidad de “construir” equipo : de generar organización, estructura,  identidad grupal, un clima adecuado de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eneración de condicione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fue consolidando una forma de relación de tipo cooperativa, con 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acidad de autocrítica, con necesidad de capacitación constante, buscando el desarrollo de la creatividad e iniciativ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obstante lo anterior, la Juif  sentía las necesidad mejorar las competencias y de tener más tiempo 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para brindar apoyo técnico a los requerimientos de los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instaurarse el Círculo de Análisis de la Práctica, y los otros componentes, éstos no tuvieron una acogida positiva, hasta cuando comenzaron a ser una herramienta para los apoyos familiares y se observó que era una opción consistente para el desarro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Logros de la Comunidad de Aprendiz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s Apoyos Familiares logran establecer relaciones de confianza y cooperación importantes al interior del equi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s nuevos apoyos familiares desarrollan rápidamente un sentido de perten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Logros de la Comunidad de Aprendiz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ermite al Apoyo Familiar ampliar sus repertorios de a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e percibe y percibe a sus compañeros como sujetos de aprendizaje y actores relevante en el logro de los resultados con las famil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s Apoyos han aprendido a compartir espacios de autocuid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RTALECIMIENTO DE UNIDADES DE INTERVENCIÓN FAMILIAR PARA SU AUTOCUIDADO Y EL APOYO PSICOSOCIAL DE LAS FAMILIA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Comunidad de Aprendizaje  Puente canaliza gran parte de las actividades de formación y capacitación de los operadores del Programa (Apoyos Familiares, JUIF’s y Equipos regionales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tinadas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mentar la efectividad de las prácticas profesionales de cada uno de ellos. Específicamente, se ha puesto énfasis en la formación de los Apoyos Familiares, y en la práctica de apoyo psicosocial que realizan con las famili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a relación o vínculo que se establece entre los sujetos que participan del Programa  : Apoyos Familiares y  Familias, es concebida  como el soporte que sustenta la interven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nstrucción del vínculo con la familia es una de las tareas fundamentales del Apoyo Familiar que se caracteriza po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alto nivel de sensibilidad y complej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ar el tipo e intensidad de la relación que se establece y permanece, al menos, durante el proceso de interven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684360" y="436680"/>
          <a:ext cx="7702560" cy="6421320"/>
        </p:xfrm>
        <a:graphic>
          <a:graphicData uri="http://schemas.openxmlformats.org/drawingml/2006/table">
            <a:tbl>
              <a:tblPr/>
              <a:tblGrid>
                <a:gridCol w="2521080"/>
                <a:gridCol w="2590560"/>
                <a:gridCol w="259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ción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ción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ción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DUEÑO DE LA A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acción es mi asunto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-GESTIONARIO DE LA A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ngo manos a la obra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DUEÑO DE LA A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mpaño la acción si me lo piden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o la acción es asunto del agente de apoyo, éste tendrá la tentación de imponer sus normas y criterios para conducir y evaluar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acción es al mismo tiempo asunto del agente de apoyo y de beneficiarios. La conducta es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acción es exclusivamente responsabilidad de los beneficiari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1042920" y="2639880"/>
            <a:ext cx="1800360" cy="1008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76360" y="2852640"/>
            <a:ext cx="982800" cy="62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OY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43080" y="4065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35280" y="2639880"/>
            <a:ext cx="1800360" cy="1008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43320" y="3157560"/>
            <a:ext cx="98244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OY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35440" y="4065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43840" y="406548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43480" y="2639880"/>
            <a:ext cx="1800360" cy="1008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3814920"/>
            <a:ext cx="98280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OY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O DE AC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90840" y="1066680"/>
            <a:ext cx="2362320" cy="1600200"/>
          </a:xfrm>
          <a:prstGeom prst="diamond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ITE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548640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548640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UE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48080" y="2666880"/>
            <a:ext cx="2247840" cy="1143000"/>
          </a:xfrm>
          <a:prstGeom prst="beve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CU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/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85760" y="4191120"/>
            <a:ext cx="1790640" cy="7617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n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o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76680" y="4191120"/>
            <a:ext cx="1790640" cy="7617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al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81720" y="4191120"/>
            <a:ext cx="1790640" cy="7617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5715000"/>
            <a:ext cx="1067040" cy="685800"/>
          </a:xfrm>
          <a:prstGeom prst="leftRightArrow">
            <a:avLst>
              <a:gd name="adj1" fmla="val 50000"/>
              <a:gd name="adj2" fmla="val 3097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7" idx="2"/>
            <a:endCxn id="130" idx="0"/>
          </p:cNvCxnSpPr>
          <p:nvPr/>
        </p:nvCxnSpPr>
        <p:spPr>
          <a:xfrm flipH="1" rot="16200000">
            <a:off x="2808720" y="4123800"/>
            <a:ext cx="934200" cy="2591640"/>
          </a:xfrm>
          <a:prstGeom prst="bentConnector3">
            <a:avLst>
              <a:gd name="adj1" fmla="val 407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8" idx="2"/>
            <a:endCxn id="130" idx="1"/>
          </p:cNvCxnSpPr>
          <p:nvPr/>
        </p:nvCxnSpPr>
        <p:spPr>
          <a:xfrm flipV="1" rot="10800000">
            <a:off x="4571280" y="4952520"/>
            <a:ext cx="1080" cy="93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2"/>
            <a:endCxn id="130" idx="2"/>
          </p:cNvCxnSpPr>
          <p:nvPr/>
        </p:nvCxnSpPr>
        <p:spPr>
          <a:xfrm rot="5400000">
            <a:off x="5457240" y="4066920"/>
            <a:ext cx="934200" cy="2705760"/>
          </a:xfrm>
          <a:prstGeom prst="bentConnector3">
            <a:avLst>
              <a:gd name="adj1" fmla="val 407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6" idx="0"/>
            <a:endCxn id="128" idx="0"/>
          </p:cNvCxnSpPr>
          <p:nvPr/>
        </p:nvCxnSpPr>
        <p:spPr>
          <a:xfrm flipV="1" rot="10800000">
            <a:off x="4571280" y="3809520"/>
            <a:ext cx="108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6" idx="1"/>
            <a:endCxn id="127" idx="0"/>
          </p:cNvCxnSpPr>
          <p:nvPr/>
        </p:nvCxnSpPr>
        <p:spPr>
          <a:xfrm rot="5400000">
            <a:off x="3085200" y="2704680"/>
            <a:ext cx="381960" cy="2591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6" idx="2"/>
            <a:endCxn id="129" idx="0"/>
          </p:cNvCxnSpPr>
          <p:nvPr/>
        </p:nvCxnSpPr>
        <p:spPr>
          <a:xfrm flipH="1" rot="16200000">
            <a:off x="5733720" y="2647440"/>
            <a:ext cx="381960" cy="2705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9000"/>
                            </p:stCondLst>
                            <p:childTnLst>
                              <p:par>
                                <p:cTn id="3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3500"/>
                            </p:stCondLst>
                            <p:childTnLst>
                              <p:par>
                                <p:cTn id="58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65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9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l Apoyo y la Unidad de Intervención  son un agente fundamental  en el  logro del cumplimiento de los mínimos, como también en las innovaciones  locales del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Las competencias a ser fortalecidas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ara construir vínculos de apoyo eficie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apacidad de generar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conversaciones para la reflexividad y la ac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omo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rincipal herramient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gestión y construcción de vínc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reflexividad individual y grupal sobre la propia práctic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omo modalidad para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mpliar los repertorios de 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A COMUNIDAD DE APRENDIZAJE UNA NECESIDAD EN LAS UNIDADES DE INTERV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V REGION  SE SUBDIVIDE TERRITORIALMENTE EN 6 PROVINCIAS Y 34 COMUNAS , LA QUE CUENTA CON  204  APOYOS FAMILI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ROVINCIA DE VALPARAISO CUENTA CON 8 COMUNAS: VIÑA DEL MAR , VALPARAISO, QUILPUE, VILLA ALEMANA, QUINTERO, PUCHUNCAVI, CON-CON, CASABLAN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 UN TOTAL  DE 75 APOYOS FAMILI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Rol FOSIS – Rol JUIF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 Fosis : Coordinación Provinc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ión cumplimiento m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soría técnica a la U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eo cumplimiento de mínimos y Sistema de Regist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ga de información proveniente del programa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Rol FOSIS – Rol JUIF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 Jefe de Unidad de Intervención Famili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cutar Programa Puente a nivel lo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r y dirigir el equipo de trabajo (Apoyos Familia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ión  y administración de los recursos en la com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9T01:41:03Z</dcterms:created>
  <dc:creator>DANI</dc:creator>
  <dc:description/>
  <dc:language>en-US</dc:language>
  <cp:lastModifiedBy>DANI</cp:lastModifiedBy>
  <dcterms:modified xsi:type="dcterms:W3CDTF">2005-07-20T02:29:31Z</dcterms:modified>
  <cp:revision>17</cp:revision>
  <dc:subject/>
  <dc:title>     COMUNIDAD DE APRENDIZAJE PUENTE: EXPERIENCIA Y APRENDIZAJE</dc:title>
</cp:coreProperties>
</file>