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84660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08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08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63422-8435-49DD-A09A-87587A33FA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D4F9-DDA8-47B5-B5FD-F5F952E52B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28FF-D553-4D86-883A-D5CA895358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8747-C2BA-4E6B-9328-30A90E0A30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6E42-2614-49E6-89DD-FFC628CC38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6CE6-DFEE-4495-AE29-5D0E9E99E6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389E-A2D6-49F2-BC1C-FBF56FE52C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77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5D00-AFB0-49F1-B754-F588BE0157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4C7F-A2A0-4EF0-9422-386E2A1A1C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4360" y="384660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5123-E375-4C63-9170-F0FFB18607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77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61E7-91E2-405B-9CB8-0BE8147C28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08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77336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436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08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46600"/>
            <a:ext cx="25030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E94E6-E7DD-43A0-B928-BD4775370C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84660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773360"/>
            <a:ext cx="379332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846600"/>
            <a:ext cx="777384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85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32720" y="4365720"/>
            <a:ext cx="241128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868D-964D-4696-9250-131896BE38B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85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520C-60DC-4B6D-A246-B7C8BB6F8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508640"/>
            <a:ext cx="2050920" cy="12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2249280" cy="1191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219640" y="4941720"/>
            <a:ext cx="350532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47640" y="2060640"/>
            <a:ext cx="590580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Times New Roman"/>
              </a:rPr>
              <a:t>CRITERIOS DE PRIORIZACION DENTRO DE GUATE SOLIDARIA R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B676-AAB0-4008-8AF1-8392207A822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186280"/>
            <a:ext cx="662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La pobreza es más una </a:t>
            </a:r>
            <a:r>
              <a:rPr b="1" lang="es-MX" sz="2000" spc="-1" strike="noStrike" u="sng">
                <a:solidFill>
                  <a:srgbClr val="0000cc"/>
                </a:solidFill>
                <a:uFillTx/>
                <a:latin typeface="Arial"/>
              </a:rPr>
              <a:t>falla en las capacidades básicas</a:t>
            </a:r>
            <a:r>
              <a:rPr b="0" lang="es-MX" sz="20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 de las personas que un problema de ingreso inadecuado. (Nutrición, educación, salud, vivienda, vestido, por 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La pobreza puede asociarse a un conjunto de </a:t>
            </a:r>
            <a:r>
              <a:rPr b="1" lang="es-MX" sz="2000" spc="-1" strike="noStrike" u="sng">
                <a:solidFill>
                  <a:srgbClr val="0000cc"/>
                </a:solidFill>
                <a:uFillTx/>
                <a:latin typeface="Arial"/>
              </a:rPr>
              <a:t>niveles mínimos de capacidades básicas</a:t>
            </a:r>
            <a:r>
              <a:rPr b="0" lang="es-MX" sz="2000" spc="-1" strike="noStrike">
                <a:solidFill>
                  <a:srgbClr val="0000cc"/>
                </a:solidFill>
                <a:latin typeface="Arial"/>
              </a:rPr>
              <a:t>  por debajo de las cuales se considera que las personas sufren considerablemente. (ej: No saber leer y escribir; estar desnutri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981000"/>
            <a:ext cx="8028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8500"/>
                </a:solidFill>
                <a:latin typeface="Times New Roman"/>
              </a:rPr>
              <a:t>¿Cómo aproximarse a una medida de pobreza a nivel de comunida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7777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0000"/>
                </a:solidFill>
                <a:latin typeface="Century"/>
              </a:rPr>
              <a:t>Necesidades Básicas Insatisfechas</a:t>
            </a:r>
            <a:br>
              <a:rPr sz="2800"/>
            </a:br>
            <a:r>
              <a:rPr b="0" lang="es-GT" sz="2800" spc="-1" strike="noStrike">
                <a:solidFill>
                  <a:srgbClr val="000000"/>
                </a:solidFill>
                <a:latin typeface="Century"/>
              </a:rPr>
              <a:t>(NBI)</a:t>
            </a:r>
            <a:endParaRPr b="1" lang="en-US" sz="28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640" y="1196640"/>
            <a:ext cx="81360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Century"/>
              </a:rPr>
              <a:t>	</a:t>
            </a:r>
            <a:r>
              <a:rPr b="0" lang="es-MX" sz="2000" spc="-1" strike="noStrike">
                <a:solidFill>
                  <a:srgbClr val="0000cc"/>
                </a:solidFill>
                <a:latin typeface="Century"/>
              </a:rPr>
              <a:t>La Información que se puede obtener a nivel de lugar poblado más confiable es la del </a:t>
            </a:r>
            <a:r>
              <a:rPr b="1" lang="es-MX" sz="2000" spc="-1" strike="noStrike">
                <a:solidFill>
                  <a:srgbClr val="0000cc"/>
                </a:solidFill>
                <a:latin typeface="Century"/>
              </a:rPr>
              <a:t>Censo de Población y Vivienda</a:t>
            </a:r>
            <a:r>
              <a:rPr b="0" lang="es-MX" sz="2000" spc="-1" strike="noStrike">
                <a:solidFill>
                  <a:srgbClr val="0000cc"/>
                </a:solidFill>
                <a:latin typeface="Century"/>
              </a:rPr>
              <a:t> y considera algunas capacidades básicas que están asociadas a la pobreza: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04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2" marL="1219320" indent="-30492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e08500"/>
                </a:solidFill>
                <a:latin typeface="Century"/>
              </a:rPr>
              <a:t>Calidad de viviend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2" marL="1219320" indent="-30492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e08500"/>
                </a:solidFill>
                <a:latin typeface="Century"/>
              </a:rPr>
              <a:t>Hacinamiento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2" marL="1219320" indent="-30492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e08500"/>
                </a:solidFill>
                <a:latin typeface="Century"/>
              </a:rPr>
              <a:t>Abastecimiento de agu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2" marL="1219320" indent="-30492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e08500"/>
                </a:solidFill>
                <a:latin typeface="Century"/>
              </a:rPr>
              <a:t>Acceso  a servicio sanitario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2" marL="1219320" indent="-30492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e08500"/>
                </a:solidFill>
                <a:latin typeface="Century"/>
              </a:rPr>
              <a:t>Acceso a educación primari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2" marL="1219320" indent="-30492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Century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e08500"/>
                </a:solidFill>
                <a:latin typeface="Century"/>
              </a:rPr>
              <a:t>Capacidad de subsistenci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049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 marL="304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cc"/>
                </a:solidFill>
                <a:latin typeface="Century"/>
              </a:rPr>
              <a:t>	</a:t>
            </a:r>
            <a:r>
              <a:rPr b="0" lang="es-MX" sz="2000" spc="-1" strike="noStrike">
                <a:solidFill>
                  <a:srgbClr val="0000cc"/>
                </a:solidFill>
                <a:latin typeface="Century"/>
              </a:rPr>
              <a:t>Estas </a:t>
            </a:r>
            <a:r>
              <a:rPr b="1" lang="es-MX" sz="2000" spc="-1" strike="noStrike">
                <a:solidFill>
                  <a:srgbClr val="0000cc"/>
                </a:solidFill>
                <a:latin typeface="Century"/>
              </a:rPr>
              <a:t>no son todas</a:t>
            </a:r>
            <a:r>
              <a:rPr b="0" lang="es-MX" sz="2000" spc="-1" strike="noStrike">
                <a:solidFill>
                  <a:srgbClr val="0000cc"/>
                </a:solidFill>
                <a:latin typeface="Century"/>
              </a:rPr>
              <a:t> las capacidades básicas, pero son parte importante y las denominamos como </a:t>
            </a:r>
            <a:r>
              <a:rPr b="1" lang="es-MX" sz="2000" spc="-1" strike="noStrike">
                <a:solidFill>
                  <a:srgbClr val="0000cc"/>
                </a:solidFill>
                <a:latin typeface="Century"/>
              </a:rPr>
              <a:t>Necesidades Básicas</a:t>
            </a:r>
            <a:r>
              <a:rPr b="0" lang="es-MX" sz="2000" spc="-1" strike="noStrike">
                <a:solidFill>
                  <a:srgbClr val="0000cc"/>
                </a:solidFill>
                <a:latin typeface="Century"/>
              </a:rPr>
              <a:t>.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04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marL="304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3C77-55BD-40F5-BD1A-297586842EB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9640" y="2133720"/>
            <a:ext cx="792000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Century"/>
              </a:rPr>
              <a:t>Índice de Profundidad de Pobreza</a:t>
            </a:r>
            <a:r>
              <a:rPr b="0" lang="es-MX" sz="2400" spc="-1" strike="noStrike">
                <a:solidFill>
                  <a:srgbClr val="0000cc"/>
                </a:solidFill>
                <a:latin typeface="Century"/>
              </a:rPr>
              <a:t> (o de Prior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Century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Century"/>
              </a:rPr>
              <a:t>Porcentaje de Hogares que no satisfacen con 1, 2, 3, 4, 5, o 6 necesidades básicas de forma simultán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Century"/>
              </a:rPr>
              <a:t>Pondera a cada grupo en base al número de necesidades que no satis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Century"/>
              </a:rPr>
              <a:t>Proporciona una </a:t>
            </a:r>
            <a:r>
              <a:rPr b="1" lang="es-MX" sz="2400" spc="-1" strike="noStrike">
                <a:solidFill>
                  <a:srgbClr val="0000cc"/>
                </a:solidFill>
                <a:latin typeface="Century"/>
              </a:rPr>
              <a:t>medida ordinal</a:t>
            </a:r>
            <a:r>
              <a:rPr b="0" lang="es-MX" sz="2400" spc="-1" strike="noStrike">
                <a:solidFill>
                  <a:srgbClr val="0000cc"/>
                </a:solidFill>
                <a:latin typeface="Century"/>
              </a:rPr>
              <a:t> de prioridad dentro de cada municipio. Criterio de Preferencia para la interv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836640"/>
            <a:ext cx="7777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08500"/>
                </a:solidFill>
                <a:latin typeface="Century"/>
              </a:rPr>
              <a:t>Priorización de Comunidades dentro de cada municip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08500"/>
                </a:solidFill>
                <a:latin typeface="Times New Roman"/>
              </a:rPr>
              <a:t>Selección de Comunidades por municipio</a:t>
            </a:r>
            <a:endParaRPr b="1" lang="en-US" sz="36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3840" cy="34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Times New Roman"/>
              </a:rPr>
              <a:t>Técnicos:</a:t>
            </a: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 (SEGEPLAN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Priorización de comunidades rural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Proporción de comunidades rurales en cada municipio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Times New Roman"/>
              </a:rPr>
              <a:t>Viabilidad Operativa y Participativos:</a:t>
            </a: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 (SEGEPLAN/CB-SOSEP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Selección de grupos de comunidades pobre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452520" indent="-45252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Interés de participar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cc"/>
                </a:solidFill>
                <a:latin typeface="Times New Roman"/>
              </a:rPr>
              <a:t>Muchas Gracias!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2293920"/>
            <a:ext cx="813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En el Programa de Reactivación Económica y Social 2004/2005 se establece que</a:t>
            </a:r>
            <a:r>
              <a:rPr b="1" i="1" lang="es-GT" sz="24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 “</a:t>
            </a:r>
            <a:r>
              <a:rPr b="1" i="1" lang="es-MX" sz="24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El Gobierno lanzará una estrategia piloto de intervención dentro del marco de Guate Solidaria, caracterizada por una acción articulada y concentrada de los programas públicos orientados a la inversión social y productiva. </a:t>
            </a:r>
            <a:r>
              <a:rPr b="0" i="1" lang="es-MX" sz="24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Dicha estrategia piloto tendrá como ámbito de acción inicial los </a:t>
            </a:r>
            <a:r>
              <a:rPr b="1" i="1" lang="es-MX" sz="2400" spc="-1" strike="noStrike" u="sng">
                <a:solidFill>
                  <a:srgbClr val="0000cc"/>
                </a:solidFill>
                <a:uFillTx/>
                <a:latin typeface="Times New Roman"/>
                <a:ea typeface="ＭＳ Ｐゴシック"/>
              </a:rPr>
              <a:t>41 municipios</a:t>
            </a:r>
            <a:r>
              <a:rPr b="0" i="1" lang="es-MX" sz="24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 con el mayor índice de vulnerabilidad alimentaria</a:t>
            </a:r>
            <a:r>
              <a:rPr b="1" i="1" lang="es-MX" sz="24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.”</a:t>
            </a:r>
            <a:r>
              <a:rPr b="0" lang="es-MX" sz="2400" spc="-1" strike="noStrike">
                <a:solidFill>
                  <a:srgbClr val="0000cc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95328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8500"/>
                </a:solidFill>
                <a:latin typeface="Arial"/>
              </a:rPr>
              <a:t>Vamos Guatemala y la Estrategia Integ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08500"/>
                </a:solidFill>
                <a:latin typeface="Times New Roman"/>
              </a:rPr>
              <a:t>Estrategia Guate Solidaria Rural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907640"/>
            <a:ext cx="7773840" cy="396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La Estrategia que se menciona en el VAMOS GUATEMALA, es la </a:t>
            </a:r>
            <a:r>
              <a:rPr b="1" lang="es-MX" sz="2400" spc="-1" strike="noStrike">
                <a:solidFill>
                  <a:srgbClr val="0000cc"/>
                </a:solidFill>
                <a:latin typeface="Times New Roman"/>
              </a:rPr>
              <a:t>Estrategia de Reducción de Pobreza</a:t>
            </a: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 (Extrema) que denominamos </a:t>
            </a:r>
            <a:r>
              <a:rPr b="1" lang="es-MX" sz="2400" spc="-1" strike="noStrike">
                <a:solidFill>
                  <a:srgbClr val="0000cc"/>
                </a:solidFill>
                <a:latin typeface="Times New Roman"/>
              </a:rPr>
              <a:t>“Guate Solidaria Rural”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Dirigida al Área Rura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Fases de la Estrategia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iloto (2005-2007): 41 municipios priorizados por el Gobierno (Vamos Guatema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mpliación (2007-2015): Resto de Municipios del Paí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08500"/>
                </a:solidFill>
                <a:latin typeface="Times New Roman"/>
              </a:rPr>
              <a:t>Fases de la Estrategia de Reducción de Pobreza GTSR</a:t>
            </a:r>
            <a:endParaRPr b="1" lang="en-US" sz="36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384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Municipios Piloto: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Por elegir 1000 comunidades rurales en el 2005.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500 elegidas y en proceso de verif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500 por elegir entre agosto y dicie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Resto de Municipios: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08500"/>
                </a:solidFill>
                <a:latin typeface="Times New Roman"/>
              </a:rPr>
              <a:t>Número por definir en función del piloto. (ej. 1000 adicionales, por año, con vistas al 2015 ODM). 2 años de intervención cada una. (15,432 comunidades rurales de Univers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08500"/>
                </a:solidFill>
                <a:latin typeface="Times New Roman"/>
              </a:rPr>
              <a:t>Criterios complementarios: Desigualdad en la distribución de la pobreza basados en los mapas actualizados de pobreza y Número de Comunidades Rurales por Muni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8500"/>
                </a:solidFill>
                <a:latin typeface="Times New Roman"/>
              </a:rPr>
              <a:t>Criterios de Selección </a:t>
            </a:r>
            <a:br>
              <a:rPr sz="4000"/>
            </a:br>
            <a:r>
              <a:rPr b="1" lang="en-US" sz="4000" spc="-1" strike="noStrike">
                <a:solidFill>
                  <a:srgbClr val="e08500"/>
                </a:solidFill>
                <a:latin typeface="Times New Roman"/>
              </a:rPr>
              <a:t>Municipios Prioritarios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C642-57CF-43F5-A530-F817BF738B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08500"/>
                </a:solidFill>
                <a:latin typeface="Times New Roman"/>
              </a:rPr>
              <a:t>Criterios de Selección de los municipios prioritarios (41)</a:t>
            </a:r>
            <a:endParaRPr b="1" lang="en-US" sz="36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3840" cy="39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cc"/>
                </a:solidFill>
                <a:latin typeface="Times New Roman"/>
              </a:rPr>
              <a:t>Criterios utilizados: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Índice de VAM –MAGA-FAO (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cc"/>
                </a:solidFill>
                <a:latin typeface="Times New Roman"/>
              </a:rPr>
              <a:t>Criterios complementar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úmero de habitantes y potencialidad agrícola propuestas por el (MINTRA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Mortalidad infantil y mortalidad materna (MSP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cc"/>
                </a:solidFill>
                <a:latin typeface="Times New Roman"/>
              </a:rPr>
              <a:t>Propuestos por: MAGA/MINTRAB/SALUD/SCEP/COMISION PRESIDENCIAL DE DESARROLLO LOCAL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Decisión Técnica y al máximo nivel político: Aval del Gabinete de Gobierno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8360" y="1970280"/>
            <a:ext cx="8245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l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Índice de Situación Alimentari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(40%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 conformó por el concurso de las variables de Porcentaje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breza Extr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35%), Desnutrición Crónica (40%) y Disponibilidad de Alimentos (25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l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Índice de Riesgos Ambientale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(25%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idera las variables de Amenaza por Sequía (60%), Amenaza por Heladas (20%) y Amenaza por Inundación (20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l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Índice de Capacidad de Respuesta (35%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idera dos variables, que son Densidad de Carreteras en el municipio (40%) y Disponibilidad de Suelo Cultivable (60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8352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VAM: Criterio principal para la sele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e Municipios 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727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08500"/>
                </a:solidFill>
                <a:latin typeface="Times New Roman"/>
              </a:rPr>
              <a:t>Municipios Prioritarios</a:t>
            </a:r>
            <a:endParaRPr b="1" lang="en-US" sz="36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1988640"/>
            <a:ext cx="6335640" cy="35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Ubicados en 9 departamentos: Alta Verapaz, Baja Verapaz, Chiquimula, Huehuetenango, Quiché, San Marcos, Sololá, Totonicapán y Petén.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Times New Roman"/>
              </a:rPr>
              <a:t>Alta correlación con problemas de pobreza y pobreza extrema, pese a que no se contaba con información actualizada de los mapas al 2002.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08500"/>
                </a:solidFill>
                <a:latin typeface="Times New Roman"/>
              </a:rPr>
              <a:t>Selección de Comunidades del Área rural</a:t>
            </a:r>
            <a:endParaRPr b="1" lang="en-US" sz="4000" spc="-1" strike="noStrike">
              <a:solidFill>
                <a:srgbClr val="e085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4182-1A8E-4B18-B1FE-56E27161AA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22:40:16Z</dcterms:created>
  <dc:creator>Fredy Gomez</dc:creator>
  <dc:description/>
  <dc:language>en-US</dc:language>
  <cp:lastModifiedBy>vbarrios</cp:lastModifiedBy>
  <dcterms:modified xsi:type="dcterms:W3CDTF">2005-07-16T00:04:26Z</dcterms:modified>
  <cp:revision>184</cp:revision>
  <dc:subject/>
  <dc:title>Programas, planes y prioridades del Gobiern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44293527</vt:r8>
  </property>
  <property fmtid="{D5CDD505-2E9C-101B-9397-08002B2CF9AE}" pid="3" name="_AuthorEmail">
    <vt:lpwstr>fgomez@segeplan.gob.gt</vt:lpwstr>
  </property>
  <property fmtid="{D5CDD505-2E9C-101B-9397-08002B2CF9AE}" pid="4" name="_AuthorEmailDisplayName">
    <vt:lpwstr>Fredy Arizmendy Gomez Gomez</vt:lpwstr>
  </property>
  <property fmtid="{D5CDD505-2E9C-101B-9397-08002B2CF9AE}" pid="5" name="_EmailSubject">
    <vt:lpwstr>ERP2.ppt</vt:lpwstr>
  </property>
  <property fmtid="{D5CDD505-2E9C-101B-9397-08002B2CF9AE}" pid="6" name="_ReviewingToolsShownOnce">
    <vt:lpwstr/>
  </property>
</Properties>
</file>