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3DC544-8ABA-458B-ADD0-A4CAE685F5A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5EC626-DDDC-427E-80A3-63AAAD04996D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70000" y="69696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23400" y="4381560"/>
            <a:ext cx="5086440" cy="4147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roporción de población en pobreza aumentó entre 1994-1996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acional: pasó de 55 a 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ural: pasó de 70 a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Urbana: pasó de 45 a casi 6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ra el año 2000 apenas se estaba regresando al nivel previo a la crisis. (Fuente: La pobreza en México… Banco Mund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631968-110A-4D49-B52F-2447A220F02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70000" y="69696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23400" y="4381560"/>
            <a:ext cx="5086440" cy="41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F61723-012D-4A5A-87E3-0215F2C538A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70000" y="69696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23400" y="4381560"/>
            <a:ext cx="5086440" cy="4147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4640" bIns="4464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o que quiero resaltar es que la estrategia contigo busca: entregar beneficios integrales tanto beneficios sociales como detonadores de desarrollo hum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usca superar el asistencialismo y convertirse en una política social subsidiaria con acciones que promueven un proceso permanente de ampliaciónde capacidades y desarrollo de potencial pro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0CA9B0-3A0D-44AD-B7F1-040C5D8E19AA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22320" y="4381560"/>
            <a:ext cx="5089680" cy="41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D2C38C-2281-4C26-A50B-0830DE2ECBB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22320" y="4381560"/>
            <a:ext cx="5089680" cy="41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89D372-72ED-4499-B3E7-ABC2DA999E1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22320" y="4381560"/>
            <a:ext cx="5089680" cy="41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3B45BC-648E-417D-A297-4B22C98D3C2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22320" y="4381560"/>
            <a:ext cx="5089680" cy="4147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* Corresponsabilidad: Para que los tres órdenes de gobierno (federal, estatal y municipal). Los beneficiarios deben cumplir con actividades para recibir los apoy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quidad: La diferencia se da con el fin de eliminar brechas sociales; beneficios sociales para quienes lo necesitan; acciones selectivas a grupos específicos (mujeres, jornaleros, niños, adultos mayo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Transparencia: Para rendir cuentas en cada uno de los programas, incluyendo la medición y evaluación de los resultados y de los impactos, desalentando con ello prácticas clientelares y promover el uso eficiente de los recurs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tegralidad, mencionar que aunque puede conseguirse de lleno en un programa como oportunidades, no es lo común, por lo que se consifue a lo largo de toda la estrateg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018E55-675E-4F5D-9DF3-2376BCEFD32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22320" y="4381560"/>
            <a:ext cx="5089680" cy="4147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pliación de capacidades: acceso a servicios y productos que permitan la participación plena en la sociedad y desarrollar el potencial productivo y hum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eneración de oportunidades de ingreso: utilización de capacidades en actividades económicas que lleven un incremento del biene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ormación de patrimonio: Reducir la vulnerabilidad y elevar la solidez financiera de la población en pobrez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visión de protección social: formación de capacidades, generación de opciones de ingreso, planeación del futuro no sujetos a acontecimientos imprevist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5094DA-62AB-438F-A194-E8F4047CB6C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22320" y="4381560"/>
            <a:ext cx="5089680" cy="41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ducación: becas educativas para niños y jóvenes de las familias beneficiarias, entre el 3er grado de primaria y el último de educación media s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alud: paquete esencial de ss de salud gratuitos para toda la famil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imentación: (1) suplementos alimenticios a todos los niños (as) entre 4 meses y 2 años, a todos los niños y niñas con desnutrición de los dos a los 5 años y a todas las mujeres embarazadas o en período de lactanc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2) Apoyos en efectivo para complementar los ingresos de la familia y proporcionar una mejor alimentación: $150 por familia al 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mpresión ROP Oportunidad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Ver cuál es el monto por familia para los apoyos oportunidad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 recibir las madres los apoyos se espera que tengan un mayor impacto en la alimentación de toda la familia, pero en particular de los ni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ducación: becas educativas para niños y jóvenes de las familias beneficiarias, entre el 3er grado de primaria y el último de educación media s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alud: paquete esencial de ss de salud gratuitos para toda la famil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imentación: (1) suplementos alimenticios a todos los niños (as) entre 4 meses y 2 años, a todos los niños y niñas con desnutrición de los dos a los 5 años y a todas las mujeres embarazadas o en período de lactanc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2) Apoyos en efectivo para complementar los ingresos de la familia y proporcionar una mejor aliment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oner o decir que la estrategia Contigo permite tanto normar todos los programas como integrar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tacar el rezago histórico de grandes extensiones del país por carencia de: infraestructura, servicios básicos, apoyo a las actividades económic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tacar el desarrollo desigual que han experimentado debido a: dispersión poblacional, complejidad orográfica, posibilidades de accesibilidad y comunic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on municipios de alto y muy alto grado de margin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saltar que es un programa que sienta las bases para que se desarrollen de mejor manera otros programas y habilidades de las person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s comunidades definen prioridades, orientadas de alguna mane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anderas blancas, obras completas de infraestructura, entendido como un servicio que se pueda utilizar plenamente y que cumpla con ciertas condiciones técnicas. Preguntar a Karla qué pasa cuando una se gradua, ie, se cumplen todas las banderas blanc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estrategia microrregiones 4 ejes fundamentales: enfoque territorial, determinación de CEC, coordinación interinstitucional y participación de las comunidades en los procesos de desarroll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saltar que es un programa que sienta las bases para que se desarrollen de mejor manera otros programas y habilidades de las person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s comunidades definen prioridades, orientadas de alguna mane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anderas blancas, obras completas de infraestructura, entendido como un servicio que se pueda utilizar plenamente y que cumpla con ciertas condiciones técnicas. Preguntar a Karla qué pasa cuando una se gradúa, to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sibilidad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ras de construcción, ampliación, rehabilitación, conservación y mejoramientode vías de comunicación que permitan una mayor integración económica y so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fraestructura Social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trucción, ampliación y rehabilitación de redes de energía eléctrica;de agua y alcantarillado; la construcción y el empedrado o pavimentación de calles,urbanización, construcción de letrinas, fosas sépticas, plantas de tratamiento de aguas, 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 la conservación del medio ambiente y estudios y proyectos ejecutivos o de preinversión,entre ot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sarrollo Comunitario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lización de obras de construcción, ampliación, remodelación yrehabilitación de espacios públicos de asistencia social, esparcimiento, cultura y recreación,entre ot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alud, Educación y Deporte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ras de construcción, ampliación, rehabilitación y equipamientode escuelas, clínicas, hospitales, centros de salud y espacios deportiv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ivienda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habilitación y ampliación de vivienda y dotación de piso fir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entros Comunitarios de Aprendizaje (CCA)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ablecer y/o equipar unidades decapacitación, con el propósito de brindar oportunidades de desarrollo personal y comunitario alos habitantes de las microrreg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basto y Acopio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ablecer los mecanismos y acciones de apoyo para la distribución ycomercialización de productos de abas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fraestructura y fomento a la producción y productividad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oyar la construcción yrehabilitación de la infraestructura agrícola, forestal y pecuaria, el cultivo de productos, así comoel establecimiento de talleres de orientación y capacitación en materia productiva, entre ot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lefonía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pulsar una red rural de comunicaciones, mediante la construcción de redestelefónic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moción Social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idades de la Sedesol en apoyo a las localidades objetivo tales comoapoyo a las actividades de organización comunitaria, de coordinación con los órdenes degobierno, estudios, investigaciones y promoción del programa en las microrreg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quipamiento Intermunicipal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oyar la conformación de lotes de maquinaria y equipo quedoten a los municipios de mayor capacidad de ejecución y fomenten la utilización de mano deobra lo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dentidad Jurídica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iones y actividades orientadas a brindar identidad y certeza jurídica a lapoblación objetivo, como lo son actas de nacimiento, matrimonio, defunción, divorcio, ClaveUnica de Registro Poblacional (CURP), Registro Federal de Contribuyentes (RFC), certificad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udios, sucesiones testamentarias y por herencia legítima, testimonios de bienes muebles einmuebles, entre ot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: un proyecto de electrificación se realiza después de contar con validación de C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s Agencias de Desarrollo Local son instancias para la organización y participación comunitaria, en la planeación del desarrollo local y region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cordar que muchas veces se usan trabajadores financiados por el P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DL (POP)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a modalidad, se refiere al apoyo que podrá otorgar el Programa para impulsar procesos de integración y proyectos con un enfoque de desarrollo económico regional, que beneficie a la población objetivo a través de organizaciones de la sociedad civil sin fines de lucro, conformadas como Agencias de Desarrollo Local, entendidas éstas como instancias constituidas legalmente y con experiencia demostrada en trabajos de impulso al desarrollo regional, que apoyan a la población objetivo para que en forma concertada y autónoma se decida sobre propuestas de desarrollo económico viable y aseguren al mismo tiempo las condiciones técnicas para ello y para la gestión de los recursos requeridos, acercándoles las oportunidades de acceso al circuito productiv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tacar el rezago histórico de grandes extensiones del país por carencia de: infraestructura, servicios básicos, apoyo a las actividades económic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tacar el desarrollo desigual que han experimentado debido a: dispersión poblacional, complejidad orográfica, posibilidades de accesibilidad y comunic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on municipios de alto y muy alto grado de margin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saltar que es un programa que sienta las bases para que se desarrollen de mejor manera otros programas y habilidades de las person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s comunidades definen prioridades, orientadas de alguna mane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anderas blancas, obras completas de infraestructura, entendido como un servicio que se pueda utilizar plenamente y que cumpla con ciertas condiciones técnicas. Preguntar a Karla qué pasa cuando una se gradua, ie, se cumplen todas las banderas blanc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estrategia microrregiones 4 ejes fundamentales: enfoque territorial, determinación de CEC, coordinación interinstitucional y participación de las comunidades en los procesos de desarroll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tacar el rezago histórico de grandes extensiones del país por carencia de: infraestructura, servicios básicos, apoyo a las actividades económic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tacar el desarrollo desigual que han experimentado debido a: dispersión poblacional, complejidad orográfica, posibilidades de accesibilidad y comunic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on municipios de alto y muy alto grado de marginac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saltar que es un programa que sienta las bases para que se desarrollen de mejor manera otros programas y habilidades de las person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s comunidades definen prioridades, orientadas de alguna mane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anderas blancas, obras completas de infraestructura, entendido como un servicio que se pueda utilizar plenamente y que cumpla con ciertas condiciones técnicas. Preguntar a Karla qué pasa cuando una se gradua, ie, se cumplen todas las banderas blanc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estrategia microrregiones 4 ejes fundamentales: enfoque territorial, determinación de CEC, coordinación interinstitucional y participación de las comunidades en los procesos de desarroll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integralidad lo que quiero decir es que las acciones convergen hacia un objetivo, darle a los beneficiarios las capacidades y la infraestructura para que puedan desarrollar con éxito actividades productiv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fondo de ahorro deriva de un beneficio diferido que se le entrega a los beneficiar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*Se repite lo de transparencia de Oportunidad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uchos de los apoyos sólo se entregan en el 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fondo de ahorro deriva de un beneficio diferido que se le entrega a los beneficiar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*Se repite lo de transparencia de Oportunidad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padrón incluye información sobre otras dependencias feder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os sistemas alrededor del patrón permiten tanto conocer las necesidades de la población, focalizar los apoyos, detectar personas que están duplicando apoyos o que no cumplen con las corresponsabilidades establecidas en los program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* Las evaluaciones sirven para aportar elementos para la mejor focalización, la eficiencia, la eficacia y determinar la pertinencia de los programas sociales, mediante la realización de evaluaciones de cali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* Art 52 P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ahoma"/>
              </a:rPr>
              <a:t>Decir que los otros dos elementos mencionados anteriormente son parte de este último proce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3399"/>
                </a:solidFill>
                <a:latin typeface="Tahoma"/>
              </a:rPr>
              <a:t>Decir que este es un proceso que se inscribe dentro de la estrategia contigo, la planeación que se hace, se hace pensando en la Estrategia Cont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F87-08BB-48C2-A15F-E3534824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C95E-868C-4D45-B86C-8D65C3AE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2453-C29D-482F-9A54-EB158EFA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96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96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6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6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C43-3566-4EC9-9621-F4513331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343-914C-4154-9697-3AA1ACBA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71B-9035-4384-B3FB-791E6E90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500-81E7-4752-A1F4-7F5E6BCE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9AC-2DAB-4079-BEDD-20EEA364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38F-E5F8-466E-A795-E932B611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D4E7-7AAE-4322-925C-11ED7940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DC3-1CF5-4E56-BFF3-39A37BE3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17B7-B772-4B59-9CB1-E555F537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74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266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269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0036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0036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0036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16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0EC5-44F5-48A9-B38E-E628DC253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9280" y="6165720"/>
            <a:ext cx="1584360" cy="58104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8893080" y="0"/>
            <a:ext cx="289080" cy="6858000"/>
            <a:chOff x="8893080" y="0"/>
            <a:chExt cx="289080" cy="6858000"/>
          </a:xfrm>
        </p:grpSpPr>
        <p:sp>
          <p:nvSpPr>
            <p:cNvPr id="7" name=""/>
            <p:cNvSpPr/>
            <p:nvPr/>
          </p:nvSpPr>
          <p:spPr>
            <a:xfrm>
              <a:off x="9002880" y="0"/>
              <a:ext cx="179280" cy="685800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93080" y="0"/>
              <a:ext cx="73080" cy="6858000"/>
            </a:xfrm>
            <a:prstGeom prst="rect">
              <a:avLst/>
            </a:prstGeom>
            <a:solidFill>
              <a:srgbClr val="cc0066">
                <a:alpha val="68000"/>
              </a:srgbClr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9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" Target="slide23.xml"/><Relationship Id="rId6" Type="http://schemas.openxmlformats.org/officeDocument/2006/relationships/slide" Target="slide21.xml"/><Relationship Id="rId7" Type="http://schemas.openxmlformats.org/officeDocument/2006/relationships/slide" Target="slide23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" Target="slide5.xml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4480" y="712800"/>
            <a:ext cx="4077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TO DE LA INFORMÁ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4745160"/>
            <a:ext cx="51847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pprplGoth Bd BT"/>
              </a:rPr>
              <a:t>Social Development Secretariat (Mexi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4960" y="4594320"/>
            <a:ext cx="48290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308720" y="6021360"/>
            <a:ext cx="1584360" cy="581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45080" y="2282760"/>
            <a:ext cx="4248000" cy="14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9999"/>
                </a:solidFill>
                <a:latin typeface="Arial"/>
              </a:rPr>
              <a:t>Strate</a:t>
            </a:r>
            <a:r>
              <a:rPr b="1" lang="es-CL" sz="3000" spc="-1" strike="noStrike">
                <a:solidFill>
                  <a:srgbClr val="009999"/>
                </a:solidFill>
                <a:latin typeface="Arial"/>
              </a:rPr>
              <a:t>g</a:t>
            </a:r>
            <a:r>
              <a:rPr b="1" lang="en-GB" sz="3000" spc="-1" strike="noStrike">
                <a:solidFill>
                  <a:srgbClr val="009999"/>
                </a:solidFill>
                <a:latin typeface="Arial"/>
              </a:rPr>
              <a:t>y Togeth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9999"/>
                </a:solidFill>
                <a:latin typeface="Arial"/>
              </a:rPr>
              <a:t>Estrategia Contigo</a:t>
            </a:r>
            <a:r>
              <a:rPr b="1" lang="en-GB" sz="3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805360"/>
            <a:ext cx="511344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laudia Escalera Matamor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ña del Mar, Chile, July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16000" y="1282680"/>
            <a:ext cx="3505320" cy="25765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99"/>
                </a:solidFill>
                <a:latin typeface="Arial"/>
              </a:rPr>
              <a:t>Facts that indicate a necessesity for a new social poli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820440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4960" indent="-273240" algn="just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verty in Mexico was, and still is, much greater than expected, given the development level and resources of the country (historical shortcomings and impact of the mid-90’s crisi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just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04960" indent="-273240" algn="just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e sectors of population lacked the basic elements necessary for the integral development as persons and to satisfactorily overcome the different stages of the life cycl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-273240" algn="just">
              <a:lnSpc>
                <a:spcPct val="13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iven the persistency of poverty, it was very unlikely that the measures used until that moment could solve the probl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2560" y="60948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t the beginning of the current administration it was noticed th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3004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Generations” from previous social policy to Strategy Tog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23960" y="1196640"/>
            <a:ext cx="79437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.  1950-1960-1970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cial Policy = Development Poli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6400" y="2027160"/>
            <a:ext cx="80712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7480" y="2379600"/>
            <a:ext cx="7886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. Crisis of the 80’s: No bu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3960" y="3171960"/>
            <a:ext cx="8096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I. Deadlock years: There is a need to centralise scarce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27280" y="4797360"/>
            <a:ext cx="216072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need for a policy that wi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3933720"/>
            <a:ext cx="360360" cy="2521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64000" y="4292640"/>
            <a:ext cx="32403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ive human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vide tools so that people can overcome pove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grate all actions to fight against pove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3004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99"/>
                </a:solidFill>
                <a:latin typeface="Arial"/>
              </a:rPr>
              <a:t>Strategy Toge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" y="2027160"/>
            <a:ext cx="80712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83026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a social policy statement  of the current administr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a global and integrated strategy of social policy for human and social development. </a:t>
            </a:r>
            <a:r>
              <a:rPr b="1" lang="en-GB" sz="2000" spc="-1" strike="noStrike">
                <a:solidFill>
                  <a:srgbClr val="ff5050"/>
                </a:solidFill>
                <a:latin typeface="Arial"/>
              </a:rPr>
              <a:t>It is not just another programme, but the unification of all existing social programm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4076640"/>
            <a:ext cx="1368360" cy="3373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36720" y="2781360"/>
            <a:ext cx="2879640" cy="824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achieve integral development of people in pover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36720" y="3817800"/>
            <a:ext cx="2879640" cy="1067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eliminate the shortcomings in which diverse sectors of population still l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6720" y="4898880"/>
            <a:ext cx="2879640" cy="1067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promote the unification of actions with the aim of strengthening the use of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32360" y="4770360"/>
            <a:ext cx="3960720" cy="20257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gether is more than just assi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provides essential social benefits to all Mexi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activates levers that drive huma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1258920" y="4221000"/>
            <a:ext cx="6667560" cy="1105200"/>
          </a:xfrm>
          <a:prstGeom prst="rect">
            <a:avLst/>
          </a:prstGeom>
          <a:gradFill rotWithShape="0">
            <a:gsLst>
              <a:gs pos="0">
                <a:srgbClr val="87a9a9"/>
              </a:gs>
              <a:gs pos="50000">
                <a:srgbClr val="ccffff"/>
              </a:gs>
              <a:gs pos="100000">
                <a:srgbClr val="87a9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1281240" y="911160"/>
            <a:ext cx="6648480" cy="2952720"/>
          </a:xfrm>
          <a:prstGeom prst="rect">
            <a:avLst/>
          </a:prstGeom>
          <a:gradFill rotWithShape="0">
            <a:gsLst>
              <a:gs pos="0">
                <a:srgbClr val="81a1a1"/>
              </a:gs>
              <a:gs pos="50000">
                <a:srgbClr val="ccffff"/>
              </a:gs>
              <a:gs pos="100000">
                <a:srgbClr val="81a1a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76960" y="1420920"/>
            <a:ext cx="27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3399"/>
                </a:solidFill>
                <a:latin typeface="Tahoma"/>
              </a:rPr>
              <a:t>Skills</a:t>
            </a:r>
            <a:r>
              <a:rPr b="1" lang="es-CL" sz="2800" spc="-1" strike="noStrike">
                <a:solidFill>
                  <a:srgbClr val="cc3399"/>
                </a:solidFill>
                <a:latin typeface="Tahoma"/>
              </a:rPr>
              <a:t>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49600" y="4775040"/>
            <a:ext cx="62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ff"/>
                </a:solidFill>
                <a:latin typeface="Tahoma"/>
              </a:rPr>
              <a:t>Income Opportun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35920" y="235728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Tahoma"/>
              </a:rPr>
              <a:t>Formation of Patrim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88480" y="3309840"/>
            <a:ext cx="54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ahoma"/>
              </a:rPr>
              <a:t>Provision of Social Prot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51160" y="3745080"/>
            <a:ext cx="495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7040" y="1773360"/>
            <a:ext cx="514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56120" y="2744640"/>
            <a:ext cx="743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2640" y="625320"/>
            <a:ext cx="438120" cy="5972400"/>
          </a:xfrm>
          <a:custGeom>
            <a:avLst/>
            <a:gdLst>
              <a:gd name="textAreaLeft" fmla="*/ 280080 w 438120"/>
              <a:gd name="textAreaRight" fmla="*/ 438480 w 438120"/>
              <a:gd name="textAreaTop" fmla="*/ 155520 h 5972400"/>
              <a:gd name="textAreaBottom" fmla="*/ 5816880 h 59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33"/>
                </a:lnTo>
                <a:cubicBezTo>
                  <a:pt x="10800" y="9733"/>
                  <a:pt x="5400" y="10633"/>
                  <a:pt x="0" y="10633"/>
                </a:cubicBezTo>
                <a:cubicBezTo>
                  <a:pt x="5400" y="10633"/>
                  <a:pt x="10800" y="11533"/>
                  <a:pt x="10800" y="1243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-2187000" y="3042720"/>
            <a:ext cx="523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050"/>
                </a:solidFill>
                <a:latin typeface="Tahoma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19040" y="9111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06440" y="42894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57480" y="5256360"/>
            <a:ext cx="4227480" cy="14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0066"/>
                </a:solidFill>
                <a:latin typeface="Tahoma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660066"/>
                </a:solidFill>
                <a:latin typeface="Tahoma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RANSFER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7986240" y="808200"/>
            <a:ext cx="438120" cy="4714560"/>
          </a:xfrm>
          <a:custGeom>
            <a:avLst/>
            <a:gdLst>
              <a:gd name="textAreaLeft" fmla="*/ 280080 w 438120"/>
              <a:gd name="textAreaRight" fmla="*/ 438480 w 438120"/>
              <a:gd name="textAreaTop" fmla="*/ 122760 h 4714560"/>
              <a:gd name="textAreaBottom" fmla="*/ 4591800 h 471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6"/>
                </a:lnTo>
                <a:cubicBezTo>
                  <a:pt x="10800" y="9666"/>
                  <a:pt x="5400" y="10566"/>
                  <a:pt x="0" y="10566"/>
                </a:cubicBezTo>
                <a:cubicBezTo>
                  <a:pt x="5400" y="10566"/>
                  <a:pt x="10800" y="11466"/>
                  <a:pt x="10800" y="1236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6163920" y="2698200"/>
            <a:ext cx="523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5050"/>
                </a:solidFill>
                <a:latin typeface="Tahoma"/>
              </a:rPr>
              <a:t>Spheres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1360" y="182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rategy </a:t>
            </a: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Together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71360" y="182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¿Why this focus? Poverty vicious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1" action="ppaction://hlinksldjump"/>
          </p:cNvPr>
          <p:cNvSpPr/>
          <p:nvPr/>
        </p:nvSpPr>
        <p:spPr>
          <a:xfrm flipH="1" rot="15627000">
            <a:off x="1705680" y="839880"/>
            <a:ext cx="4465800" cy="6646680"/>
          </a:xfrm>
          <a:custGeom>
            <a:avLst/>
            <a:gdLst>
              <a:gd name="textAreaLeft" fmla="*/ -360 w 4465800"/>
              <a:gd name="textAreaRight" fmla="*/ 4465800 w 4465800"/>
              <a:gd name="textAreaTop" fmla="*/ 0 h 6646680"/>
              <a:gd name="textAreaBottom" fmla="*/ 6647040 h 6646680"/>
            </a:gdLst>
            <a:ahLst/>
            <a:rect l="textAreaLeft" t="textAreaTop" r="textAreaRight" b="textAreaBottom"/>
            <a:pathLst>
              <a:path w="21600" h="21600">
                <a:moveTo>
                  <a:pt x="7660" y="11399"/>
                </a:moveTo>
                <a:arcTo wR="-3197" hR="-3197" stAng="10152188" swAng="-5545310"/>
                <a:lnTo>
                  <a:pt x="8330" y="286"/>
                </a:lnTo>
                <a:arcTo wR="10800" hR="10800" stAng="-6193122" swAng="5545310"/>
                <a:lnTo>
                  <a:pt x="24061" y="8271"/>
                </a:lnTo>
                <a:lnTo>
                  <a:pt x="18893" y="15875"/>
                </a:lnTo>
                <a:lnTo>
                  <a:pt x="11288" y="10707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 flipV="1" rot="11024400">
            <a:off x="723960" y="1366200"/>
            <a:ext cx="8378640" cy="4600440"/>
          </a:xfrm>
          <a:custGeom>
            <a:avLst/>
            <a:gdLst>
              <a:gd name="textAreaLeft" fmla="*/ 0 w 8378640"/>
              <a:gd name="textAreaRight" fmla="*/ 8379000 w 8378640"/>
              <a:gd name="textAreaTop" fmla="*/ -360 h 4600440"/>
              <a:gd name="textAreaBottom" fmla="*/ 4600440 h 4600440"/>
            </a:gdLst>
            <a:ahLst/>
            <a:rect l="textAreaLeft" t="textAreaTop" r="textAreaRight" b="textAreaBottom"/>
            <a:pathLst>
              <a:path w="21600" h="21600">
                <a:moveTo>
                  <a:pt x="8787" y="11368"/>
                </a:moveTo>
                <a:arcTo wR="-2092" hR="-2092" stAng="9855010" swAng="-4981487"/>
                <a:lnTo>
                  <a:pt x="9152" y="126"/>
                </a:lnTo>
                <a:arcTo wR="10800" hR="10800" stAng="-5926477" swAng="4981487"/>
                <a:lnTo>
                  <a:pt x="23793" y="7136"/>
                </a:lnTo>
                <a:lnTo>
                  <a:pt x="18919" y="15839"/>
                </a:lnTo>
                <a:lnTo>
                  <a:pt x="10215" y="10965"/>
                </a:lnTo>
                <a:close/>
              </a:path>
            </a:pathLst>
          </a:custGeom>
          <a:gradFill rotWithShape="0">
            <a:gsLst>
              <a:gs pos="0">
                <a:srgbClr val="ff66cc"/>
              </a:gs>
              <a:gs pos="50000">
                <a:srgbClr val="ff66cc"/>
              </a:gs>
              <a:gs pos="100000">
                <a:srgbClr val="ff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3" action="ppaction://hlinksldjump"/>
          </p:cNvPr>
          <p:cNvSpPr/>
          <p:nvPr/>
        </p:nvSpPr>
        <p:spPr>
          <a:xfrm flipV="1" rot="20656200">
            <a:off x="2115720" y="2545920"/>
            <a:ext cx="6351480" cy="4226040"/>
          </a:xfrm>
          <a:custGeom>
            <a:avLst/>
            <a:gdLst>
              <a:gd name="textAreaLeft" fmla="*/ 0 w 6351480"/>
              <a:gd name="textAreaRight" fmla="*/ 6351840 w 6351480"/>
              <a:gd name="textAreaTop" fmla="*/ -360 h 4226040"/>
              <a:gd name="textAreaBottom" fmla="*/ 4226040 h 4226040"/>
            </a:gdLst>
            <a:ahLst/>
            <a:rect l="textAreaLeft" t="textAreaTop" r="textAreaRight" b="textAreaBottom"/>
            <a:pathLst>
              <a:path w="21600" h="21600">
                <a:moveTo>
                  <a:pt x="9917" y="11136"/>
                </a:moveTo>
                <a:arcTo wR="-945" hR="-945" stAng="9551320" swAng="-4724793"/>
                <a:lnTo>
                  <a:pt x="9007" y="150"/>
                </a:lnTo>
                <a:arcTo wR="10800" hR="10800" stAng="-5973473" swAng="4724793"/>
                <a:lnTo>
                  <a:pt x="23419" y="6004"/>
                </a:lnTo>
                <a:lnTo>
                  <a:pt x="18999" y="15843"/>
                </a:lnTo>
                <a:lnTo>
                  <a:pt x="9160" y="11424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4" action="ppaction://hlinksldjump"/>
          </p:cNvPr>
          <p:cNvSpPr/>
          <p:nvPr/>
        </p:nvSpPr>
        <p:spPr>
          <a:xfrm>
            <a:off x="5450040" y="4735440"/>
            <a:ext cx="25779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Patrimony shortag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ny Mexicans without security, basic services and solv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5" action="ppaction://hlinksldjump"/>
          </p:cNvPr>
          <p:cNvSpPr/>
          <p:nvPr/>
        </p:nvSpPr>
        <p:spPr>
          <a:xfrm flipH="1" rot="6887400">
            <a:off x="3236760" y="950400"/>
            <a:ext cx="5051520" cy="6762600"/>
          </a:xfrm>
          <a:custGeom>
            <a:avLst/>
            <a:gdLst>
              <a:gd name="textAreaLeft" fmla="*/ 360 w 5051520"/>
              <a:gd name="textAreaRight" fmla="*/ 5052240 w 5051520"/>
              <a:gd name="textAreaTop" fmla="*/ 0 h 6762600"/>
              <a:gd name="textAreaBottom" fmla="*/ 6762960 h 6762600"/>
            </a:gdLst>
            <a:ahLst/>
            <a:rect l="textAreaLeft" t="textAreaTop" r="textAreaRight" b="textAreaBottom"/>
            <a:pathLst>
              <a:path w="21600" h="21600">
                <a:moveTo>
                  <a:pt x="8238" y="9840"/>
                </a:moveTo>
                <a:arcTo wR="-2736" hR="-2736" stAng="-9567961" swAng="-4626775"/>
                <a:lnTo>
                  <a:pt x="16749" y="1786"/>
                </a:lnTo>
                <a:arcTo wR="10800" hR="10800" stAng="-3394736" swAng="4626775"/>
                <a:lnTo>
                  <a:pt x="23442" y="15535"/>
                </a:lnTo>
                <a:lnTo>
                  <a:pt x="14777" y="19478"/>
                </a:lnTo>
                <a:lnTo>
                  <a:pt x="10834" y="10813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6" action="ppaction://hlinksldjump"/>
          </p:cNvPr>
          <p:cNvSpPr/>
          <p:nvPr/>
        </p:nvSpPr>
        <p:spPr>
          <a:xfrm>
            <a:off x="1227240" y="4581360"/>
            <a:ext cx="3632040" cy="87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Inequality of income opportunit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t everybody can access options to use their sk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7" action="ppaction://hlinksldjump"/>
          </p:cNvPr>
          <p:cNvSpPr/>
          <p:nvPr/>
        </p:nvSpPr>
        <p:spPr>
          <a:xfrm>
            <a:off x="4932360" y="2492280"/>
            <a:ext cx="3313080" cy="95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Restricted social Prote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ny sectors are vulnerable to unexpected events and cannot make long-term pla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8" action="ppaction://hlinksldjump"/>
          </p:cNvPr>
          <p:cNvSpPr/>
          <p:nvPr/>
        </p:nvSpPr>
        <p:spPr>
          <a:xfrm>
            <a:off x="981000" y="2421000"/>
            <a:ext cx="323064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Inequality of skill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w potential to generate income and welfare of the majority of popul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71360" y="189000"/>
            <a:ext cx="864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Together transforms poverty  in</a:t>
            </a: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to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a : HUMAN DEVELOPMENT </a:t>
            </a:r>
            <a:r>
              <a:rPr b="1" lang="es-CL" sz="2400" spc="-1" strike="noStrike">
                <a:solidFill>
                  <a:srgbClr val="000099"/>
                </a:solidFill>
                <a:latin typeface="Arial"/>
              </a:rPr>
              <a:t>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5407800">
            <a:off x="1824840" y="355320"/>
            <a:ext cx="4560840" cy="7126200"/>
          </a:xfrm>
          <a:custGeom>
            <a:avLst/>
            <a:gdLst>
              <a:gd name="textAreaLeft" fmla="*/ 0 w 4560840"/>
              <a:gd name="textAreaRight" fmla="*/ 4560840 w 4560840"/>
              <a:gd name="textAreaTop" fmla="*/ 0 h 7126200"/>
              <a:gd name="textAreaBottom" fmla="*/ 7126560 h 7126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468257"/>
                <a:lnTo>
                  <a:pt x="10586" y="2"/>
                </a:lnTo>
                <a:arcTo wR="10800" hR="10800" stAng="-5468257" swAng="54682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2baf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21598200">
            <a:off x="746280" y="1715760"/>
            <a:ext cx="6914880" cy="4422600"/>
          </a:xfrm>
          <a:custGeom>
            <a:avLst/>
            <a:gdLst>
              <a:gd name="textAreaLeft" fmla="*/ 0 w 6914880"/>
              <a:gd name="textAreaRight" fmla="*/ 6915240 w 6914880"/>
              <a:gd name="textAreaTop" fmla="*/ 0 h 4422600"/>
              <a:gd name="textAreaBottom" fmla="*/ 4422600 h 4422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468257"/>
                <a:lnTo>
                  <a:pt x="10586" y="2"/>
                </a:lnTo>
                <a:arcTo wR="10800" hR="10800" stAng="-5468257" swAng="54682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ff66cc"/>
              </a:gs>
              <a:gs pos="100000">
                <a:srgbClr val="cc51a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07320" y="3151080"/>
            <a:ext cx="1604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Sk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lth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16284000">
            <a:off x="2099160" y="552600"/>
            <a:ext cx="4397400" cy="6757920"/>
          </a:xfrm>
          <a:custGeom>
            <a:avLst/>
            <a:gdLst>
              <a:gd name="textAreaLeft" fmla="*/ 0 w 4397400"/>
              <a:gd name="textAreaRight" fmla="*/ 4397760 w 4397400"/>
              <a:gd name="textAreaTop" fmla="*/ 0 h 6757920"/>
              <a:gd name="textAreaBottom" fmla="*/ 6758280 h 6757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5468257"/>
                <a:lnTo>
                  <a:pt x="10586" y="2"/>
                </a:lnTo>
                <a:arcTo wR="10800" hR="10800" stAng="-5468257" swAng="5468257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32040" y="1773360"/>
            <a:ext cx="273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cial welf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tection. vs. collective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2654280"/>
          <a:ext cx="3708360" cy="34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54280"/>
                    <a:ext cx="370836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942120" y="3173400"/>
            <a:ext cx="157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PATRI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v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perty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1800" y="3726000"/>
            <a:ext cx="23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Arial Black"/>
              </a:rPr>
              <a:t>I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38240" y="331956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Arial Black"/>
              </a:rPr>
              <a:t>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79480" y="4983120"/>
            <a:ext cx="2369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Income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al Develop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ss to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mployment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71360" y="189000"/>
            <a:ext cx="86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asic principles of Strategy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59280" y="2565360"/>
            <a:ext cx="2519280" cy="1584360"/>
          </a:xfrm>
          <a:prstGeom prst="ellipse">
            <a:avLst/>
          </a:prstGeom>
          <a:solidFill>
            <a:srgbClr val="cc99ff">
              <a:alpha val="7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3640" y="321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ategy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1262160"/>
            <a:ext cx="2881440" cy="955800"/>
          </a:xfrm>
          <a:prstGeom prst="rect">
            <a:avLst/>
          </a:prstGeom>
          <a:solidFill>
            <a:srgbClr val="0099cc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Correspondenc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nefic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nches of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govern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72360" y="2990880"/>
            <a:ext cx="2233440" cy="1270800"/>
          </a:xfrm>
          <a:prstGeom prst="rect">
            <a:avLst/>
          </a:prstGeom>
          <a:solidFill>
            <a:srgbClr val="0099cc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Balanc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tter benefits for more disadvantaged groups, with more vulnerability or different skil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5440" y="2917800"/>
            <a:ext cx="2089080" cy="1817640"/>
          </a:xfrm>
          <a:prstGeom prst="rect">
            <a:avLst/>
          </a:prstGeom>
          <a:solidFill>
            <a:srgbClr val="0099cc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ranspar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st rend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to client p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 to discretionary cho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4788000" y="1484280"/>
            <a:ext cx="1008000" cy="936720"/>
          </a:xfrm>
          <a:custGeom>
            <a:avLst/>
            <a:gdLst>
              <a:gd name="textAreaLeft" fmla="*/ 289080 w 1008000"/>
              <a:gd name="textAreaRight" fmla="*/ 863640 w 1008000"/>
              <a:gd name="textAreaTop" fmla="*/ 539640 h 936720"/>
              <a:gd name="textAreaBottom" fmla="*/ 802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3494160"/>
            <a:ext cx="647640" cy="504720"/>
          </a:xfrm>
          <a:prstGeom prst="leftRightArrow">
            <a:avLst>
              <a:gd name="adj1" fmla="val 50000"/>
              <a:gd name="adj2" fmla="val 2554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82920" y="3495600"/>
            <a:ext cx="720720" cy="505080"/>
          </a:xfrm>
          <a:prstGeom prst="leftRightArrow">
            <a:avLst>
              <a:gd name="adj1" fmla="val 50000"/>
              <a:gd name="adj2" fmla="val 2840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3924360" y="4365360"/>
            <a:ext cx="934920" cy="649080"/>
          </a:xfrm>
          <a:prstGeom prst="leftRightArrow">
            <a:avLst>
              <a:gd name="adj1" fmla="val 50000"/>
              <a:gd name="adj2" fmla="val 2867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79640" y="5157720"/>
            <a:ext cx="4897440" cy="1382040"/>
          </a:xfrm>
          <a:prstGeom prst="rect">
            <a:avLst/>
          </a:prstGeom>
          <a:solidFill>
            <a:srgbClr val="0099cc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ocial Cohesion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nks between relevant actors in the 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oup formation, associations and organisations that promote community development, govern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c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nd democracy through social program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2952000" y="1483560"/>
            <a:ext cx="1008000" cy="936720"/>
          </a:xfrm>
          <a:custGeom>
            <a:avLst/>
            <a:gdLst>
              <a:gd name="textAreaLeft" fmla="*/ 289080 w 1008000"/>
              <a:gd name="textAreaRight" fmla="*/ 863640 w 1008000"/>
              <a:gd name="textAreaTop" fmla="*/ 539640 h 936720"/>
              <a:gd name="textAreaBottom" fmla="*/ 802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9080" y="981000"/>
            <a:ext cx="2627280" cy="1493280"/>
          </a:xfrm>
          <a:prstGeom prst="rect">
            <a:avLst/>
          </a:prstGeom>
          <a:solidFill>
            <a:srgbClr val="0099cc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Integrati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vergence of 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gruence of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tention to different life s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71360" y="189000"/>
            <a:ext cx="86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Action routes of Strategy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27680" y="5370480"/>
            <a:ext cx="33447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Social Welf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Protection against individual and collectiv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7040" y="143208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99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99"/>
                </a:solidFill>
                <a:latin typeface="Arial"/>
              </a:rPr>
              <a:t>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99"/>
                </a:solidFill>
                <a:latin typeface="Arial"/>
              </a:rPr>
              <a:t>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99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65840" y="2681280"/>
            <a:ext cx="35258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Arial"/>
              </a:rPr>
              <a:t>Local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Arial"/>
              </a:rPr>
              <a:t>Access to 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Arial"/>
              </a:rPr>
              <a:t>Employment Genera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14800" y="3895560"/>
            <a:ext cx="37958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Ho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Saving</a:t>
            </a:r>
            <a:r>
              <a:rPr b="1" lang="es-CL" sz="1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Property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9520" y="4044960"/>
            <a:ext cx="277920" cy="927000"/>
          </a:xfrm>
          <a:custGeom>
            <a:avLst/>
            <a:gdLst>
              <a:gd name="textAreaLeft" fmla="*/ 177480 w 277920"/>
              <a:gd name="textAreaRight" fmla="*/ 277920 w 277920"/>
              <a:gd name="textAreaTop" fmla="*/ 24120 h 927000"/>
              <a:gd name="textAreaBottom" fmla="*/ 902880 h 92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70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37080" y="1525680"/>
            <a:ext cx="360360" cy="1054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27360 h 1054080"/>
              <a:gd name="textAreaBottom" fmla="*/ 1026720 h 105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70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9920" y="2751120"/>
            <a:ext cx="314280" cy="1000080"/>
          </a:xfrm>
          <a:custGeom>
            <a:avLst/>
            <a:gdLst>
              <a:gd name="textAreaLeft" fmla="*/ 200880 w 314280"/>
              <a:gd name="textAreaRight" fmla="*/ 314640 w 314280"/>
              <a:gd name="textAreaTop" fmla="*/ 25920 h 1000080"/>
              <a:gd name="textAreaBottom" fmla="*/ 97416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70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02240" y="5157720"/>
            <a:ext cx="279360" cy="1470240"/>
          </a:xfrm>
          <a:custGeom>
            <a:avLst/>
            <a:gdLst>
              <a:gd name="textAreaLeft" fmla="*/ 178560 w 279360"/>
              <a:gd name="textAreaRight" fmla="*/ 279720 w 279360"/>
              <a:gd name="textAreaTop" fmla="*/ 38160 h 1470240"/>
              <a:gd name="textAreaBottom" fmla="*/ 1432080 h 147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70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2560" y="833400"/>
            <a:ext cx="35355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44880" y="833400"/>
            <a:ext cx="5019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pheres </a:t>
            </a:r>
            <a:r>
              <a:rPr b="1" lang="es-CL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routes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75160" y="16635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99"/>
                </a:solidFill>
                <a:latin typeface="Arial"/>
              </a:rPr>
              <a:t>Skill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9880" y="2971800"/>
            <a:ext cx="38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Arial"/>
              </a:rPr>
              <a:t>Generating Income </a:t>
            </a:r>
            <a:r>
              <a:rPr b="1" lang="es-CL" sz="1800" spc="-1" strike="noStrike">
                <a:solidFill>
                  <a:srgbClr val="ff9933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ff9933"/>
                </a:solidFill>
                <a:latin typeface="Arial"/>
              </a:rPr>
              <a:t>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1560" y="439740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Patrimony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2680" y="1785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99"/>
                </a:solidFill>
                <a:latin typeface="Arial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9080" y="545004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5200" y="435780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I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4520" y="30639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33"/>
                </a:solidFill>
                <a:latin typeface="Arial"/>
              </a:rPr>
              <a:t>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8760" y="5502240"/>
            <a:ext cx="292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Providing Social Welf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38400" y="2448000"/>
            <a:ext cx="350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707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20760" y="3887640"/>
            <a:ext cx="351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707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20760" y="4967280"/>
            <a:ext cx="351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707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71360" y="189000"/>
            <a:ext cx="86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ome Strategy Together Program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02160" y="981000"/>
            <a:ext cx="1767240" cy="368280"/>
          </a:xfrm>
          <a:prstGeom prst="rect">
            <a:avLst/>
          </a:prstGeom>
          <a:solidFill>
            <a:srgbClr val="cc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kill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981000"/>
            <a:ext cx="4267080" cy="3682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ration of Income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440" y="4084560"/>
            <a:ext cx="2480400" cy="368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atrimony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3933720"/>
            <a:ext cx="302400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Social Welf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6560" y="1922400"/>
            <a:ext cx="3600720" cy="159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cc3399"/>
                </a:solidFill>
                <a:latin typeface="Arial"/>
              </a:rPr>
              <a:t>Human Development Programme Opportun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Nutritional Help Program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ural Supply Programm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cial Milk Supply Programm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32360" y="1922400"/>
            <a:ext cx="3600360" cy="159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9933"/>
                </a:solidFill>
                <a:latin typeface="Arial"/>
              </a:rPr>
              <a:t>Micro-regions Local Development Program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9933"/>
                </a:solidFill>
                <a:latin typeface="Arial"/>
              </a:rPr>
              <a:t>Productive Options Program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cial co-investment Program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03640" y="4751280"/>
            <a:ext cx="3600720" cy="170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99"/>
                </a:solidFill>
                <a:latin typeface="Arial"/>
              </a:rPr>
              <a:t>Programmes of the National Institute for Old Age Pensioner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ogramme Habitat:  natural disaster respons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ogramme of A</a:t>
            </a: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ssitance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for Agriculture Worker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9640" y="4724280"/>
            <a:ext cx="3600720" cy="1126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9900"/>
                </a:solidFill>
                <a:latin typeface="Arial"/>
              </a:rPr>
              <a:t>Programme Young People with Opportun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ogrammes for the development and improvement of hous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757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lfare Indicators in Mexi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INDE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6040" y="2205000"/>
            <a:ext cx="7150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Origin and description of Strategy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6040" y="3213000"/>
            <a:ext cx="7655040" cy="5032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gramme Description of Strategy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8360" y="4221000"/>
            <a:ext cx="8351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echnical and transversal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530064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nnex: social policy institutionalis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7570800" cy="5032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lfare indicators in Mexi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Ind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6040" y="2205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Origin and description of Strategy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6040" y="3213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gramme Description of Strategy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221000"/>
            <a:ext cx="8351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echnical and transversal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530064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nnex: institutionalisation of soci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79280" y="44280"/>
            <a:ext cx="797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99"/>
                </a:solidFill>
                <a:latin typeface="Arial"/>
              </a:rPr>
              <a:t>Skills Increase             Programme of Human Development, Opportu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7800" y="836640"/>
            <a:ext cx="8367840" cy="25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me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ditioned transfe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the population in extreme poverty through the development of basic skills and the access to better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Educ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cholarships and gr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Healt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asic health package and self-help l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Nutri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cash transfer y nutritional supplements for children under 5 years 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1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Patrim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050920" y="2870280"/>
            <a:ext cx="1081080" cy="217440"/>
          </a:xfrm>
          <a:prstGeom prst="rightArrow">
            <a:avLst>
              <a:gd name="adj1" fmla="val 50000"/>
              <a:gd name="adj2" fmla="val 124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082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2852640"/>
            <a:ext cx="1871640" cy="307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trimony flo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3640" y="2565360"/>
            <a:ext cx="151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19640" y="435780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64000" y="4508640"/>
            <a:ext cx="43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3573360"/>
            <a:ext cx="5112000" cy="278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thers are the beneficiaries of the Programme and receive  cash transfer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strengthening women’s position in the family and within the commun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rting from the first grade of secondary schooling the scholarship i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highe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for women (the rate of desertion increases as of this gr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pecial attention for pregnant women, special regime of consultation to care for the correct development of pregnancy, mother’s health and to prevent risk deliverie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73080" y="4659480"/>
            <a:ext cx="230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der 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79280" y="-69840"/>
            <a:ext cx="821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99"/>
                </a:solidFill>
                <a:latin typeface="Arial"/>
              </a:rPr>
              <a:t>Skills Incre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99"/>
                </a:solidFill>
                <a:latin typeface="Arial"/>
              </a:rPr>
              <a:t>Opportunities, Principles of Strategy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27082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03640" y="2565360"/>
            <a:ext cx="151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58920" y="1555920"/>
            <a:ext cx="2268360" cy="322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orresponde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19640" y="435780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64000" y="4508640"/>
            <a:ext cx="43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27280" y="907920"/>
            <a:ext cx="5256360" cy="143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basis for the granting of help is children’s attendance at school and  family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tendance at health cent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is an inter-institutional programme with the participation of SEP, SSA, IMSS, SEDES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3286080"/>
            <a:ext cx="2268360" cy="322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ransparency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27280" y="2637000"/>
            <a:ext cx="5256360" cy="143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orous selection system of beneficiaries based on   socio-economic characteristics of the household this way avoiding discretionary and client-oriented ai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id delivered directly to families without  intermediary involvement of officials, authorities or lead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8920" y="5635800"/>
            <a:ext cx="2268360" cy="322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00360" y="5502240"/>
            <a:ext cx="5256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tention to different stages of the life cycle: pre-natal, childhood, adolescence, adulthood and late adultho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29080" y="1627200"/>
            <a:ext cx="863280" cy="217440"/>
          </a:xfrm>
          <a:prstGeom prst="rightArrow">
            <a:avLst>
              <a:gd name="adj1" fmla="val 50000"/>
              <a:gd name="adj2" fmla="val 9925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8920" y="4581360"/>
            <a:ext cx="2268360" cy="322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600360" y="4437000"/>
            <a:ext cx="5256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Highe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grants for girls as of secondary school given a greater dispersion lev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627280" y="3357720"/>
            <a:ext cx="863640" cy="217440"/>
          </a:xfrm>
          <a:prstGeom prst="rightArrow">
            <a:avLst>
              <a:gd name="adj1" fmla="val 50000"/>
              <a:gd name="adj2" fmla="val 99296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0360" y="4651200"/>
            <a:ext cx="863640" cy="217800"/>
          </a:xfrm>
          <a:prstGeom prst="rightArrow">
            <a:avLst>
              <a:gd name="adj1" fmla="val 50000"/>
              <a:gd name="adj2" fmla="val 99132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00360" y="5732640"/>
            <a:ext cx="863640" cy="217440"/>
          </a:xfrm>
          <a:prstGeom prst="rightArrow">
            <a:avLst>
              <a:gd name="adj1" fmla="val 50000"/>
              <a:gd name="adj2" fmla="val 99296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140360" y="3213000"/>
            <a:ext cx="5003640" cy="37339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11280" y="779400"/>
            <a:ext cx="7921440" cy="25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oks after  5 million fami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98%  of pregnant women with pre-natal c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p Smear test for 61% more women in the programme  than for  women outside the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valence of anaemia reduced by 6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cription in higher education increased by 8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re than 1 million beneficiaries have an account and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nk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9280" y="-69840"/>
            <a:ext cx="821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99"/>
                </a:solidFill>
                <a:latin typeface="Arial"/>
              </a:rPr>
              <a:t>Skills Incre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99"/>
                </a:solidFill>
                <a:latin typeface="Arial"/>
              </a:rPr>
              <a:t>Opportunities, Achiev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24000" y="20520"/>
            <a:ext cx="80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Arial"/>
              </a:rPr>
              <a:t>Generation of Income Opportun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Arial"/>
              </a:rPr>
              <a:t>Micro-regional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Arial"/>
              </a:rPr>
              <a:t>Programme for Local Development (Micro-reg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1276200"/>
            <a:ext cx="856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gramme for Local Development (Micro-regions) is also part of the Micro-regional Strategy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 secretariats take part in the Micro-regional Strategy and their aim is to defeat shortcomings in the territories with the highest rate of marginalisation through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00000" y="3254400"/>
            <a:ext cx="763272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Grouping them in </a:t>
            </a: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micro-region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, which are defined as geographical spaces integrated by municipalities with a high degree of marginalisation and which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in turn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have cultural, economic or social link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Detect within each </a:t>
            </a: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micro-region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localities that are centres of education</a:t>
            </a:r>
            <a:r>
              <a:rPr b="0" lang="es-CL" sz="1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productive, commercial and social development  to act as such for a group of smaller communities dispersed within a certain radius of influence, </a:t>
            </a:r>
            <a:r>
              <a:rPr b="1" lang="en-GB" sz="1700" spc="-1" strike="noStrike">
                <a:solidFill>
                  <a:srgbClr val="000099"/>
                </a:solidFill>
                <a:latin typeface="Arial"/>
              </a:rPr>
              <a:t>Strategic Community Centres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333399"/>
                </a:solidFill>
                <a:latin typeface="Arial"/>
              </a:rPr>
              <a:t>(CEC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50920" y="189000"/>
            <a:ext cx="82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Arial"/>
              </a:rPr>
              <a:t>Generation of Income Opportun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Arial"/>
              </a:rPr>
              <a:t>Programme for Local Development (Micro-reg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16000" y="105264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s aim is to provide help towards the development of micro-regions  through the implementation of work and actions that will benefit their inhabita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goal of the programme is for each CEC to have minimal equipment integrated by 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5640" y="2633760"/>
            <a:ext cx="3529080" cy="2062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sic electricity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ssable road connected all year round to  a federal or state net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sic schoo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sic health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teleph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718160" y="2633760"/>
            <a:ext cx="3598920" cy="181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computer and Interne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ter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sic food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vings facilities or simil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n-dirt flo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16000" y="47912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gramme defines the infrastructure necessary to provide each aspect of basic equipment and establishe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white flag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as indicators of work that h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een successfully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68360" y="23004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Local Development Programme (Micro-region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Type of a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3395520"/>
            <a:ext cx="2951280" cy="5806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ype of aid in the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84720" y="1125360"/>
            <a:ext cx="446400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al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t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lth, education and spo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arning Community Cent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ly and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rastructure and production and productivity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lepho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al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-municipal equi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gal 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708360" y="981000"/>
            <a:ext cx="358920" cy="5473800"/>
          </a:xfrm>
          <a:custGeom>
            <a:avLst/>
            <a:gdLst>
              <a:gd name="textAreaLeft" fmla="*/ 229320 w 358920"/>
              <a:gd name="textAreaRight" fmla="*/ 359280 w 358920"/>
              <a:gd name="textAreaTop" fmla="*/ 142560 h 5473800"/>
              <a:gd name="textAreaBottom" fmla="*/ 5331240 h 547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6200" y="1231920"/>
            <a:ext cx="3961080" cy="30607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24000" y="4797360"/>
            <a:ext cx="5400360" cy="16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cal Development Program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SEDES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ncentrates 44% of the budget in 5 states with the highest marginalisation r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64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7,123 white flags have been installed (basic infrastructure works completed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9280" y="-27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Arial"/>
              </a:rPr>
              <a:t>Generation of Income Opportu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Arial"/>
              </a:rPr>
              <a:t>Local Development Programme (Micro-regi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284720" y="765000"/>
            <a:ext cx="4321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inciples of Strategy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627280" y="1832040"/>
            <a:ext cx="1873440" cy="307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rrespon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3440" y="1905120"/>
            <a:ext cx="503280" cy="217440"/>
          </a:xfrm>
          <a:prstGeom prst="rightArrow">
            <a:avLst>
              <a:gd name="adj1" fmla="val 50000"/>
              <a:gd name="adj2" fmla="val 57864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076720" y="1197000"/>
            <a:ext cx="3743280" cy="169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neficiaries contribute work necessary to implement  and execute the 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nectin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with other state, municipal and federal  programmes. To carry out electrification works it is necessary to obtain validation from the Federal Electricity Com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19640" y="3992400"/>
            <a:ext cx="1152360" cy="5202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45080" y="4065480"/>
            <a:ext cx="503280" cy="217440"/>
          </a:xfrm>
          <a:prstGeom prst="rightArrow">
            <a:avLst>
              <a:gd name="adj1" fmla="val 50000"/>
              <a:gd name="adj2" fmla="val 57864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48360" y="3573360"/>
            <a:ext cx="3743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munity organisation and participation in planning, instrumentalisation and evaluation of regional development  is promoted  through Local Development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24000" y="476280"/>
            <a:ext cx="80643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Generation of Income Opportunit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Programme of Productive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1703520"/>
            <a:ext cx="8569080" cy="247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otes the formation of productive patrimony or work capital of the population in conditions of pover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ives productive activity diversification and self-employment through the aid for the creation, strengthening and amplification of productive projects within the credit initiative, training and business coaching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otes integration processes and regional economic development foc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otes the use, formation and consolidation of financing system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24000" y="2052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Arial"/>
              </a:rPr>
              <a:t>Generation of Income Opportunitie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9933"/>
                </a:solidFill>
                <a:latin typeface="Arial"/>
              </a:rPr>
              <a:t>Productive Options Programme. Aid Moda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18200" y="1054080"/>
            <a:ext cx="2160360" cy="307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ive 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71640" y="1054080"/>
            <a:ext cx="2305080" cy="3070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d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51280" y="1701720"/>
            <a:ext cx="4392720" cy="520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all credit to diversify agricultural activity in areas of strong climate fluctuations or natural disas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12760" y="1795320"/>
            <a:ext cx="2089080" cy="307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ord A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067280" y="5116680"/>
            <a:ext cx="4176720" cy="520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redits for the development of productive projects and self-employment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12760" y="4994280"/>
            <a:ext cx="2089080" cy="733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cial Credit and Productive Credit for Wo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67280" y="2473200"/>
            <a:ext cx="4176720" cy="733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l aid to access and take advantage of productive credits provided by different government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12760" y="2617920"/>
            <a:ext cx="2089080" cy="307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cial Financing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067280" y="4341960"/>
            <a:ext cx="4176720" cy="520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visory services for development, establishing and evaluation of productive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14560" y="4456080"/>
            <a:ext cx="2089080" cy="307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siness Impu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067280" y="3429000"/>
            <a:ext cx="4176720" cy="733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unding and impulse for integration processes and projects whose focus is on regional economic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14560" y="3481560"/>
            <a:ext cx="2089080" cy="9464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ive Integration and Social Development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32360" y="562284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redits are recuperated under conditions adequate for people in conditions of poverty: terms, amounts and  rates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44080" y="-9360"/>
            <a:ext cx="79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Generation of Income Opportunit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Productive Options Programme, Principles of Strategy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27082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03640" y="2565360"/>
            <a:ext cx="151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7280" y="1452600"/>
            <a:ext cx="2268720" cy="322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orresponde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435780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4508640"/>
            <a:ext cx="43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92360" y="692280"/>
            <a:ext cx="5256360" cy="143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neficiaries should pay their productive credit to access new a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the Social Financing Fund Flow to access all aid it is necessary to attend training sessions and to develop a business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7280" y="4149720"/>
            <a:ext cx="2268720" cy="322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92360" y="3716280"/>
            <a:ext cx="5256360" cy="119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ference is given to people who have been or are beneficiaries of the Human Development Opportunities Program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cro-regional aid is favo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7280" y="2924280"/>
            <a:ext cx="2268720" cy="322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92360" y="2637000"/>
            <a:ext cx="5256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ductive Credits for women require a smaller initial contribution, a lower interest rate and a longer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19640" y="5300640"/>
            <a:ext cx="52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908000" y="5599080"/>
            <a:ext cx="7056720" cy="10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74,056 producers helped by Word Aid (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6,288 productive  projects helped (20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istance to 90% of micro-regions with the highest rate of margina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84360" y="5229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hiev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629080" y="1482840"/>
            <a:ext cx="863280" cy="217440"/>
          </a:xfrm>
          <a:prstGeom prst="rightArrow">
            <a:avLst>
              <a:gd name="adj1" fmla="val 50000"/>
              <a:gd name="adj2" fmla="val 9925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627280" y="2995560"/>
            <a:ext cx="863640" cy="217440"/>
          </a:xfrm>
          <a:prstGeom prst="rightArrow">
            <a:avLst>
              <a:gd name="adj1" fmla="val 50000"/>
              <a:gd name="adj2" fmla="val 99296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29080" y="4219560"/>
            <a:ext cx="863280" cy="217440"/>
          </a:xfrm>
          <a:prstGeom prst="rightArrow">
            <a:avLst>
              <a:gd name="adj1" fmla="val 50000"/>
              <a:gd name="adj2" fmla="val 9925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4484520" y="3521160"/>
            <a:ext cx="37800" cy="38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-4484520" y="3673440"/>
            <a:ext cx="37800" cy="3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-4484520" y="3825720"/>
            <a:ext cx="37800" cy="38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-4484520" y="4130640"/>
            <a:ext cx="37800" cy="38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-4484520" y="4282920"/>
            <a:ext cx="37800" cy="38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-4484520" y="4435560"/>
            <a:ext cx="37800" cy="38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9640" y="26028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General Information about Me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6920" y="1163520"/>
            <a:ext cx="330372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58920" y="1225440"/>
          <a:ext cx="6337440" cy="3996000"/>
        </p:xfrm>
        <a:graphic>
          <a:graphicData uri="http://schemas.openxmlformats.org/drawingml/2006/table">
            <a:tbl>
              <a:tblPr/>
              <a:tblGrid>
                <a:gridCol w="3960720"/>
                <a:gridCol w="2376720"/>
              </a:tblGrid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43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population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Projection 200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.3 m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Domestic Product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12,028 m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 capita income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,2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49,495 m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6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nding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2,808 mill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ni Index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35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expectancy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43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edu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0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centage of rural pop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79280" y="324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9900"/>
                </a:solidFill>
                <a:latin typeface="Arial"/>
              </a:rPr>
              <a:t>Patrimony Form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9900"/>
                </a:solidFill>
                <a:latin typeface="Arial"/>
              </a:rPr>
              <a:t>Programme Young People with Opportu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723960"/>
            <a:ext cx="867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is the patrimonial flow of the Human Development Opportunities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provides a savings fund to grantees of the Opportunities Programme  who are in the course of their secondary education and who will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raduat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before they are 22 years old. It can be used  f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79280" y="2133720"/>
            <a:ext cx="8425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 on to higher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t productive cred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quire or improve their hous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t health insur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eep sa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9280" y="765000"/>
            <a:ext cx="835344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2920" y="4465800"/>
            <a:ext cx="1692360" cy="307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rrespo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629080" y="4268880"/>
            <a:ext cx="345564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oung people accumulate points as they progress in their studies and can access the savings until they finish their secondary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42920" y="5589720"/>
            <a:ext cx="169236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gr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27280" y="5421240"/>
            <a:ext cx="34574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s the transition of young people to adulthood by providing them with skills such as patrimo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35280" y="4610160"/>
            <a:ext cx="792000" cy="217440"/>
          </a:xfrm>
          <a:prstGeom prst="rightArrow">
            <a:avLst>
              <a:gd name="adj1" fmla="val 50000"/>
              <a:gd name="adj2" fmla="val 9106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35280" y="5670720"/>
            <a:ext cx="792000" cy="217440"/>
          </a:xfrm>
          <a:prstGeom prst="rightArrow">
            <a:avLst>
              <a:gd name="adj1" fmla="val 50000"/>
              <a:gd name="adj2" fmla="val 9106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87280" y="3740040"/>
            <a:ext cx="360072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inciples of Strategy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04000" y="443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hiev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659640" y="4842000"/>
            <a:ext cx="2089080" cy="148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47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ousand  students are currently accumulating poi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,191 young people have decided to go to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44280"/>
            <a:ext cx="86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roviding Social Welfa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National Institute for Old Age Pensioners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3560" y="836640"/>
            <a:ext cx="803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protect, assist , help and give orientation to people of 60 years old or older  so that they can fulfil their necessities and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 strategic line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132000" y="1525680"/>
            <a:ext cx="280836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. Employment and economic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84720" y="1525680"/>
            <a:ext cx="280836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. Health, investigation, formation of human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2000" y="2246400"/>
            <a:ext cx="280836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. Social and community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84720" y="2246400"/>
            <a:ext cx="2808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.Value trans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16000" y="4581360"/>
            <a:ext cx="115236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11280" y="2781360"/>
            <a:ext cx="360360" cy="3960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916360" y="2852640"/>
            <a:ext cx="590364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ork training and free time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mployment programme for OA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conomic help and advisory service to start productive activ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l Assistance Centre: free medical enquiries, legal advisory service, job cent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lth edu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uter training cent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count cards for goods and serv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gal aid depar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AP clubs, social, educational, cultural, artistic , leisure, sports and productive  activities in handcraft workshops and other manual a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lture centr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16000" y="2492280"/>
            <a:ext cx="2340000" cy="33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responden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348000" y="2133720"/>
            <a:ext cx="43196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tizen participation through the Inter-institutional Council (State Secretariats, civil organisations and education institu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16000" y="3740040"/>
            <a:ext cx="2340000" cy="3373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48000" y="3573360"/>
            <a:ext cx="4321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iving assistance to O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56000" y="2563920"/>
            <a:ext cx="792000" cy="217440"/>
          </a:xfrm>
          <a:prstGeom prst="rightArrow">
            <a:avLst>
              <a:gd name="adj1" fmla="val 50000"/>
              <a:gd name="adj2" fmla="val 9106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56000" y="3787920"/>
            <a:ext cx="792000" cy="217440"/>
          </a:xfrm>
          <a:prstGeom prst="rightArrow">
            <a:avLst>
              <a:gd name="adj1" fmla="val 50000"/>
              <a:gd name="adj2" fmla="val 9106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87280" y="1413000"/>
            <a:ext cx="4680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inciples of Strategy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51280" y="450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780000" y="4870440"/>
            <a:ext cx="4824360" cy="16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7 million of credentia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63,764 free medical enqui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9, 966 jo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8 million of leisure, culture, tourism, sports activities as well as psychological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44280"/>
            <a:ext cx="860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roviding Social Prot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ational Institute for Old Age Pensioners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757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elfare indicators in Mexi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INDEX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46040" y="2205000"/>
            <a:ext cx="7150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Origin and description of Strategy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6040" y="3213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gramme Description of Strategy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68360" y="4221000"/>
            <a:ext cx="8351640" cy="8636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echnical and transversal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5445000"/>
            <a:ext cx="727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Annex: institutionalisation of soci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91520" cy="36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52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080" indent="-352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que beneficiary pattern integrated by 36.8 million people who benefited from at least one social programme (April 2004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080" indent="-352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ttern has systemised, structured and homogenised  inform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080" indent="-352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all the programmes a Social Information Card is used which permits to get to know the kind of poverty of each household which, in turn, establish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ir eligibili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2080" indent="-352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istence of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-referenced system that permits the identification of geographical areas of intervention according to the concentration of households in poverty and according to the degree of marginal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attern of beneficiaries, improves focalisation and avoids aid dupl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valuations , efficient use of resources and transpar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71640" y="1177920"/>
            <a:ext cx="7273800" cy="133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aw establishes that all programmes should present , once a year, their result to the Chamber of Depu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sults of the evaluations should be considered in the budgeting process of public spending for the following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32000" y="4432320"/>
            <a:ext cx="1800000" cy="5806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evaluations per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19640" y="2924280"/>
            <a:ext cx="142560" cy="3529080"/>
          </a:xfrm>
          <a:custGeom>
            <a:avLst/>
            <a:gdLst>
              <a:gd name="textAreaLeft" fmla="*/ 91080 w 142560"/>
              <a:gd name="textAreaRight" fmla="*/ 142920 w 142560"/>
              <a:gd name="textAreaTop" fmla="*/ 91800 h 3529080"/>
              <a:gd name="textAreaBottom" fmla="*/ 3437280 h 35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708360" y="2787480"/>
            <a:ext cx="4464000" cy="38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compare the impact and management among programmes and to help a more efficient use of resour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keep and strengthen the programmes that show favourable resul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help  the growth of and learning about programm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help re-design, adjust and verify pertinence of progra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strengthen transparency and account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improve the discussion about social policy by including objective and technical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340000" y="2781360"/>
            <a:ext cx="4176720" cy="25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949480" y="5308560"/>
            <a:ext cx="2533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59240" y="3686040"/>
            <a:ext cx="37393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valuating and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075280"/>
            <a:ext cx="1061640" cy="45972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497560" y="5075280"/>
            <a:ext cx="1520280" cy="45972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370120" y="4262400"/>
            <a:ext cx="89388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472840" y="4191120"/>
            <a:ext cx="954360" cy="88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340000" y="2789280"/>
            <a:ext cx="1295280" cy="2286000"/>
          </a:xfrm>
          <a:custGeom>
            <a:avLst/>
            <a:gdLst/>
            <a:ahLst/>
            <a:rect l="l" t="t" r="r" b="b"/>
            <a:pathLst>
              <a:path w="816" h="1440">
                <a:moveTo>
                  <a:pt x="816" y="0"/>
                </a:moveTo>
                <a:lnTo>
                  <a:pt x="0" y="0"/>
                </a:lnTo>
                <a:lnTo>
                  <a:pt x="0" y="14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5254560" y="2770200"/>
            <a:ext cx="1238400" cy="2305080"/>
          </a:xfrm>
          <a:custGeom>
            <a:avLst/>
            <a:gdLst/>
            <a:ahLst/>
            <a:rect l="l" t="t" r="r" b="b"/>
            <a:pathLst>
              <a:path w="816" h="1440">
                <a:moveTo>
                  <a:pt x="816" y="0"/>
                </a:moveTo>
                <a:lnTo>
                  <a:pt x="0" y="0"/>
                </a:lnTo>
                <a:lnTo>
                  <a:pt x="0" y="14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806480" y="5622840"/>
            <a:ext cx="116532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u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cen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97560" y="5657760"/>
            <a:ext cx="2575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erational Institutional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rganisational Efficienc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s and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-institutional co-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cial particip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85480" y="4549680"/>
            <a:ext cx="96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435560" y="2979720"/>
            <a:ext cx="0" cy="70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12120" y="1054080"/>
            <a:ext cx="8956080" cy="1931400"/>
            <a:chOff x="312120" y="1054080"/>
            <a:chExt cx="8956080" cy="1931400"/>
          </a:xfrm>
        </p:grpSpPr>
        <p:sp>
          <p:nvSpPr>
            <p:cNvPr id="403" name=""/>
            <p:cNvSpPr/>
            <p:nvPr/>
          </p:nvSpPr>
          <p:spPr>
            <a:xfrm>
              <a:off x="4521960" y="1338120"/>
              <a:ext cx="26510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ig SP themes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stitutionalisation of S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ustainabi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centives among Program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312120" y="1054080"/>
              <a:ext cx="8956080" cy="1931400"/>
              <a:chOff x="312120" y="1054080"/>
              <a:chExt cx="8956080" cy="1931400"/>
            </a:xfrm>
          </p:grpSpPr>
          <p:sp>
            <p:nvSpPr>
              <p:cNvPr id="405" name=""/>
              <p:cNvSpPr/>
              <p:nvPr/>
            </p:nvSpPr>
            <p:spPr>
              <a:xfrm>
                <a:off x="3649320" y="2525760"/>
                <a:ext cx="1349640" cy="459720"/>
              </a:xfrm>
              <a:prstGeom prst="rect">
                <a:avLst/>
              </a:prstGeom>
              <a:solidFill>
                <a:srgbClr val="eaea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Plann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30920" y="1054080"/>
                <a:ext cx="1316160" cy="459720"/>
              </a:xfrm>
              <a:prstGeom prst="rect">
                <a:avLst/>
              </a:prstGeom>
              <a:solidFill>
                <a:srgbClr val="eaea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Prospe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12120" y="1550880"/>
                <a:ext cx="313560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Evolution of the profile of necessitie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Socio-demographic tendenc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Economic context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Prevision of demand-ac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 rot="16200000">
                <a:off x="2667600" y="788400"/>
                <a:ext cx="1157400" cy="2222640"/>
              </a:xfrm>
              <a:custGeom>
                <a:avLst/>
                <a:gdLst/>
                <a:ahLst/>
                <a:rect l="l" t="t" r="r" b="b"/>
                <a:pathLst>
                  <a:path w="816" h="1440">
                    <a:moveTo>
                      <a:pt x="816" y="0"/>
                    </a:moveTo>
                    <a:lnTo>
                      <a:pt x="0" y="0"/>
                    </a:lnTo>
                    <a:lnTo>
                      <a:pt x="0" y="144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6810840" y="1054080"/>
                <a:ext cx="1553760" cy="459720"/>
              </a:xfrm>
              <a:prstGeom prst="rect">
                <a:avLst/>
              </a:prstGeom>
              <a:solidFill>
                <a:srgbClr val="eaeae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Diagnost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 rot="5400000">
                <a:off x="5090040" y="788400"/>
                <a:ext cx="1157400" cy="2222640"/>
              </a:xfrm>
              <a:custGeom>
                <a:avLst/>
                <a:gdLst/>
                <a:ahLst/>
                <a:rect l="l" t="t" r="r" b="b"/>
                <a:pathLst>
                  <a:path w="816" h="1440">
                    <a:moveTo>
                      <a:pt x="816" y="0"/>
                    </a:moveTo>
                    <a:lnTo>
                      <a:pt x="0" y="0"/>
                    </a:lnTo>
                    <a:lnTo>
                      <a:pt x="0" y="144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014960" y="1554120"/>
                <a:ext cx="225324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Necessities I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Socio-demographic profi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Regional condition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Shortcomings map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SD opportunitie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141640" y="1174680"/>
                <a:ext cx="4672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3" name=""/>
          <p:cNvSpPr/>
          <p:nvPr/>
        </p:nvSpPr>
        <p:spPr>
          <a:xfrm>
            <a:off x="457200" y="11592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Internal Process of Social Developmen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757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Welfare indicators in Mexi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INDEX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040" y="2205000"/>
            <a:ext cx="7150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Origin and description of Strategy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46040" y="3213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gramme Description of Strategy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68360" y="4221000"/>
            <a:ext cx="8351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Technical and tansversal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8360" y="5445000"/>
            <a:ext cx="7272360" cy="5050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nnex: institutionalisation of soci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395280" y="1485720"/>
            <a:ext cx="8362800" cy="28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3960" indent="-274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asis for constructing a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untr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wide social polic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74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stitutionalises social policy that transcends six-year policies  Promotes integration of economic policy and social polic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74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tects social spending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8360" y="206280"/>
            <a:ext cx="7488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nstitutionalisation of Soci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(General Law of Social Develop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0960" y="3933720"/>
            <a:ext cx="785340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3960" indent="-274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cannot be lower, in real terms, than the one from the previous ye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74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should increase at least in the same proportion as the growth of 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74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al spending per capita will not be lower in real terms than the one assigned the previous ye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394920" y="1053720"/>
            <a:ext cx="849780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3960" indent="-2746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t establishes a framework for horizontal and vertical participation and co-ordination of the three branches of the government and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98560" y="2276640"/>
            <a:ext cx="31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ordination between dependencies and entities of Federal Public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98560" y="380700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ordination between government bra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98560" y="494352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al participation in the national develop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140360" y="2620800"/>
            <a:ext cx="925200" cy="576360"/>
          </a:xfrm>
          <a:prstGeom prst="rightArrow">
            <a:avLst>
              <a:gd name="adj1" fmla="val 50000"/>
              <a:gd name="adj2" fmla="val 40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40360" y="3807000"/>
            <a:ext cx="863280" cy="576000"/>
          </a:xfrm>
          <a:prstGeom prst="rightArrow">
            <a:avLst>
              <a:gd name="adj1" fmla="val 50000"/>
              <a:gd name="adj2" fmla="val 374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38560" y="4994280"/>
            <a:ext cx="863640" cy="576360"/>
          </a:xfrm>
          <a:prstGeom prst="rightArrow">
            <a:avLst>
              <a:gd name="adj1" fmla="val 50000"/>
              <a:gd name="adj2" fmla="val 374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35640" y="24764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-secretariat Committee for Soci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35640" y="3733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onal Commission for Soci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89480" y="4954680"/>
            <a:ext cx="37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isory Council for Social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cial Comptroller’s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8360" y="206280"/>
            <a:ext cx="7488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Institutionalisation of Social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(General Law of Social Develop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4484520" y="3521160"/>
            <a:ext cx="37800" cy="38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4484520" y="3673440"/>
            <a:ext cx="37800" cy="38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-4484520" y="3825720"/>
            <a:ext cx="37800" cy="38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-4484520" y="3978360"/>
            <a:ext cx="37800" cy="38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-4484520" y="4130640"/>
            <a:ext cx="37800" cy="38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-4484520" y="4282920"/>
            <a:ext cx="37800" cy="38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-4484520" y="4435560"/>
            <a:ext cx="37800" cy="38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11592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incipal parameters for identifying socio-economic shortcom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xelrosa" descr=""/>
          <p:cNvPicPr/>
          <p:nvPr/>
        </p:nvPicPr>
        <p:blipFill>
          <a:blip r:embed="rId8"/>
          <a:stretch/>
        </p:blipFill>
        <p:spPr>
          <a:xfrm>
            <a:off x="2266920" y="1163520"/>
            <a:ext cx="38160" cy="38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66920" y="1163520"/>
            <a:ext cx="330372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4200" y="907920"/>
            <a:ext cx="770544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341360"/>
            <a:ext cx="8785440" cy="33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Official measurement of poverty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Income below the basic minimum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4680">
              <a:lnSpc>
                <a:spcPct val="11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66"/>
                </a:solidFill>
                <a:latin typeface="Arial"/>
              </a:rPr>
              <a:t>Nutritional pover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 nutrition (Basket INEGI-CEP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4680">
              <a:lnSpc>
                <a:spcPct val="11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66"/>
                </a:solidFill>
                <a:latin typeface="Arial"/>
              </a:rPr>
              <a:t>Skills pover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nutrition, health and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4680">
              <a:lnSpc>
                <a:spcPct val="11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66"/>
                </a:solidFill>
                <a:latin typeface="Arial"/>
              </a:rPr>
              <a:t>Patrimony pover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nutrition, health, education, housing, public transport, clothes and footw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46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395280" y="1053720"/>
            <a:ext cx="83628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ferring to transparency and accountabilit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stitutionalises evaluation and promotes administration culture for results. A National Evaluation Council is created which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4360" y="2421000"/>
            <a:ext cx="78530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ablishes poverty  defining and measuring crite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ulates external evaluations of the programmes whose results should be published and handed in to Congr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ult, coverage and impact  indicators are established and handed in for consideration to SHCP and  Cong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74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5280" y="3933720"/>
            <a:ext cx="83628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604440" indent="-4341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ensure balance and efficiency of social development 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4440" indent="-434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1280" y="4581360"/>
            <a:ext cx="785340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grates a Unique Beneficiary pattern with the collaboration from the gover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vides strategic information towards the planning of social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arantees objectivity, balance, transparency, choice and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74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74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74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8360" y="206280"/>
            <a:ext cx="7488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Institutionalisation of Soci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(General Law of Social Develop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74520" y="1197000"/>
          <a:ext cx="8242560" cy="55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20" y="1197000"/>
                    <a:ext cx="8242560" cy="55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195640" y="65833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Social Development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7128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% Reduction of  homes  in conditions of nutritional poverty (1.2 million of homes or 5.63 million peopl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89000"/>
            <a:ext cx="77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volution of Poverty in Mexico  (2000-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466560" y="1407960"/>
          <a:ext cx="8209080" cy="540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407960"/>
                    <a:ext cx="8209080" cy="540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35640" y="65833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ource: Social Development Secretari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712800"/>
            <a:ext cx="828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2000 to 2004, the percentage of people in conditions of patrimony poverty diminished by 7% - approximately 3.50 million of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89000"/>
            <a:ext cx="75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Evolution of Poverty in Mexico    (2000-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4484520" y="3521160"/>
            <a:ext cx="37800" cy="38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4484520" y="3673440"/>
            <a:ext cx="37800" cy="38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-4484520" y="3825720"/>
            <a:ext cx="37800" cy="38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-4484520" y="3978360"/>
            <a:ext cx="37800" cy="38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-4484520" y="4130640"/>
            <a:ext cx="37800" cy="38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-4484520" y="4282920"/>
            <a:ext cx="37800" cy="38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-4484520" y="4435560"/>
            <a:ext cx="37800" cy="38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4360" y="11592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incipal parameters for identifying socio-economic shortcom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xelrosa" descr=""/>
          <p:cNvPicPr/>
          <p:nvPr/>
        </p:nvPicPr>
        <p:blipFill>
          <a:blip r:embed="rId8"/>
          <a:stretch/>
        </p:blipFill>
        <p:spPr>
          <a:xfrm>
            <a:off x="2266920" y="1163520"/>
            <a:ext cx="38160" cy="38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66920" y="1163520"/>
            <a:ext cx="330372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6920" y="1163520"/>
            <a:ext cx="2771640" cy="360"/>
          </a:xfrm>
          <a:prstGeom prst="rect">
            <a:avLst/>
          </a:prstGeom>
          <a:solidFill>
            <a:srgbClr val="ffd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4200" y="907920"/>
            <a:ext cx="770544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276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1801800"/>
            <a:ext cx="8785440" cy="25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Official measurement of poverty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Income below the basic minimum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4680">
              <a:lnSpc>
                <a:spcPct val="11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66"/>
                </a:solidFill>
                <a:latin typeface="Arial"/>
              </a:rPr>
              <a:t>Nutritional pover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 nutrition (Basket INEGI-CEP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4680">
              <a:lnSpc>
                <a:spcPct val="11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66"/>
                </a:solidFill>
                <a:latin typeface="Arial"/>
              </a:rPr>
              <a:t>Skills pover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nutrition, health and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4680">
              <a:lnSpc>
                <a:spcPct val="110000"/>
              </a:lnSpc>
              <a:spcBef>
                <a:spcPts val="4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66"/>
                </a:solidFill>
                <a:latin typeface="Arial"/>
              </a:rPr>
              <a:t>Patrimony pover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nutrition, health, education, housing, public transport, clothes and footw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4294080"/>
            <a:ext cx="878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Marginalisation Index</a:t>
            </a:r>
            <a:r>
              <a:rPr b="0" lang="en-GB" sz="22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s a combined measurement and  summary of the most representatives deficiencies of social shortcomings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7468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324000" y="549360"/>
            <a:ext cx="4608720" cy="4236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9600" y="800280"/>
            <a:ext cx="1096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038480" y="762120"/>
          <a:ext cx="4537080" cy="5389560"/>
        </p:xfrm>
        <a:graphic>
          <a:graphicData uri="http://schemas.openxmlformats.org/drawingml/2006/table">
            <a:tbl>
              <a:tblPr/>
              <a:tblGrid>
                <a:gridCol w="1152720"/>
                <a:gridCol w="2520720"/>
                <a:gridCol w="863640"/>
              </a:tblGrid>
              <a:tr h="361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onents of Marginalisation 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o-economic dimen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cator for measuring exclusion inten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2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of population of 15 years or more </a:t>
                      </a:r>
                      <a:r>
                        <a:rPr b="1" lang="en-GB" sz="1000" spc="-1" strike="noStrike">
                          <a:solidFill>
                            <a:srgbClr val="cc0099"/>
                          </a:solidFill>
                          <a:latin typeface="Arial"/>
                          <a:ea typeface="Times New Roman"/>
                        </a:rPr>
                        <a:t>illit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48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of population of 15 years or more </a:t>
                      </a:r>
                      <a:r>
                        <a:rPr b="1" lang="en-GB" sz="1000" spc="-1" strike="noStrike">
                          <a:solidFill>
                            <a:srgbClr val="cc0099"/>
                          </a:solidFill>
                          <a:latin typeface="Arial"/>
                          <a:ea typeface="Times New Roman"/>
                        </a:rPr>
                        <a:t>without complete primary edu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8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453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us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of private  household occupants </a:t>
                      </a:r>
                      <a:r>
                        <a:rPr b="1" lang="en-GB" sz="1000" spc="-1" strike="noStrike">
                          <a:solidFill>
                            <a:srgbClr val="cc0099"/>
                          </a:solidFill>
                          <a:latin typeface="Arial"/>
                          <a:ea typeface="Times New Roman"/>
                        </a:rPr>
                        <a:t>without running wa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 private  household occupants </a:t>
                      </a:r>
                      <a:r>
                        <a:rPr b="1" lang="en-GB" sz="1000" spc="-1" strike="noStrike">
                          <a:solidFill>
                            <a:srgbClr val="cc0099"/>
                          </a:solidFill>
                          <a:latin typeface="Arial"/>
                          <a:ea typeface="Times New Roman"/>
                        </a:rPr>
                        <a:t>without sewage or private toilet facil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45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 private  household occupants </a:t>
                      </a:r>
                      <a:r>
                        <a:rPr b="0" lang="en-GB" sz="1000" spc="-1" strike="noStrike">
                          <a:solidFill>
                            <a:srgbClr val="cc0099"/>
                          </a:solidFill>
                          <a:latin typeface="Arial"/>
                          <a:ea typeface="Times New Roman"/>
                        </a:rPr>
                        <a:t>with dirt flo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 private  household occupants </a:t>
                      </a:r>
                      <a:r>
                        <a:rPr b="1" lang="en-GB" sz="1000" spc="-1" strike="noStrike">
                          <a:solidFill>
                            <a:srgbClr val="cc0099"/>
                          </a:solidFill>
                          <a:latin typeface="Arial"/>
                          <a:ea typeface="Times New Roman"/>
                        </a:rPr>
                        <a:t>without electri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45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of households with some degree of </a:t>
                      </a:r>
                      <a:r>
                        <a:rPr b="1" lang="en-GB" sz="1000" spc="-1" strike="noStrike">
                          <a:solidFill>
                            <a:srgbClr val="cc0099"/>
                          </a:solidFill>
                          <a:latin typeface="Arial"/>
                          <a:ea typeface="Times New Roman"/>
                        </a:rPr>
                        <a:t>overcrow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5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employed population with </a:t>
                      </a:r>
                      <a:r>
                        <a:rPr b="1" lang="en-GB" sz="1000" spc="-1" strike="noStrike">
                          <a:solidFill>
                            <a:srgbClr val="cc0099"/>
                          </a:solidFill>
                          <a:latin typeface="Arial"/>
                          <a:ea typeface="Times New Roman"/>
                        </a:rPr>
                        <a:t>income of up to two minimum wa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ulation distrib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of population in  </a:t>
                      </a:r>
                      <a:r>
                        <a:rPr b="1" lang="en-GB" sz="1000" spc="-1" strike="noStrike">
                          <a:solidFill>
                            <a:srgbClr val="cc0099"/>
                          </a:solidFill>
                          <a:latin typeface="Arial"/>
                          <a:ea typeface="Times New Roman"/>
                        </a:rPr>
                        <a:t>en localities with fewer than 5,000 inhabit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3429000" y="6553080"/>
            <a:ext cx="51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National Population Council,CONA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8920" y="18900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Marginalisatio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4989600"/>
            <a:ext cx="3816360" cy="14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f the  2,443 municipalities of the countr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.8% have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ery hig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marginalisatio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7.1% have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hig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marginalis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7570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Welfare indicators in Mexic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Arial"/>
              </a:rPr>
              <a:t>INDE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6040" y="2205000"/>
            <a:ext cx="7150320" cy="5032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Origin and description of Strategy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6040" y="3213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Programme Description of Strategy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4221000"/>
            <a:ext cx="8351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echnical and transversal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5300640"/>
            <a:ext cx="727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Annex: institutionalisation of social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4T23:19:05Z</dcterms:created>
  <dc:creator>Cnajera</dc:creator>
  <dc:description/>
  <dc:language>en-US</dc:language>
  <cp:lastModifiedBy>Rodrigo Pavez</cp:lastModifiedBy>
  <dcterms:modified xsi:type="dcterms:W3CDTF">2005-07-19T04:49:12Z</dcterms:modified>
  <cp:revision>712</cp:revision>
  <dc:subject/>
  <dc:title>Pobreza y planeación en México</dc:title>
</cp:coreProperties>
</file>