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017-8F7B-4ABE-BCD7-1ED84E65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F2A-E4CC-4941-9DA4-ACAA39D8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2F0-0C80-4E5E-8193-EB159568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3CC-1B14-48BE-A73D-95621FC2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53C-B4BA-4414-86F8-5FD0FC1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99E-4D82-4F87-93EE-04B4F11C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BA7-2AD0-4549-BE17-71722B11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16B-E081-4934-9714-1EE6F784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E29-2DB0-4719-8D15-E7662F0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92D-E852-4C4D-81E5-01BF3A40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D1F-D32C-4D76-B57D-6EEF72BF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502-2B20-4761-AFF9-301535A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1754-5D82-40D6-B29A-B953EDC0B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04880"/>
          </a:xfrm>
          <a:prstGeom prst="rect">
            <a:avLst/>
          </a:prstGeom>
          <a:ln w="0">
            <a:noFill/>
          </a:ln>
        </p:spPr>
      </p:pic>
      <p:pic>
        <p:nvPicPr>
          <p:cNvPr id="42" name="logo%20cides%20chico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792504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rramientas para Facilitar una Comunidad Interamericana a partir de R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ñ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Reflexión grupal el miércoles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esentación de un espacio virtual para el seguimiento del taller CIDES/MIDEPLAN/O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s Comunidades de Aprendizaje y la Cooperación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Cooperación Horizontal Conve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sencial y segment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operación Horizontal y Comunidades de 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rramientas diversificadas de trans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inuidad y retroali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 OEA y las Redes Interamerica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lementación, operadores y comunidades de 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igura%20pg12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6868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figura%20pg33" descr=""/>
          <p:cNvPicPr/>
          <p:nvPr/>
        </p:nvPicPr>
        <p:blipFill>
          <a:blip r:embed="rId2"/>
          <a:stretch/>
        </p:blipFill>
        <p:spPr>
          <a:xfrm>
            <a:off x="457200" y="343080"/>
            <a:ext cx="815328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Qué es una Comunidad de Aprendizaj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Grupo de personas que comparten una preocupación y un conjunto de problemas, y profundizan su conocimiento sobre el particular a través de la interacción contin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or medio de la interacción: aprendizaje conjunto, trama de relaciones, sentido de pertenencia y compromiso colecti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A través de la participación voluntaria en la comunidad, los miembros derivan va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Generación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alor a corto plazo – Solución problemas contin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alor a largo plazo – Formación y sistematización de una base de conocimi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alor intangible – Capital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Valor estratégico – Como comunidad con identidad propia pueden emprender proyectos colectivos de alto valor para los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La Complejidad de las Comunidades de Aprendizaje Intern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iene miembros de más de un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Dispersos geográficamente con diferencias hor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No todos tienen igual acceso a las tecnologías de información y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iembros de varios países/cul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Miembros que hablan distintos idi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Transferencia crí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95680" y="2239920"/>
          <a:ext cx="4343400" cy="363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239920"/>
                    <a:ext cx="43434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De lo Presencial a lo Vir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09480" y="2819520"/>
          <a:ext cx="4038840" cy="198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2819520"/>
                    <a:ext cx="40388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ptimizando la Cone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uniones pres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ideoconfer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ferenci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nsajería telef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rreo electró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ferencia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8:25:53Z</dcterms:created>
  <dc:creator> </dc:creator>
  <dc:description/>
  <dc:language>en-US</dc:language>
  <cp:lastModifiedBy>FPilotti</cp:lastModifiedBy>
  <dcterms:modified xsi:type="dcterms:W3CDTF">2005-07-15T16:53:10Z</dcterms:modified>
  <cp:revision>20</cp:revision>
  <dc:subject/>
  <dc:title>Slide 1</dc:title>
</cp:coreProperties>
</file>