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84660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08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08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82AF-29C3-42E8-9633-BD0CB80951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B792-55C8-4039-8B1B-CBD9595DE0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6AF1-711A-4FE4-9B13-CA4D3464C2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2847-A8B0-4055-BC84-242BF0CC3D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541CD-81D3-4D1C-8EB3-86E3C2D565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4FBE-BF35-4F4B-9028-DC4F0B5A4A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C5BF-D319-40C1-9FA1-FBF4DEC15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77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4DA9-94BE-4BAC-B6B5-3BB076B6EB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3135-4A79-4B65-A34B-187872317B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384660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5BC0-A220-47F7-948A-F5E6740B30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77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6736-F37C-48B5-9095-944DE840F7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08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08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2E1B-3E09-4792-982E-9887A325B0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85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32720" y="4365720"/>
            <a:ext cx="241128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564C-D27F-4AE9-9500-DC55AA95DAA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85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C1F5-19D4-48BF-9CFB-2D662975B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508640"/>
            <a:ext cx="2050920" cy="12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2249280" cy="1191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19640" y="4941720"/>
            <a:ext cx="35053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47640" y="3500280"/>
            <a:ext cx="59058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cc"/>
                </a:solidFill>
                <a:latin typeface="Century Gothic"/>
              </a:rPr>
              <a:t>GUATE SOLIDARIA R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e08500"/>
                </a:solidFill>
                <a:latin typeface="Times New Roman"/>
              </a:rPr>
              <a:t>Estrategias y técnicas de focalización de políticas sociales para la reducción de pobreza</a:t>
            </a:r>
            <a:r>
              <a:rPr b="1" lang="es-MX" sz="3600" spc="-1" strike="noStrike">
                <a:solidFill>
                  <a:srgbClr val="e085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741B-944D-435A-8784-B8BD63232D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9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3399ff"/>
                </a:solidFill>
                <a:latin typeface="Comic Sans MS"/>
              </a:rPr>
              <a:t>¿Cuáles son los objetivos específicos </a:t>
            </a:r>
            <a:br>
              <a:rPr sz="2700"/>
            </a:br>
            <a:r>
              <a:rPr b="1" lang="es-MX" sz="2700" spc="-1" strike="noStrike">
                <a:solidFill>
                  <a:srgbClr val="3399ff"/>
                </a:solidFill>
                <a:latin typeface="Comic Sans MS"/>
              </a:rPr>
              <a:t>en estos 3 ámbitos?</a:t>
            </a:r>
            <a:endParaRPr b="1" lang="en-US" sz="27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03280" y="5516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566712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- - - - - - - - - - - - - - - - - - - - - - - - - - - -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rticipación social y Auditoria Soci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786132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2276640"/>
            <a:ext cx="84978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on un conjunto de </a:t>
            </a:r>
            <a:r>
              <a:rPr b="1" i="1" lang="en-US" sz="3000" spc="-1" strike="noStrike">
                <a:solidFill>
                  <a:srgbClr val="000000"/>
                </a:solidFill>
                <a:latin typeface="Century Gothic"/>
              </a:rPr>
              <a:t>condiciones deseables a alcanzar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en los distintos ámbitos de intervención las cuales, de cumplirse, </a:t>
            </a:r>
            <a:r>
              <a:rPr b="1" i="1" lang="en-US" sz="3000" spc="-1" strike="noStrike">
                <a:solidFill>
                  <a:srgbClr val="000000"/>
                </a:solidFill>
                <a:latin typeface="Century Gothic"/>
              </a:rPr>
              <a:t>dotarán a las familias de las bases necesarias para mejorar su calidad de vida y salir de la pobreza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Qué son esas condiciones mínimas que se quieren alcanzar?</a:t>
            </a:r>
            <a:endParaRPr b="1" lang="en-US" sz="3200" spc="-1" strike="noStrike">
              <a:solidFill>
                <a:srgbClr val="e08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Comic Sans MS"/>
              </a:rPr>
              <a:t>… </a:t>
            </a:r>
            <a:r>
              <a:rPr b="1" lang="en-US" sz="4000" spc="-1" strike="noStrike">
                <a:solidFill>
                  <a:srgbClr val="3399ff"/>
                </a:solidFill>
                <a:latin typeface="Comic Sans MS"/>
              </a:rPr>
              <a:t>en educación (15):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820000" cy="36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Ampliar la cobertura de educación primaria a la población desatendida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odos los estudiantes cuentan con alimentación escolar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a infraestructura y mobiliarios en las escuelas es adecuado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443640" y="765000"/>
            <a:ext cx="19065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… </a:t>
            </a:r>
            <a:r>
              <a:rPr b="1" lang="en-US" sz="3200" spc="-1" strike="noStrike">
                <a:solidFill>
                  <a:srgbClr val="3399ff"/>
                </a:solidFill>
                <a:latin typeface="Comic Sans MS"/>
              </a:rPr>
              <a:t>en salud, agua y saneamiento (15)</a:t>
            </a:r>
            <a:endParaRPr b="1" lang="en-US" sz="32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a comunidad dispone con pertinencia del acceso a SS preventivos y curativos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a comunidad dispone de un sistema de agua potable funcionando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a comunidad cuenta con adecuados sistemas de eliminación de excretas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a comunidad cuenta con un sistema de disposición de basura adecuado, que reduzca el impacto sobre la salud y el ambiente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Comic Sans MS"/>
              </a:rPr>
              <a:t>… </a:t>
            </a:r>
            <a:r>
              <a:rPr b="1" lang="en-US" sz="4000" spc="-1" strike="noStrike">
                <a:solidFill>
                  <a:srgbClr val="3399ff"/>
                </a:solidFill>
                <a:latin typeface="Comic Sans MS"/>
              </a:rPr>
              <a:t>en Nutrición (8)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8497800" cy="360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 comunidad dispone de una unidad de vigilancia nutricional para el seguimiento antropométrico de los niños menores a 5 año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s niños con desnutrición crónica son trasladados a los servicios de salud para su recuperació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Comic Sans MS"/>
              </a:rPr>
              <a:t>… </a:t>
            </a:r>
            <a:r>
              <a:rPr b="1" lang="en-US" sz="4000" spc="-1" strike="noStrike">
                <a:solidFill>
                  <a:srgbClr val="3399ff"/>
                </a:solidFill>
                <a:latin typeface="Comic Sans MS"/>
              </a:rPr>
              <a:t>en SAN (4)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as comunidades y el municipio cuentan con planes de acción para reducir contingencias por falta de alimentos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a comunidad y el municipio cuentan con planes para la prevención y reducción de riesgos ambientales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99ff"/>
                </a:solidFill>
                <a:latin typeface="Times New Roman"/>
              </a:rPr>
              <a:t>… </a:t>
            </a:r>
            <a:r>
              <a:rPr b="1" lang="en-US" sz="3800" spc="-1" strike="noStrike">
                <a:solidFill>
                  <a:srgbClr val="3399ff"/>
                </a:solidFill>
                <a:latin typeface="Times New Roman"/>
              </a:rPr>
              <a:t>en Vivienda y ambiente (11)</a:t>
            </a:r>
            <a:endParaRPr b="1" lang="en-US" sz="38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Los sistemas de desechos de las familias son adecuados y reducen el impacto sobre el amb.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Las viviendas cuentan con acceso a agua potable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Las viviendas protegen adecuadamente a las familias del entorno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… </a:t>
            </a:r>
            <a:r>
              <a:rPr b="1" lang="en-US" sz="4000" spc="-1" strike="noStrike">
                <a:solidFill>
                  <a:srgbClr val="3399ff"/>
                </a:solidFill>
                <a:latin typeface="Times New Roman"/>
              </a:rPr>
              <a:t>en Participación (6)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49780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odos los miembros de las familias se encuentran inscritos en el registro civil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os COCODES trasladan efectivamente las demandas de la comunidad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3399ff"/>
                </a:solidFill>
                <a:latin typeface="Times New Roman"/>
              </a:rPr>
              <a:t>en Fortalecimiento de la coordinación interinstitucional (4)</a:t>
            </a:r>
            <a:endParaRPr b="1" lang="en-US" sz="36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9780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s instituciones participan en la coordinación a los distintos niveles y por temas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Las instituciones proveen en forma periódica los indicadores relevantes de su oferta</a:t>
            </a: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Comic Sans MS"/>
              </a:rPr>
              <a:t>¿QUIÉNES EJECUTAN LA ESTRATEGIA?</a:t>
            </a:r>
            <a:endParaRPr b="1" lang="en-US" sz="3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777384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entury Gothic"/>
              </a:rPr>
              <a:t>Los socios</a:t>
            </a:r>
            <a:endParaRPr b="0" lang="en-US" sz="4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0920" y="1916280"/>
            <a:ext cx="8569080" cy="38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Estrategia Integ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Dirigida al área rural de 41 municipios prioritarios (GUA tiene un total de 331 municipi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entury Gothic"/>
              </a:rPr>
              <a:t>Es parte del componente social del Programa de Reactivación Económica y Social del Presidente Oscar Be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99ff"/>
                </a:solidFill>
                <a:latin typeface="Comic Sans MS"/>
                <a:ea typeface="ＭＳ Ｐゴシック"/>
              </a:rPr>
              <a:t>¿QUÉ ES GUATE SOLIDARIA RURAL?</a:t>
            </a:r>
            <a:endParaRPr b="1" lang="en-US" sz="3600" spc="-1" strike="noStrike">
              <a:solidFill>
                <a:srgbClr val="e08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02920" y="692280"/>
            <a:ext cx="60800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99ff"/>
                </a:solidFill>
                <a:latin typeface="Comic Sans MS"/>
              </a:rPr>
              <a:t>Los socios son…</a:t>
            </a:r>
            <a:endParaRPr b="1" lang="en-US" sz="36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89308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…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stitucione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mprometida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con la Estrategia, que ofrecen su oferta programática en forma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rticulada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calizada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, para el cumplimiento de sus objetivos, en el período de intervención de 2 años.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mportancia de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esupuestar recursos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de acuerdo a las metas y al tiempo de ejecució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99ff"/>
                </a:solidFill>
                <a:latin typeface="Comic Sans MS"/>
              </a:rPr>
              <a:t>¿Con qué socios cuenta ahora la Estrategia?</a:t>
            </a:r>
            <a:endParaRPr b="1" lang="en-US" sz="3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820000" cy="41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inisterio de Salud Pública y Asistencia So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ograma de mejoramiento de los servicios básicos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tensión de la cobertura de los servicios de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inisterio de Edu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alvemos Primer 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3.  Secretaría de Obras Sociales de la Esposa del Pres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reciendo B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68000" y="105228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99ff"/>
                </a:solidFill>
                <a:latin typeface="Comic Sans MS"/>
              </a:rPr>
              <a:t>…</a:t>
            </a:r>
            <a:r>
              <a:rPr b="1" lang="es-ES" sz="4000" spc="-1" strike="noStrike">
                <a:solidFill>
                  <a:srgbClr val="3399ff"/>
                </a:solidFill>
                <a:latin typeface="Comic Sans MS"/>
              </a:rPr>
              <a:t>PRÓXIMOS PASOS…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32000" y="2565360"/>
            <a:ext cx="6697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odelo de Gestió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tastro de la Oferta Programática Pública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odelo de intervención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dhesión de nuevos socios a la Estrategia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99ff"/>
                </a:solidFill>
                <a:latin typeface="Comic Sans MS"/>
                <a:ea typeface="ＭＳ Ｐゴシック"/>
              </a:rPr>
              <a:t>¿CUAL ES SU OBJETIVO?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2707920"/>
            <a:ext cx="7773840" cy="324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REDUCIR LA POBREZA EXTREMA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entury Gothic"/>
              </a:rPr>
              <a:t>EN EL ÁREA RURAL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3399ff"/>
                </a:solidFill>
                <a:latin typeface="Comic Sans MS"/>
              </a:rPr>
              <a:t>¿Cómo lo logrará?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5280" cy="42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 través de la: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rticulación   y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calización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e la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oferta pública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, para el logro del cumplimiento de condiciones mínimas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39760" y="1052640"/>
            <a:ext cx="68644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3399ff"/>
                </a:solidFill>
                <a:latin typeface="Comic Sans MS"/>
              </a:rPr>
              <a:t>… </a:t>
            </a:r>
            <a:r>
              <a:rPr b="1" lang="es-MX" sz="3800" spc="-1" strike="noStrike">
                <a:solidFill>
                  <a:srgbClr val="3399ff"/>
                </a:solidFill>
                <a:latin typeface="Comic Sans MS"/>
              </a:rPr>
              <a:t>Algunas consideraciones previas</a:t>
            </a:r>
            <a:endParaRPr b="1" lang="en-US" sz="38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42472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Parte de la oferta pública existente</a:t>
            </a:r>
            <a:endParaRPr b="0" lang="en-US" sz="3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Busca reducir las brechas existentes</a:t>
            </a:r>
            <a:endParaRPr b="0" lang="en-US" sz="3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Se implementará en el área rural </a:t>
            </a:r>
            <a:endParaRPr b="0" lang="en-US" sz="3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Comic Sans MS"/>
              </a:rPr>
              <a:t>¿Por qué en el área rural?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588000" y="2492280"/>
            <a:ext cx="2266920" cy="2160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1916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73360"/>
            <a:ext cx="6408720" cy="39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79.5 %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de las personas que viven en el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área rural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es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pobre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(28.3% del área urba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28.3%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de las personas que viven en el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área rural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es </a:t>
            </a: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extremadament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pobre (5% área urba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Comic Sans MS"/>
              </a:rPr>
              <a:t>Principios de la Estrategia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916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olidaridad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Multidimensionalidad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Focalización y temporalidad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Transparenci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Sostenibilidad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articipación socia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Pertinencia cultura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Importancia de la familia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99ff"/>
                </a:solidFill>
                <a:latin typeface="Comic Sans MS"/>
              </a:rPr>
              <a:t>¿Cuáles son los ámbitos de acción de la Estrategia?</a:t>
            </a:r>
            <a:endParaRPr b="1" lang="en-US" sz="36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2636640"/>
            <a:ext cx="316836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unicipa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muna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amiliar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211640" y="2205000"/>
            <a:ext cx="3529080" cy="3022560"/>
            <a:chOff x="4211640" y="2205000"/>
            <a:chExt cx="3529080" cy="3022560"/>
          </a:xfrm>
        </p:grpSpPr>
        <p:sp>
          <p:nvSpPr>
            <p:cNvPr id="110" name=""/>
            <p:cNvSpPr/>
            <p:nvPr/>
          </p:nvSpPr>
          <p:spPr>
            <a:xfrm>
              <a:off x="4211640" y="2205000"/>
              <a:ext cx="3529080" cy="3022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>
              <a:hlinkClick r:id="rId4" action="ppaction://hlinksldjump"/>
            </p:cNvPr>
            <p:cNvSpPr/>
            <p:nvPr/>
          </p:nvSpPr>
          <p:spPr>
            <a:xfrm>
              <a:off x="5307480" y="2328480"/>
              <a:ext cx="1361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66ff"/>
                  </a:solidFill>
                  <a:latin typeface="ＭＳ Ｐゴシック"/>
                </a:rPr>
                <a:t>Municip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716360" y="2565360"/>
            <a:ext cx="2664000" cy="2160720"/>
            <a:chOff x="4716360" y="2565360"/>
            <a:chExt cx="2664000" cy="2160720"/>
          </a:xfrm>
        </p:grpSpPr>
        <p:sp>
          <p:nvSpPr>
            <p:cNvPr id="113" name=""/>
            <p:cNvSpPr/>
            <p:nvPr/>
          </p:nvSpPr>
          <p:spPr>
            <a:xfrm>
              <a:off x="4716360" y="2565360"/>
              <a:ext cx="2664000" cy="216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>
              <a:hlinkClick r:id="rId5" action="ppaction://hlinksldjump"/>
            </p:cNvPr>
            <p:cNvSpPr/>
            <p:nvPr/>
          </p:nvSpPr>
          <p:spPr>
            <a:xfrm>
              <a:off x="5514480" y="2737440"/>
              <a:ext cx="1113480" cy="4050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66ff"/>
                  </a:solidFill>
                  <a:latin typeface="ＭＳ Ｐゴシック"/>
                </a:rPr>
                <a:t>Comun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92720" y="3068640"/>
            <a:ext cx="1506600" cy="1176480"/>
            <a:chOff x="5292720" y="3068640"/>
            <a:chExt cx="1506600" cy="1176480"/>
          </a:xfrm>
        </p:grpSpPr>
        <p:sp>
          <p:nvSpPr>
            <p:cNvPr id="116" name=""/>
            <p:cNvSpPr/>
            <p:nvPr/>
          </p:nvSpPr>
          <p:spPr>
            <a:xfrm>
              <a:off x="5292720" y="3068640"/>
              <a:ext cx="1506600" cy="117648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>
              <a:hlinkClick r:id="rId6" action="ppaction://hlinksldjump"/>
            </p:cNvPr>
            <p:cNvSpPr/>
            <p:nvPr/>
          </p:nvSpPr>
          <p:spPr>
            <a:xfrm>
              <a:off x="5396040" y="3460680"/>
              <a:ext cx="123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800" spc="-1" strike="noStrike">
                  <a:solidFill>
                    <a:srgbClr val="0066ff"/>
                  </a:solidFill>
                  <a:latin typeface="ＭＳ Ｐゴシック"/>
                </a:rPr>
                <a:t>Famil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940360" y="3213000"/>
            <a:ext cx="351000" cy="2271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5084640"/>
            <a:ext cx="2097000" cy="7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Familias con muje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mbarazad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con niños de 0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5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227640" y="3429000"/>
            <a:ext cx="72072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22:40:16Z</dcterms:created>
  <dc:creator>Fredy Gomez</dc:creator>
  <dc:description/>
  <dc:language>en-US</dc:language>
  <cp:lastModifiedBy>vbarrios</cp:lastModifiedBy>
  <dcterms:modified xsi:type="dcterms:W3CDTF">2005-07-16T00:02:28Z</dcterms:modified>
  <cp:revision>240</cp:revision>
  <dc:subject/>
  <dc:title>Programas, planes y prioridades del Gobierno</dc:title>
</cp:coreProperties>
</file>