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CFD-CE65-4846-88B8-8114739E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E7A-C7C9-4C0F-9F21-C5A3AAB6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EF9-13C3-49E7-9B3C-59C31A27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F68-6E60-4E07-8956-7EFDF572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1FA1-4950-40DA-86C5-D34A2EE6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BEC4-F9F8-4E8A-BA0A-E72DFBE0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F526-762C-4810-B2DF-C0E95F20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1F61-ADD9-4BC4-8CD1-68DB28AE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9685-19EB-45BE-B976-8461D427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8D1C-F3F9-43DB-A20E-F579BEF9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FE1-9D48-4E8A-A474-77993970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1028-82EF-4A23-917D-F8B4C7E7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108C-D657-472B-AB5B-165C25CD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7275-F2B7-4C8B-89D7-84EBBE4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4A4-7AD2-4394-A849-F3FA73AC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AF95-341F-491C-8AD8-C9B7B8B6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A98B-E2C8-40B0-9D47-6891167A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2F4-F105-40FD-988C-D83A877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FC4-627D-47D3-9433-8EBB8E88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22B-19AF-4648-9BAC-6A3BB9D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085-ECA8-4F30-BB6E-31BAB33F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909F-4F19-48CF-AAA3-EA6D20A1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FB8B-558A-4BEE-8E27-F2C76414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538-6CF8-46F8-9CD0-4F84ADF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1952-5261-4301-B73C-6919E928F58B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D782-3209-44CD-A738-B9415BFE5484}" type="slidenum">
              <a:rPr b="0" lang="es-P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8F6B-6F9C-4D29-BD12-7E6E8E22B6DC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7E48-90CF-48E0-8A41-A2D16D19D88C}" type="slidenum">
              <a:rPr b="0" lang="es-P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274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ffff"/>
                </a:solidFill>
                <a:latin typeface="Britannic Bold"/>
              </a:rPr>
              <a:t>S</a:t>
            </a:r>
            <a:r>
              <a:rPr b="1" lang="es-ES" sz="3100" spc="-1" strike="noStrike">
                <a:solidFill>
                  <a:srgbClr val="ffffff"/>
                </a:solidFill>
                <a:latin typeface="Britannic Bold"/>
              </a:rPr>
              <a:t>ISTEMA DE PROTECCIÓN SOCIAL* </a:t>
            </a:r>
            <a:br>
              <a:rPr sz="3100"/>
            </a:br>
            <a:r>
              <a:rPr b="1" lang="es-ES" sz="3100" spc="-1" strike="noStrike">
                <a:solidFill>
                  <a:srgbClr val="ffffff"/>
                </a:solidFill>
                <a:latin typeface="Britannic Bold"/>
              </a:rPr>
              <a:t>DE LA REPÚBLICA DE PANAMÁ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61722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Nombre genérico temporalmente asignad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228600"/>
            <a:ext cx="3428640" cy="844200"/>
            <a:chOff x="0" y="228600"/>
            <a:chExt cx="3428640" cy="844200"/>
          </a:xfrm>
        </p:grpSpPr>
        <p:sp>
          <p:nvSpPr>
            <p:cNvPr id="85" name=""/>
            <p:cNvSpPr/>
            <p:nvPr/>
          </p:nvSpPr>
          <p:spPr>
            <a:xfrm>
              <a:off x="1324800" y="445680"/>
              <a:ext cx="210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b7e7ff"/>
                  </a:solidFill>
                  <a:latin typeface="Arial"/>
                </a:rPr>
                <a:t>Gabinete So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228600"/>
              <a:ext cx="132480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1371600" y="0"/>
            <a:ext cx="4114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e7ff"/>
                </a:solidFill>
                <a:latin typeface="Arial"/>
              </a:rPr>
              <a:t>Secretaría del Sistema de Protección 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6774-00C0-4E4A-B32E-1EE882BB481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64F904-E554-48EF-878D-8D0CCA63733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ritannic Bold"/>
              </a:rPr>
              <a:t>SELECCIÓN DE LAS COMUNIDAD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96960" y="1939680"/>
            <a:ext cx="8145360" cy="4125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ritannic Bold"/>
              </a:rPr>
              <a:t>CRITERIOS DE SELE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Nivel de pobrez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Acceso a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2879640" cy="331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6DB-FF98-4DC2-8567-293181CE36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8B0D2-17DC-4C2E-A794-50ADD60C55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ffffff"/>
                </a:solidFill>
                <a:latin typeface="Britannic Bold"/>
              </a:rPr>
              <a:t>RED DE OFERTAS DE SERVICIOS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Se articulará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todos los programas, proyectos, subsidios y fondos existentes en el paí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a nivel nacional, regional y local relacionados con las políticas sociales de combate a la pobreza extrem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como parte de la red social solid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C1A-22BD-433E-A4E0-F120FEF6FC2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BD4EF-2748-4A38-B753-24FC041D2AF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s-ES" sz="3700" spc="-1" strike="noStrike">
                <a:solidFill>
                  <a:srgbClr val="ffffff"/>
                </a:solidFill>
                <a:latin typeface="Britannic Bold"/>
              </a:rPr>
              <a:t>RED DE OFERTAS DE SERVICIOS</a:t>
            </a:r>
            <a:br>
              <a:rPr sz="3700"/>
            </a:b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Facilitará el trabajo de las instituciones involucrad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La optimización del uso de los recursos públicos existent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AEB-DC05-44EE-AC32-868C11A152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904A6-17F1-48AF-BDC7-F3BB99A37A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Britannic Bold"/>
              </a:rPr>
              <a:t>ATENCIÓN PREFERENCIAL</a:t>
            </a:r>
            <a:br>
              <a:rPr sz="3600"/>
            </a:br>
            <a:r>
              <a:rPr b="0" lang="es-MX" sz="3600" spc="-1" strike="noStrike">
                <a:solidFill>
                  <a:srgbClr val="ffffff"/>
                </a:solidFill>
                <a:latin typeface="Britannic Bold"/>
              </a:rPr>
              <a:t>EN LA OFERTA SERVICIO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Servicios g</a:t>
            </a:r>
            <a:r>
              <a:rPr b="0" lang="es-ES" sz="3200" spc="-1" strike="noStrike">
                <a:solidFill>
                  <a:srgbClr val="ffffff"/>
                </a:solidFill>
                <a:latin typeface="Britannic Bold"/>
              </a:rPr>
              <a:t>ratui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Britann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ritannic Bold"/>
              </a:rPr>
              <a:t>Recibidos por el 100% de las familias benefici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ritannic Bold"/>
                <a:ea typeface="Times New Roman"/>
              </a:rPr>
              <a:t>Asegurados, en su óptima calidad,  por el oferente.</a:t>
            </a:r>
            <a:r>
              <a:rPr b="0" lang="es-ES" sz="3200" spc="-1" strike="noStrike">
                <a:solidFill>
                  <a:srgbClr val="ffffff"/>
                </a:solidFill>
                <a:latin typeface="Britannic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(de acuerdo a la capacidad de las instituciones oferentes en cada región del paí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585-2B92-45F8-A36D-0EBBC6CE90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B4F2-BABF-4EAF-8D0B-2F13BD7D55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ritannic Bold"/>
              </a:rPr>
              <a:t>BONO DE GESTIÓN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Britannic Bold"/>
              </a:rPr>
              <a:t>Apoyo parcial para alivio en necesidades básicas: gastos en alimentación y uniforme escolar (vestuario y calzad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Britannic Bold"/>
              </a:rPr>
              <a:t>Apoyo parcial en el gasto para  gestión de acceso a servicios y oportunidades: incluyendo gastos de transpor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ff"/>
                </a:solidFill>
                <a:latin typeface="Britannic Bold"/>
              </a:rPr>
              <a:t>Apoyo parcial en el gasto para mejoras patrimoniales: inversión en arreglos a la vivienda y saneamiento,  en bienes durables y gastos en trámites v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B68-9FC5-4D85-B25D-5A03D9CE72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D5778-AA5B-40F0-BE02-83A2B015FED6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ritannic Bold"/>
              </a:rPr>
              <a:t>BONO DE GESTIÓN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Mensu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Primer año: </a:t>
            </a:r>
            <a:r>
              <a:rPr b="0" lang="es-ES" sz="2800" spc="-1" strike="noStrike">
                <a:solidFill>
                  <a:srgbClr val="ffffff"/>
                </a:solidFill>
                <a:latin typeface="Britannic Bold"/>
              </a:rPr>
              <a:t>B/. 90.00. Entrega del total de recursos calcul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ritannic Bold"/>
              </a:rPr>
              <a:t>Segundo año: B/. 65.00. Entrega del total de recursos menos las partidas de “arreglo de la vivienda y saneamiento” y “gasto en bienes durables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Tercer año: </a:t>
            </a:r>
            <a:r>
              <a:rPr b="0" lang="es-ES" sz="2800" spc="-1" strike="noStrike">
                <a:solidFill>
                  <a:srgbClr val="ffffff"/>
                </a:solidFill>
                <a:latin typeface="Britannic Bold"/>
              </a:rPr>
              <a:t>B/. 51.00. Entrega del total de recursos menos las partidas anteriores, “uniformes” y “trámites varios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E78-0438-4CC0-BA30-2783BAB571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207D5-C60C-4F39-A584-6D9D09443103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" sz="3600" spc="-1" strike="noStrike">
                <a:solidFill>
                  <a:srgbClr val="ffffff"/>
                </a:solidFill>
                <a:latin typeface="Britannic Bold"/>
              </a:rPr>
              <a:t>ACOMPAÑAMIENTO FAMILIAR</a:t>
            </a:r>
            <a:br>
              <a:rPr sz="3600"/>
            </a:br>
            <a:r>
              <a:rPr b="0" i="1" lang="es-ES" sz="3600" spc="-1" strike="noStrike">
                <a:solidFill>
                  <a:srgbClr val="ffffff"/>
                </a:solidFill>
                <a:latin typeface="Britannic Bold"/>
              </a:rPr>
              <a:t>Apoyo psicosocial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Atención personalizad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en el domicilio por parte de u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APOYO FAMILIAR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 </a:t>
            </a: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asignado a la familia durante 36 meses, con una intensidad de contac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decreciente en el 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5B5-B686-4971-8963-D929472150D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03EBC-3FFF-4A32-ABE8-165F14B48A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2880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ritannic Bold"/>
              </a:rPr>
              <a:t>PARTICIPACIÓN SOCI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11480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Gobernaciones, Municipios, Representantes de Corregimiento y Juntas Comun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Juntas Locales y organizaciones naturales de la comun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ffffff"/>
                </a:solidFill>
                <a:latin typeface="Britannic Bold"/>
              </a:rPr>
              <a:t>ONGs, Empresa Privada, Iglesias y otros sectores de la Sociedad Civ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587-739E-4295-A46E-B4393EBD77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3B961-2CDD-41DB-A4F5-E5A3769802C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" sz="3600" spc="-1" strike="noStrike">
                <a:solidFill>
                  <a:srgbClr val="ffffff"/>
                </a:solidFill>
                <a:latin typeface="Britannic Bold"/>
              </a:rPr>
              <a:t>SEGUIMIENTO Y EVALUACIÓN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COMPONENTE CUANTIT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itann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CUESTIONARIO DE VULNERABILIDAD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COMPONENTE CUALIT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itann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INFORME SO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277-6D9A-4671-BBD4-72A5BCD10C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B5C05-CDA8-4DAC-BC77-D53E506CB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SARROLLO COMUNITARI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PS complementará el apoyo parcial que conlleva el bono de gestión con la creación de un </a:t>
            </a:r>
            <a:r>
              <a:rPr b="1" i="1" lang="es-MX" sz="2400" spc="-1" strike="noStrike">
                <a:solidFill>
                  <a:srgbClr val="ffffff"/>
                </a:solidFill>
                <a:latin typeface="Arial"/>
              </a:rPr>
              <a:t>“Fondo de Micro Crédito Comunitario”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al cual podrán aplicar, a partir del segundo año de participación en el SPS, todas las familias asociadas al SPS y aquellas familias no asociadas en el SPS que residen en comunidades pob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Se definen como “comunidades pobres” aquellos conjuntos de lugares poblados constituidos en el SPS como “áreas de incidencia”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 más de la mitad de su población en condición de pobreza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BBD-9E8E-41EF-9C06-7DA0CC9982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67C0B-C09D-454A-831A-AC0BFB9321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784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MX" sz="3600" spc="-1" strike="noStrike">
                <a:solidFill>
                  <a:srgbClr val="ffffff"/>
                </a:solidFill>
                <a:latin typeface="Britannic Bold"/>
              </a:rPr>
              <a:t>Extrema pobreza: 16.7 % </a:t>
            </a:r>
            <a:br>
              <a:rPr sz="3600"/>
            </a:br>
            <a:r>
              <a:rPr b="1" lang="es-MX" sz="3600" spc="-1" strike="noStrike">
                <a:solidFill>
                  <a:srgbClr val="ffffff"/>
                </a:solidFill>
                <a:latin typeface="Britannic Bold"/>
                <a:ea typeface="Times New Roman"/>
              </a:rPr>
              <a:t>(511,800 personas) </a:t>
            </a:r>
            <a:br>
              <a:rPr sz="40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48720" cy="3581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24000" y="2030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8920" y="121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304920"/>
            <a:ext cx="32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3200" spc="-1" strike="noStrike">
                <a:solidFill>
                  <a:srgbClr val="ffffff"/>
                </a:solidFill>
                <a:latin typeface="Britannic Bold"/>
              </a:rPr>
              <a:t>DIAGNÓSTICO</a:t>
            </a:r>
            <a:r>
              <a:rPr b="1" lang="es-PA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D64-0657-40C9-B44B-548420E1C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E6818-BE4F-493D-8B97-67BCFE12DCDB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Britannic Bold"/>
              </a:rPr>
              <a:t>FASE INICI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Soloy (Comarca Ngöbe Bugl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San Felipe (Panam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Barrio Norte y Barrio Sur (Col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San Roquito (Cocl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123-588A-4C69-A096-7269986EA4F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71DB3-834C-4D9F-ABEC-DB531C42FE3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57200" y="1828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ENFOQUE TERRITORIAL COMO METODOLOGÍA PARA LA INTERVENCIÓN EN LAS COMARCAS Y TERRITORIOS INDÍG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397-5442-45F6-A385-C8AB2EFD260F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13AA-0FB2-416A-9552-E7F86D6E595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066680" y="304920"/>
            <a:ext cx="6705720" cy="2895480"/>
          </a:xfrm>
          <a:prstGeom prst="ellipse">
            <a:avLst/>
          </a:prstGeom>
          <a:solidFill>
            <a:srgbClr val="0000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La concepción de la 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vida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y de la persona como parte de ell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determinan las características 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adquiere el 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desarrollo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sostenible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  en cada </a:t>
            </a: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133720" y="4724280"/>
            <a:ext cx="4952880" cy="160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352680" y="5334120"/>
            <a:ext cx="266724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3048120" y="5181480"/>
            <a:ext cx="347796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ATURALEZA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6200" y="5562720"/>
            <a:ext cx="1676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00cc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ERSONA</a:t>
            </a:r>
            <a:endParaRPr b="0" lang="en-US" sz="2400" spc="1" strike="noStrike">
              <a:ln w="9360">
                <a:solidFill>
                  <a:srgbClr val="cc00cc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6" name=""/>
          <p:cNvSpPr/>
          <p:nvPr/>
        </p:nvSpPr>
        <p:spPr>
          <a:xfrm>
            <a:off x="1143000" y="350532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S CULTURAS INDÍGENAS CONSTITUYEN UN SISTEMA EN QUE EL HOMBRE Y LA NATURALEZA SE UNEN INTIM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4EF-330E-4E65-9B1D-4C19EED2FEF9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09098-F911-4CC3-A7AD-A6166CB8C7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457200" y="474840"/>
            <a:ext cx="7543800" cy="57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rinci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categoría 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“indígena”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se utiliza genéricamente para identificar distintos pueb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xiste una 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visión pluricultural de desarrollo y bienesta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fundamentada en la reafirmación de los valores y las formas socioculturales y económicas de cada pueblo.  No se fundamenta en el sistema de valores uniformes e impue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 existe una visión indígena única sobre el tema de la pobreza sino que responden a diversas realidades y percepciones. Cada pueblo y cada cultura tiene distintas interpret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concepto de 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desarrollo humano sostenibl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be considerar todas las dimensiones o elementos que integran la cul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EFAE-8A05-4A74-A8A2-6D2689A1732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9A842-08EA-4224-AE5F-BA0A111E06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685800" y="838080"/>
            <a:ext cx="78487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rganizaciones y líderes indígenas identifican cuatro áreas temá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ol sobre tierras y territo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eto y conservación del 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conocimiento y respeto a la identidad y cultura desde una visión pluriculut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icipación indígena en todas las decisiones que les afe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quiere gozar de los beneficios y comodidades que ofrece la sociedad global, referido especialmente a los bienes materiales.  No obstante los mismos tienen distinto grado de prio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B99-A27F-444E-8575-5B9A32249CC4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D6D99-5844-475D-9693-34DDB6EFB3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685800" y="304920"/>
            <a:ext cx="7924680" cy="6248160"/>
          </a:xfrm>
          <a:prstGeom prst="ellipse">
            <a:avLst/>
          </a:prstGeom>
          <a:solidFill>
            <a:srgbClr val="0000a4"/>
          </a:solidFill>
          <a:ln w="38160">
            <a:solidFill>
              <a:srgbClr val="c9c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352680" y="2590920"/>
            <a:ext cx="2514600" cy="1600200"/>
          </a:xfrm>
          <a:prstGeom prst="ellipse">
            <a:avLst/>
          </a:prstGeom>
          <a:solidFill>
            <a:srgbClr val="faf4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a4"/>
                </a:solidFill>
                <a:latin typeface="Copperplate Gothic Light"/>
              </a:rPr>
              <a:t>NATURALE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a4"/>
                </a:solidFill>
                <a:latin typeface="Copperplate Gothic Light"/>
              </a:rPr>
              <a:t>PERSO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52480" y="838080"/>
            <a:ext cx="205740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HISTORIA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TRADI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066680" y="4191120"/>
            <a:ext cx="2362320" cy="1447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NORMAS Y DERECH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CONSUETUDIN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2971800"/>
            <a:ext cx="198144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TIERRA 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RECURS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NATUR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705720" y="2971800"/>
            <a:ext cx="182880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EDU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43200" y="5105520"/>
            <a:ext cx="205740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a4"/>
                </a:solidFill>
                <a:latin typeface="Copperplate Gothic Light"/>
              </a:rPr>
              <a:t>VIVIEN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019920" y="4191120"/>
            <a:ext cx="2133360" cy="12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ALIMENT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Y P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648320" y="4952880"/>
            <a:ext cx="2209680" cy="1447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a4"/>
                </a:solidFill>
                <a:latin typeface="Copperplate Gothic Light"/>
              </a:rPr>
              <a:t>SALU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rot="20947200">
            <a:off x="2588760" y="3420720"/>
            <a:ext cx="838440" cy="457200"/>
          </a:xfrm>
          <a:prstGeom prst="leftRightArrow">
            <a:avLst>
              <a:gd name="adj1" fmla="val 50000"/>
              <a:gd name="adj2" fmla="val 36507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9587600">
            <a:off x="2985840" y="393372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3279000">
            <a:off x="3123720" y="213372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rot="5314800">
            <a:off x="4188960" y="190332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rot="7153200">
            <a:off x="4991040" y="2018880"/>
            <a:ext cx="990720" cy="457200"/>
          </a:xfrm>
          <a:prstGeom prst="leftRightArrow">
            <a:avLst>
              <a:gd name="adj1" fmla="val 50000"/>
              <a:gd name="adj2" fmla="val 43138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rot="4266600">
            <a:off x="4800240" y="434340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rot="2834400">
            <a:off x="5519160" y="3933000"/>
            <a:ext cx="819000" cy="404640"/>
          </a:xfrm>
          <a:prstGeom prst="leftRightArrow">
            <a:avLst>
              <a:gd name="adj1" fmla="val 50000"/>
              <a:gd name="adj2" fmla="val 40293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 rot="1897800">
            <a:off x="0" y="5105160"/>
            <a:ext cx="2457360" cy="133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CULTURA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996" name=""/>
          <p:cNvSpPr txBox="1"/>
          <p:nvPr/>
        </p:nvSpPr>
        <p:spPr>
          <a:xfrm rot="19660200">
            <a:off x="6230520" y="5045040"/>
            <a:ext cx="28497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DownPour">
              <a:avLst>
                <a:gd name="adj1" fmla="val 0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INDIGENA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1295280" y="228600"/>
            <a:ext cx="6477120" cy="1736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DESARROLLO HUMANO SOSTENIBLE</a:t>
            </a:r>
            <a:endParaRPr b="0" lang="en-US" sz="2400" spc="1" strike="noStrike">
              <a:ln w="9360">
                <a:solidFill>
                  <a:srgbClr val="0033cc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998" name=""/>
          <p:cNvSpPr/>
          <p:nvPr/>
        </p:nvSpPr>
        <p:spPr>
          <a:xfrm>
            <a:off x="6324480" y="1676520"/>
            <a:ext cx="190512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RECIPROC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INTERCAMB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352680" y="380880"/>
            <a:ext cx="213372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a4"/>
                </a:solidFill>
                <a:latin typeface="Copperplate Gothic Light"/>
              </a:rPr>
              <a:t>FAMIL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62120" y="1752480"/>
            <a:ext cx="1981080" cy="1371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INSTITU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y autor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TRADICIONA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762120"/>
            <a:ext cx="213336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ORGANIZ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SOCIALE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a4"/>
                </a:solidFill>
                <a:latin typeface="Copperplate Gothic Light"/>
              </a:rPr>
              <a:t>PARA EL TRABA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rot="17055000">
            <a:off x="3657600" y="441972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45800">
            <a:off x="2590560" y="2742840"/>
            <a:ext cx="914400" cy="4572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rot="440400">
            <a:off x="5866920" y="3276360"/>
            <a:ext cx="816120" cy="536400"/>
          </a:xfrm>
          <a:prstGeom prst="leftRightArrow">
            <a:avLst>
              <a:gd name="adj1" fmla="val 50000"/>
              <a:gd name="adj2" fmla="val 30288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rot="19847400">
            <a:off x="5715000" y="2590560"/>
            <a:ext cx="762120" cy="457200"/>
          </a:xfrm>
          <a:prstGeom prst="leftRightArrow">
            <a:avLst>
              <a:gd name="adj1" fmla="val 50000"/>
              <a:gd name="adj2" fmla="val 33184"/>
            </a:avLst>
          </a:prstGeom>
          <a:solidFill>
            <a:srgbClr val="ffff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3C9-ED54-45A4-AD8A-2CE2D2AE43C4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DE8C0-778F-4E04-8040-0D9999E658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380880" y="228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Tierra y Recursos Natu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85800" y="838080"/>
            <a:ext cx="8458200" cy="18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Verdana"/>
              </a:rPr>
              <a:t>Diferencias entre tierra y terri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Territorio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 es el área geográfica que se encuentra bajo la 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influencia cultural y el control político de un pueb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2200" spc="-1" strike="noStrike">
                <a:solidFill>
                  <a:srgbClr val="ffffff"/>
                </a:solidFill>
                <a:latin typeface="Verdana"/>
              </a:rPr>
              <a:t>Tierra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 la porción dentro del territorio que es apropiable por 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600" spc="-1" strike="noStrike">
                <a:solidFill>
                  <a:srgbClr val="ffffff"/>
                </a:solidFill>
                <a:latin typeface="Verdana"/>
              </a:rPr>
              <a:t>un individuo o una persona juríd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09480" y="2819520"/>
            <a:ext cx="800100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Los pueblos indígenas reclaman el </a:t>
            </a: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derecho al territorio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, como espacio vital, el derecho a ejercer influencia y control sobre el mismo y de participar en las decisiones que afectan estos territorios y sus recurs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Reconocimiento legal y demar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Derecho al uso, control y acceso de la biodivers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Reconocimiento de los conocimientos tradi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Co-mane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EE8-3903-49A9-A867-4DAA8BFC90A7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ED1B7-9F4D-44D8-B377-1F3182CED9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380880" y="228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Instituciones y autoridades tradi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85800" y="838080"/>
            <a:ext cx="8458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Como transmisoras de los va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productora de su ident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Da cohesión y sentido de perten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Son a la vez civiles y religio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57200" y="304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Historia y tradi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" y="3733920"/>
            <a:ext cx="8458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Fundamento de la vida moral, social, cultural, económica, de trabajo y religi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Es el sistema de pensamiento y conoci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Mantiene las relaciones de identidad, intercambio, reciprocidad y solida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8A2-9E9B-46F7-A773-92416E3B8444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B86D6-6E02-4ADE-87BD-13F8251CA9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380880" y="228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Organizaciones sociales y para el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85800" y="1143000"/>
            <a:ext cx="8458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Se ajustan a las necesidades y constituyen un gran capital social en las comunidad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suelven necesidades familiares, individuales, comunitarias y de conviv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Pueden ser de tipo social (acueductos, mujeres, jóvenes, deportes o de trabajo (ceremoniales, limpieza, vivienda, camino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380880" y="3886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Reciprocidad, intercambio y solida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" y="46483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Suplen las relaciones de dependencia, los problemas de escasez y pobreza y son estímulos para 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93B-5A83-4175-8E1D-83BEDC814E2F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D2357-F8CD-4380-A8B3-441255DF9A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380880" y="228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Viv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85800" y="7621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La vivienda está en estrecha relación con los elementos de la naturalez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Los materiales que se utilizan tienen vida, son aní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Verdana"/>
              </a:rPr>
              <a:t>La ubicación y forma está en armonía con los conocimientos que se tienen de los recursos naturales y el comportamiento de la naturale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990720" y="3048120"/>
            <a:ext cx="7543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territorios indígenas hay que diferenciar entre una vivienda de tipo cultural adecuada y la no adecuada (materiales locales, calidad, tamaño, ubica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cinamiento vs familia exten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AB9-EF00-4C01-9AD5-5DE95CEDBB25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64CC-728B-4BC8-B183-03D9F44C38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136000" cy="54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4C1-F1F3-4254-8537-2F36776D91F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E0C09-7F63-4E1F-AC9F-062E988E46B9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380880" y="2286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85800" y="990720"/>
            <a:ext cx="845820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El sistema de transmisión y desarrollo del conocimiento, a través del cual se reproduce la cultura, los valores, sus tradiciones y se potencializa la apropiación de nuevos conocimi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afirma la personalidad étnica si parte de sus valores culturales y su propia leng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Propicia la autodeterminación y la auto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Reconoce el ejercicio de las prácticas tradicionales indígenas, promueve su rescate, desarrollo e interrelación con las prácticas y conocimientos univers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6240" y="5029200"/>
            <a:ext cx="7593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a Educación Bilingüe Intercultural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mplica progra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sensibilización n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Acceso a la educación dentro de los territo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B91-4F3B-4BEB-8181-A894922BF6D9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0A3E3-9F13-479E-B854-23FF956D2D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533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85800" y="1752480"/>
            <a:ext cx="807732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Salud o enfermedad es el equilibrio o desequilibrio en el hombre (psicosomáti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El desequilibrio en el hombre puede surgir de un desequilibrio en la naturaleza y tiene un origen espiri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La medicina tradicional utiliza recursos físico-biológicos, espirituales y psicológicos que actúan integral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La muerte tiene un significado de encuentro con 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79F-DE68-4A90-A62F-31FB0D6B9B64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E9D27-9870-440C-983C-5D7DF7D910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304920" y="6094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Verdana"/>
              </a:rPr>
              <a:t>Normas y derecho consuetudin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5800" y="1600200"/>
            <a:ext cx="845820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Es un ordenamiento de la vida y de las actividades para la conviv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Un instrumento para ejercer el control social a partir de sus propias necesidades y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Verdana"/>
              </a:rPr>
              <a:t>El no reconocimiento de las normas consuetudinarias origina conflictos en la interpretación de las medidas de control social, la diferencia de valores y la ponderación de castigos o p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600200" y="4495680"/>
            <a:ext cx="7543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ocimiento de las costumbres y normas de consenso comunitario y territorial para todos los funcionarios, organizaciones y facilit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C7DD-844F-4E27-887E-AEC2F11EE676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55403-3C91-405A-B49D-E5104D7B86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0" y="0"/>
            <a:ext cx="9144000" cy="69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PARA LOGRAR EL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DESARROLLO HUMANO SOSTENIBLE DE LOS PUEBLOS INDÍGENAS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 LA SOCIEDAD DEBE RECONOC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El Estado pluricultural y multiétnico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Significa el respeto a la identidad, diversidad, y debe ser incluido en la Constitución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Seguridad legal de contar con un territorio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a seguridad jurídica para el control de sus recursos, manejo y administración del terri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Autonomía y autodeterminación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ara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cidir su modo de vida, la administración, el desarrollo de su cultura y el bienestar social y económ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Equidad, justicia y solidaridad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Apoyo para los grupos más vulnerables, sin paternalismo, sino facilitando y creando condicione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ff"/>
                </a:solidFill>
                <a:latin typeface="Verdana"/>
              </a:rPr>
              <a:t>Derecho a la participación y consulta informada</a:t>
            </a:r>
            <a:r>
              <a:rPr b="1" i="1" lang="es-ES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Empoderamiento de su propio proceso de desarrollo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9933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Otros derechos indígenas reconocidos por organismos internacionales tratan aspectos como la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administración de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justicia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, la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propiedad del conocimiento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la educación desde su propia cultura 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idioma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, el </a:t>
            </a:r>
            <a:r>
              <a:rPr b="1" i="1" lang="es-ES" sz="1600" spc="-1" strike="noStrike">
                <a:solidFill>
                  <a:srgbClr val="ffffff"/>
                </a:solidFill>
                <a:latin typeface="Verdana"/>
              </a:rPr>
              <a:t>manejo de los recursos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, etc. que en re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rivan de los derechos fundamentales antes descrito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3A8-C05E-4AD2-86A1-8F9018B0BAA6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BFDC2-F52A-438E-8669-85288C0BED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1554120" y="2235240"/>
            <a:ext cx="6151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OPERATIVIDAD DEL SISTEMA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TECCIÓN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 PUEBLOS INDÍGEN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Hacia un desarrollo con ide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5EB-C567-4CFA-A6CC-0C8EF79AB02A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165BD-DA94-4E2E-8558-82A6BB0D5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457200" y="838080"/>
            <a:ext cx="82296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a) Para </a:t>
            </a:r>
            <a:r>
              <a:rPr b="1" lang="es-ES" sz="1800" spc="-1" strike="noStrike" u="sng">
                <a:solidFill>
                  <a:srgbClr val="faf400"/>
                </a:solidFill>
                <a:uFillTx/>
                <a:latin typeface="Arial"/>
              </a:rPr>
              <a:t>áreas comarcales y territorios definidos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, tomar un área geográfica bien delimitada y de acuerdo a características comu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omarca Ngöbe-Buglé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Se barre por Corregimiento y Distrito, de acuerdo a recursos.  Debido a la dispersión se asegura la inclusión de todas las familias.  Son 7 Distritos y 57 Correg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omarca Kuna Yal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Se divide en áreas geográficas por Corregimiento y características, abarcando varias comunidades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reas: Cartí, Río Sidra, Narganá, Ticantiquí, Ukubseni, Ailigandi, Usdup, Sasardi Muladup, Tuwu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omarca Emberá y Wounaan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Por Corregimiento y Distrito (Cémaco y Samb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omarca de Madungandi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División regional realizada por el Congreso General de acuerdo a operativ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Comarca de Wargandi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Como una  unidad, con tres comun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Territorio Naso Tjër Di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Dividir en áreas de Teribe y San S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Tierras Colectivas Emberá y Wounaan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Por regiones y territo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85800" y="380880"/>
            <a:ext cx="563868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EL TERRITORIO COMO 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3520" y="5867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) En las </a:t>
            </a:r>
            <a:r>
              <a:rPr b="1" lang="es-ES" sz="1800" spc="-1" strike="noStrike">
                <a:solidFill>
                  <a:srgbClr val="faf400"/>
                </a:solidFill>
                <a:latin typeface="Arial"/>
              </a:rPr>
              <a:t>provinci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n mucha población indígena, considerar concentración, pero se aplica geográficamente (Panamá, Colón, Bocas del Toro, Chiriquí y Veragu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788-A4A0-4A76-8977-DED40637731E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E40E0-D381-49C4-8944-718C2C5C9DD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0" y="838080"/>
            <a:ext cx="9144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a) Para </a:t>
            </a:r>
            <a:r>
              <a:rPr b="1" lang="es-ES" sz="1800" spc="-1" strike="noStrike" u="sng">
                <a:solidFill>
                  <a:srgbClr val="faf400"/>
                </a:solidFill>
                <a:uFillTx/>
                <a:latin typeface="Arial"/>
              </a:rPr>
              <a:t>áreas comarcales y territorios definidos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, tomar un área geográfica bien delimitada y de acuerdo a características comu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af400"/>
                </a:solidFill>
                <a:latin typeface="Arial"/>
              </a:rPr>
              <a:t>Para el primer año la meta es de 4,500 familias, de las cuales 3,277 Ngöbe y Bug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af400"/>
                </a:solidFill>
                <a:latin typeface="Arial"/>
              </a:rPr>
              <a:t>299 Emberá y Wounaan, 849 de Kuna Yala y 75 Na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Ngöbe-Buglé</a:t>
            </a:r>
            <a:r>
              <a:rPr b="1" lang="es-ES" sz="16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Se barre por Corregimiento y Distrito, de acuerdo a recursos.  Debido a la dispersión se aseguraría la inclusión de todas las familias.  Son 7 Distritos y 58 Corregimientos.  Para la primera fase se seleccionaron los tres distritos más pobres (Ñurün, Besigo y Kankintú), y tres Corregimientos en cada uno de los Distritos, de acuerdo a condiciones de accesibilidad y disponibilidad de servicios básicos institucion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Kuna Yala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Se divide en áreas geográficas por Corregimiento y características de los servicios que comparten.  En la primera fase:Area de Cartí:  Cardi Sugdup, Cardi Muladup, CardiYandup y Cardi Dupir  </a:t>
            </a:r>
            <a:r>
              <a:rPr b="1" lang="es-ES" sz="1600" spc="-1" strike="noStrike">
                <a:solidFill>
                  <a:srgbClr val="faf400"/>
                </a:solidFill>
                <a:latin typeface="Arial"/>
              </a:rPr>
              <a:t>Area de Ukubseni Dupir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Aidirgandi, Irgandi, Ukupa, Ukubseni, Dadnacue Dupi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Emberá y Wounaan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Por Corregimiento y Distrito (Cémaco y Sambú).  Primera fase el Corregimiento de Cirilo Guainora, donde se encuentra la cabecera del Distrito de Cémaco y se concentrarán  los servicios esta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57200" y="304920"/>
            <a:ext cx="647712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EAS PRESELECCIONADAS PARA CONS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FFE-9CD4-4899-B9F0-652E97493288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622DA-94EA-4C69-9619-F5E966BAD94A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380880" y="1143000"/>
            <a:ext cx="82296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Tierras Colectivas Emberá y Wounaan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Por regiones y territorios.  Primera fase, el área de Pusa Drua (carretera y Costa) por una mayor accesi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Territorio Naso Tjër Di</a:t>
            </a:r>
            <a:r>
              <a:rPr b="1" lang="es-ES" sz="16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Se divide en comunidades de la Cuenca del Teribe y San San.  En la primera fase se seleccionaron cuatro comunidades del Teribe con mayor accesibilidad a los servicios estatales y cercanía:  Solón, Bonyic, Sodi y Santa Ro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380880"/>
            <a:ext cx="647712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REAS PRESELECCIONADAS PARA CONS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80880" y="3886200"/>
            <a:ext cx="800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) En las 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provincia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n mucha población indígena, considerar concentración, pero se aplica geográficamente (Panamá, Colón, Bocas del Toro, Chiriquí y Veragu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E0F-18A1-46F4-B5A2-83C691F4115C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A4075-E22C-4210-936C-03AAD2A965E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1066680" y="2133720"/>
            <a:ext cx="80773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Información y compromisos con las </a:t>
            </a: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instituciones Comarcales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Ngöbe-Buglé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Consejo Comarcal (Autoridades Tradicionales e Instituciones Gubernamentales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Kuna Yala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Directiva del Congreso General (Autoridades Comarcales y Equipo Técnico) y Consejo Comarcal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Emberá y Wounaan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Congreso General (Autoridades y Directiva), Consejo Comarc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Territorio Naso Tjër Di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Consejo General de Dirig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Tierras Colectivas Emberá y Wounaan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Autoridades y Directiva del Congreso General y del Congreso Regional.  Consejo Provincial de Darié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380880"/>
            <a:ext cx="7924680" cy="14724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PROCESOS PARTICIPATIVOS CON COR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Nivel Comarcal y/o Territorial de acuerdo a la Organización Socio-Política y administrativa  (Derecho a la consulta informa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A92-A110-4237-8EDD-4547264E5829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C3C02-6DA2-40F3-A5DF-5D58599854D3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838080" y="1828800"/>
            <a:ext cx="8305920" cy="43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Talleres participativos comunitarios y a nivel de Corregimien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Ngöbe-Buglé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:  Con los Comités Locales organizados por el Proyecto Ngöbe Buglé, donde participan todas las fuerzas vivas (autoridades, organizaciones, asociaciones.  Integrando a todos los grupos etáreo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Kuna Yala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Congreso Local, Instituciones, Organizaciones, Asociaciones, Iglesi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Comarca Emberá y Wounaan</a:t>
            </a: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Congreso Local,Instituciones, Asociaciones y Organizaciones, Iglesias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Territorio Naso Tjër Di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Asamblea Comunitaria, Asociaciones, Organizaciones, Institu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Tierras Colectivas Emberá y Wounaan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Congreso Local,Instituciones, Asociaciones y Organizaciones, Iglesi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380880"/>
            <a:ext cx="7924680" cy="862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PROCESOS PARTICIPATIVOS CON COR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Nivel Com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3080-114C-4113-A89E-B5440397C2F8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DA599-FE49-4E3E-A795-2BF5DA0F30E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Britannic Bold"/>
              </a:rPr>
              <a:t>DIAGNÓSTICO</a:t>
            </a:r>
            <a:r>
              <a:rPr b="1" lang="es-MX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0000" y="1295280"/>
          <a:ext cx="7178760" cy="487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295280"/>
                    <a:ext cx="71787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59A-918C-42B2-9AE3-F181F23F464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996E2-5B82-46CD-ACC1-EA1C2B7969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838080" y="1828800"/>
            <a:ext cx="830592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iagnóstico participativo, con priorización de necesidades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Identificación y Preselección de familias beneficiarias del sistem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Preselección de promo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Organización de la 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r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Auditoría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Rescate Cultu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85800" y="380880"/>
            <a:ext cx="7924680" cy="862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PONS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Nivel Comuni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693-41A9-4E93-943A-BB13F50AA7E2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1EF25-7FD8-4C75-9700-B24A9B4FC1E0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838080" y="1600200"/>
            <a:ext cx="830592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Encuestadores y promo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af400"/>
                </a:solidFill>
                <a:latin typeface="Arial"/>
              </a:rPr>
              <a:t>Requisitos del encuestador y promotor indíg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lar la lengua materna y el españ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ormación básica hasta tercer año o primaria compl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idir en la comunidad o Correg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isposición de trabajar con hombres y muje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Sensibilidad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acilidad de 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uota de participación  femenina como promotora del 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No ser “extremadamente” religioso o polí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85800" y="380880"/>
            <a:ext cx="792468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 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EB8-2237-4F04-AB3D-7B5C798C68EE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83865-F05B-49CC-A00E-06619EC1A4F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380880" y="912960"/>
            <a:ext cx="876312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af4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Revisión de las variables e indicadores, para integrar indicadores culturales y psico-sociales, com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Territorio legalizado o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Vivienda tradicional adecu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Composición de la Familia extensa vs haci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 Motivos de ausentismo y deserción esco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 Conocimiento y Acceso a la educación tradicional.  Conocimiento de alguna actividad  o profesión tradicional (medicina tradicional, cantos, artesanías, música, historia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 Acceso y preferencias a los servicios de salud institucional y tr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. Cambios culturales en el consumo de ali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. Pertenencia a grupos asociativos comunitarios, comisiones de trabajo, dirigencia o instituciones tradicion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09480" y="304920"/>
            <a:ext cx="792504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  ENCUESTAS PSICO SOCIALES A LAS FAMIL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E04F-729C-4CEA-9179-9F39396027F1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5C1E2-7CCB-45DC-8F74-B39C92A3712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380880" y="1143000"/>
            <a:ext cx="87631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af4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af400"/>
                </a:solidFill>
                <a:uFillTx/>
                <a:latin typeface="Arial"/>
              </a:rPr>
              <a:t>Selección de las famil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  Definición de los servicios requeridos por las familias dentro del sistema (familia-ambiente-comun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  Capacitación de las famil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  Firma de acuerdos de corresponsabilidad de acuerdo a derechos y responsa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9480" y="304920"/>
            <a:ext cx="7925040" cy="398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  ENCUESTAS PSICO SOCIALES A LAS FAMIL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0D7-B85C-464A-A183-500139D5C2AB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CE386-A006-4175-877A-041E0E7E60D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228600" y="0"/>
            <a:ext cx="8915400" cy="48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af4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af400"/>
                </a:solidFill>
                <a:uFillTx/>
                <a:latin typeface="Arial"/>
              </a:rPr>
              <a:t>Corresponsabilidad familiar con alguna flexi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lud: atención primaria familiar de hombre, mujer, niños, jóvenes, adolescentes, adultos mayores, personas con discapac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egurar la asistencia escolar de los niños menores de 15 años, con responsabilidad del s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istir a los servicios que ofrecen instituciones estatales: seminarios de salud sexual y reproductiva, relaciones de género, violencia intrafamiliar, prevención de uso de drogas y el alcohol, alimentación y cuidado infantil, integración familiar y comunitaria a personas con discapacidad y adultos mayores, capacitación laboral y productiva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cilitar el registro civil de todos los miembros de la familia y la cedulación de los mayores de 18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ticipación en la comunidad en reuniones, comités, trabajos comunitario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enzar alguna actividad de generación de 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228600" y="4948200"/>
            <a:ext cx="891540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af4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af400"/>
                </a:solidFill>
                <a:uFillTx/>
                <a:latin typeface="Arial"/>
              </a:rPr>
              <a:t>Condiciones en la entrega del bo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ferentemente a la muj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asto con un porcentaje mínimo en ali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e sea gastado preferiblemente a nivel local, promoviendo la organización de cooperativas de consumo o acuerdos con las pequeñas abarroterí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9C2-982E-462B-8D69-37B025626BF1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0F370-4C70-4FFD-B28B-A44E5409D9B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457200" y="1371600"/>
            <a:ext cx="8229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f400"/>
                </a:solidFill>
                <a:latin typeface="Arial"/>
              </a:rPr>
              <a:t>Capacitación a funcionario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iplomado en interculturalidad – UDE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ONGs que laboran en el á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Campañas de sensibilización a través de los medios de comunicación social (televisión, radios con cobertura nacional y local, medios escritos y elaboración de otros instrumentos de comun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Convivios entre indígenas y no indígenas de diferentes grupos etáre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ncorporación del conocimiento indígena a nivel sectorial (salud, educación, recursos naturales, sistemas de producción organización social y participació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5800" y="380880"/>
            <a:ext cx="7086600" cy="825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5.  Programa de sensibilización a nivel nacional, regional y lo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B708-CD1C-42A3-92A8-A0CD61ED7113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E48B5-56C1-483E-842C-4CA412A88DA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/>
          <p:nvPr/>
        </p:nvSpPr>
        <p:spPr>
          <a:xfrm>
            <a:off x="457200" y="1371600"/>
            <a:ext cx="8686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af400"/>
                </a:solidFill>
                <a:latin typeface="Arial"/>
              </a:rPr>
              <a:t>Instituciones esta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Todos los Ministe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AFOR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FAR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P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A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VERSIDADES (Nacional y UDE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N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PACO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Organizaciones no gubernamentales, fortaleciendo a la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Organizaciones de la Sociedad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Igle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Organismos Internacionales de Coope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5800" y="380880"/>
            <a:ext cx="8458200" cy="8254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5.  Acuerdos y conformación de la red interinstitucional, organismos de apoyo y de la sociedad civ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205-B029-4EDD-9645-87226B6FEE57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A8A4-0574-4A4F-8B41-4B3126A46FD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724280" y="2514600"/>
            <a:ext cx="706320" cy="1509840"/>
            <a:chOff x="4724280" y="2514600"/>
            <a:chExt cx="706320" cy="1509840"/>
          </a:xfrm>
        </p:grpSpPr>
        <p:grpSp>
          <p:nvGrpSpPr>
            <p:cNvPr id="98" name=""/>
            <p:cNvGrpSpPr/>
            <p:nvPr/>
          </p:nvGrpSpPr>
          <p:grpSpPr>
            <a:xfrm>
              <a:off x="4724280" y="2514600"/>
              <a:ext cx="706320" cy="1509840"/>
              <a:chOff x="4724280" y="2514600"/>
              <a:chExt cx="706320" cy="15098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724280" y="2514600"/>
                <a:ext cx="706320" cy="1509840"/>
                <a:chOff x="4724280" y="2514600"/>
                <a:chExt cx="706320" cy="15098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724280" y="2514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24280" y="25290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724280" y="25430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724280" y="25574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724280" y="25718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724280" y="25858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724280" y="2601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724280" y="2616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24280" y="2630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724280" y="26449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724280" y="26589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724280" y="26733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724280" y="268920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724280" y="2706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724280" y="2720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724280" y="2735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724280" y="27496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724280" y="2763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724280" y="27781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724280" y="27939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724280" y="28083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724280" y="28224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724280" y="2836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724280" y="28512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724280" y="2865240"/>
                  <a:ext cx="706320" cy="162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24280" y="28814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724280" y="2895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724280" y="2909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724280" y="29242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724280" y="29383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24280" y="29527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724280" y="29685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24280" y="29829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24280" y="29970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280" y="30114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724280" y="3025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280" y="304020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724280" y="30560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724280" y="3070080"/>
                  <a:ext cx="706320" cy="176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724280" y="3087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724280" y="31021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724280" y="31161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24280" y="31305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724280" y="31449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724280" y="31608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724280" y="31748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724280" y="31892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24280" y="32036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24280" y="32176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724280" y="32320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724280" y="32479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724280" y="32623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724280" y="32767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724280" y="32907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24280" y="33051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24280" y="33195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724280" y="33354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724280" y="33494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724280" y="33638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724280" y="33782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724280" y="3392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724280" y="34066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724280" y="3422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724280" y="34369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724280" y="345132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24280" y="3468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24280" y="34830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24280" y="34974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724280" y="351144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24280" y="3527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724280" y="35416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24280" y="35560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724280" y="3570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724280" y="3584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724280" y="35989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24280" y="36147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724280" y="36291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724280" y="36432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24280" y="3657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4280" y="36720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724280" y="368604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724280" y="3701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724280" y="3716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724280" y="37306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724280" y="3744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724280" y="3759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24280" y="37735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724280" y="37893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724280" y="38037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24280" y="3817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724280" y="383220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24280" y="3849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724280" y="3863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24280" y="38782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24280" y="3894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724280" y="39085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24280" y="39225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724280" y="39369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724280" y="39513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24280" y="3965400"/>
                  <a:ext cx="706320" cy="162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724280" y="39816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24280" y="39956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724280" y="40100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727520" y="2514600"/>
                  <a:ext cx="698400" cy="1503360"/>
                </a:xfrm>
                <a:custGeom>
                  <a:avLst/>
                  <a:gdLst/>
                  <a:ahLst/>
                  <a:rect l="l" t="t" r="r" b="b"/>
                  <a:pathLst>
                    <a:path w="440" h="947">
                      <a:moveTo>
                        <a:pt x="440" y="947"/>
                      </a:moveTo>
                      <a:lnTo>
                        <a:pt x="397" y="947"/>
                      </a:lnTo>
                      <a:lnTo>
                        <a:pt x="355" y="944"/>
                      </a:lnTo>
                      <a:lnTo>
                        <a:pt x="314" y="936"/>
                      </a:lnTo>
                      <a:lnTo>
                        <a:pt x="275" y="927"/>
                      </a:lnTo>
                      <a:lnTo>
                        <a:pt x="238" y="914"/>
                      </a:lnTo>
                      <a:lnTo>
                        <a:pt x="201" y="898"/>
                      </a:lnTo>
                      <a:lnTo>
                        <a:pt x="168" y="880"/>
                      </a:lnTo>
                      <a:lnTo>
                        <a:pt x="139" y="859"/>
                      </a:lnTo>
                      <a:lnTo>
                        <a:pt x="111" y="836"/>
                      </a:lnTo>
                      <a:lnTo>
                        <a:pt x="85" y="812"/>
                      </a:lnTo>
                      <a:lnTo>
                        <a:pt x="63" y="784"/>
                      </a:lnTo>
                      <a:lnTo>
                        <a:pt x="44" y="757"/>
                      </a:lnTo>
                      <a:lnTo>
                        <a:pt x="30" y="726"/>
                      </a:lnTo>
                      <a:lnTo>
                        <a:pt x="19" y="694"/>
                      </a:lnTo>
                      <a:lnTo>
                        <a:pt x="11" y="661"/>
                      </a:lnTo>
                      <a:lnTo>
                        <a:pt x="7" y="627"/>
                      </a:lnTo>
                      <a:lnTo>
                        <a:pt x="0" y="434"/>
                      </a:lnTo>
                      <a:lnTo>
                        <a:pt x="0" y="405"/>
                      </a:lnTo>
                      <a:lnTo>
                        <a:pt x="4" y="377"/>
                      </a:lnTo>
                      <a:lnTo>
                        <a:pt x="11" y="348"/>
                      </a:lnTo>
                      <a:lnTo>
                        <a:pt x="20" y="322"/>
                      </a:lnTo>
                      <a:lnTo>
                        <a:pt x="33" y="295"/>
                      </a:lnTo>
                      <a:lnTo>
                        <a:pt x="48" y="269"/>
                      </a:lnTo>
                      <a:lnTo>
                        <a:pt x="65" y="245"/>
                      </a:lnTo>
                      <a:lnTo>
                        <a:pt x="85" y="221"/>
                      </a:lnTo>
                      <a:lnTo>
                        <a:pt x="107" y="201"/>
                      </a:lnTo>
                      <a:lnTo>
                        <a:pt x="131" y="181"/>
                      </a:lnTo>
                      <a:lnTo>
                        <a:pt x="157" y="161"/>
                      </a:lnTo>
                      <a:lnTo>
                        <a:pt x="187" y="144"/>
                      </a:lnTo>
                      <a:lnTo>
                        <a:pt x="216" y="130"/>
                      </a:lnTo>
                      <a:lnTo>
                        <a:pt x="249" y="117"/>
                      </a:lnTo>
                      <a:lnTo>
                        <a:pt x="283" y="106"/>
                      </a:lnTo>
                      <a:lnTo>
                        <a:pt x="318" y="97"/>
                      </a:lnTo>
                      <a:lnTo>
                        <a:pt x="314" y="0"/>
                      </a:lnTo>
                      <a:lnTo>
                        <a:pt x="412" y="181"/>
                      </a:lnTo>
                      <a:lnTo>
                        <a:pt x="327" y="383"/>
                      </a:lnTo>
                      <a:lnTo>
                        <a:pt x="323" y="287"/>
                      </a:lnTo>
                      <a:lnTo>
                        <a:pt x="270" y="302"/>
                      </a:lnTo>
                      <a:lnTo>
                        <a:pt x="220" y="322"/>
                      </a:lnTo>
                      <a:lnTo>
                        <a:pt x="174" y="348"/>
                      </a:lnTo>
                      <a:lnTo>
                        <a:pt x="131" y="377"/>
                      </a:lnTo>
                      <a:lnTo>
                        <a:pt x="96" y="410"/>
                      </a:lnTo>
                      <a:lnTo>
                        <a:pt x="65" y="447"/>
                      </a:lnTo>
                      <a:lnTo>
                        <a:pt x="41" y="487"/>
                      </a:lnTo>
                      <a:lnTo>
                        <a:pt x="22" y="529"/>
                      </a:lnTo>
                      <a:lnTo>
                        <a:pt x="22" y="529"/>
                      </a:lnTo>
                      <a:lnTo>
                        <a:pt x="35" y="555"/>
                      </a:lnTo>
                      <a:lnTo>
                        <a:pt x="48" y="581"/>
                      </a:lnTo>
                      <a:lnTo>
                        <a:pt x="65" y="603"/>
                      </a:lnTo>
                      <a:lnTo>
                        <a:pt x="85" y="625"/>
                      </a:lnTo>
                      <a:lnTo>
                        <a:pt x="105" y="645"/>
                      </a:lnTo>
                      <a:lnTo>
                        <a:pt x="129" y="665"/>
                      </a:lnTo>
                      <a:lnTo>
                        <a:pt x="179" y="698"/>
                      </a:lnTo>
                      <a:lnTo>
                        <a:pt x="207" y="713"/>
                      </a:lnTo>
                      <a:lnTo>
                        <a:pt x="237" y="724"/>
                      </a:lnTo>
                      <a:lnTo>
                        <a:pt x="266" y="735"/>
                      </a:lnTo>
                      <a:lnTo>
                        <a:pt x="299" y="742"/>
                      </a:lnTo>
                      <a:lnTo>
                        <a:pt x="331" y="749"/>
                      </a:lnTo>
                      <a:lnTo>
                        <a:pt x="364" y="753"/>
                      </a:lnTo>
                      <a:lnTo>
                        <a:pt x="397" y="755"/>
                      </a:lnTo>
                      <a:lnTo>
                        <a:pt x="432" y="755"/>
                      </a:lnTo>
                      <a:lnTo>
                        <a:pt x="440" y="94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27520" y="2514600"/>
                  <a:ext cx="698400" cy="1503360"/>
                </a:xfrm>
                <a:custGeom>
                  <a:avLst/>
                  <a:gdLst/>
                  <a:ahLst/>
                  <a:rect l="l" t="t" r="r" b="b"/>
                  <a:pathLst>
                    <a:path w="440" h="947">
                      <a:moveTo>
                        <a:pt x="440" y="947"/>
                      </a:moveTo>
                      <a:lnTo>
                        <a:pt x="397" y="947"/>
                      </a:lnTo>
                      <a:lnTo>
                        <a:pt x="355" y="944"/>
                      </a:lnTo>
                      <a:lnTo>
                        <a:pt x="314" y="936"/>
                      </a:lnTo>
                      <a:lnTo>
                        <a:pt x="275" y="927"/>
                      </a:lnTo>
                      <a:lnTo>
                        <a:pt x="238" y="914"/>
                      </a:lnTo>
                      <a:lnTo>
                        <a:pt x="201" y="898"/>
                      </a:lnTo>
                      <a:lnTo>
                        <a:pt x="168" y="880"/>
                      </a:lnTo>
                      <a:lnTo>
                        <a:pt x="139" y="859"/>
                      </a:lnTo>
                      <a:lnTo>
                        <a:pt x="111" y="836"/>
                      </a:lnTo>
                      <a:lnTo>
                        <a:pt x="85" y="812"/>
                      </a:lnTo>
                      <a:lnTo>
                        <a:pt x="63" y="784"/>
                      </a:lnTo>
                      <a:lnTo>
                        <a:pt x="44" y="757"/>
                      </a:lnTo>
                      <a:lnTo>
                        <a:pt x="30" y="726"/>
                      </a:lnTo>
                      <a:lnTo>
                        <a:pt x="19" y="694"/>
                      </a:lnTo>
                      <a:lnTo>
                        <a:pt x="11" y="661"/>
                      </a:lnTo>
                      <a:lnTo>
                        <a:pt x="7" y="627"/>
                      </a:lnTo>
                      <a:lnTo>
                        <a:pt x="0" y="434"/>
                      </a:lnTo>
                      <a:lnTo>
                        <a:pt x="0" y="405"/>
                      </a:lnTo>
                      <a:lnTo>
                        <a:pt x="4" y="377"/>
                      </a:lnTo>
                      <a:lnTo>
                        <a:pt x="11" y="348"/>
                      </a:lnTo>
                      <a:lnTo>
                        <a:pt x="20" y="322"/>
                      </a:lnTo>
                      <a:lnTo>
                        <a:pt x="33" y="295"/>
                      </a:lnTo>
                      <a:lnTo>
                        <a:pt x="48" y="269"/>
                      </a:lnTo>
                      <a:lnTo>
                        <a:pt x="65" y="245"/>
                      </a:lnTo>
                      <a:lnTo>
                        <a:pt x="85" y="221"/>
                      </a:lnTo>
                      <a:lnTo>
                        <a:pt x="107" y="201"/>
                      </a:lnTo>
                      <a:lnTo>
                        <a:pt x="131" y="181"/>
                      </a:lnTo>
                      <a:lnTo>
                        <a:pt x="157" y="161"/>
                      </a:lnTo>
                      <a:lnTo>
                        <a:pt x="187" y="144"/>
                      </a:lnTo>
                      <a:lnTo>
                        <a:pt x="216" y="130"/>
                      </a:lnTo>
                      <a:lnTo>
                        <a:pt x="249" y="117"/>
                      </a:lnTo>
                      <a:lnTo>
                        <a:pt x="283" y="106"/>
                      </a:lnTo>
                      <a:lnTo>
                        <a:pt x="318" y="97"/>
                      </a:lnTo>
                      <a:lnTo>
                        <a:pt x="314" y="0"/>
                      </a:lnTo>
                      <a:lnTo>
                        <a:pt x="412" y="181"/>
                      </a:lnTo>
                      <a:lnTo>
                        <a:pt x="327" y="383"/>
                      </a:lnTo>
                      <a:lnTo>
                        <a:pt x="323" y="287"/>
                      </a:lnTo>
                      <a:lnTo>
                        <a:pt x="270" y="302"/>
                      </a:lnTo>
                      <a:lnTo>
                        <a:pt x="220" y="322"/>
                      </a:lnTo>
                      <a:lnTo>
                        <a:pt x="174" y="348"/>
                      </a:lnTo>
                      <a:lnTo>
                        <a:pt x="131" y="377"/>
                      </a:lnTo>
                      <a:lnTo>
                        <a:pt x="96" y="410"/>
                      </a:lnTo>
                      <a:lnTo>
                        <a:pt x="65" y="447"/>
                      </a:lnTo>
                      <a:lnTo>
                        <a:pt x="41" y="487"/>
                      </a:lnTo>
                      <a:lnTo>
                        <a:pt x="22" y="529"/>
                      </a:lnTo>
                      <a:lnTo>
                        <a:pt x="22" y="529"/>
                      </a:lnTo>
                      <a:lnTo>
                        <a:pt x="35" y="555"/>
                      </a:lnTo>
                      <a:lnTo>
                        <a:pt x="48" y="581"/>
                      </a:lnTo>
                      <a:lnTo>
                        <a:pt x="65" y="603"/>
                      </a:lnTo>
                      <a:lnTo>
                        <a:pt x="85" y="625"/>
                      </a:lnTo>
                      <a:lnTo>
                        <a:pt x="105" y="645"/>
                      </a:lnTo>
                      <a:lnTo>
                        <a:pt x="129" y="665"/>
                      </a:lnTo>
                      <a:lnTo>
                        <a:pt x="179" y="698"/>
                      </a:lnTo>
                      <a:lnTo>
                        <a:pt x="207" y="713"/>
                      </a:lnTo>
                      <a:lnTo>
                        <a:pt x="237" y="724"/>
                      </a:lnTo>
                      <a:lnTo>
                        <a:pt x="266" y="735"/>
                      </a:lnTo>
                      <a:lnTo>
                        <a:pt x="299" y="742"/>
                      </a:lnTo>
                      <a:lnTo>
                        <a:pt x="331" y="749"/>
                      </a:lnTo>
                      <a:lnTo>
                        <a:pt x="364" y="753"/>
                      </a:lnTo>
                      <a:lnTo>
                        <a:pt x="397" y="755"/>
                      </a:lnTo>
                      <a:lnTo>
                        <a:pt x="432" y="755"/>
                      </a:lnTo>
                      <a:lnTo>
                        <a:pt x="440" y="94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724280" y="2514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4280" y="25290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724280" y="25430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4280" y="25574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724280" y="25718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724280" y="25858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724280" y="2601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24280" y="2616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24280" y="2630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24280" y="26449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24280" y="26589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24280" y="26733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24280" y="268920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724280" y="2706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724280" y="2720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724280" y="2735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724280" y="27496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724280" y="2763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724280" y="27781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724280" y="27939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24280" y="28083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724280" y="28224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724280" y="2836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724280" y="28512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24280" y="2865240"/>
                  <a:ext cx="706320" cy="162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724280" y="28814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724280" y="2895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724280" y="2909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724280" y="29242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724280" y="29383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24280" y="29527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24280" y="29685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724280" y="29829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24280" y="29970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24280" y="30114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724280" y="3025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24280" y="304020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724280" y="30560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724280" y="3070080"/>
                  <a:ext cx="706320" cy="176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724280" y="3087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724280" y="31021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724280" y="31161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724280" y="31305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724280" y="31449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724280" y="31608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4280" y="31748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24280" y="31892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24280" y="32036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724280" y="32176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724280" y="32320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724280" y="32479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724280" y="32623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724280" y="327672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724280" y="32907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724280" y="33051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724280" y="331956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724280" y="33354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724280" y="33494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724280" y="336384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24280" y="337824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724280" y="3392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724280" y="34066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724280" y="3422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24280" y="34369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24280" y="345132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724280" y="3468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724280" y="34830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724280" y="34974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24280" y="351144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724280" y="3527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24280" y="35416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24280" y="35560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724280" y="3570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24280" y="35845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24280" y="35989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724280" y="36147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24280" y="36291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724280" y="36432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724280" y="36576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724280" y="367200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724280" y="368604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724280" y="3701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724280" y="37162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724280" y="373068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724280" y="37447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724280" y="3759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724280" y="377352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24280" y="378936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24280" y="3803760"/>
                  <a:ext cx="706320" cy="140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724280" y="381780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724280" y="3832200"/>
                  <a:ext cx="706320" cy="1728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724280" y="38494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24280" y="386388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24280" y="3878280"/>
                  <a:ext cx="706320" cy="1584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24280" y="3894120"/>
                  <a:ext cx="706320" cy="14400"/>
                </a:xfrm>
                <a:prstGeom prst="rect">
                  <a:avLst/>
                </a:prstGeom>
                <a:solidFill>
                  <a:srgbClr val="ffff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4724280" y="3908520"/>
                <a:ext cx="706320" cy="140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724280" y="3922560"/>
                <a:ext cx="706320" cy="144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24280" y="3936960"/>
                <a:ext cx="706320" cy="144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4280" y="3951360"/>
                <a:ext cx="706320" cy="140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724280" y="3965400"/>
                <a:ext cx="706320" cy="162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4280" y="3981600"/>
                <a:ext cx="706320" cy="140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724280" y="3995640"/>
                <a:ext cx="706320" cy="144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724280" y="4010040"/>
                <a:ext cx="706320" cy="144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727520" y="3203640"/>
              <a:ext cx="698400" cy="814320"/>
            </a:xfrm>
            <a:custGeom>
              <a:avLst/>
              <a:gdLst/>
              <a:ahLst/>
              <a:rect l="l" t="t" r="r" b="b"/>
              <a:pathLst>
                <a:path w="440" h="513">
                  <a:moveTo>
                    <a:pt x="440" y="513"/>
                  </a:moveTo>
                  <a:lnTo>
                    <a:pt x="397" y="513"/>
                  </a:lnTo>
                  <a:lnTo>
                    <a:pt x="355" y="510"/>
                  </a:lnTo>
                  <a:lnTo>
                    <a:pt x="314" y="502"/>
                  </a:lnTo>
                  <a:lnTo>
                    <a:pt x="275" y="493"/>
                  </a:lnTo>
                  <a:lnTo>
                    <a:pt x="238" y="480"/>
                  </a:lnTo>
                  <a:lnTo>
                    <a:pt x="201" y="464"/>
                  </a:lnTo>
                  <a:lnTo>
                    <a:pt x="168" y="446"/>
                  </a:lnTo>
                  <a:lnTo>
                    <a:pt x="139" y="425"/>
                  </a:lnTo>
                  <a:lnTo>
                    <a:pt x="111" y="402"/>
                  </a:lnTo>
                  <a:lnTo>
                    <a:pt x="85" y="378"/>
                  </a:lnTo>
                  <a:lnTo>
                    <a:pt x="63" y="350"/>
                  </a:lnTo>
                  <a:lnTo>
                    <a:pt x="44" y="323"/>
                  </a:lnTo>
                  <a:lnTo>
                    <a:pt x="30" y="292"/>
                  </a:lnTo>
                  <a:lnTo>
                    <a:pt x="19" y="260"/>
                  </a:lnTo>
                  <a:lnTo>
                    <a:pt x="11" y="227"/>
                  </a:lnTo>
                  <a:lnTo>
                    <a:pt x="7" y="193"/>
                  </a:lnTo>
                  <a:lnTo>
                    <a:pt x="0" y="0"/>
                  </a:lnTo>
                  <a:lnTo>
                    <a:pt x="4" y="35"/>
                  </a:lnTo>
                  <a:lnTo>
                    <a:pt x="11" y="68"/>
                  </a:lnTo>
                  <a:lnTo>
                    <a:pt x="22" y="99"/>
                  </a:lnTo>
                  <a:lnTo>
                    <a:pt x="39" y="130"/>
                  </a:lnTo>
                  <a:lnTo>
                    <a:pt x="57" y="158"/>
                  </a:lnTo>
                  <a:lnTo>
                    <a:pt x="80" y="185"/>
                  </a:lnTo>
                  <a:lnTo>
                    <a:pt x="104" y="211"/>
                  </a:lnTo>
                  <a:lnTo>
                    <a:pt x="133" y="233"/>
                  </a:lnTo>
                  <a:lnTo>
                    <a:pt x="163" y="255"/>
                  </a:lnTo>
                  <a:lnTo>
                    <a:pt x="196" y="271"/>
                  </a:lnTo>
                  <a:lnTo>
                    <a:pt x="231" y="288"/>
                  </a:lnTo>
                  <a:lnTo>
                    <a:pt x="268" y="301"/>
                  </a:lnTo>
                  <a:lnTo>
                    <a:pt x="307" y="310"/>
                  </a:lnTo>
                  <a:lnTo>
                    <a:pt x="347" y="317"/>
                  </a:lnTo>
                  <a:lnTo>
                    <a:pt x="390" y="321"/>
                  </a:lnTo>
                  <a:lnTo>
                    <a:pt x="432" y="321"/>
                  </a:lnTo>
                  <a:lnTo>
                    <a:pt x="440" y="513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7520" y="2514600"/>
              <a:ext cx="698400" cy="1503360"/>
            </a:xfrm>
            <a:custGeom>
              <a:avLst/>
              <a:gdLst/>
              <a:ahLst/>
              <a:rect l="l" t="t" r="r" b="b"/>
              <a:pathLst>
                <a:path w="440" h="947">
                  <a:moveTo>
                    <a:pt x="440" y="947"/>
                  </a:moveTo>
                  <a:lnTo>
                    <a:pt x="397" y="947"/>
                  </a:lnTo>
                  <a:lnTo>
                    <a:pt x="355" y="944"/>
                  </a:lnTo>
                  <a:lnTo>
                    <a:pt x="314" y="936"/>
                  </a:lnTo>
                  <a:lnTo>
                    <a:pt x="275" y="927"/>
                  </a:lnTo>
                  <a:lnTo>
                    <a:pt x="238" y="914"/>
                  </a:lnTo>
                  <a:lnTo>
                    <a:pt x="201" y="898"/>
                  </a:lnTo>
                  <a:lnTo>
                    <a:pt x="168" y="880"/>
                  </a:lnTo>
                  <a:lnTo>
                    <a:pt x="139" y="859"/>
                  </a:lnTo>
                  <a:lnTo>
                    <a:pt x="111" y="836"/>
                  </a:lnTo>
                  <a:lnTo>
                    <a:pt x="85" y="812"/>
                  </a:lnTo>
                  <a:lnTo>
                    <a:pt x="63" y="784"/>
                  </a:lnTo>
                  <a:lnTo>
                    <a:pt x="44" y="757"/>
                  </a:lnTo>
                  <a:lnTo>
                    <a:pt x="30" y="726"/>
                  </a:lnTo>
                  <a:lnTo>
                    <a:pt x="19" y="694"/>
                  </a:lnTo>
                  <a:lnTo>
                    <a:pt x="11" y="661"/>
                  </a:lnTo>
                  <a:lnTo>
                    <a:pt x="7" y="627"/>
                  </a:lnTo>
                  <a:lnTo>
                    <a:pt x="0" y="434"/>
                  </a:lnTo>
                  <a:lnTo>
                    <a:pt x="0" y="405"/>
                  </a:lnTo>
                  <a:lnTo>
                    <a:pt x="4" y="377"/>
                  </a:lnTo>
                  <a:lnTo>
                    <a:pt x="11" y="348"/>
                  </a:lnTo>
                  <a:lnTo>
                    <a:pt x="20" y="322"/>
                  </a:lnTo>
                  <a:lnTo>
                    <a:pt x="33" y="295"/>
                  </a:lnTo>
                  <a:lnTo>
                    <a:pt x="48" y="269"/>
                  </a:lnTo>
                  <a:lnTo>
                    <a:pt x="65" y="245"/>
                  </a:lnTo>
                  <a:lnTo>
                    <a:pt x="85" y="221"/>
                  </a:lnTo>
                  <a:lnTo>
                    <a:pt x="107" y="201"/>
                  </a:lnTo>
                  <a:lnTo>
                    <a:pt x="131" y="181"/>
                  </a:lnTo>
                  <a:lnTo>
                    <a:pt x="157" y="161"/>
                  </a:lnTo>
                  <a:lnTo>
                    <a:pt x="187" y="144"/>
                  </a:lnTo>
                  <a:lnTo>
                    <a:pt x="216" y="130"/>
                  </a:lnTo>
                  <a:lnTo>
                    <a:pt x="249" y="117"/>
                  </a:lnTo>
                  <a:lnTo>
                    <a:pt x="283" y="106"/>
                  </a:lnTo>
                  <a:lnTo>
                    <a:pt x="318" y="97"/>
                  </a:lnTo>
                  <a:lnTo>
                    <a:pt x="314" y="0"/>
                  </a:lnTo>
                  <a:lnTo>
                    <a:pt x="412" y="181"/>
                  </a:lnTo>
                  <a:lnTo>
                    <a:pt x="327" y="383"/>
                  </a:lnTo>
                  <a:lnTo>
                    <a:pt x="323" y="287"/>
                  </a:lnTo>
                  <a:lnTo>
                    <a:pt x="270" y="302"/>
                  </a:lnTo>
                  <a:lnTo>
                    <a:pt x="220" y="322"/>
                  </a:lnTo>
                  <a:lnTo>
                    <a:pt x="174" y="348"/>
                  </a:lnTo>
                  <a:lnTo>
                    <a:pt x="131" y="377"/>
                  </a:lnTo>
                  <a:lnTo>
                    <a:pt x="96" y="410"/>
                  </a:lnTo>
                  <a:lnTo>
                    <a:pt x="65" y="447"/>
                  </a:lnTo>
                  <a:lnTo>
                    <a:pt x="41" y="487"/>
                  </a:lnTo>
                  <a:lnTo>
                    <a:pt x="22" y="529"/>
                  </a:lnTo>
                  <a:lnTo>
                    <a:pt x="22" y="529"/>
                  </a:lnTo>
                  <a:lnTo>
                    <a:pt x="35" y="555"/>
                  </a:lnTo>
                  <a:lnTo>
                    <a:pt x="48" y="581"/>
                  </a:lnTo>
                  <a:lnTo>
                    <a:pt x="65" y="603"/>
                  </a:lnTo>
                  <a:lnTo>
                    <a:pt x="85" y="625"/>
                  </a:lnTo>
                  <a:lnTo>
                    <a:pt x="105" y="645"/>
                  </a:lnTo>
                  <a:lnTo>
                    <a:pt x="129" y="665"/>
                  </a:lnTo>
                  <a:lnTo>
                    <a:pt x="179" y="698"/>
                  </a:lnTo>
                  <a:lnTo>
                    <a:pt x="207" y="713"/>
                  </a:lnTo>
                  <a:lnTo>
                    <a:pt x="237" y="724"/>
                  </a:lnTo>
                  <a:lnTo>
                    <a:pt x="266" y="735"/>
                  </a:lnTo>
                  <a:lnTo>
                    <a:pt x="299" y="742"/>
                  </a:lnTo>
                  <a:lnTo>
                    <a:pt x="331" y="749"/>
                  </a:lnTo>
                  <a:lnTo>
                    <a:pt x="364" y="753"/>
                  </a:lnTo>
                  <a:lnTo>
                    <a:pt x="397" y="755"/>
                  </a:lnTo>
                  <a:lnTo>
                    <a:pt x="432" y="755"/>
                  </a:lnTo>
                  <a:lnTo>
                    <a:pt x="440" y="947"/>
                  </a:lnTo>
                  <a:close/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7520" y="3203640"/>
              <a:ext cx="34920" cy="150840"/>
            </a:xfrm>
            <a:custGeom>
              <a:avLst/>
              <a:gdLst/>
              <a:ahLst/>
              <a:rect l="l" t="t" r="r" b="b"/>
              <a:pathLst>
                <a:path w="22" h="95">
                  <a:moveTo>
                    <a:pt x="0" y="0"/>
                  </a:moveTo>
                  <a:lnTo>
                    <a:pt x="2" y="26"/>
                  </a:lnTo>
                  <a:lnTo>
                    <a:pt x="7" y="50"/>
                  </a:lnTo>
                  <a:lnTo>
                    <a:pt x="13" y="73"/>
                  </a:lnTo>
                  <a:lnTo>
                    <a:pt x="22" y="95"/>
                  </a:lnTo>
                </a:path>
              </a:pathLst>
            </a:custGeom>
            <a:solidFill>
              <a:srgbClr val="ffff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383760"/>
            <a:ext cx="8510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000" spc="-1" strike="noStrike">
                <a:solidFill>
                  <a:srgbClr val="ffffff"/>
                </a:solidFill>
                <a:latin typeface="Britannic Bold"/>
              </a:rPr>
              <a:t>OBJETIVO PRINCIPAL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4360" y="137160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Britannic Bold"/>
              </a:rPr>
              <a:t>Aliviar las necesidades inmediatas de las familias pobres y fortalecer,  en comunidad y mediante distintas formas de organización social, sus capacidades para superar la exclus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85320" y="243828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xclus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467480" y="2438280"/>
            <a:ext cx="849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sarrollo </a:t>
            </a: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Humano Desig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5280" y="4114800"/>
            <a:ext cx="64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obrez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Extrema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86240" y="4114800"/>
            <a:ext cx="105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ulnerabi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Social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019920" y="4038480"/>
            <a:ext cx="893520" cy="552600"/>
            <a:chOff x="6019920" y="4038480"/>
            <a:chExt cx="893520" cy="552600"/>
          </a:xfrm>
        </p:grpSpPr>
        <p:grpSp>
          <p:nvGrpSpPr>
            <p:cNvPr id="318" name=""/>
            <p:cNvGrpSpPr/>
            <p:nvPr/>
          </p:nvGrpSpPr>
          <p:grpSpPr>
            <a:xfrm>
              <a:off x="6019920" y="4038480"/>
              <a:ext cx="893520" cy="552600"/>
              <a:chOff x="6019920" y="4038480"/>
              <a:chExt cx="893520" cy="552600"/>
            </a:xfrm>
          </p:grpSpPr>
          <p:sp>
            <p:nvSpPr>
              <p:cNvPr id="319" name=""/>
              <p:cNvSpPr/>
              <p:nvPr/>
            </p:nvSpPr>
            <p:spPr>
              <a:xfrm>
                <a:off x="6019920" y="4038480"/>
                <a:ext cx="89352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19920" y="4044960"/>
                <a:ext cx="893520" cy="4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19920" y="4049640"/>
                <a:ext cx="893520" cy="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19920" y="4055760"/>
                <a:ext cx="893520" cy="64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019920" y="4062240"/>
                <a:ext cx="893520" cy="46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19920" y="4066920"/>
                <a:ext cx="89352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19920" y="4073400"/>
                <a:ext cx="89352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920" y="4079880"/>
                <a:ext cx="893520" cy="46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19920" y="4084560"/>
                <a:ext cx="893520" cy="612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9920" y="4090680"/>
                <a:ext cx="893520" cy="64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9920" y="4097160"/>
                <a:ext cx="893520" cy="468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19920" y="4101840"/>
                <a:ext cx="893520" cy="648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19920" y="4108320"/>
                <a:ext cx="893520" cy="6480"/>
              </a:xfrm>
              <a:prstGeom prst="rect">
                <a:avLst/>
              </a:prstGeom>
              <a:solidFill>
                <a:srgbClr val="ff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019920" y="4114800"/>
                <a:ext cx="893520" cy="46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920" y="4119480"/>
                <a:ext cx="893520" cy="612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4125600"/>
                <a:ext cx="893520" cy="648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019920" y="4132080"/>
                <a:ext cx="893520" cy="4680"/>
              </a:xfrm>
              <a:prstGeom prst="rect">
                <a:avLst/>
              </a:prstGeom>
              <a:solidFill>
                <a:srgbClr val="fff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019920" y="4136760"/>
                <a:ext cx="89352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19920" y="4143240"/>
                <a:ext cx="89352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19920" y="4149720"/>
                <a:ext cx="893520" cy="4680"/>
              </a:xfrm>
              <a:prstGeom prst="rect">
                <a:avLst/>
              </a:prstGeom>
              <a:solidFill>
                <a:srgbClr val="fff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19920" y="4154400"/>
                <a:ext cx="893520" cy="6120"/>
              </a:xfrm>
              <a:prstGeom prst="rect">
                <a:avLst/>
              </a:prstGeom>
              <a:solidFill>
                <a:srgbClr val="ff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920" y="4160520"/>
                <a:ext cx="893520" cy="6480"/>
              </a:xfrm>
              <a:prstGeom prst="rect">
                <a:avLst/>
              </a:prstGeom>
              <a:solidFill>
                <a:srgbClr val="fff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019920" y="4167000"/>
                <a:ext cx="893520" cy="4680"/>
              </a:xfrm>
              <a:prstGeom prst="rect">
                <a:avLst/>
              </a:prstGeom>
              <a:solidFill>
                <a:srgbClr val="fff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19920" y="4171680"/>
                <a:ext cx="893520" cy="64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19920" y="4178160"/>
                <a:ext cx="893520" cy="6480"/>
              </a:xfrm>
              <a:prstGeom prst="rect">
                <a:avLst/>
              </a:prstGeom>
              <a:solidFill>
                <a:srgbClr val="fff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19920" y="4184640"/>
                <a:ext cx="893520" cy="4680"/>
              </a:xfrm>
              <a:prstGeom prst="rect">
                <a:avLst/>
              </a:pr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019920" y="4189320"/>
                <a:ext cx="893520" cy="6120"/>
              </a:xfrm>
              <a:prstGeom prst="rect">
                <a:avLst/>
              </a:prstGeom>
              <a:solidFill>
                <a:srgbClr val="ff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19920" y="4195440"/>
                <a:ext cx="893520" cy="6480"/>
              </a:xfrm>
              <a:prstGeom prst="rect">
                <a:avLst/>
              </a:prstGeom>
              <a:solidFill>
                <a:srgbClr val="fff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019920" y="4201920"/>
                <a:ext cx="893520" cy="4680"/>
              </a:xfrm>
              <a:prstGeom prst="rect">
                <a:avLst/>
              </a:prstGeom>
              <a:solidFill>
                <a:srgbClr val="fff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19920" y="4206600"/>
                <a:ext cx="893520" cy="648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19920" y="4213080"/>
                <a:ext cx="893520" cy="6480"/>
              </a:xfrm>
              <a:prstGeom prst="rect">
                <a:avLst/>
              </a:prstGeom>
              <a:solidFill>
                <a:srgbClr val="fff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19920" y="4219560"/>
                <a:ext cx="893520" cy="4680"/>
              </a:xfrm>
              <a:prstGeom prst="rect">
                <a:avLst/>
              </a:prstGeom>
              <a:solidFill>
                <a:srgbClr val="fff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19920" y="4224240"/>
                <a:ext cx="893520" cy="612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19920" y="4230360"/>
                <a:ext cx="893520" cy="6480"/>
              </a:xfrm>
              <a:prstGeom prst="rect">
                <a:avLst/>
              </a:prstGeom>
              <a:solidFill>
                <a:srgbClr val="fff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4236840"/>
                <a:ext cx="893520" cy="4680"/>
              </a:xfrm>
              <a:prstGeom prst="rect">
                <a:avLst/>
              </a:prstGeom>
              <a:solidFill>
                <a:srgbClr val="ff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019920" y="4241520"/>
                <a:ext cx="893520" cy="6480"/>
              </a:xfrm>
              <a:prstGeom prst="rect">
                <a:avLst/>
              </a:prstGeom>
              <a:solidFill>
                <a:srgbClr val="fff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9920" y="4248000"/>
                <a:ext cx="893520" cy="6480"/>
              </a:xfrm>
              <a:prstGeom prst="rect">
                <a:avLst/>
              </a:prstGeom>
              <a:solidFill>
                <a:srgbClr val="fff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9920" y="4254480"/>
                <a:ext cx="893520" cy="4680"/>
              </a:xfrm>
              <a:prstGeom prst="rect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019920" y="4259160"/>
                <a:ext cx="893520" cy="6480"/>
              </a:xfrm>
              <a:prstGeom prst="rect">
                <a:avLst/>
              </a:pr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19920" y="4265640"/>
                <a:ext cx="893520" cy="6120"/>
              </a:xfrm>
              <a:prstGeom prst="rect">
                <a:avLst/>
              </a:prstGeom>
              <a:solidFill>
                <a:srgbClr val="f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019920" y="4271760"/>
                <a:ext cx="893520" cy="4680"/>
              </a:xfrm>
              <a:prstGeom prst="rect">
                <a:avLst/>
              </a:prstGeom>
              <a:solidFill>
                <a:srgbClr val="fff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019920" y="4276440"/>
                <a:ext cx="893520" cy="6480"/>
              </a:xfrm>
              <a:prstGeom prst="rect">
                <a:avLst/>
              </a:prstGeom>
              <a:solidFill>
                <a:srgbClr val="ff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019920" y="4282920"/>
                <a:ext cx="893520" cy="6480"/>
              </a:xfrm>
              <a:prstGeom prst="rect">
                <a:avLst/>
              </a:prstGeom>
              <a:solidFill>
                <a:srgbClr val="fff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019920" y="4289400"/>
                <a:ext cx="893520" cy="4680"/>
              </a:xfrm>
              <a:prstGeom prst="rect">
                <a:avLst/>
              </a:prstGeom>
              <a:solidFill>
                <a:srgbClr val="fff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4294080"/>
                <a:ext cx="8935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019920" y="4300560"/>
                <a:ext cx="893520" cy="6120"/>
              </a:xfrm>
              <a:prstGeom prst="rect">
                <a:avLst/>
              </a:prstGeom>
              <a:solidFill>
                <a:srgbClr val="ff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019920" y="4306680"/>
                <a:ext cx="893520" cy="4680"/>
              </a:xfrm>
              <a:prstGeom prst="rect">
                <a:avLst/>
              </a:pr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019920" y="4311360"/>
                <a:ext cx="893520" cy="6480"/>
              </a:xfrm>
              <a:prstGeom prst="rect">
                <a:avLst/>
              </a:prstGeom>
              <a:solidFill>
                <a:srgbClr val="ff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19920" y="4317840"/>
                <a:ext cx="893520" cy="6480"/>
              </a:xfrm>
              <a:prstGeom prst="rect">
                <a:avLst/>
              </a:prstGeom>
              <a:solidFill>
                <a:srgbClr val="f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19920" y="4324320"/>
                <a:ext cx="893520" cy="468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19920" y="4329000"/>
                <a:ext cx="893520" cy="6480"/>
              </a:xfrm>
              <a:prstGeom prst="rect">
                <a:avLst/>
              </a:prstGeom>
              <a:solidFill>
                <a:srgbClr val="ff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019920" y="4335480"/>
                <a:ext cx="893520" cy="6120"/>
              </a:xfrm>
              <a:prstGeom prst="rect">
                <a:avLst/>
              </a:prstGeom>
              <a:solidFill>
                <a:srgbClr val="ff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19920" y="4341600"/>
                <a:ext cx="893520" cy="4680"/>
              </a:xfrm>
              <a:prstGeom prst="rect">
                <a:avLst/>
              </a:prstGeom>
              <a:solidFill>
                <a:srgbClr val="fff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19920" y="4346280"/>
                <a:ext cx="893520" cy="6480"/>
              </a:xfrm>
              <a:prstGeom prst="rect">
                <a:avLst/>
              </a:prstGeom>
              <a:solidFill>
                <a:srgbClr val="ff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19920" y="4352760"/>
                <a:ext cx="893520" cy="648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019920" y="4359240"/>
                <a:ext cx="893520" cy="46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019920" y="4363920"/>
                <a:ext cx="893520" cy="64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19920" y="4370400"/>
                <a:ext cx="893520" cy="6120"/>
              </a:xfrm>
              <a:prstGeom prst="rect">
                <a:avLst/>
              </a:prstGeom>
              <a:solidFill>
                <a:srgbClr val="ff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019920" y="4376520"/>
                <a:ext cx="893520" cy="4680"/>
              </a:xfrm>
              <a:prstGeom prst="rect">
                <a:avLst/>
              </a:prstGeom>
              <a:solidFill>
                <a:srgbClr val="fff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9920" y="4381200"/>
                <a:ext cx="893520" cy="64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19920" y="4387680"/>
                <a:ext cx="893520" cy="6480"/>
              </a:xfrm>
              <a:prstGeom prst="rect">
                <a:avLst/>
              </a:prstGeom>
              <a:solidFill>
                <a:srgbClr val="ff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019920" y="4394160"/>
                <a:ext cx="893520" cy="4680"/>
              </a:xfrm>
              <a:prstGeom prst="rect">
                <a:avLst/>
              </a:prstGeom>
              <a:solidFill>
                <a:srgbClr val="ff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019920" y="4398840"/>
                <a:ext cx="893520" cy="6480"/>
              </a:xfrm>
              <a:prstGeom prst="rect">
                <a:avLst/>
              </a:prstGeom>
              <a:solidFill>
                <a:srgbClr val="ff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19920" y="4405320"/>
                <a:ext cx="893520" cy="612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019920" y="4411440"/>
                <a:ext cx="893520" cy="468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019920" y="4416120"/>
                <a:ext cx="893520" cy="6480"/>
              </a:xfrm>
              <a:prstGeom prst="rect">
                <a:avLst/>
              </a:prstGeom>
              <a:solidFill>
                <a:srgbClr val="fff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019920" y="4422600"/>
                <a:ext cx="89352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019920" y="4429080"/>
                <a:ext cx="893520" cy="4680"/>
              </a:xfrm>
              <a:prstGeom prst="rect">
                <a:avLst/>
              </a:prstGeom>
              <a:solidFill>
                <a:srgbClr val="fff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19920" y="4433760"/>
                <a:ext cx="893520" cy="64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19920" y="4440240"/>
                <a:ext cx="893520" cy="6120"/>
              </a:xfrm>
              <a:prstGeom prst="rect">
                <a:avLst/>
              </a:prstGeom>
              <a:solidFill>
                <a:srgbClr val="fff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19920" y="4446360"/>
                <a:ext cx="893520" cy="4680"/>
              </a:xfrm>
              <a:prstGeom prst="rect">
                <a:avLst/>
              </a:prstGeom>
              <a:solidFill>
                <a:srgbClr val="ff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019920" y="4451040"/>
                <a:ext cx="893520" cy="64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019920" y="4457520"/>
                <a:ext cx="893520" cy="6480"/>
              </a:xfrm>
              <a:prstGeom prst="rect">
                <a:avLst/>
              </a:prstGeom>
              <a:solidFill>
                <a:srgbClr val="fff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19920" y="4464000"/>
                <a:ext cx="893520" cy="46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019920" y="4468680"/>
                <a:ext cx="893520" cy="64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019920" y="4475160"/>
                <a:ext cx="893520" cy="612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019920" y="4481280"/>
                <a:ext cx="893520" cy="4680"/>
              </a:xfrm>
              <a:prstGeom prst="rect">
                <a:avLst/>
              </a:prstGeom>
              <a:solidFill>
                <a:srgbClr val="fff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019920" y="4485960"/>
                <a:ext cx="89352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019920" y="4492440"/>
                <a:ext cx="89352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19920" y="4498920"/>
                <a:ext cx="893520" cy="46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19920" y="4503600"/>
                <a:ext cx="893520" cy="64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019920" y="4510080"/>
                <a:ext cx="893520" cy="612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19920" y="4516200"/>
                <a:ext cx="893520" cy="46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019920" y="4520880"/>
                <a:ext cx="89352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19920" y="4527360"/>
                <a:ext cx="89352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19920" y="4533840"/>
                <a:ext cx="893520" cy="46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19920" y="4538520"/>
                <a:ext cx="893520" cy="64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19920" y="4545000"/>
                <a:ext cx="893520" cy="612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19920" y="4551120"/>
                <a:ext cx="893520" cy="46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19920" y="4555800"/>
                <a:ext cx="89352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19920" y="4562280"/>
                <a:ext cx="89352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19920" y="4568760"/>
                <a:ext cx="89352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019920" y="4573440"/>
                <a:ext cx="893520" cy="64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019920" y="4579920"/>
                <a:ext cx="893520" cy="612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19920" y="4586040"/>
                <a:ext cx="8935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9920" y="4038480"/>
                <a:ext cx="890280" cy="550800"/>
              </a:xfrm>
              <a:custGeom>
                <a:avLst/>
                <a:gdLst/>
                <a:ahLst/>
                <a:rect l="l" t="t" r="r" b="b"/>
                <a:pathLst>
                  <a:path w="561" h="347">
                    <a:moveTo>
                      <a:pt x="140" y="0"/>
                    </a:moveTo>
                    <a:lnTo>
                      <a:pt x="140" y="86"/>
                    </a:lnTo>
                    <a:lnTo>
                      <a:pt x="561" y="86"/>
                    </a:lnTo>
                    <a:lnTo>
                      <a:pt x="561" y="260"/>
                    </a:lnTo>
                    <a:lnTo>
                      <a:pt x="140" y="260"/>
                    </a:lnTo>
                    <a:lnTo>
                      <a:pt x="140" y="347"/>
                    </a:lnTo>
                    <a:lnTo>
                      <a:pt x="0" y="172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9920" y="4038480"/>
                <a:ext cx="890280" cy="550800"/>
              </a:xfrm>
              <a:custGeom>
                <a:avLst/>
                <a:gdLst/>
                <a:ahLst/>
                <a:rect l="l" t="t" r="r" b="b"/>
                <a:pathLst>
                  <a:path w="561" h="347">
                    <a:moveTo>
                      <a:pt x="140" y="0"/>
                    </a:moveTo>
                    <a:lnTo>
                      <a:pt x="140" y="86"/>
                    </a:lnTo>
                    <a:lnTo>
                      <a:pt x="561" y="86"/>
                    </a:lnTo>
                    <a:lnTo>
                      <a:pt x="561" y="260"/>
                    </a:lnTo>
                    <a:lnTo>
                      <a:pt x="140" y="260"/>
                    </a:lnTo>
                    <a:lnTo>
                      <a:pt x="140" y="347"/>
                    </a:lnTo>
                    <a:lnTo>
                      <a:pt x="0" y="172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019920" y="4038480"/>
                <a:ext cx="89352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019920" y="4044960"/>
                <a:ext cx="893520" cy="4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019920" y="4049640"/>
                <a:ext cx="893520" cy="6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19920" y="4055760"/>
                <a:ext cx="893520" cy="64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19920" y="4062240"/>
                <a:ext cx="893520" cy="46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19920" y="4066920"/>
                <a:ext cx="89352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019920" y="4073400"/>
                <a:ext cx="89352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019920" y="4079880"/>
                <a:ext cx="893520" cy="46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019920" y="4084560"/>
                <a:ext cx="893520" cy="612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019920" y="4090680"/>
                <a:ext cx="893520" cy="64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019920" y="4097160"/>
                <a:ext cx="893520" cy="468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19920" y="4101840"/>
                <a:ext cx="893520" cy="648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19920" y="4108320"/>
                <a:ext cx="893520" cy="6480"/>
              </a:xfrm>
              <a:prstGeom prst="rect">
                <a:avLst/>
              </a:prstGeom>
              <a:solidFill>
                <a:srgbClr val="ff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19920" y="4114800"/>
                <a:ext cx="893520" cy="46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019920" y="4119480"/>
                <a:ext cx="893520" cy="612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19920" y="4125600"/>
                <a:ext cx="893520" cy="648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019920" y="4132080"/>
                <a:ext cx="893520" cy="4680"/>
              </a:xfrm>
              <a:prstGeom prst="rect">
                <a:avLst/>
              </a:prstGeom>
              <a:solidFill>
                <a:srgbClr val="fff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019920" y="4136760"/>
                <a:ext cx="89352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19920" y="4143240"/>
                <a:ext cx="89352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19920" y="4149720"/>
                <a:ext cx="893520" cy="4680"/>
              </a:xfrm>
              <a:prstGeom prst="rect">
                <a:avLst/>
              </a:prstGeom>
              <a:solidFill>
                <a:srgbClr val="fff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019920" y="4154400"/>
                <a:ext cx="893520" cy="6120"/>
              </a:xfrm>
              <a:prstGeom prst="rect">
                <a:avLst/>
              </a:prstGeom>
              <a:solidFill>
                <a:srgbClr val="ff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019920" y="4160520"/>
                <a:ext cx="893520" cy="6480"/>
              </a:xfrm>
              <a:prstGeom prst="rect">
                <a:avLst/>
              </a:prstGeom>
              <a:solidFill>
                <a:srgbClr val="fff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19920" y="4167000"/>
                <a:ext cx="893520" cy="4680"/>
              </a:xfrm>
              <a:prstGeom prst="rect">
                <a:avLst/>
              </a:prstGeom>
              <a:solidFill>
                <a:srgbClr val="fff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019920" y="4171680"/>
                <a:ext cx="893520" cy="64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019920" y="4178160"/>
                <a:ext cx="893520" cy="6480"/>
              </a:xfrm>
              <a:prstGeom prst="rect">
                <a:avLst/>
              </a:prstGeom>
              <a:solidFill>
                <a:srgbClr val="fff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019920" y="4184640"/>
                <a:ext cx="893520" cy="4680"/>
              </a:xfrm>
              <a:prstGeom prst="rect">
                <a:avLst/>
              </a:pr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019920" y="4189320"/>
                <a:ext cx="893520" cy="6120"/>
              </a:xfrm>
              <a:prstGeom prst="rect">
                <a:avLst/>
              </a:prstGeom>
              <a:solidFill>
                <a:srgbClr val="ff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19920" y="4195440"/>
                <a:ext cx="893520" cy="6480"/>
              </a:xfrm>
              <a:prstGeom prst="rect">
                <a:avLst/>
              </a:prstGeom>
              <a:solidFill>
                <a:srgbClr val="fff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19920" y="4201920"/>
                <a:ext cx="893520" cy="4680"/>
              </a:xfrm>
              <a:prstGeom prst="rect">
                <a:avLst/>
              </a:prstGeom>
              <a:solidFill>
                <a:srgbClr val="fff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9920" y="4206600"/>
                <a:ext cx="893520" cy="648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19920" y="4213080"/>
                <a:ext cx="893520" cy="6480"/>
              </a:xfrm>
              <a:prstGeom prst="rect">
                <a:avLst/>
              </a:prstGeom>
              <a:solidFill>
                <a:srgbClr val="fff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019920" y="4219560"/>
                <a:ext cx="893520" cy="4680"/>
              </a:xfrm>
              <a:prstGeom prst="rect">
                <a:avLst/>
              </a:prstGeom>
              <a:solidFill>
                <a:srgbClr val="fff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019920" y="4224240"/>
                <a:ext cx="893520" cy="612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19920" y="4230360"/>
                <a:ext cx="893520" cy="6480"/>
              </a:xfrm>
              <a:prstGeom prst="rect">
                <a:avLst/>
              </a:prstGeom>
              <a:solidFill>
                <a:srgbClr val="fff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19920" y="4236840"/>
                <a:ext cx="893520" cy="4680"/>
              </a:xfrm>
              <a:prstGeom prst="rect">
                <a:avLst/>
              </a:prstGeom>
              <a:solidFill>
                <a:srgbClr val="ff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019920" y="4241520"/>
                <a:ext cx="893520" cy="6480"/>
              </a:xfrm>
              <a:prstGeom prst="rect">
                <a:avLst/>
              </a:prstGeom>
              <a:solidFill>
                <a:srgbClr val="fff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19920" y="4248000"/>
                <a:ext cx="893520" cy="6480"/>
              </a:xfrm>
              <a:prstGeom prst="rect">
                <a:avLst/>
              </a:prstGeom>
              <a:solidFill>
                <a:srgbClr val="fff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19920" y="4254480"/>
                <a:ext cx="893520" cy="4680"/>
              </a:xfrm>
              <a:prstGeom prst="rect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019920" y="4259160"/>
                <a:ext cx="893520" cy="6480"/>
              </a:xfrm>
              <a:prstGeom prst="rect">
                <a:avLst/>
              </a:pr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019920" y="4265640"/>
                <a:ext cx="893520" cy="6120"/>
              </a:xfrm>
              <a:prstGeom prst="rect">
                <a:avLst/>
              </a:prstGeom>
              <a:solidFill>
                <a:srgbClr val="f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019920" y="4271760"/>
                <a:ext cx="893520" cy="4680"/>
              </a:xfrm>
              <a:prstGeom prst="rect">
                <a:avLst/>
              </a:prstGeom>
              <a:solidFill>
                <a:srgbClr val="fff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019920" y="4276440"/>
                <a:ext cx="893520" cy="6480"/>
              </a:xfrm>
              <a:prstGeom prst="rect">
                <a:avLst/>
              </a:prstGeom>
              <a:solidFill>
                <a:srgbClr val="fff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19920" y="4282920"/>
                <a:ext cx="893520" cy="6480"/>
              </a:xfrm>
              <a:prstGeom prst="rect">
                <a:avLst/>
              </a:prstGeom>
              <a:solidFill>
                <a:srgbClr val="ffff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19920" y="4289400"/>
                <a:ext cx="893520" cy="4680"/>
              </a:xfrm>
              <a:prstGeom prst="rect">
                <a:avLst/>
              </a:prstGeom>
              <a:solidFill>
                <a:srgbClr val="fff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019920" y="4294080"/>
                <a:ext cx="89352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19920" y="4300560"/>
                <a:ext cx="893520" cy="6120"/>
              </a:xfrm>
              <a:prstGeom prst="rect">
                <a:avLst/>
              </a:prstGeom>
              <a:solidFill>
                <a:srgbClr val="ffff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9920" y="4306680"/>
                <a:ext cx="893520" cy="4680"/>
              </a:xfrm>
              <a:prstGeom prst="rect">
                <a:avLst/>
              </a:prstGeom>
              <a:solidFill>
                <a:srgbClr val="fff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9920" y="4311360"/>
                <a:ext cx="893520" cy="6480"/>
              </a:xfrm>
              <a:prstGeom prst="rect">
                <a:avLst/>
              </a:prstGeom>
              <a:solidFill>
                <a:srgbClr val="ff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19920" y="4317840"/>
                <a:ext cx="893520" cy="6480"/>
              </a:xfrm>
              <a:prstGeom prst="rect">
                <a:avLst/>
              </a:prstGeom>
              <a:solidFill>
                <a:srgbClr val="f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19920" y="4324320"/>
                <a:ext cx="893520" cy="468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019920" y="4329000"/>
                <a:ext cx="893520" cy="6480"/>
              </a:xfrm>
              <a:prstGeom prst="rect">
                <a:avLst/>
              </a:prstGeom>
              <a:solidFill>
                <a:srgbClr val="ff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19920" y="4335480"/>
                <a:ext cx="893520" cy="6120"/>
              </a:xfrm>
              <a:prstGeom prst="rect">
                <a:avLst/>
              </a:prstGeom>
              <a:solidFill>
                <a:srgbClr val="fff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019920" y="4341600"/>
                <a:ext cx="893520" cy="4680"/>
              </a:xfrm>
              <a:prstGeom prst="rect">
                <a:avLst/>
              </a:prstGeom>
              <a:solidFill>
                <a:srgbClr val="fff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19920" y="4346280"/>
                <a:ext cx="893520" cy="6480"/>
              </a:xfrm>
              <a:prstGeom prst="rect">
                <a:avLst/>
              </a:prstGeom>
              <a:solidFill>
                <a:srgbClr val="ff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019920" y="4352760"/>
                <a:ext cx="893520" cy="648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019920" y="4359240"/>
                <a:ext cx="893520" cy="46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019920" y="4363920"/>
                <a:ext cx="893520" cy="64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9920" y="4370400"/>
                <a:ext cx="893520" cy="6120"/>
              </a:xfrm>
              <a:prstGeom prst="rect">
                <a:avLst/>
              </a:prstGeom>
              <a:solidFill>
                <a:srgbClr val="ff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19920" y="4376520"/>
                <a:ext cx="893520" cy="4680"/>
              </a:xfrm>
              <a:prstGeom prst="rect">
                <a:avLst/>
              </a:prstGeom>
              <a:solidFill>
                <a:srgbClr val="fff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019920" y="4381200"/>
                <a:ext cx="893520" cy="64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019920" y="4387680"/>
                <a:ext cx="893520" cy="6480"/>
              </a:xfrm>
              <a:prstGeom prst="rect">
                <a:avLst/>
              </a:prstGeom>
              <a:solidFill>
                <a:srgbClr val="ffff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19920" y="4394160"/>
                <a:ext cx="893520" cy="4680"/>
              </a:xfrm>
              <a:prstGeom prst="rect">
                <a:avLst/>
              </a:prstGeom>
              <a:solidFill>
                <a:srgbClr val="ff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19920" y="4398840"/>
                <a:ext cx="893520" cy="6480"/>
              </a:xfrm>
              <a:prstGeom prst="rect">
                <a:avLst/>
              </a:prstGeom>
              <a:solidFill>
                <a:srgbClr val="ff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19920" y="4405320"/>
                <a:ext cx="893520" cy="612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19920" y="4411440"/>
                <a:ext cx="893520" cy="468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019920" y="4416120"/>
                <a:ext cx="893520" cy="6480"/>
              </a:xfrm>
              <a:prstGeom prst="rect">
                <a:avLst/>
              </a:prstGeom>
              <a:solidFill>
                <a:srgbClr val="fff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19920" y="4422600"/>
                <a:ext cx="89352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19920" y="4429080"/>
                <a:ext cx="893520" cy="4680"/>
              </a:xfrm>
              <a:prstGeom prst="rect">
                <a:avLst/>
              </a:prstGeom>
              <a:solidFill>
                <a:srgbClr val="fff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19920" y="4433760"/>
                <a:ext cx="893520" cy="64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19920" y="4440240"/>
                <a:ext cx="893520" cy="6120"/>
              </a:xfrm>
              <a:prstGeom prst="rect">
                <a:avLst/>
              </a:prstGeom>
              <a:solidFill>
                <a:srgbClr val="fff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19920" y="4446360"/>
                <a:ext cx="893520" cy="4680"/>
              </a:xfrm>
              <a:prstGeom prst="rect">
                <a:avLst/>
              </a:prstGeom>
              <a:solidFill>
                <a:srgbClr val="ff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19920" y="4451040"/>
                <a:ext cx="893520" cy="64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19920" y="4457520"/>
                <a:ext cx="893520" cy="6480"/>
              </a:xfrm>
              <a:prstGeom prst="rect">
                <a:avLst/>
              </a:prstGeom>
              <a:solidFill>
                <a:srgbClr val="fff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19920" y="4464000"/>
                <a:ext cx="893520" cy="46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19920" y="4468680"/>
                <a:ext cx="893520" cy="64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19920" y="4475160"/>
                <a:ext cx="893520" cy="612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19920" y="4481280"/>
                <a:ext cx="893520" cy="4680"/>
              </a:xfrm>
              <a:prstGeom prst="rect">
                <a:avLst/>
              </a:prstGeom>
              <a:solidFill>
                <a:srgbClr val="fff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19920" y="4485960"/>
                <a:ext cx="89352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19920" y="4492440"/>
                <a:ext cx="89352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19920" y="4498920"/>
                <a:ext cx="893520" cy="46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9920" y="4503600"/>
                <a:ext cx="893520" cy="64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019920" y="4510080"/>
                <a:ext cx="893520" cy="612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019920" y="4516200"/>
                <a:ext cx="893520" cy="46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019920" y="4520880"/>
                <a:ext cx="89352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9920" y="4527360"/>
                <a:ext cx="89352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19920" y="4533840"/>
                <a:ext cx="893520" cy="46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019920" y="4538520"/>
                <a:ext cx="893520" cy="64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019920" y="4545000"/>
                <a:ext cx="893520" cy="612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9920" y="4551120"/>
                <a:ext cx="893520" cy="46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019920" y="4555800"/>
                <a:ext cx="89352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019920" y="4562280"/>
                <a:ext cx="89352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019920" y="4568760"/>
                <a:ext cx="89352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019920" y="4573440"/>
                <a:ext cx="893520" cy="64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019920" y="4579920"/>
                <a:ext cx="893520" cy="612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019920" y="4586040"/>
                <a:ext cx="893520" cy="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6019920" y="4038480"/>
              <a:ext cx="890280" cy="550800"/>
            </a:xfrm>
            <a:custGeom>
              <a:avLst/>
              <a:gdLst/>
              <a:ahLst/>
              <a:rect l="l" t="t" r="r" b="b"/>
              <a:pathLst>
                <a:path w="561" h="347">
                  <a:moveTo>
                    <a:pt x="140" y="0"/>
                  </a:moveTo>
                  <a:lnTo>
                    <a:pt x="140" y="86"/>
                  </a:lnTo>
                  <a:lnTo>
                    <a:pt x="561" y="86"/>
                  </a:lnTo>
                  <a:lnTo>
                    <a:pt x="561" y="260"/>
                  </a:lnTo>
                  <a:lnTo>
                    <a:pt x="140" y="260"/>
                  </a:lnTo>
                  <a:lnTo>
                    <a:pt x="140" y="347"/>
                  </a:lnTo>
                  <a:lnTo>
                    <a:pt x="0" y="172"/>
                  </a:lnTo>
                  <a:lnTo>
                    <a:pt x="14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8153280" y="3124080"/>
            <a:ext cx="768240" cy="1518840"/>
            <a:chOff x="8153280" y="3124080"/>
            <a:chExt cx="768240" cy="1518840"/>
          </a:xfrm>
        </p:grpSpPr>
        <p:grpSp>
          <p:nvGrpSpPr>
            <p:cNvPr id="513" name=""/>
            <p:cNvGrpSpPr/>
            <p:nvPr/>
          </p:nvGrpSpPr>
          <p:grpSpPr>
            <a:xfrm>
              <a:off x="8153280" y="3124080"/>
              <a:ext cx="768240" cy="1518840"/>
              <a:chOff x="8153280" y="3124080"/>
              <a:chExt cx="768240" cy="1518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8153280" y="3124080"/>
                <a:ext cx="768240" cy="1518840"/>
                <a:chOff x="8153280" y="3124080"/>
                <a:chExt cx="768240" cy="15188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8153280" y="3124080"/>
                  <a:ext cx="768240" cy="140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153280" y="3138120"/>
                  <a:ext cx="768240" cy="140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153280" y="3152520"/>
                  <a:ext cx="768240" cy="13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153280" y="3166560"/>
                  <a:ext cx="768240" cy="1404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3180960"/>
                  <a:ext cx="768240" cy="1404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8153280" y="3195360"/>
                  <a:ext cx="768240" cy="1548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153280" y="3211200"/>
                  <a:ext cx="768240" cy="14040"/>
                </a:xfrm>
                <a:prstGeom prst="rect">
                  <a:avLst/>
                </a:prstGeom>
                <a:solidFill>
                  <a:srgbClr val="fff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153280" y="3225600"/>
                  <a:ext cx="768240" cy="16920"/>
                </a:xfrm>
                <a:prstGeom prst="rect">
                  <a:avLst/>
                </a:prstGeom>
                <a:solidFill>
                  <a:srgbClr val="fff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153280" y="3242880"/>
                  <a:ext cx="768240" cy="14040"/>
                </a:xfrm>
                <a:prstGeom prst="rect">
                  <a:avLst/>
                </a:prstGeom>
                <a:solidFill>
                  <a:srgbClr val="fff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153280" y="3257280"/>
                  <a:ext cx="768240" cy="14040"/>
                </a:xfrm>
                <a:prstGeom prst="rect">
                  <a:avLst/>
                </a:prstGeom>
                <a:solidFill>
                  <a:srgbClr val="fff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8153280" y="3271680"/>
                  <a:ext cx="768240" cy="13680"/>
                </a:xfrm>
                <a:prstGeom prst="rect">
                  <a:avLst/>
                </a:prstGeom>
                <a:solidFill>
                  <a:srgbClr val="ffff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53280" y="3285720"/>
                  <a:ext cx="768240" cy="14040"/>
                </a:xfrm>
                <a:prstGeom prst="rect">
                  <a:avLst/>
                </a:prstGeom>
                <a:solidFill>
                  <a:srgbClr val="fff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8153280" y="3300120"/>
                  <a:ext cx="768240" cy="15480"/>
                </a:xfrm>
                <a:prstGeom prst="rect">
                  <a:avLst/>
                </a:prstGeom>
                <a:solidFill>
                  <a:srgbClr val="fff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8153280" y="3315960"/>
                  <a:ext cx="768240" cy="14040"/>
                </a:xfrm>
                <a:prstGeom prst="rect">
                  <a:avLst/>
                </a:prstGeom>
                <a:solidFill>
                  <a:srgbClr val="f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8153280" y="3330360"/>
                  <a:ext cx="768240" cy="13680"/>
                </a:xfrm>
                <a:prstGeom prst="rect">
                  <a:avLst/>
                </a:prstGeom>
                <a:solidFill>
                  <a:srgbClr val="fff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153280" y="3344400"/>
                  <a:ext cx="768240" cy="14040"/>
                </a:xfrm>
                <a:prstGeom prst="rect">
                  <a:avLst/>
                </a:prstGeom>
                <a:solidFill>
                  <a:srgbClr val="fff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153280" y="3358800"/>
                  <a:ext cx="768240" cy="14040"/>
                </a:xfrm>
                <a:prstGeom prst="rect">
                  <a:avLst/>
                </a:pr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8153280" y="3373200"/>
                  <a:ext cx="768240" cy="13680"/>
                </a:xfrm>
                <a:prstGeom prst="rect">
                  <a:avLst/>
                </a:prstGeom>
                <a:solidFill>
                  <a:srgbClr val="ffff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153280" y="3387240"/>
                  <a:ext cx="768240" cy="15840"/>
                </a:xfrm>
                <a:prstGeom prst="rect">
                  <a:avLst/>
                </a:prstGeom>
                <a:solidFill>
                  <a:srgbClr val="ff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8153280" y="3403440"/>
                  <a:ext cx="768240" cy="13680"/>
                </a:xfrm>
                <a:prstGeom prst="rect">
                  <a:avLst/>
                </a:pr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153280" y="3417480"/>
                  <a:ext cx="768240" cy="14040"/>
                </a:xfrm>
                <a:prstGeom prst="rect">
                  <a:avLst/>
                </a:prstGeom>
                <a:solidFill>
                  <a:srgbClr val="fff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8153280" y="3431880"/>
                  <a:ext cx="768240" cy="14040"/>
                </a:xfrm>
                <a:prstGeom prst="rect">
                  <a:avLst/>
                </a:pr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8153280" y="3446280"/>
                  <a:ext cx="768240" cy="16920"/>
                </a:xfrm>
                <a:prstGeom prst="rect">
                  <a:avLst/>
                </a:prstGeom>
                <a:solidFill>
                  <a:srgbClr val="ffff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153280" y="3463560"/>
                  <a:ext cx="768240" cy="14040"/>
                </a:xfrm>
                <a:prstGeom prst="rect">
                  <a:avLst/>
                </a:prstGeom>
                <a:solidFill>
                  <a:srgbClr val="fff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153280" y="3477960"/>
                  <a:ext cx="768240" cy="13680"/>
                </a:xfrm>
                <a:prstGeom prst="rect">
                  <a:avLst/>
                </a:pr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153280" y="3492000"/>
                  <a:ext cx="768240" cy="15840"/>
                </a:xfrm>
                <a:prstGeom prst="rect">
                  <a:avLst/>
                </a:prstGeom>
                <a:solidFill>
                  <a:srgbClr val="fff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153280" y="3508200"/>
                  <a:ext cx="768240" cy="13680"/>
                </a:xfrm>
                <a:prstGeom prst="rect">
                  <a:avLst/>
                </a:pr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153280" y="3522240"/>
                  <a:ext cx="768240" cy="14040"/>
                </a:xfrm>
                <a:prstGeom prst="rect">
                  <a:avLst/>
                </a:prstGeom>
                <a:solidFill>
                  <a:srgbClr val="fff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153280" y="3536640"/>
                  <a:ext cx="768240" cy="1404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53280" y="3551040"/>
                  <a:ext cx="768240" cy="13680"/>
                </a:xfrm>
                <a:prstGeom prst="rect">
                  <a:avLst/>
                </a:prstGeom>
                <a:solidFill>
                  <a:srgbClr val="fff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153280" y="3565080"/>
                  <a:ext cx="768240" cy="14040"/>
                </a:xfrm>
                <a:prstGeom prst="rect">
                  <a:avLst/>
                </a:prstGeom>
                <a:solidFill>
                  <a:srgbClr val="ffff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153280" y="3579480"/>
                  <a:ext cx="768240" cy="15480"/>
                </a:xfrm>
                <a:prstGeom prst="rect">
                  <a:avLst/>
                </a:prstGeom>
                <a:solidFill>
                  <a:srgbClr val="fff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153280" y="3595320"/>
                  <a:ext cx="768240" cy="1404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153280" y="3609720"/>
                  <a:ext cx="768240" cy="13680"/>
                </a:xfrm>
                <a:prstGeom prst="rect">
                  <a:avLst/>
                </a:prstGeom>
                <a:solidFill>
                  <a:srgbClr val="fff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153280" y="3623760"/>
                  <a:ext cx="768240" cy="1404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153280" y="3638160"/>
                  <a:ext cx="768240" cy="1404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153280" y="3652560"/>
                  <a:ext cx="768240" cy="16920"/>
                </a:xfrm>
                <a:prstGeom prst="rect">
                  <a:avLst/>
                </a:prstGeom>
                <a:solidFill>
                  <a:srgbClr val="ffff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153280" y="3669840"/>
                  <a:ext cx="768240" cy="1404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153280" y="3684240"/>
                  <a:ext cx="768240" cy="15480"/>
                </a:xfrm>
                <a:prstGeom prst="rect">
                  <a:avLst/>
                </a:prstGeom>
                <a:solidFill>
                  <a:srgbClr val="fff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153280" y="3700080"/>
                  <a:ext cx="768240" cy="14040"/>
                </a:xfrm>
                <a:prstGeom prst="rect">
                  <a:avLst/>
                </a:prstGeom>
                <a:solidFill>
                  <a:srgbClr val="fff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153280" y="3714480"/>
                  <a:ext cx="768240" cy="1404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153280" y="3728880"/>
                  <a:ext cx="768240" cy="13680"/>
                </a:xfrm>
                <a:prstGeom prst="rect">
                  <a:avLst/>
                </a:pr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153280" y="3742920"/>
                  <a:ext cx="768240" cy="14040"/>
                </a:xfrm>
                <a:prstGeom prst="rect">
                  <a:avLst/>
                </a:prstGeom>
                <a:solidFill>
                  <a:srgbClr val="fff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153280" y="3757320"/>
                  <a:ext cx="768240" cy="140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153280" y="3771720"/>
                  <a:ext cx="768240" cy="15480"/>
                </a:xfrm>
                <a:prstGeom prst="rect">
                  <a:avLst/>
                </a:prstGeom>
                <a:solidFill>
                  <a:srgbClr val="fff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153280" y="3787560"/>
                  <a:ext cx="768240" cy="13680"/>
                </a:xfrm>
                <a:prstGeom prst="rect">
                  <a:avLst/>
                </a:pr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153280" y="3801600"/>
                  <a:ext cx="768240" cy="1404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153280" y="3816000"/>
                  <a:ext cx="768240" cy="14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153280" y="3830400"/>
                  <a:ext cx="768240" cy="13680"/>
                </a:xfrm>
                <a:prstGeom prst="rect">
                  <a:avLst/>
                </a:prstGeom>
                <a:solidFill>
                  <a:srgbClr val="fff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153280" y="3844440"/>
                  <a:ext cx="768240" cy="14040"/>
                </a:xfrm>
                <a:prstGeom prst="rect">
                  <a:avLst/>
                </a:pr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153280" y="3858840"/>
                  <a:ext cx="768240" cy="15480"/>
                </a:xfrm>
                <a:prstGeom prst="rect">
                  <a:avLst/>
                </a:pr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153280" y="3874680"/>
                  <a:ext cx="768240" cy="17280"/>
                </a:xfrm>
                <a:prstGeom prst="rect">
                  <a:avLst/>
                </a:pr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153280" y="3892320"/>
                  <a:ext cx="768240" cy="13680"/>
                </a:xfrm>
                <a:prstGeom prst="rect">
                  <a:avLst/>
                </a:prstGeom>
                <a:solidFill>
                  <a:srgbClr val="ffff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153280" y="3906360"/>
                  <a:ext cx="768240" cy="14040"/>
                </a:xfrm>
                <a:prstGeom prst="rect">
                  <a:avLst/>
                </a:prstGeom>
                <a:solidFill>
                  <a:srgbClr val="fff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153280" y="3920760"/>
                  <a:ext cx="768240" cy="14040"/>
                </a:xfrm>
                <a:prstGeom prst="rect">
                  <a:avLst/>
                </a:pr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153280" y="3935160"/>
                  <a:ext cx="768240" cy="13680"/>
                </a:xfrm>
                <a:prstGeom prst="rect">
                  <a:avLst/>
                </a:prstGeom>
                <a:solidFill>
                  <a:srgbClr val="ff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153280" y="3949200"/>
                  <a:ext cx="768240" cy="14040"/>
                </a:xfrm>
                <a:prstGeom prst="rect">
                  <a:avLst/>
                </a:prstGeom>
                <a:solidFill>
                  <a:srgbClr val="ffff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153280" y="3963600"/>
                  <a:ext cx="768240" cy="15480"/>
                </a:xfrm>
                <a:prstGeom prst="rect">
                  <a:avLst/>
                </a:prstGeom>
                <a:solidFill>
                  <a:srgbClr val="fff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153280" y="3979440"/>
                  <a:ext cx="768240" cy="14040"/>
                </a:xfrm>
                <a:prstGeom prst="rect">
                  <a:avLst/>
                </a:prstGeom>
                <a:solidFill>
                  <a:srgbClr val="ffff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153280" y="3993840"/>
                  <a:ext cx="768240" cy="14040"/>
                </a:xfrm>
                <a:prstGeom prst="rect">
                  <a:avLst/>
                </a:pr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8153280" y="4008240"/>
                  <a:ext cx="768240" cy="13680"/>
                </a:xfrm>
                <a:prstGeom prst="rect">
                  <a:avLst/>
                </a:prstGeom>
                <a:solidFill>
                  <a:srgbClr val="ff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8153280" y="4022280"/>
                  <a:ext cx="768240" cy="14040"/>
                </a:xfrm>
                <a:prstGeom prst="rect">
                  <a:avLst/>
                </a:pr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8153280" y="4036680"/>
                  <a:ext cx="768240" cy="14040"/>
                </a:xfrm>
                <a:prstGeom prst="rect">
                  <a:avLst/>
                </a:prstGeom>
                <a:solidFill>
                  <a:srgbClr val="fff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8153280" y="4051080"/>
                  <a:ext cx="768240" cy="15480"/>
                </a:xfrm>
                <a:prstGeom prst="rect">
                  <a:avLst/>
                </a:prstGeom>
                <a:solidFill>
                  <a:srgbClr val="fff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8153280" y="4066920"/>
                  <a:ext cx="768240" cy="13680"/>
                </a:xfrm>
                <a:prstGeom prst="rect">
                  <a:avLst/>
                </a:prstGeom>
                <a:solidFill>
                  <a:srgbClr val="fff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8153280" y="4080960"/>
                  <a:ext cx="768240" cy="14040"/>
                </a:xfrm>
                <a:prstGeom prst="rect">
                  <a:avLst/>
                </a:pr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3280" y="4095360"/>
                  <a:ext cx="768240" cy="17280"/>
                </a:xfrm>
                <a:prstGeom prst="rect">
                  <a:avLst/>
                </a:prstGeom>
                <a:solidFill>
                  <a:srgbClr val="ff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8153280" y="4113000"/>
                  <a:ext cx="768240" cy="13680"/>
                </a:xfrm>
                <a:prstGeom prst="rect">
                  <a:avLst/>
                </a:pr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8153280" y="4127040"/>
                  <a:ext cx="768240" cy="14040"/>
                </a:xfrm>
                <a:prstGeom prst="rect">
                  <a:avLst/>
                </a:prstGeom>
                <a:solidFill>
                  <a:srgbClr val="fff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8153280" y="4141440"/>
                  <a:ext cx="768240" cy="14040"/>
                </a:xfrm>
                <a:prstGeom prst="rect">
                  <a:avLst/>
                </a:prstGeom>
                <a:solidFill>
                  <a:srgbClr val="ffff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8153280" y="4155840"/>
                  <a:ext cx="768240" cy="15480"/>
                </a:xfrm>
                <a:prstGeom prst="rect">
                  <a:avLst/>
                </a:prstGeom>
                <a:solidFill>
                  <a:srgbClr val="ffff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8153280" y="4171680"/>
                  <a:ext cx="768240" cy="14040"/>
                </a:xfrm>
                <a:prstGeom prst="rect">
                  <a:avLst/>
                </a:prstGeom>
                <a:solidFill>
                  <a:srgbClr val="fff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8153280" y="4186080"/>
                  <a:ext cx="768240" cy="13680"/>
                </a:xfrm>
                <a:prstGeom prst="rect">
                  <a:avLst/>
                </a:prstGeom>
                <a:solidFill>
                  <a:srgbClr val="ffff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8153280" y="4200120"/>
                  <a:ext cx="768240" cy="140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153280" y="4214520"/>
                  <a:ext cx="768240" cy="14040"/>
                </a:xfrm>
                <a:prstGeom prst="rect">
                  <a:avLst/>
                </a:prstGeom>
                <a:solidFill>
                  <a:srgbClr val="ffff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8153280" y="4228920"/>
                  <a:ext cx="768240" cy="13680"/>
                </a:xfrm>
                <a:prstGeom prst="rect">
                  <a:avLst/>
                </a:prstGeom>
                <a:solidFill>
                  <a:srgbClr val="ffff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8153280" y="4242960"/>
                  <a:ext cx="768240" cy="15480"/>
                </a:xfrm>
                <a:prstGeom prst="rect">
                  <a:avLst/>
                </a:prstGeom>
                <a:solidFill>
                  <a:srgbClr val="ffff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8153280" y="4258800"/>
                  <a:ext cx="768240" cy="14040"/>
                </a:xfrm>
                <a:prstGeom prst="rect">
                  <a:avLst/>
                </a:prstGeom>
                <a:solidFill>
                  <a:srgbClr val="ffff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8153280" y="4273200"/>
                  <a:ext cx="768240" cy="14040"/>
                </a:xfrm>
                <a:prstGeom prst="rect">
                  <a:avLst/>
                </a:prstGeom>
                <a:solidFill>
                  <a:srgbClr val="fff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153280" y="4287600"/>
                  <a:ext cx="768240" cy="13680"/>
                </a:xfrm>
                <a:prstGeom prst="rect">
                  <a:avLst/>
                </a:prstGeom>
                <a:solidFill>
                  <a:srgbClr val="fff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8153280" y="4301640"/>
                  <a:ext cx="768240" cy="17280"/>
                </a:xfrm>
                <a:prstGeom prst="rect">
                  <a:avLst/>
                </a:prstGeom>
                <a:solidFill>
                  <a:srgbClr val="fff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8153280" y="4319280"/>
                  <a:ext cx="768240" cy="14040"/>
                </a:xfrm>
                <a:prstGeom prst="rect">
                  <a:avLst/>
                </a:prstGeom>
                <a:solidFill>
                  <a:srgbClr val="ffff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8153280" y="4333680"/>
                  <a:ext cx="768240" cy="1368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153280" y="4347720"/>
                  <a:ext cx="768240" cy="1548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8153280" y="4363560"/>
                  <a:ext cx="768240" cy="14040"/>
                </a:xfrm>
                <a:prstGeom prst="rect">
                  <a:avLst/>
                </a:prstGeom>
                <a:solidFill>
                  <a:srgbClr val="fff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8153280" y="4377960"/>
                  <a:ext cx="768240" cy="14040"/>
                </a:xfrm>
                <a:prstGeom prst="rect">
                  <a:avLst/>
                </a:prstGeom>
                <a:solidFill>
                  <a:srgbClr val="fff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8153280" y="4392360"/>
                  <a:ext cx="768240" cy="13680"/>
                </a:xfrm>
                <a:prstGeom prst="rect">
                  <a:avLst/>
                </a:prstGeom>
                <a:solidFill>
                  <a:srgbClr val="ffff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8153280" y="4406400"/>
                  <a:ext cx="768240" cy="14040"/>
                </a:xfrm>
                <a:prstGeom prst="rect">
                  <a:avLst/>
                </a:prstGeom>
                <a:solidFill>
                  <a:srgbClr val="ffff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8153280" y="4420800"/>
                  <a:ext cx="768240" cy="14040"/>
                </a:xfrm>
                <a:prstGeom prst="rect">
                  <a:avLst/>
                </a:prstGeom>
                <a:solidFill>
                  <a:srgbClr val="ffff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8153280" y="4435200"/>
                  <a:ext cx="768240" cy="1548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8153280" y="4451040"/>
                  <a:ext cx="768240" cy="1404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8153280" y="4465440"/>
                  <a:ext cx="768240" cy="1368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153280" y="4479480"/>
                  <a:ext cx="768240" cy="1404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8153280" y="4493880"/>
                  <a:ext cx="768240" cy="1404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8153280" y="4508280"/>
                  <a:ext cx="768240" cy="1368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8153280" y="4522320"/>
                  <a:ext cx="768240" cy="17280"/>
                </a:xfrm>
                <a:prstGeom prst="rect">
                  <a:avLst/>
                </a:prstGeom>
                <a:solidFill>
                  <a:srgbClr val="fff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8153280" y="4539960"/>
                  <a:ext cx="768240" cy="15480"/>
                </a:xfrm>
                <a:prstGeom prst="rect">
                  <a:avLst/>
                </a:prstGeom>
                <a:solidFill>
                  <a:srgbClr val="fff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8153280" y="4555800"/>
                  <a:ext cx="768240" cy="14040"/>
                </a:xfrm>
                <a:prstGeom prst="rect">
                  <a:avLst/>
                </a:prstGeom>
                <a:solidFill>
                  <a:srgbClr val="fff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8153280" y="4570200"/>
                  <a:ext cx="768240" cy="13680"/>
                </a:xfrm>
                <a:prstGeom prst="rect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8153280" y="4584240"/>
                  <a:ext cx="768240" cy="14040"/>
                </a:xfrm>
                <a:prstGeom prst="rect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8153280" y="4598640"/>
                  <a:ext cx="768240" cy="14040"/>
                </a:xfrm>
                <a:prstGeom prst="rect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8153280" y="4613040"/>
                  <a:ext cx="768240" cy="13680"/>
                </a:xfrm>
                <a:prstGeom prst="rect">
                  <a:avLst/>
                </a:prstGeom>
                <a:solidFill>
                  <a:srgbClr val="ffff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153280" y="4627080"/>
                  <a:ext cx="768240" cy="15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8153280" y="3124080"/>
                  <a:ext cx="762120" cy="1512720"/>
                </a:xfrm>
                <a:custGeom>
                  <a:avLst/>
                  <a:gdLst/>
                  <a:ahLst/>
                  <a:rect l="l" t="t" r="r" b="b"/>
                  <a:pathLst>
                    <a:path w="480" h="953">
                      <a:moveTo>
                        <a:pt x="0" y="0"/>
                      </a:moveTo>
                      <a:lnTo>
                        <a:pt x="50" y="1"/>
                      </a:lnTo>
                      <a:lnTo>
                        <a:pt x="98" y="7"/>
                      </a:lnTo>
                      <a:lnTo>
                        <a:pt x="142" y="14"/>
                      </a:lnTo>
                      <a:lnTo>
                        <a:pt x="186" y="27"/>
                      </a:lnTo>
                      <a:lnTo>
                        <a:pt x="229" y="40"/>
                      </a:lnTo>
                      <a:lnTo>
                        <a:pt x="270" y="58"/>
                      </a:lnTo>
                      <a:lnTo>
                        <a:pt x="306" y="77"/>
                      </a:lnTo>
                      <a:lnTo>
                        <a:pt x="340" y="99"/>
                      </a:lnTo>
                      <a:lnTo>
                        <a:pt x="371" y="124"/>
                      </a:lnTo>
                      <a:lnTo>
                        <a:pt x="399" y="150"/>
                      </a:lnTo>
                      <a:lnTo>
                        <a:pt x="423" y="177"/>
                      </a:lnTo>
                      <a:lnTo>
                        <a:pt x="443" y="209"/>
                      </a:lnTo>
                      <a:lnTo>
                        <a:pt x="458" y="240"/>
                      </a:lnTo>
                      <a:lnTo>
                        <a:pt x="471" y="271"/>
                      </a:lnTo>
                      <a:lnTo>
                        <a:pt x="478" y="306"/>
                      </a:lnTo>
                      <a:lnTo>
                        <a:pt x="480" y="341"/>
                      </a:lnTo>
                      <a:lnTo>
                        <a:pt x="480" y="535"/>
                      </a:lnTo>
                      <a:lnTo>
                        <a:pt x="478" y="562"/>
                      </a:lnTo>
                      <a:lnTo>
                        <a:pt x="475" y="588"/>
                      </a:lnTo>
                      <a:lnTo>
                        <a:pt x="467" y="614"/>
                      </a:lnTo>
                      <a:lnTo>
                        <a:pt x="458" y="639"/>
                      </a:lnTo>
                      <a:lnTo>
                        <a:pt x="445" y="663"/>
                      </a:lnTo>
                      <a:lnTo>
                        <a:pt x="430" y="687"/>
                      </a:lnTo>
                      <a:lnTo>
                        <a:pt x="412" y="711"/>
                      </a:lnTo>
                      <a:lnTo>
                        <a:pt x="393" y="731"/>
                      </a:lnTo>
                      <a:lnTo>
                        <a:pt x="371" y="753"/>
                      </a:lnTo>
                      <a:lnTo>
                        <a:pt x="345" y="771"/>
                      </a:lnTo>
                      <a:lnTo>
                        <a:pt x="319" y="790"/>
                      </a:lnTo>
                      <a:lnTo>
                        <a:pt x="292" y="806"/>
                      </a:lnTo>
                      <a:lnTo>
                        <a:pt x="262" y="821"/>
                      </a:lnTo>
                      <a:lnTo>
                        <a:pt x="229" y="834"/>
                      </a:lnTo>
                      <a:lnTo>
                        <a:pt x="196" y="847"/>
                      </a:lnTo>
                      <a:lnTo>
                        <a:pt x="161" y="856"/>
                      </a:lnTo>
                      <a:lnTo>
                        <a:pt x="161" y="953"/>
                      </a:lnTo>
                      <a:lnTo>
                        <a:pt x="0" y="779"/>
                      </a:lnTo>
                      <a:lnTo>
                        <a:pt x="161" y="564"/>
                      </a:lnTo>
                      <a:lnTo>
                        <a:pt x="161" y="661"/>
                      </a:lnTo>
                      <a:lnTo>
                        <a:pt x="212" y="645"/>
                      </a:lnTo>
                      <a:lnTo>
                        <a:pt x="262" y="627"/>
                      </a:lnTo>
                      <a:lnTo>
                        <a:pt x="306" y="603"/>
                      </a:lnTo>
                      <a:lnTo>
                        <a:pt x="347" y="575"/>
                      </a:lnTo>
                      <a:lnTo>
                        <a:pt x="384" y="544"/>
                      </a:lnTo>
                      <a:lnTo>
                        <a:pt x="415" y="511"/>
                      </a:lnTo>
                      <a:lnTo>
                        <a:pt x="439" y="476"/>
                      </a:lnTo>
                      <a:lnTo>
                        <a:pt x="460" y="438"/>
                      </a:lnTo>
                      <a:lnTo>
                        <a:pt x="460" y="438"/>
                      </a:lnTo>
                      <a:lnTo>
                        <a:pt x="447" y="412"/>
                      </a:lnTo>
                      <a:lnTo>
                        <a:pt x="432" y="386"/>
                      </a:lnTo>
                      <a:lnTo>
                        <a:pt x="414" y="361"/>
                      </a:lnTo>
                      <a:lnTo>
                        <a:pt x="391" y="339"/>
                      </a:lnTo>
                      <a:lnTo>
                        <a:pt x="369" y="317"/>
                      </a:lnTo>
                      <a:lnTo>
                        <a:pt x="343" y="297"/>
                      </a:lnTo>
                      <a:lnTo>
                        <a:pt x="316" y="278"/>
                      </a:lnTo>
                      <a:lnTo>
                        <a:pt x="286" y="262"/>
                      </a:lnTo>
                      <a:lnTo>
                        <a:pt x="255" y="247"/>
                      </a:lnTo>
                      <a:lnTo>
                        <a:pt x="223" y="232"/>
                      </a:lnTo>
                      <a:lnTo>
                        <a:pt x="188" y="221"/>
                      </a:lnTo>
                      <a:lnTo>
                        <a:pt x="153" y="212"/>
                      </a:lnTo>
                      <a:lnTo>
                        <a:pt x="116" y="205"/>
                      </a:lnTo>
                      <a:lnTo>
                        <a:pt x="77" y="199"/>
                      </a:lnTo>
                      <a:lnTo>
                        <a:pt x="39" y="196"/>
                      </a:lnTo>
                      <a:lnTo>
                        <a:pt x="0" y="1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8153280" y="3124080"/>
                  <a:ext cx="762120" cy="1512720"/>
                </a:xfrm>
                <a:custGeom>
                  <a:avLst/>
                  <a:gdLst/>
                  <a:ahLst/>
                  <a:rect l="l" t="t" r="r" b="b"/>
                  <a:pathLst>
                    <a:path w="480" h="953">
                      <a:moveTo>
                        <a:pt x="0" y="0"/>
                      </a:moveTo>
                      <a:lnTo>
                        <a:pt x="50" y="1"/>
                      </a:lnTo>
                      <a:lnTo>
                        <a:pt x="98" y="7"/>
                      </a:lnTo>
                      <a:lnTo>
                        <a:pt x="142" y="14"/>
                      </a:lnTo>
                      <a:lnTo>
                        <a:pt x="186" y="27"/>
                      </a:lnTo>
                      <a:lnTo>
                        <a:pt x="229" y="40"/>
                      </a:lnTo>
                      <a:lnTo>
                        <a:pt x="270" y="58"/>
                      </a:lnTo>
                      <a:lnTo>
                        <a:pt x="306" y="77"/>
                      </a:lnTo>
                      <a:lnTo>
                        <a:pt x="340" y="99"/>
                      </a:lnTo>
                      <a:lnTo>
                        <a:pt x="371" y="124"/>
                      </a:lnTo>
                      <a:lnTo>
                        <a:pt x="399" y="150"/>
                      </a:lnTo>
                      <a:lnTo>
                        <a:pt x="423" y="177"/>
                      </a:lnTo>
                      <a:lnTo>
                        <a:pt x="443" y="209"/>
                      </a:lnTo>
                      <a:lnTo>
                        <a:pt x="458" y="240"/>
                      </a:lnTo>
                      <a:lnTo>
                        <a:pt x="471" y="271"/>
                      </a:lnTo>
                      <a:lnTo>
                        <a:pt x="478" y="306"/>
                      </a:lnTo>
                      <a:lnTo>
                        <a:pt x="480" y="341"/>
                      </a:lnTo>
                      <a:lnTo>
                        <a:pt x="480" y="535"/>
                      </a:lnTo>
                      <a:lnTo>
                        <a:pt x="478" y="562"/>
                      </a:lnTo>
                      <a:lnTo>
                        <a:pt x="475" y="588"/>
                      </a:lnTo>
                      <a:lnTo>
                        <a:pt x="467" y="614"/>
                      </a:lnTo>
                      <a:lnTo>
                        <a:pt x="458" y="639"/>
                      </a:lnTo>
                      <a:lnTo>
                        <a:pt x="445" y="663"/>
                      </a:lnTo>
                      <a:lnTo>
                        <a:pt x="430" y="687"/>
                      </a:lnTo>
                      <a:lnTo>
                        <a:pt x="412" y="711"/>
                      </a:lnTo>
                      <a:lnTo>
                        <a:pt x="393" y="731"/>
                      </a:lnTo>
                      <a:lnTo>
                        <a:pt x="371" y="753"/>
                      </a:lnTo>
                      <a:lnTo>
                        <a:pt x="345" y="771"/>
                      </a:lnTo>
                      <a:lnTo>
                        <a:pt x="319" y="790"/>
                      </a:lnTo>
                      <a:lnTo>
                        <a:pt x="292" y="806"/>
                      </a:lnTo>
                      <a:lnTo>
                        <a:pt x="262" y="821"/>
                      </a:lnTo>
                      <a:lnTo>
                        <a:pt x="229" y="834"/>
                      </a:lnTo>
                      <a:lnTo>
                        <a:pt x="196" y="847"/>
                      </a:lnTo>
                      <a:lnTo>
                        <a:pt x="161" y="856"/>
                      </a:lnTo>
                      <a:lnTo>
                        <a:pt x="161" y="953"/>
                      </a:lnTo>
                      <a:lnTo>
                        <a:pt x="0" y="779"/>
                      </a:lnTo>
                      <a:lnTo>
                        <a:pt x="161" y="564"/>
                      </a:lnTo>
                      <a:lnTo>
                        <a:pt x="161" y="661"/>
                      </a:lnTo>
                      <a:lnTo>
                        <a:pt x="212" y="645"/>
                      </a:lnTo>
                      <a:lnTo>
                        <a:pt x="262" y="627"/>
                      </a:lnTo>
                      <a:lnTo>
                        <a:pt x="306" y="603"/>
                      </a:lnTo>
                      <a:lnTo>
                        <a:pt x="347" y="575"/>
                      </a:lnTo>
                      <a:lnTo>
                        <a:pt x="384" y="544"/>
                      </a:lnTo>
                      <a:lnTo>
                        <a:pt x="415" y="511"/>
                      </a:lnTo>
                      <a:lnTo>
                        <a:pt x="439" y="476"/>
                      </a:lnTo>
                      <a:lnTo>
                        <a:pt x="460" y="438"/>
                      </a:lnTo>
                      <a:lnTo>
                        <a:pt x="460" y="438"/>
                      </a:lnTo>
                      <a:lnTo>
                        <a:pt x="447" y="412"/>
                      </a:lnTo>
                      <a:lnTo>
                        <a:pt x="432" y="386"/>
                      </a:lnTo>
                      <a:lnTo>
                        <a:pt x="414" y="361"/>
                      </a:lnTo>
                      <a:lnTo>
                        <a:pt x="391" y="339"/>
                      </a:lnTo>
                      <a:lnTo>
                        <a:pt x="369" y="317"/>
                      </a:lnTo>
                      <a:lnTo>
                        <a:pt x="343" y="297"/>
                      </a:lnTo>
                      <a:lnTo>
                        <a:pt x="316" y="278"/>
                      </a:lnTo>
                      <a:lnTo>
                        <a:pt x="286" y="262"/>
                      </a:lnTo>
                      <a:lnTo>
                        <a:pt x="255" y="247"/>
                      </a:lnTo>
                      <a:lnTo>
                        <a:pt x="223" y="232"/>
                      </a:lnTo>
                      <a:lnTo>
                        <a:pt x="188" y="221"/>
                      </a:lnTo>
                      <a:lnTo>
                        <a:pt x="153" y="212"/>
                      </a:lnTo>
                      <a:lnTo>
                        <a:pt x="116" y="205"/>
                      </a:lnTo>
                      <a:lnTo>
                        <a:pt x="77" y="199"/>
                      </a:lnTo>
                      <a:lnTo>
                        <a:pt x="39" y="196"/>
                      </a:lnTo>
                      <a:lnTo>
                        <a:pt x="0" y="1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8153280" y="3124080"/>
                  <a:ext cx="768240" cy="140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53280" y="3138120"/>
                  <a:ext cx="768240" cy="140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8153280" y="3152520"/>
                  <a:ext cx="768240" cy="136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8153280" y="3166560"/>
                  <a:ext cx="768240" cy="1404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153280" y="3180960"/>
                  <a:ext cx="768240" cy="1404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153280" y="3195360"/>
                  <a:ext cx="768240" cy="15480"/>
                </a:xfrm>
                <a:prstGeom prst="rect">
                  <a:avLst/>
                </a:prstGeom>
                <a:solidFill>
                  <a:srgbClr val="ffff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153280" y="3211200"/>
                  <a:ext cx="768240" cy="14040"/>
                </a:xfrm>
                <a:prstGeom prst="rect">
                  <a:avLst/>
                </a:prstGeom>
                <a:solidFill>
                  <a:srgbClr val="fff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53280" y="3225600"/>
                  <a:ext cx="768240" cy="16920"/>
                </a:xfrm>
                <a:prstGeom prst="rect">
                  <a:avLst/>
                </a:prstGeom>
                <a:solidFill>
                  <a:srgbClr val="ffff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153280" y="3242880"/>
                  <a:ext cx="768240" cy="14040"/>
                </a:xfrm>
                <a:prstGeom prst="rect">
                  <a:avLst/>
                </a:prstGeom>
                <a:solidFill>
                  <a:srgbClr val="fff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53280" y="3257280"/>
                  <a:ext cx="768240" cy="14040"/>
                </a:xfrm>
                <a:prstGeom prst="rect">
                  <a:avLst/>
                </a:prstGeom>
                <a:solidFill>
                  <a:srgbClr val="ffff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8153280" y="3271680"/>
                  <a:ext cx="768240" cy="13680"/>
                </a:xfrm>
                <a:prstGeom prst="rect">
                  <a:avLst/>
                </a:prstGeom>
                <a:solidFill>
                  <a:srgbClr val="ffff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8153280" y="3285720"/>
                  <a:ext cx="768240" cy="14040"/>
                </a:xfrm>
                <a:prstGeom prst="rect">
                  <a:avLst/>
                </a:prstGeom>
                <a:solidFill>
                  <a:srgbClr val="fff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8153280" y="3300120"/>
                  <a:ext cx="768240" cy="15480"/>
                </a:xfrm>
                <a:prstGeom prst="rect">
                  <a:avLst/>
                </a:prstGeom>
                <a:solidFill>
                  <a:srgbClr val="fff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53280" y="3315960"/>
                  <a:ext cx="768240" cy="14040"/>
                </a:xfrm>
                <a:prstGeom prst="rect">
                  <a:avLst/>
                </a:prstGeom>
                <a:solidFill>
                  <a:srgbClr val="fff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8153280" y="3330360"/>
                  <a:ext cx="768240" cy="13680"/>
                </a:xfrm>
                <a:prstGeom prst="rect">
                  <a:avLst/>
                </a:prstGeom>
                <a:solidFill>
                  <a:srgbClr val="fff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8153280" y="3344400"/>
                  <a:ext cx="768240" cy="14040"/>
                </a:xfrm>
                <a:prstGeom prst="rect">
                  <a:avLst/>
                </a:prstGeom>
                <a:solidFill>
                  <a:srgbClr val="ffff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8153280" y="3358800"/>
                  <a:ext cx="768240" cy="14040"/>
                </a:xfrm>
                <a:prstGeom prst="rect">
                  <a:avLst/>
                </a:prstGeom>
                <a:solidFill>
                  <a:srgbClr val="ffff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8153280" y="3373200"/>
                  <a:ext cx="768240" cy="13680"/>
                </a:xfrm>
                <a:prstGeom prst="rect">
                  <a:avLst/>
                </a:prstGeom>
                <a:solidFill>
                  <a:srgbClr val="ffff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8153280" y="3387240"/>
                  <a:ext cx="768240" cy="15840"/>
                </a:xfrm>
                <a:prstGeom prst="rect">
                  <a:avLst/>
                </a:prstGeom>
                <a:solidFill>
                  <a:srgbClr val="ff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53280" y="3403440"/>
                  <a:ext cx="768240" cy="13680"/>
                </a:xfrm>
                <a:prstGeom prst="rect">
                  <a:avLst/>
                </a:prstGeom>
                <a:solidFill>
                  <a:srgbClr val="ffff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8153280" y="3417480"/>
                  <a:ext cx="768240" cy="14040"/>
                </a:xfrm>
                <a:prstGeom prst="rect">
                  <a:avLst/>
                </a:prstGeom>
                <a:solidFill>
                  <a:srgbClr val="fff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153280" y="3431880"/>
                  <a:ext cx="768240" cy="14040"/>
                </a:xfrm>
                <a:prstGeom prst="rect">
                  <a:avLst/>
                </a:prstGeom>
                <a:solidFill>
                  <a:srgbClr val="ffff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153280" y="3446280"/>
                  <a:ext cx="768240" cy="16920"/>
                </a:xfrm>
                <a:prstGeom prst="rect">
                  <a:avLst/>
                </a:prstGeom>
                <a:solidFill>
                  <a:srgbClr val="ffff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153280" y="3463560"/>
                  <a:ext cx="768240" cy="14040"/>
                </a:xfrm>
                <a:prstGeom prst="rect">
                  <a:avLst/>
                </a:prstGeom>
                <a:solidFill>
                  <a:srgbClr val="ffff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153280" y="3477960"/>
                  <a:ext cx="768240" cy="13680"/>
                </a:xfrm>
                <a:prstGeom prst="rect">
                  <a:avLst/>
                </a:prstGeom>
                <a:solidFill>
                  <a:srgbClr val="ffff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53280" y="3492000"/>
                  <a:ext cx="768240" cy="15840"/>
                </a:xfrm>
                <a:prstGeom prst="rect">
                  <a:avLst/>
                </a:prstGeom>
                <a:solidFill>
                  <a:srgbClr val="ffff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8153280" y="3508200"/>
                  <a:ext cx="768240" cy="13680"/>
                </a:xfrm>
                <a:prstGeom prst="rect">
                  <a:avLst/>
                </a:prstGeom>
                <a:solidFill>
                  <a:srgbClr val="fff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8153280" y="3522240"/>
                  <a:ext cx="768240" cy="14040"/>
                </a:xfrm>
                <a:prstGeom prst="rect">
                  <a:avLst/>
                </a:prstGeom>
                <a:solidFill>
                  <a:srgbClr val="fff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8153280" y="3536640"/>
                  <a:ext cx="768240" cy="14040"/>
                </a:xfrm>
                <a:prstGeom prst="rect">
                  <a:avLst/>
                </a:prstGeom>
                <a:solidFill>
                  <a:srgbClr val="ffff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8153280" y="3551040"/>
                  <a:ext cx="768240" cy="13680"/>
                </a:xfrm>
                <a:prstGeom prst="rect">
                  <a:avLst/>
                </a:prstGeom>
                <a:solidFill>
                  <a:srgbClr val="ffff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8153280" y="3565080"/>
                  <a:ext cx="768240" cy="14040"/>
                </a:xfrm>
                <a:prstGeom prst="rect">
                  <a:avLst/>
                </a:prstGeom>
                <a:solidFill>
                  <a:srgbClr val="ffff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8153280" y="3579480"/>
                  <a:ext cx="768240" cy="15480"/>
                </a:xfrm>
                <a:prstGeom prst="rect">
                  <a:avLst/>
                </a:prstGeom>
                <a:solidFill>
                  <a:srgbClr val="ffff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8153280" y="3595320"/>
                  <a:ext cx="768240" cy="14040"/>
                </a:xfrm>
                <a:prstGeom prst="rect">
                  <a:avLst/>
                </a:prstGeom>
                <a:solidFill>
                  <a:srgbClr val="ffff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8153280" y="3609720"/>
                  <a:ext cx="768240" cy="13680"/>
                </a:xfrm>
                <a:prstGeom prst="rect">
                  <a:avLst/>
                </a:prstGeom>
                <a:solidFill>
                  <a:srgbClr val="fff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8153280" y="3623760"/>
                  <a:ext cx="768240" cy="14040"/>
                </a:xfrm>
                <a:prstGeom prst="rect">
                  <a:avLst/>
                </a:prstGeom>
                <a:solidFill>
                  <a:srgbClr val="ffff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8153280" y="3638160"/>
                  <a:ext cx="768240" cy="14040"/>
                </a:xfrm>
                <a:prstGeom prst="rect">
                  <a:avLst/>
                </a:prstGeom>
                <a:solidFill>
                  <a:srgbClr val="ffff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8153280" y="3652560"/>
                  <a:ext cx="768240" cy="16920"/>
                </a:xfrm>
                <a:prstGeom prst="rect">
                  <a:avLst/>
                </a:prstGeom>
                <a:solidFill>
                  <a:srgbClr val="ffff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8153280" y="3669840"/>
                  <a:ext cx="768240" cy="14040"/>
                </a:xfrm>
                <a:prstGeom prst="rect">
                  <a:avLst/>
                </a:prstGeom>
                <a:solidFill>
                  <a:srgbClr val="fff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8153280" y="3684240"/>
                  <a:ext cx="768240" cy="15480"/>
                </a:xfrm>
                <a:prstGeom prst="rect">
                  <a:avLst/>
                </a:prstGeom>
                <a:solidFill>
                  <a:srgbClr val="ffff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8153280" y="3700080"/>
                  <a:ext cx="768240" cy="14040"/>
                </a:xfrm>
                <a:prstGeom prst="rect">
                  <a:avLst/>
                </a:prstGeom>
                <a:solidFill>
                  <a:srgbClr val="fff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8153280" y="3714480"/>
                  <a:ext cx="768240" cy="14040"/>
                </a:xfrm>
                <a:prstGeom prst="rect">
                  <a:avLst/>
                </a:prstGeom>
                <a:solidFill>
                  <a:srgbClr val="ffff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8153280" y="3728880"/>
                  <a:ext cx="768240" cy="13680"/>
                </a:xfrm>
                <a:prstGeom prst="rect">
                  <a:avLst/>
                </a:prstGeom>
                <a:solidFill>
                  <a:srgbClr val="ffff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8153280" y="3742920"/>
                  <a:ext cx="768240" cy="14040"/>
                </a:xfrm>
                <a:prstGeom prst="rect">
                  <a:avLst/>
                </a:prstGeom>
                <a:solidFill>
                  <a:srgbClr val="fff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8153280" y="3757320"/>
                  <a:ext cx="768240" cy="14040"/>
                </a:xfrm>
                <a:prstGeom prst="rect">
                  <a:avLst/>
                </a:pr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8153280" y="3771720"/>
                  <a:ext cx="768240" cy="15480"/>
                </a:xfrm>
                <a:prstGeom prst="rect">
                  <a:avLst/>
                </a:prstGeom>
                <a:solidFill>
                  <a:srgbClr val="fff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153280" y="3787560"/>
                  <a:ext cx="768240" cy="13680"/>
                </a:xfrm>
                <a:prstGeom prst="rect">
                  <a:avLst/>
                </a:prstGeom>
                <a:solidFill>
                  <a:srgbClr val="ffff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8153280" y="3801600"/>
                  <a:ext cx="768240" cy="14040"/>
                </a:xfrm>
                <a:prstGeom prst="rect">
                  <a:avLst/>
                </a:prstGeom>
                <a:solidFill>
                  <a:srgbClr val="ffff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8153280" y="3816000"/>
                  <a:ext cx="768240" cy="1404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153280" y="3830400"/>
                  <a:ext cx="768240" cy="13680"/>
                </a:xfrm>
                <a:prstGeom prst="rect">
                  <a:avLst/>
                </a:prstGeom>
                <a:solidFill>
                  <a:srgbClr val="fff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153280" y="3844440"/>
                  <a:ext cx="768240" cy="14040"/>
                </a:xfrm>
                <a:prstGeom prst="rect">
                  <a:avLst/>
                </a:prstGeom>
                <a:solidFill>
                  <a:srgbClr val="fff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8153280" y="3858840"/>
                  <a:ext cx="768240" cy="15480"/>
                </a:xfrm>
                <a:prstGeom prst="rect">
                  <a:avLst/>
                </a:prstGeom>
                <a:solidFill>
                  <a:srgbClr val="ffff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153280" y="3874680"/>
                  <a:ext cx="768240" cy="17280"/>
                </a:xfrm>
                <a:prstGeom prst="rect">
                  <a:avLst/>
                </a:prstGeom>
                <a:solidFill>
                  <a:srgbClr val="ffff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8153280" y="3892320"/>
                  <a:ext cx="768240" cy="13680"/>
                </a:xfrm>
                <a:prstGeom prst="rect">
                  <a:avLst/>
                </a:prstGeom>
                <a:solidFill>
                  <a:srgbClr val="ffff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8153280" y="3906360"/>
                  <a:ext cx="768240" cy="14040"/>
                </a:xfrm>
                <a:prstGeom prst="rect">
                  <a:avLst/>
                </a:prstGeom>
                <a:solidFill>
                  <a:srgbClr val="fff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8153280" y="3920760"/>
                  <a:ext cx="768240" cy="14040"/>
                </a:xfrm>
                <a:prstGeom prst="rect">
                  <a:avLst/>
                </a:prstGeom>
                <a:solidFill>
                  <a:srgbClr val="ffff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8153280" y="3935160"/>
                  <a:ext cx="768240" cy="13680"/>
                </a:xfrm>
                <a:prstGeom prst="rect">
                  <a:avLst/>
                </a:prstGeom>
                <a:solidFill>
                  <a:srgbClr val="ffff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8153280" y="3949200"/>
                  <a:ext cx="768240" cy="14040"/>
                </a:xfrm>
                <a:prstGeom prst="rect">
                  <a:avLst/>
                </a:prstGeom>
                <a:solidFill>
                  <a:srgbClr val="ffff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8153280" y="3963600"/>
                  <a:ext cx="768240" cy="15480"/>
                </a:xfrm>
                <a:prstGeom prst="rect">
                  <a:avLst/>
                </a:prstGeom>
                <a:solidFill>
                  <a:srgbClr val="fff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8153280" y="3979440"/>
                  <a:ext cx="768240" cy="14040"/>
                </a:xfrm>
                <a:prstGeom prst="rect">
                  <a:avLst/>
                </a:prstGeom>
                <a:solidFill>
                  <a:srgbClr val="ffff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8153280" y="3993840"/>
                  <a:ext cx="768240" cy="14040"/>
                </a:xfrm>
                <a:prstGeom prst="rect">
                  <a:avLst/>
                </a:prstGeom>
                <a:solidFill>
                  <a:srgbClr val="ffff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8153280" y="4008240"/>
                  <a:ext cx="768240" cy="13680"/>
                </a:xfrm>
                <a:prstGeom prst="rect">
                  <a:avLst/>
                </a:prstGeom>
                <a:solidFill>
                  <a:srgbClr val="ff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8153280" y="4022280"/>
                  <a:ext cx="768240" cy="14040"/>
                </a:xfrm>
                <a:prstGeom prst="rect">
                  <a:avLst/>
                </a:pr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153280" y="4036680"/>
                  <a:ext cx="768240" cy="14040"/>
                </a:xfrm>
                <a:prstGeom prst="rect">
                  <a:avLst/>
                </a:prstGeom>
                <a:solidFill>
                  <a:srgbClr val="ffff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8153280" y="4051080"/>
                  <a:ext cx="768240" cy="15480"/>
                </a:xfrm>
                <a:prstGeom prst="rect">
                  <a:avLst/>
                </a:prstGeom>
                <a:solidFill>
                  <a:srgbClr val="fff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8153280" y="4066920"/>
                  <a:ext cx="768240" cy="13680"/>
                </a:xfrm>
                <a:prstGeom prst="rect">
                  <a:avLst/>
                </a:prstGeom>
                <a:solidFill>
                  <a:srgbClr val="ffff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153280" y="4080960"/>
                  <a:ext cx="768240" cy="14040"/>
                </a:xfrm>
                <a:prstGeom prst="rect">
                  <a:avLst/>
                </a:prstGeom>
                <a:solidFill>
                  <a:srgbClr val="ff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8153280" y="4095360"/>
                  <a:ext cx="768240" cy="17280"/>
                </a:xfrm>
                <a:prstGeom prst="rect">
                  <a:avLst/>
                </a:prstGeom>
                <a:solidFill>
                  <a:srgbClr val="ffff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8153280" y="4113000"/>
                  <a:ext cx="768240" cy="13680"/>
                </a:xfrm>
                <a:prstGeom prst="rect">
                  <a:avLst/>
                </a:prstGeom>
                <a:solidFill>
                  <a:srgbClr val="ffff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153280" y="4127040"/>
                  <a:ext cx="768240" cy="14040"/>
                </a:xfrm>
                <a:prstGeom prst="rect">
                  <a:avLst/>
                </a:prstGeom>
                <a:solidFill>
                  <a:srgbClr val="ffff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8153280" y="4141440"/>
                  <a:ext cx="768240" cy="14040"/>
                </a:xfrm>
                <a:prstGeom prst="rect">
                  <a:avLst/>
                </a:prstGeom>
                <a:solidFill>
                  <a:srgbClr val="ffff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8153280" y="4155840"/>
                  <a:ext cx="768240" cy="15480"/>
                </a:xfrm>
                <a:prstGeom prst="rect">
                  <a:avLst/>
                </a:prstGeom>
                <a:solidFill>
                  <a:srgbClr val="ffff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8153280" y="4171680"/>
                  <a:ext cx="768240" cy="14040"/>
                </a:xfrm>
                <a:prstGeom prst="rect">
                  <a:avLst/>
                </a:prstGeom>
                <a:solidFill>
                  <a:srgbClr val="ffff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8153280" y="4186080"/>
                  <a:ext cx="768240" cy="13680"/>
                </a:xfrm>
                <a:prstGeom prst="rect">
                  <a:avLst/>
                </a:prstGeom>
                <a:solidFill>
                  <a:srgbClr val="ffff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8153280" y="4200120"/>
                  <a:ext cx="768240" cy="14040"/>
                </a:xfrm>
                <a:prstGeom prst="rect">
                  <a:avLst/>
                </a:prstGeom>
                <a:solidFill>
                  <a:srgbClr val="ff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8153280" y="4214520"/>
                  <a:ext cx="768240" cy="14040"/>
                </a:xfrm>
                <a:prstGeom prst="rect">
                  <a:avLst/>
                </a:prstGeom>
                <a:solidFill>
                  <a:srgbClr val="ffff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8153280" y="4228920"/>
                  <a:ext cx="768240" cy="13680"/>
                </a:xfrm>
                <a:prstGeom prst="rect">
                  <a:avLst/>
                </a:prstGeom>
                <a:solidFill>
                  <a:srgbClr val="ffff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153280" y="4242960"/>
                  <a:ext cx="768240" cy="15480"/>
                </a:xfrm>
                <a:prstGeom prst="rect">
                  <a:avLst/>
                </a:prstGeom>
                <a:solidFill>
                  <a:srgbClr val="ffff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8153280" y="4258800"/>
                  <a:ext cx="768240" cy="14040"/>
                </a:xfrm>
                <a:prstGeom prst="rect">
                  <a:avLst/>
                </a:prstGeom>
                <a:solidFill>
                  <a:srgbClr val="ffff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8153280" y="4273200"/>
                  <a:ext cx="768240" cy="14040"/>
                </a:xfrm>
                <a:prstGeom prst="rect">
                  <a:avLst/>
                </a:prstGeom>
                <a:solidFill>
                  <a:srgbClr val="fff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153280" y="4287600"/>
                  <a:ext cx="768240" cy="13680"/>
                </a:xfrm>
                <a:prstGeom prst="rect">
                  <a:avLst/>
                </a:prstGeom>
                <a:solidFill>
                  <a:srgbClr val="fff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8153280" y="4301640"/>
                  <a:ext cx="768240" cy="17280"/>
                </a:xfrm>
                <a:prstGeom prst="rect">
                  <a:avLst/>
                </a:prstGeom>
                <a:solidFill>
                  <a:srgbClr val="fff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153280" y="4319280"/>
                  <a:ext cx="768240" cy="14040"/>
                </a:xfrm>
                <a:prstGeom prst="rect">
                  <a:avLst/>
                </a:prstGeom>
                <a:solidFill>
                  <a:srgbClr val="ffff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8153280" y="4333680"/>
                  <a:ext cx="768240" cy="1368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8153280" y="4347720"/>
                  <a:ext cx="768240" cy="15480"/>
                </a:xfrm>
                <a:prstGeom prst="rect">
                  <a:avLst/>
                </a:prstGeom>
                <a:solidFill>
                  <a:srgbClr val="ffff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8153280" y="4363560"/>
                  <a:ext cx="768240" cy="14040"/>
                </a:xfrm>
                <a:prstGeom prst="rect">
                  <a:avLst/>
                </a:prstGeom>
                <a:solidFill>
                  <a:srgbClr val="fff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8153280" y="4377960"/>
                  <a:ext cx="768240" cy="14040"/>
                </a:xfrm>
                <a:prstGeom prst="rect">
                  <a:avLst/>
                </a:prstGeom>
                <a:solidFill>
                  <a:srgbClr val="ffff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8153280" y="4392360"/>
                  <a:ext cx="768240" cy="13680"/>
                </a:xfrm>
                <a:prstGeom prst="rect">
                  <a:avLst/>
                </a:prstGeom>
                <a:solidFill>
                  <a:srgbClr val="ffff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8153280" y="4406400"/>
                  <a:ext cx="768240" cy="14040"/>
                </a:xfrm>
                <a:prstGeom prst="rect">
                  <a:avLst/>
                </a:prstGeom>
                <a:solidFill>
                  <a:srgbClr val="ffff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153280" y="4420800"/>
                  <a:ext cx="768240" cy="14040"/>
                </a:xfrm>
                <a:prstGeom prst="rect">
                  <a:avLst/>
                </a:prstGeom>
                <a:solidFill>
                  <a:srgbClr val="ffff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8153280" y="4435200"/>
                  <a:ext cx="768240" cy="1548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8153280" y="4451040"/>
                  <a:ext cx="768240" cy="1404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8153280" y="4465440"/>
                  <a:ext cx="768240" cy="13680"/>
                </a:xfrm>
                <a:prstGeom prst="rect">
                  <a:avLst/>
                </a:prstGeom>
                <a:solidFill>
                  <a:srgbClr val="ff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153280" y="4479480"/>
                  <a:ext cx="768240" cy="1404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153280" y="4493880"/>
                  <a:ext cx="768240" cy="1404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153280" y="4508280"/>
                  <a:ext cx="768240" cy="13680"/>
                </a:xfrm>
                <a:prstGeom prst="rect">
                  <a:avLst/>
                </a:prstGeom>
                <a:solidFill>
                  <a:srgbClr val="ffff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8153280" y="4522320"/>
                <a:ext cx="768240" cy="172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153280" y="4539960"/>
                <a:ext cx="768240" cy="15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153280" y="4555800"/>
                <a:ext cx="768240" cy="1404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153280" y="4570200"/>
                <a:ext cx="768240" cy="13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153280" y="4584240"/>
                <a:ext cx="768240" cy="1404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153280" y="4598640"/>
                <a:ext cx="768240" cy="1404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153280" y="4613040"/>
                <a:ext cx="768240" cy="13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153280" y="4627080"/>
                <a:ext cx="768240" cy="15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8153280" y="3124080"/>
              <a:ext cx="762120" cy="849240"/>
            </a:xfrm>
            <a:custGeom>
              <a:avLst/>
              <a:gdLst/>
              <a:ahLst/>
              <a:rect l="l" t="t" r="r" b="b"/>
              <a:pathLst>
                <a:path w="480" h="535">
                  <a:moveTo>
                    <a:pt x="0" y="0"/>
                  </a:moveTo>
                  <a:lnTo>
                    <a:pt x="50" y="1"/>
                  </a:lnTo>
                  <a:lnTo>
                    <a:pt x="98" y="7"/>
                  </a:lnTo>
                  <a:lnTo>
                    <a:pt x="142" y="14"/>
                  </a:lnTo>
                  <a:lnTo>
                    <a:pt x="186" y="27"/>
                  </a:lnTo>
                  <a:lnTo>
                    <a:pt x="229" y="40"/>
                  </a:lnTo>
                  <a:lnTo>
                    <a:pt x="270" y="58"/>
                  </a:lnTo>
                  <a:lnTo>
                    <a:pt x="306" y="77"/>
                  </a:lnTo>
                  <a:lnTo>
                    <a:pt x="340" y="99"/>
                  </a:lnTo>
                  <a:lnTo>
                    <a:pt x="371" y="124"/>
                  </a:lnTo>
                  <a:lnTo>
                    <a:pt x="399" y="150"/>
                  </a:lnTo>
                  <a:lnTo>
                    <a:pt x="423" y="177"/>
                  </a:lnTo>
                  <a:lnTo>
                    <a:pt x="443" y="209"/>
                  </a:lnTo>
                  <a:lnTo>
                    <a:pt x="458" y="240"/>
                  </a:lnTo>
                  <a:lnTo>
                    <a:pt x="471" y="271"/>
                  </a:lnTo>
                  <a:lnTo>
                    <a:pt x="478" y="306"/>
                  </a:lnTo>
                  <a:lnTo>
                    <a:pt x="480" y="341"/>
                  </a:lnTo>
                  <a:lnTo>
                    <a:pt x="480" y="535"/>
                  </a:lnTo>
                  <a:lnTo>
                    <a:pt x="478" y="500"/>
                  </a:lnTo>
                  <a:lnTo>
                    <a:pt x="471" y="465"/>
                  </a:lnTo>
                  <a:lnTo>
                    <a:pt x="458" y="434"/>
                  </a:lnTo>
                  <a:lnTo>
                    <a:pt x="443" y="403"/>
                  </a:lnTo>
                  <a:lnTo>
                    <a:pt x="423" y="372"/>
                  </a:lnTo>
                  <a:lnTo>
                    <a:pt x="399" y="344"/>
                  </a:lnTo>
                  <a:lnTo>
                    <a:pt x="371" y="319"/>
                  </a:lnTo>
                  <a:lnTo>
                    <a:pt x="340" y="293"/>
                  </a:lnTo>
                  <a:lnTo>
                    <a:pt x="306" y="271"/>
                  </a:lnTo>
                  <a:lnTo>
                    <a:pt x="270" y="253"/>
                  </a:lnTo>
                  <a:lnTo>
                    <a:pt x="229" y="234"/>
                  </a:lnTo>
                  <a:lnTo>
                    <a:pt x="186" y="221"/>
                  </a:lnTo>
                  <a:lnTo>
                    <a:pt x="142" y="209"/>
                  </a:lnTo>
                  <a:lnTo>
                    <a:pt x="98" y="201"/>
                  </a:lnTo>
                  <a:lnTo>
                    <a:pt x="50" y="196"/>
                  </a:lnTo>
                  <a:lnTo>
                    <a:pt x="0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c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153280" y="3124080"/>
              <a:ext cx="762120" cy="1512720"/>
            </a:xfrm>
            <a:custGeom>
              <a:avLst/>
              <a:gdLst/>
              <a:ahLst/>
              <a:rect l="l" t="t" r="r" b="b"/>
              <a:pathLst>
                <a:path w="480" h="953">
                  <a:moveTo>
                    <a:pt x="0" y="0"/>
                  </a:moveTo>
                  <a:lnTo>
                    <a:pt x="50" y="1"/>
                  </a:lnTo>
                  <a:lnTo>
                    <a:pt x="98" y="7"/>
                  </a:lnTo>
                  <a:lnTo>
                    <a:pt x="142" y="14"/>
                  </a:lnTo>
                  <a:lnTo>
                    <a:pt x="186" y="27"/>
                  </a:lnTo>
                  <a:lnTo>
                    <a:pt x="229" y="40"/>
                  </a:lnTo>
                  <a:lnTo>
                    <a:pt x="270" y="58"/>
                  </a:lnTo>
                  <a:lnTo>
                    <a:pt x="306" y="77"/>
                  </a:lnTo>
                  <a:lnTo>
                    <a:pt x="340" y="99"/>
                  </a:lnTo>
                  <a:lnTo>
                    <a:pt x="371" y="124"/>
                  </a:lnTo>
                  <a:lnTo>
                    <a:pt x="399" y="150"/>
                  </a:lnTo>
                  <a:lnTo>
                    <a:pt x="423" y="177"/>
                  </a:lnTo>
                  <a:lnTo>
                    <a:pt x="443" y="209"/>
                  </a:lnTo>
                  <a:lnTo>
                    <a:pt x="458" y="240"/>
                  </a:lnTo>
                  <a:lnTo>
                    <a:pt x="471" y="271"/>
                  </a:lnTo>
                  <a:lnTo>
                    <a:pt x="478" y="306"/>
                  </a:lnTo>
                  <a:lnTo>
                    <a:pt x="480" y="341"/>
                  </a:lnTo>
                  <a:lnTo>
                    <a:pt x="480" y="535"/>
                  </a:lnTo>
                  <a:lnTo>
                    <a:pt x="478" y="562"/>
                  </a:lnTo>
                  <a:lnTo>
                    <a:pt x="475" y="588"/>
                  </a:lnTo>
                  <a:lnTo>
                    <a:pt x="467" y="614"/>
                  </a:lnTo>
                  <a:lnTo>
                    <a:pt x="458" y="639"/>
                  </a:lnTo>
                  <a:lnTo>
                    <a:pt x="445" y="663"/>
                  </a:lnTo>
                  <a:lnTo>
                    <a:pt x="430" y="687"/>
                  </a:lnTo>
                  <a:lnTo>
                    <a:pt x="412" y="711"/>
                  </a:lnTo>
                  <a:lnTo>
                    <a:pt x="393" y="731"/>
                  </a:lnTo>
                  <a:lnTo>
                    <a:pt x="371" y="753"/>
                  </a:lnTo>
                  <a:lnTo>
                    <a:pt x="345" y="771"/>
                  </a:lnTo>
                  <a:lnTo>
                    <a:pt x="319" y="790"/>
                  </a:lnTo>
                  <a:lnTo>
                    <a:pt x="292" y="806"/>
                  </a:lnTo>
                  <a:lnTo>
                    <a:pt x="262" y="821"/>
                  </a:lnTo>
                  <a:lnTo>
                    <a:pt x="229" y="834"/>
                  </a:lnTo>
                  <a:lnTo>
                    <a:pt x="196" y="847"/>
                  </a:lnTo>
                  <a:lnTo>
                    <a:pt x="161" y="856"/>
                  </a:lnTo>
                  <a:lnTo>
                    <a:pt x="161" y="953"/>
                  </a:lnTo>
                  <a:lnTo>
                    <a:pt x="0" y="779"/>
                  </a:lnTo>
                  <a:lnTo>
                    <a:pt x="161" y="564"/>
                  </a:lnTo>
                  <a:lnTo>
                    <a:pt x="161" y="661"/>
                  </a:lnTo>
                  <a:lnTo>
                    <a:pt x="212" y="645"/>
                  </a:lnTo>
                  <a:lnTo>
                    <a:pt x="262" y="627"/>
                  </a:lnTo>
                  <a:lnTo>
                    <a:pt x="306" y="603"/>
                  </a:lnTo>
                  <a:lnTo>
                    <a:pt x="347" y="575"/>
                  </a:lnTo>
                  <a:lnTo>
                    <a:pt x="384" y="544"/>
                  </a:lnTo>
                  <a:lnTo>
                    <a:pt x="415" y="511"/>
                  </a:lnTo>
                  <a:lnTo>
                    <a:pt x="439" y="476"/>
                  </a:lnTo>
                  <a:lnTo>
                    <a:pt x="460" y="438"/>
                  </a:lnTo>
                  <a:lnTo>
                    <a:pt x="460" y="438"/>
                  </a:lnTo>
                  <a:lnTo>
                    <a:pt x="447" y="412"/>
                  </a:lnTo>
                  <a:lnTo>
                    <a:pt x="432" y="386"/>
                  </a:lnTo>
                  <a:lnTo>
                    <a:pt x="414" y="361"/>
                  </a:lnTo>
                  <a:lnTo>
                    <a:pt x="391" y="339"/>
                  </a:lnTo>
                  <a:lnTo>
                    <a:pt x="369" y="317"/>
                  </a:lnTo>
                  <a:lnTo>
                    <a:pt x="343" y="297"/>
                  </a:lnTo>
                  <a:lnTo>
                    <a:pt x="316" y="278"/>
                  </a:lnTo>
                  <a:lnTo>
                    <a:pt x="286" y="262"/>
                  </a:lnTo>
                  <a:lnTo>
                    <a:pt x="255" y="247"/>
                  </a:lnTo>
                  <a:lnTo>
                    <a:pt x="223" y="232"/>
                  </a:lnTo>
                  <a:lnTo>
                    <a:pt x="188" y="221"/>
                  </a:lnTo>
                  <a:lnTo>
                    <a:pt x="153" y="212"/>
                  </a:lnTo>
                  <a:lnTo>
                    <a:pt x="116" y="205"/>
                  </a:lnTo>
                  <a:lnTo>
                    <a:pt x="77" y="199"/>
                  </a:lnTo>
                  <a:lnTo>
                    <a:pt x="39" y="196"/>
                  </a:lnTo>
                  <a:lnTo>
                    <a:pt x="0" y="1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883720" y="3819240"/>
              <a:ext cx="31680" cy="153720"/>
            </a:xfrm>
            <a:custGeom>
              <a:avLst/>
              <a:gdLst/>
              <a:ahLst/>
              <a:rect l="l" t="t" r="r" b="b"/>
              <a:pathLst>
                <a:path w="20" h="97">
                  <a:moveTo>
                    <a:pt x="20" y="97"/>
                  </a:moveTo>
                  <a:lnTo>
                    <a:pt x="18" y="73"/>
                  </a:lnTo>
                  <a:lnTo>
                    <a:pt x="15" y="47"/>
                  </a:lnTo>
                  <a:lnTo>
                    <a:pt x="9" y="2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400800" y="2362320"/>
            <a:ext cx="941400" cy="573120"/>
            <a:chOff x="6400800" y="2362320"/>
            <a:chExt cx="941400" cy="573120"/>
          </a:xfrm>
        </p:grpSpPr>
        <p:grpSp>
          <p:nvGrpSpPr>
            <p:cNvPr id="727" name=""/>
            <p:cNvGrpSpPr/>
            <p:nvPr/>
          </p:nvGrpSpPr>
          <p:grpSpPr>
            <a:xfrm>
              <a:off x="6400800" y="2362320"/>
              <a:ext cx="941400" cy="573120"/>
              <a:chOff x="6400800" y="2362320"/>
              <a:chExt cx="941400" cy="573120"/>
            </a:xfrm>
          </p:grpSpPr>
          <p:sp>
            <p:nvSpPr>
              <p:cNvPr id="728" name=""/>
              <p:cNvSpPr/>
              <p:nvPr/>
            </p:nvSpPr>
            <p:spPr>
              <a:xfrm>
                <a:off x="6400800" y="2362320"/>
                <a:ext cx="94140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00800" y="2368800"/>
                <a:ext cx="941400" cy="4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400800" y="2373480"/>
                <a:ext cx="94140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400800" y="2379960"/>
                <a:ext cx="941400" cy="64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400800" y="2386440"/>
                <a:ext cx="941400" cy="46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400800" y="2391120"/>
                <a:ext cx="941400" cy="612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400800" y="2397240"/>
                <a:ext cx="94140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400800" y="2403720"/>
                <a:ext cx="941400" cy="46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400800" y="2408400"/>
                <a:ext cx="941400" cy="64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400800" y="2414880"/>
                <a:ext cx="941400" cy="64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400800" y="2421360"/>
                <a:ext cx="941400" cy="46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00800" y="2426040"/>
                <a:ext cx="941400" cy="612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400800" y="2432160"/>
                <a:ext cx="941400" cy="6480"/>
              </a:xfrm>
              <a:prstGeom prst="rect">
                <a:avLst/>
              </a:prstGeom>
              <a:solidFill>
                <a:srgbClr val="ff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400800" y="2438640"/>
                <a:ext cx="941400" cy="46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400800" y="2443320"/>
                <a:ext cx="941400" cy="64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400800" y="2449800"/>
                <a:ext cx="941400" cy="648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400800" y="2456280"/>
                <a:ext cx="941400" cy="4680"/>
              </a:xfrm>
              <a:prstGeom prst="rect">
                <a:avLst/>
              </a:prstGeom>
              <a:solidFill>
                <a:srgbClr val="fff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400800" y="2460960"/>
                <a:ext cx="941400" cy="6120"/>
              </a:xfrm>
              <a:prstGeom prst="rect">
                <a:avLst/>
              </a:prstGeom>
              <a:solidFill>
                <a:srgbClr val="ff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400800" y="2467080"/>
                <a:ext cx="94140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400800" y="2473560"/>
                <a:ext cx="941400" cy="4680"/>
              </a:xfrm>
              <a:prstGeom prst="rect">
                <a:avLst/>
              </a:prstGeom>
              <a:solidFill>
                <a:srgbClr val="fff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400800" y="2478240"/>
                <a:ext cx="941400" cy="6480"/>
              </a:xfrm>
              <a:prstGeom prst="rect">
                <a:avLst/>
              </a:prstGeom>
              <a:solidFill>
                <a:srgbClr val="fff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400800" y="2484720"/>
                <a:ext cx="941400" cy="6480"/>
              </a:xfrm>
              <a:prstGeom prst="rect">
                <a:avLst/>
              </a:prstGeom>
              <a:solidFill>
                <a:srgbClr val="ff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400800" y="2491200"/>
                <a:ext cx="941400" cy="4680"/>
              </a:xfrm>
              <a:prstGeom prst="rect">
                <a:avLst/>
              </a:prstGeom>
              <a:solidFill>
                <a:srgbClr val="fff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400800" y="2495880"/>
                <a:ext cx="941400" cy="6120"/>
              </a:xfrm>
              <a:prstGeom prst="rect">
                <a:avLst/>
              </a:prstGeom>
              <a:solidFill>
                <a:srgbClr val="fff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400800" y="2502000"/>
                <a:ext cx="941400" cy="64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400800" y="2508480"/>
                <a:ext cx="941400" cy="4680"/>
              </a:xfrm>
              <a:prstGeom prst="rect">
                <a:avLst/>
              </a:prstGeom>
              <a:solidFill>
                <a:srgbClr val="fff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400800" y="2513160"/>
                <a:ext cx="941400" cy="6480"/>
              </a:xfrm>
              <a:prstGeom prst="rect">
                <a:avLst/>
              </a:pr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400800" y="2519640"/>
                <a:ext cx="941400" cy="6480"/>
              </a:xfrm>
              <a:prstGeom prst="rect">
                <a:avLst/>
              </a:prstGeom>
              <a:solidFill>
                <a:srgbClr val="ff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400800" y="2526120"/>
                <a:ext cx="941400" cy="4680"/>
              </a:xfrm>
              <a:prstGeom prst="rect">
                <a:avLst/>
              </a:prstGeom>
              <a:solidFill>
                <a:srgbClr val="fff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00800" y="2530800"/>
                <a:ext cx="941400" cy="6120"/>
              </a:xfrm>
              <a:prstGeom prst="rect">
                <a:avLst/>
              </a:prstGeom>
              <a:solidFill>
                <a:srgbClr val="fff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400800" y="2536920"/>
                <a:ext cx="941400" cy="648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400800" y="2543400"/>
                <a:ext cx="941400" cy="4680"/>
              </a:xfrm>
              <a:prstGeom prst="rect">
                <a:avLst/>
              </a:prstGeom>
              <a:solidFill>
                <a:srgbClr val="ffff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400800" y="2548080"/>
                <a:ext cx="941400" cy="6480"/>
              </a:xfrm>
              <a:prstGeom prst="rect">
                <a:avLst/>
              </a:prstGeom>
              <a:solidFill>
                <a:srgbClr val="fff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00800" y="2554560"/>
                <a:ext cx="941400" cy="648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00800" y="2561040"/>
                <a:ext cx="941400" cy="4680"/>
              </a:xfrm>
              <a:prstGeom prst="rect">
                <a:avLst/>
              </a:prstGeom>
              <a:solidFill>
                <a:srgbClr val="fff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400800" y="2565720"/>
                <a:ext cx="941400" cy="6120"/>
              </a:xfrm>
              <a:prstGeom prst="rect">
                <a:avLst/>
              </a:prstGeom>
              <a:solidFill>
                <a:srgbClr val="ff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400800" y="2571840"/>
                <a:ext cx="941400" cy="6480"/>
              </a:xfrm>
              <a:prstGeom prst="rect">
                <a:avLst/>
              </a:prstGeom>
              <a:solidFill>
                <a:srgbClr val="fff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400800" y="2578320"/>
                <a:ext cx="941400" cy="4680"/>
              </a:xfrm>
              <a:prstGeom prst="rect">
                <a:avLst/>
              </a:prstGeom>
              <a:solidFill>
                <a:srgbClr val="fff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400800" y="2583000"/>
                <a:ext cx="941400" cy="6480"/>
              </a:xfrm>
              <a:prstGeom prst="rect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400800" y="2589480"/>
                <a:ext cx="941400" cy="6480"/>
              </a:xfrm>
              <a:prstGeom prst="rect">
                <a:avLst/>
              </a:prstGeom>
              <a:solidFill>
                <a:srgbClr val="ff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00800" y="2595960"/>
                <a:ext cx="941400" cy="4680"/>
              </a:xfrm>
              <a:prstGeom prst="rect">
                <a:avLst/>
              </a:prstGeom>
              <a:solidFill>
                <a:srgbClr val="ff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00800" y="2600640"/>
                <a:ext cx="941400" cy="6480"/>
              </a:xfrm>
              <a:prstGeom prst="rect">
                <a:avLst/>
              </a:prstGeom>
              <a:solidFill>
                <a:srgbClr val="f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400800" y="2607120"/>
                <a:ext cx="941400" cy="6120"/>
              </a:xfrm>
              <a:prstGeom prst="rect">
                <a:avLst/>
              </a:prstGeom>
              <a:solidFill>
                <a:srgbClr val="fff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400800" y="2613240"/>
                <a:ext cx="941400" cy="4680"/>
              </a:xfrm>
              <a:prstGeom prst="rect">
                <a:avLst/>
              </a:prstGeom>
              <a:solidFill>
                <a:srgbClr val="ff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400800" y="2617920"/>
                <a:ext cx="941400" cy="6480"/>
              </a:xfrm>
              <a:prstGeom prst="rect">
                <a:avLst/>
              </a:prstGeom>
              <a:solidFill>
                <a:srgbClr val="ff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400800" y="2624400"/>
                <a:ext cx="94140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400800" y="2630880"/>
                <a:ext cx="941400" cy="4680"/>
              </a:xfrm>
              <a:prstGeom prst="rect">
                <a:avLst/>
              </a:prstGeom>
              <a:solidFill>
                <a:srgbClr val="ff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400800" y="2635560"/>
                <a:ext cx="941400" cy="6480"/>
              </a:xfrm>
              <a:prstGeom prst="rect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400800" y="2642040"/>
                <a:ext cx="941400" cy="6120"/>
              </a:xfrm>
              <a:prstGeom prst="rect">
                <a:avLst/>
              </a:prstGeom>
              <a:solidFill>
                <a:srgbClr val="ff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400800" y="2648160"/>
                <a:ext cx="941400" cy="4680"/>
              </a:xfrm>
              <a:prstGeom prst="rect">
                <a:avLst/>
              </a:prstGeom>
              <a:solidFill>
                <a:srgbClr val="ff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400800" y="2652840"/>
                <a:ext cx="941400" cy="648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400800" y="2659320"/>
                <a:ext cx="941400" cy="648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400800" y="2665800"/>
                <a:ext cx="941400" cy="4680"/>
              </a:xfrm>
              <a:prstGeom prst="rect">
                <a:avLst/>
              </a:prstGeom>
              <a:solidFill>
                <a:srgbClr val="ff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400800" y="2670480"/>
                <a:ext cx="941400" cy="6480"/>
              </a:xfrm>
              <a:prstGeom prst="rect">
                <a:avLst/>
              </a:prstGeom>
              <a:solidFill>
                <a:srgbClr val="ff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400800" y="2676960"/>
                <a:ext cx="941400" cy="6120"/>
              </a:xfrm>
              <a:prstGeom prst="rect">
                <a:avLst/>
              </a:prstGeom>
              <a:solidFill>
                <a:srgbClr val="fff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400800" y="2683080"/>
                <a:ext cx="941400" cy="4680"/>
              </a:xfrm>
              <a:prstGeom prst="rect">
                <a:avLst/>
              </a:prstGeom>
              <a:solidFill>
                <a:srgbClr val="ff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400800" y="2687760"/>
                <a:ext cx="941400" cy="648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400800" y="2694240"/>
                <a:ext cx="941400" cy="64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00800" y="2700720"/>
                <a:ext cx="941400" cy="46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2705400"/>
                <a:ext cx="941400" cy="6480"/>
              </a:xfrm>
              <a:prstGeom prst="rect">
                <a:avLst/>
              </a:prstGeom>
              <a:solidFill>
                <a:srgbClr val="ff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00800" y="2711880"/>
                <a:ext cx="941400" cy="6120"/>
              </a:xfrm>
              <a:prstGeom prst="rect">
                <a:avLst/>
              </a:prstGeom>
              <a:solidFill>
                <a:srgbClr val="fff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400800" y="2718000"/>
                <a:ext cx="941400" cy="46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400800" y="2722680"/>
                <a:ext cx="941400" cy="6480"/>
              </a:xfrm>
              <a:prstGeom prst="rect">
                <a:avLst/>
              </a:prstGeom>
              <a:solidFill>
                <a:srgbClr val="ff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00800" y="2729160"/>
                <a:ext cx="941400" cy="6480"/>
              </a:xfrm>
              <a:prstGeom prst="rect">
                <a:avLst/>
              </a:prstGeom>
              <a:solidFill>
                <a:srgbClr val="ff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00800" y="2735640"/>
                <a:ext cx="941400" cy="4680"/>
              </a:xfrm>
              <a:prstGeom prst="rect">
                <a:avLst/>
              </a:prstGeom>
              <a:solidFill>
                <a:srgbClr val="ff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400800" y="2740320"/>
                <a:ext cx="941400" cy="6480"/>
              </a:xfrm>
              <a:prstGeom prst="rect">
                <a:avLst/>
              </a:pr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400800" y="2746800"/>
                <a:ext cx="941400" cy="612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00800" y="2752920"/>
                <a:ext cx="941400" cy="4680"/>
              </a:xfrm>
              <a:prstGeom prst="rect">
                <a:avLst/>
              </a:prstGeom>
              <a:solidFill>
                <a:srgbClr val="ffff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400800" y="2757600"/>
                <a:ext cx="94140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00800" y="2764080"/>
                <a:ext cx="94140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00800" y="2770560"/>
                <a:ext cx="941400" cy="46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00800" y="2775240"/>
                <a:ext cx="941400" cy="64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400800" y="2781720"/>
                <a:ext cx="941400" cy="6120"/>
              </a:xfrm>
              <a:prstGeom prst="rect">
                <a:avLst/>
              </a:prstGeom>
              <a:solidFill>
                <a:srgbClr val="fff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400800" y="2787840"/>
                <a:ext cx="941400" cy="46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0800" y="2792520"/>
                <a:ext cx="941400" cy="64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00800" y="2799000"/>
                <a:ext cx="941400" cy="6480"/>
              </a:xfrm>
              <a:prstGeom prst="rect">
                <a:avLst/>
              </a:prstGeom>
              <a:solidFill>
                <a:srgbClr val="fff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00800" y="2805480"/>
                <a:ext cx="941400" cy="46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400800" y="2810160"/>
                <a:ext cx="941400" cy="648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400800" y="2816640"/>
                <a:ext cx="941400" cy="612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400800" y="2822760"/>
                <a:ext cx="941400" cy="4680"/>
              </a:xfrm>
              <a:prstGeom prst="rect">
                <a:avLst/>
              </a:prstGeom>
              <a:solidFill>
                <a:srgbClr val="fff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400800" y="2827440"/>
                <a:ext cx="94140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00800" y="2833920"/>
                <a:ext cx="94140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00800" y="2840400"/>
                <a:ext cx="941400" cy="46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00800" y="2845080"/>
                <a:ext cx="941400" cy="648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400800" y="2851560"/>
                <a:ext cx="941400" cy="612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00800" y="2857680"/>
                <a:ext cx="941400" cy="46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400800" y="2862360"/>
                <a:ext cx="94140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800" y="2868840"/>
                <a:ext cx="94140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00800" y="2875320"/>
                <a:ext cx="941400" cy="46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00800" y="2880000"/>
                <a:ext cx="941400" cy="64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400800" y="2886480"/>
                <a:ext cx="941400" cy="612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00800" y="2892600"/>
                <a:ext cx="941400" cy="46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00800" y="2897280"/>
                <a:ext cx="94140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00800" y="2903760"/>
                <a:ext cx="94140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00800" y="2910240"/>
                <a:ext cx="94140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2914920"/>
                <a:ext cx="941400" cy="64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00800" y="2921400"/>
                <a:ext cx="941400" cy="612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00800" y="2927520"/>
                <a:ext cx="94140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00800" y="2932200"/>
                <a:ext cx="94140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0800" y="2362320"/>
                <a:ext cx="938160" cy="569880"/>
              </a:xfrm>
              <a:custGeom>
                <a:avLst/>
                <a:gdLst/>
                <a:ahLst/>
                <a:rect l="l" t="t" r="r" b="b"/>
                <a:pathLst>
                  <a:path w="591" h="359">
                    <a:moveTo>
                      <a:pt x="444" y="0"/>
                    </a:moveTo>
                    <a:lnTo>
                      <a:pt x="444" y="90"/>
                    </a:lnTo>
                    <a:lnTo>
                      <a:pt x="0" y="90"/>
                    </a:lnTo>
                    <a:lnTo>
                      <a:pt x="0" y="270"/>
                    </a:lnTo>
                    <a:lnTo>
                      <a:pt x="444" y="270"/>
                    </a:lnTo>
                    <a:lnTo>
                      <a:pt x="444" y="359"/>
                    </a:lnTo>
                    <a:lnTo>
                      <a:pt x="591" y="18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00800" y="2362320"/>
                <a:ext cx="938160" cy="569880"/>
              </a:xfrm>
              <a:custGeom>
                <a:avLst/>
                <a:gdLst/>
                <a:ahLst/>
                <a:rect l="l" t="t" r="r" b="b"/>
                <a:pathLst>
                  <a:path w="591" h="359">
                    <a:moveTo>
                      <a:pt x="444" y="0"/>
                    </a:moveTo>
                    <a:lnTo>
                      <a:pt x="444" y="90"/>
                    </a:lnTo>
                    <a:lnTo>
                      <a:pt x="0" y="90"/>
                    </a:lnTo>
                    <a:lnTo>
                      <a:pt x="0" y="270"/>
                    </a:lnTo>
                    <a:lnTo>
                      <a:pt x="444" y="270"/>
                    </a:lnTo>
                    <a:lnTo>
                      <a:pt x="444" y="359"/>
                    </a:lnTo>
                    <a:lnTo>
                      <a:pt x="591" y="180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00800" y="2362320"/>
                <a:ext cx="94140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400800" y="2368800"/>
                <a:ext cx="941400" cy="4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400800" y="2373480"/>
                <a:ext cx="941400" cy="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400800" y="2379960"/>
                <a:ext cx="941400" cy="64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400800" y="2386440"/>
                <a:ext cx="941400" cy="4680"/>
              </a:xfrm>
              <a:prstGeom prst="rect">
                <a:avLst/>
              </a:prstGeom>
              <a:solidFill>
                <a:srgbClr val="ffff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00800" y="2391120"/>
                <a:ext cx="941400" cy="612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00800" y="2397240"/>
                <a:ext cx="941400" cy="6480"/>
              </a:xfrm>
              <a:prstGeom prst="rect">
                <a:avLst/>
              </a:prstGeom>
              <a:solidFill>
                <a:srgbClr val="fff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400800" y="2403720"/>
                <a:ext cx="941400" cy="46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400800" y="2408400"/>
                <a:ext cx="941400" cy="6480"/>
              </a:xfrm>
              <a:prstGeom prst="rect">
                <a:avLst/>
              </a:prstGeom>
              <a:solidFill>
                <a:srgbClr val="ffff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400800" y="2414880"/>
                <a:ext cx="941400" cy="64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400800" y="2421360"/>
                <a:ext cx="941400" cy="4680"/>
              </a:xfrm>
              <a:prstGeom prst="rect">
                <a:avLst/>
              </a:prstGeom>
              <a:solidFill>
                <a:srgbClr val="fff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00800" y="2426040"/>
                <a:ext cx="941400" cy="6120"/>
              </a:xfrm>
              <a:prstGeom prst="rect">
                <a:avLst/>
              </a:prstGeom>
              <a:solidFill>
                <a:srgbClr val="f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400800" y="2432160"/>
                <a:ext cx="941400" cy="6480"/>
              </a:xfrm>
              <a:prstGeom prst="rect">
                <a:avLst/>
              </a:prstGeom>
              <a:solidFill>
                <a:srgbClr val="fff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00800" y="2438640"/>
                <a:ext cx="941400" cy="46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00800" y="2443320"/>
                <a:ext cx="941400" cy="6480"/>
              </a:xfrm>
              <a:prstGeom prst="rect">
                <a:avLst/>
              </a:prstGeom>
              <a:solidFill>
                <a:srgbClr val="ffff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400800" y="2449800"/>
                <a:ext cx="941400" cy="6480"/>
              </a:xfrm>
              <a:prstGeom prst="rect">
                <a:avLst/>
              </a:prstGeom>
              <a:solidFill>
                <a:srgbClr val="fff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400800" y="2456280"/>
                <a:ext cx="941400" cy="4680"/>
              </a:xfrm>
              <a:prstGeom prst="rect">
                <a:avLst/>
              </a:prstGeom>
              <a:solidFill>
                <a:srgbClr val="ffff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00800" y="2460960"/>
                <a:ext cx="941400" cy="6120"/>
              </a:xfrm>
              <a:prstGeom prst="rect">
                <a:avLst/>
              </a:prstGeom>
              <a:solidFill>
                <a:srgbClr val="ff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2467080"/>
                <a:ext cx="941400" cy="6480"/>
              </a:xfrm>
              <a:prstGeom prst="rect">
                <a:avLst/>
              </a:prstGeom>
              <a:solidFill>
                <a:srgbClr val="ffff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400800" y="2473560"/>
                <a:ext cx="941400" cy="4680"/>
              </a:xfrm>
              <a:prstGeom prst="rect">
                <a:avLst/>
              </a:prstGeom>
              <a:solidFill>
                <a:srgbClr val="fff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00800" y="2478240"/>
                <a:ext cx="941400" cy="6480"/>
              </a:xfrm>
              <a:prstGeom prst="rect">
                <a:avLst/>
              </a:prstGeom>
              <a:solidFill>
                <a:srgbClr val="fff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400800" y="2484720"/>
                <a:ext cx="941400" cy="6480"/>
              </a:xfrm>
              <a:prstGeom prst="rect">
                <a:avLst/>
              </a:prstGeom>
              <a:solidFill>
                <a:srgbClr val="fff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00800" y="2491200"/>
                <a:ext cx="941400" cy="4680"/>
              </a:xfrm>
              <a:prstGeom prst="rect">
                <a:avLst/>
              </a:prstGeom>
              <a:solidFill>
                <a:srgbClr val="ffff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00800" y="2495880"/>
                <a:ext cx="941400" cy="6120"/>
              </a:xfrm>
              <a:prstGeom prst="rect">
                <a:avLst/>
              </a:prstGeom>
              <a:solidFill>
                <a:srgbClr val="fff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00800" y="2502000"/>
                <a:ext cx="941400" cy="64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400800" y="2508480"/>
                <a:ext cx="941400" cy="4680"/>
              </a:xfrm>
              <a:prstGeom prst="rect">
                <a:avLst/>
              </a:prstGeom>
              <a:solidFill>
                <a:srgbClr val="ffff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00800" y="2513160"/>
                <a:ext cx="941400" cy="6480"/>
              </a:xfrm>
              <a:prstGeom prst="rect">
                <a:avLst/>
              </a:prstGeom>
              <a:solidFill>
                <a:srgbClr val="fff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400800" y="2519640"/>
                <a:ext cx="941400" cy="6480"/>
              </a:xfrm>
              <a:prstGeom prst="rect">
                <a:avLst/>
              </a:prstGeom>
              <a:solidFill>
                <a:srgbClr val="fff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400800" y="2526120"/>
                <a:ext cx="941400" cy="4680"/>
              </a:xfrm>
              <a:prstGeom prst="rect">
                <a:avLst/>
              </a:prstGeom>
              <a:solidFill>
                <a:srgbClr val="fff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00800" y="2530800"/>
                <a:ext cx="941400" cy="6120"/>
              </a:xfrm>
              <a:prstGeom prst="rect">
                <a:avLst/>
              </a:prstGeom>
              <a:solidFill>
                <a:srgbClr val="fff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00800" y="2536920"/>
                <a:ext cx="941400" cy="6480"/>
              </a:xfrm>
              <a:prstGeom prst="rect">
                <a:avLst/>
              </a:prstGeom>
              <a:solidFill>
                <a:srgbClr val="ffff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00800" y="2543400"/>
                <a:ext cx="941400" cy="4680"/>
              </a:xfrm>
              <a:prstGeom prst="rect">
                <a:avLst/>
              </a:prstGeom>
              <a:solidFill>
                <a:srgbClr val="ffff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400800" y="2548080"/>
                <a:ext cx="941400" cy="6480"/>
              </a:xfrm>
              <a:prstGeom prst="rect">
                <a:avLst/>
              </a:prstGeom>
              <a:solidFill>
                <a:srgbClr val="fff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400800" y="2554560"/>
                <a:ext cx="941400" cy="6480"/>
              </a:xfrm>
              <a:prstGeom prst="rect">
                <a:avLst/>
              </a:prstGeom>
              <a:solidFill>
                <a:srgbClr val="ff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400800" y="2561040"/>
                <a:ext cx="941400" cy="4680"/>
              </a:xfrm>
              <a:prstGeom prst="rect">
                <a:avLst/>
              </a:prstGeom>
              <a:solidFill>
                <a:srgbClr val="ffff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400800" y="2565720"/>
                <a:ext cx="941400" cy="6120"/>
              </a:xfrm>
              <a:prstGeom prst="rect">
                <a:avLst/>
              </a:prstGeom>
              <a:solidFill>
                <a:srgbClr val="fff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400800" y="2571840"/>
                <a:ext cx="941400" cy="6480"/>
              </a:xfrm>
              <a:prstGeom prst="rect">
                <a:avLst/>
              </a:prstGeom>
              <a:solidFill>
                <a:srgbClr val="fff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400800" y="2578320"/>
                <a:ext cx="941400" cy="4680"/>
              </a:xfrm>
              <a:prstGeom prst="rect">
                <a:avLst/>
              </a:prstGeom>
              <a:solidFill>
                <a:srgbClr val="fff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400800" y="2583000"/>
                <a:ext cx="941400" cy="6480"/>
              </a:xfrm>
              <a:prstGeom prst="rect">
                <a:avLst/>
              </a:prstGeom>
              <a:solidFill>
                <a:srgbClr val="ffff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400800" y="2589480"/>
                <a:ext cx="941400" cy="6480"/>
              </a:xfrm>
              <a:prstGeom prst="rect">
                <a:avLst/>
              </a:prstGeom>
              <a:solidFill>
                <a:srgbClr val="ff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00800" y="2595960"/>
                <a:ext cx="941400" cy="4680"/>
              </a:xfrm>
              <a:prstGeom prst="rect">
                <a:avLst/>
              </a:prstGeom>
              <a:solidFill>
                <a:srgbClr val="ffff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00800" y="2600640"/>
                <a:ext cx="941400" cy="6480"/>
              </a:xfrm>
              <a:prstGeom prst="rect">
                <a:avLst/>
              </a:prstGeom>
              <a:solidFill>
                <a:srgbClr val="ffff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400800" y="2607120"/>
                <a:ext cx="941400" cy="6120"/>
              </a:xfrm>
              <a:prstGeom prst="rect">
                <a:avLst/>
              </a:prstGeom>
              <a:solidFill>
                <a:srgbClr val="ffff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400800" y="2613240"/>
                <a:ext cx="941400" cy="4680"/>
              </a:xfrm>
              <a:prstGeom prst="rect">
                <a:avLst/>
              </a:prstGeom>
              <a:solidFill>
                <a:srgbClr val="ffff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00800" y="2617920"/>
                <a:ext cx="941400" cy="6480"/>
              </a:xfrm>
              <a:prstGeom prst="rect">
                <a:avLst/>
              </a:prstGeom>
              <a:solidFill>
                <a:srgbClr val="fff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6400800" y="2624400"/>
                <a:ext cx="941400" cy="6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400800" y="2630880"/>
                <a:ext cx="941400" cy="4680"/>
              </a:xfrm>
              <a:prstGeom prst="rect">
                <a:avLst/>
              </a:prstGeom>
              <a:solidFill>
                <a:srgbClr val="fff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400800" y="2635560"/>
                <a:ext cx="941400" cy="6480"/>
              </a:xfrm>
              <a:prstGeom prst="rect">
                <a:avLst/>
              </a:prstGeom>
              <a:solidFill>
                <a:srgbClr val="ff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400800" y="2642040"/>
                <a:ext cx="941400" cy="6120"/>
              </a:xfrm>
              <a:prstGeom prst="rect">
                <a:avLst/>
              </a:prstGeom>
              <a:solidFill>
                <a:srgbClr val="fff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400800" y="2648160"/>
                <a:ext cx="941400" cy="4680"/>
              </a:xfrm>
              <a:prstGeom prst="rect">
                <a:avLst/>
              </a:prstGeom>
              <a:solidFill>
                <a:srgbClr val="ffff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6400800" y="2652840"/>
                <a:ext cx="941400" cy="6480"/>
              </a:xfrm>
              <a:prstGeom prst="rect">
                <a:avLst/>
              </a:prstGeom>
              <a:solidFill>
                <a:srgbClr val="fff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00800" y="2659320"/>
                <a:ext cx="941400" cy="648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00800" y="2665800"/>
                <a:ext cx="941400" cy="4680"/>
              </a:xfrm>
              <a:prstGeom prst="rect">
                <a:avLst/>
              </a:prstGeom>
              <a:solidFill>
                <a:srgbClr val="fff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00800" y="2670480"/>
                <a:ext cx="941400" cy="6480"/>
              </a:xfrm>
              <a:prstGeom prst="rect">
                <a:avLst/>
              </a:prstGeom>
              <a:solidFill>
                <a:srgbClr val="fff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00800" y="2676960"/>
                <a:ext cx="941400" cy="6120"/>
              </a:xfrm>
              <a:prstGeom prst="rect">
                <a:avLst/>
              </a:prstGeom>
              <a:solidFill>
                <a:srgbClr val="fff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00800" y="2683080"/>
                <a:ext cx="941400" cy="4680"/>
              </a:xfrm>
              <a:prstGeom prst="rect">
                <a:avLst/>
              </a:prstGeom>
              <a:solidFill>
                <a:srgbClr val="ffff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400800" y="2687760"/>
                <a:ext cx="941400" cy="648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400800" y="2694240"/>
                <a:ext cx="941400" cy="6480"/>
              </a:xfrm>
              <a:prstGeom prst="rect">
                <a:avLst/>
              </a:prstGeom>
              <a:solidFill>
                <a:srgbClr val="f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400800" y="2700720"/>
                <a:ext cx="941400" cy="468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6400800" y="2705400"/>
                <a:ext cx="941400" cy="6480"/>
              </a:xfrm>
              <a:prstGeom prst="rect">
                <a:avLst/>
              </a:prstGeom>
              <a:solidFill>
                <a:srgbClr val="ffff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400800" y="2711880"/>
                <a:ext cx="941400" cy="6120"/>
              </a:xfrm>
              <a:prstGeom prst="rect">
                <a:avLst/>
              </a:prstGeom>
              <a:solidFill>
                <a:srgbClr val="ffff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400800" y="2718000"/>
                <a:ext cx="941400" cy="4680"/>
              </a:xfrm>
              <a:prstGeom prst="rect">
                <a:avLst/>
              </a:prstGeom>
              <a:solidFill>
                <a:srgbClr val="fff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400800" y="2722680"/>
                <a:ext cx="941400" cy="6480"/>
              </a:xfrm>
              <a:prstGeom prst="rect">
                <a:avLst/>
              </a:prstGeom>
              <a:solidFill>
                <a:srgbClr val="fff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400800" y="2729160"/>
                <a:ext cx="941400" cy="6480"/>
              </a:xfrm>
              <a:prstGeom prst="rect">
                <a:avLst/>
              </a:prstGeom>
              <a:solidFill>
                <a:srgbClr val="fff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400800" y="2735640"/>
                <a:ext cx="941400" cy="4680"/>
              </a:xfrm>
              <a:prstGeom prst="rect">
                <a:avLst/>
              </a:prstGeom>
              <a:solidFill>
                <a:srgbClr val="fff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400800" y="2740320"/>
                <a:ext cx="941400" cy="6480"/>
              </a:xfrm>
              <a:prstGeom prst="rect">
                <a:avLst/>
              </a:prstGeom>
              <a:solidFill>
                <a:srgbClr val="ffff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00800" y="2746800"/>
                <a:ext cx="941400" cy="6120"/>
              </a:xfrm>
              <a:prstGeom prst="rect">
                <a:avLst/>
              </a:prstGeom>
              <a:solidFill>
                <a:srgbClr val="ff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400800" y="2752920"/>
                <a:ext cx="941400" cy="4680"/>
              </a:xfrm>
              <a:prstGeom prst="rect">
                <a:avLst/>
              </a:prstGeom>
              <a:solidFill>
                <a:srgbClr val="ffff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400800" y="2757600"/>
                <a:ext cx="94140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400800" y="2764080"/>
                <a:ext cx="941400" cy="6480"/>
              </a:xfrm>
              <a:prstGeom prst="rect">
                <a:avLst/>
              </a:prstGeom>
              <a:solidFill>
                <a:srgbClr val="fff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400800" y="2770560"/>
                <a:ext cx="941400" cy="46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400800" y="2775240"/>
                <a:ext cx="941400" cy="6480"/>
              </a:xfrm>
              <a:prstGeom prst="rect">
                <a:avLst/>
              </a:prstGeom>
              <a:solidFill>
                <a:srgbClr val="ffff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400800" y="2781720"/>
                <a:ext cx="941400" cy="6120"/>
              </a:xfrm>
              <a:prstGeom prst="rect">
                <a:avLst/>
              </a:prstGeom>
              <a:solidFill>
                <a:srgbClr val="ffff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400800" y="2787840"/>
                <a:ext cx="941400" cy="46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0800" y="2792520"/>
                <a:ext cx="941400" cy="6480"/>
              </a:xfrm>
              <a:prstGeom prst="rect">
                <a:avLst/>
              </a:prstGeom>
              <a:solidFill>
                <a:srgbClr val="ffff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400800" y="2799000"/>
                <a:ext cx="941400" cy="6480"/>
              </a:xfrm>
              <a:prstGeom prst="rect">
                <a:avLst/>
              </a:prstGeom>
              <a:solidFill>
                <a:srgbClr val="ffff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400800" y="2805480"/>
                <a:ext cx="941400" cy="4680"/>
              </a:xfrm>
              <a:prstGeom prst="rect">
                <a:avLst/>
              </a:prstGeom>
              <a:solidFill>
                <a:srgbClr val="ffff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400800" y="2810160"/>
                <a:ext cx="941400" cy="648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00800" y="2816640"/>
                <a:ext cx="941400" cy="6120"/>
              </a:xfrm>
              <a:prstGeom prst="rect">
                <a:avLst/>
              </a:prstGeom>
              <a:solidFill>
                <a:srgbClr val="ffff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400800" y="2822760"/>
                <a:ext cx="941400" cy="4680"/>
              </a:xfrm>
              <a:prstGeom prst="rect">
                <a:avLst/>
              </a:prstGeom>
              <a:solidFill>
                <a:srgbClr val="ffff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400800" y="2827440"/>
                <a:ext cx="94140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6400800" y="2833920"/>
                <a:ext cx="941400" cy="6480"/>
              </a:xfrm>
              <a:prstGeom prst="rect">
                <a:avLst/>
              </a:prstGeom>
              <a:solidFill>
                <a:srgbClr val="ffff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400800" y="2840400"/>
                <a:ext cx="941400" cy="4680"/>
              </a:xfrm>
              <a:prstGeom prst="rect">
                <a:avLst/>
              </a:prstGeom>
              <a:solidFill>
                <a:srgbClr val="ffff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400800" y="2845080"/>
                <a:ext cx="941400" cy="648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400800" y="2851560"/>
                <a:ext cx="941400" cy="6120"/>
              </a:xfrm>
              <a:prstGeom prst="rect">
                <a:avLst/>
              </a:prstGeom>
              <a:solidFill>
                <a:srgbClr val="ffff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400800" y="2857680"/>
                <a:ext cx="941400" cy="46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400800" y="2862360"/>
                <a:ext cx="94140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400800" y="2868840"/>
                <a:ext cx="941400" cy="6480"/>
              </a:xfrm>
              <a:prstGeom prst="rect">
                <a:avLst/>
              </a:prstGeom>
              <a:solidFill>
                <a:srgbClr val="fff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00800" y="2875320"/>
                <a:ext cx="941400" cy="46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400800" y="2880000"/>
                <a:ext cx="941400" cy="6480"/>
              </a:xfrm>
              <a:prstGeom prst="rect">
                <a:avLst/>
              </a:prstGeom>
              <a:solidFill>
                <a:srgbClr val="ffff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400800" y="2886480"/>
                <a:ext cx="941400" cy="612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00800" y="2892600"/>
                <a:ext cx="941400" cy="46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00800" y="2897280"/>
                <a:ext cx="94140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400800" y="2903760"/>
                <a:ext cx="941400" cy="6480"/>
              </a:xfrm>
              <a:prstGeom prst="rect">
                <a:avLst/>
              </a:prstGeom>
              <a:solidFill>
                <a:srgbClr val="ff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400800" y="2910240"/>
                <a:ext cx="94140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2914920"/>
                <a:ext cx="941400" cy="64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400800" y="2921400"/>
                <a:ext cx="941400" cy="612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400800" y="2927520"/>
                <a:ext cx="941400" cy="4680"/>
              </a:xfrm>
              <a:prstGeom prst="rect">
                <a:avLst/>
              </a:prstGeom>
              <a:solidFill>
                <a:srgbClr val="fff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400800" y="2932200"/>
                <a:ext cx="941400" cy="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6400800" y="2362320"/>
              <a:ext cx="938160" cy="569880"/>
            </a:xfrm>
            <a:custGeom>
              <a:avLst/>
              <a:gdLst/>
              <a:ahLst/>
              <a:rect l="l" t="t" r="r" b="b"/>
              <a:pathLst>
                <a:path w="591" h="359">
                  <a:moveTo>
                    <a:pt x="444" y="0"/>
                  </a:moveTo>
                  <a:lnTo>
                    <a:pt x="444" y="90"/>
                  </a:lnTo>
                  <a:lnTo>
                    <a:pt x="0" y="90"/>
                  </a:lnTo>
                  <a:lnTo>
                    <a:pt x="0" y="270"/>
                  </a:lnTo>
                  <a:lnTo>
                    <a:pt x="444" y="270"/>
                  </a:lnTo>
                  <a:lnTo>
                    <a:pt x="444" y="359"/>
                  </a:lnTo>
                  <a:lnTo>
                    <a:pt x="591" y="180"/>
                  </a:lnTo>
                  <a:lnTo>
                    <a:pt x="444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E5C-AD39-4C81-96AB-53AFB33632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1DA15-3F4C-45D9-934D-B72CBA3697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60080" y="228240"/>
            <a:ext cx="787860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Britannic Bold"/>
              </a:rPr>
              <a:t>OBJETIVOS ESPECÍFICO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Alivio inmediato y empoderamiento de los hogares en situación de pobreza extre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Mayor eficiencia en la oferta de servicios públ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Oportunidades equita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Más y mejor organización social y comunitar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927-0F01-4B71-8F47-18BA77FB95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D9C09-9B28-425B-BAB8-7AA138CE039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POBLACIÓN OBJETIVO</a:t>
            </a:r>
            <a:br>
              <a:rPr sz="2800"/>
            </a:br>
            <a:r>
              <a:rPr b="1" lang="es-MX" sz="2800" spc="-1" strike="noStrike">
                <a:solidFill>
                  <a:srgbClr val="ffffff"/>
                </a:solidFill>
                <a:latin typeface="Britannic Bold"/>
              </a:rPr>
              <a:t>Población y Familias en Situación de Pobreza Extrema</a:t>
            </a:r>
            <a:r>
              <a:rPr b="1" lang="es-MX" sz="3300" spc="-1" strike="noStrike">
                <a:solidFill>
                  <a:srgbClr val="ffffff"/>
                </a:solidFill>
                <a:latin typeface="Britannic Bold"/>
              </a:rPr>
              <a:t> *</a:t>
            </a:r>
            <a:endParaRPr b="0" lang="en-US" sz="33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Britannic Bold"/>
              </a:rPr>
              <a:t>ÁREA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        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Britannic Bold"/>
              </a:rPr>
              <a:t>POBLACIÓN 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Área Urbana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     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85.300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Área Rural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   215.700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No Indíge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Área Rural 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          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      210.800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Indígen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TOTAL</a:t>
            </a: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      </a:t>
            </a: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Britannic Bold"/>
              </a:rPr>
              <a:t>      511.800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Encuesta de niveles de vida 2003 MEF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259-5C3B-46FB-BA02-F13E4643C0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035FC-6078-436F-81F2-24A52CFE2BC4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17040" y="376200"/>
            <a:ext cx="8115480" cy="1177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Britannic Bold"/>
              </a:rPr>
              <a:t>DIMENSIONES DEL SISTEMA</a:t>
            </a:r>
            <a:br>
              <a:rPr sz="3600"/>
            </a:br>
            <a:r>
              <a:rPr b="0" lang="es-MX" sz="3600" spc="-1" strike="noStrike" u="sng">
                <a:solidFill>
                  <a:srgbClr val="ffffff"/>
                </a:solidFill>
                <a:uFillTx/>
                <a:latin typeface="Arial"/>
              </a:rPr>
              <a:t>Alivio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MX" sz="3600" spc="-1" strike="noStrike" u="sng">
                <a:solidFill>
                  <a:srgbClr val="ffffff"/>
                </a:solidFill>
                <a:uFillTx/>
                <a:latin typeface="Arial"/>
              </a:rPr>
              <a:t>Causa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 rot="10774200">
            <a:off x="3203280" y="4869000"/>
            <a:ext cx="2879640" cy="57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ARA FACILITAR ACCESO Y APROVECHAMI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BONO DE G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COMPAÑAMIENTO FAMILI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00000" y="2081160"/>
            <a:ext cx="3756240" cy="179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Britannic Bold"/>
                <a:ea typeface="Times New Roman"/>
              </a:rPr>
              <a:t>COMPENSATO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Britannic Bold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atisfacción de necesidades básic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</a:rPr>
              <a:t>Capacidad de funcion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</a:rPr>
              <a:t>Básico de las famili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859280" y="1782720"/>
            <a:ext cx="3656160" cy="252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ffffff"/>
                </a:solidFill>
                <a:uFillTx/>
                <a:latin typeface="Britannic Bold"/>
                <a:ea typeface="Times New Roman"/>
              </a:rPr>
              <a:t>ESTRUCTU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Organización Soci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Fortalecimiento de las comunida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arrollo de capacidades de generación de ingre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cceso sostenido a los servicios y oportunidad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3058920" y="4365720"/>
            <a:ext cx="43308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 flipV="1">
            <a:off x="2916000" y="4437000"/>
            <a:ext cx="2156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2843280" y="4508280"/>
            <a:ext cx="216000" cy="64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5435640" y="4437000"/>
            <a:ext cx="43164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419640" y="4094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 flipV="1">
            <a:off x="3779640" y="4292280"/>
            <a:ext cx="93636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716360" y="40942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5003640" y="4437000"/>
            <a:ext cx="6494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A73-A900-438B-A4AF-7596A35C2D2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F021E-8DDD-4A69-B9A0-6B25A3172BB5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Britannic Bold"/>
              </a:rPr>
              <a:t>FASES DE IMPLEMENTACIÓN Y EJECUCIÓN DEL SISTEMA DE PROTECCIÓN SOCIAL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540640" cy="442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ritann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ritannic Bold"/>
              </a:rPr>
              <a:t>Servicios y Corresponsabilidades Básicas (Ej. Retención escolar básica, controles de salud), Bono de Gestión y Acompañamiento Famili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ritann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ritannic Bold"/>
              </a:rPr>
              <a:t>Servicios y Corresponsabilidades adicionales relacionadas con el acceso a otros servicios básicos y al fortalecimiento de la dinámica familiar y el diagnostico de la situación comunit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ritann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Britannic Bold"/>
              </a:rPr>
              <a:t>Servicios y Corresponsabilidades adicionales relacionadas con el mejoramiento de capacidades de las familias y de las comunidades para la generación de ingr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93F-8256-4838-A293-C75FC149B1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FCC06-FB57-4294-A532-35BA15694196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dor</cp:lastModifiedBy>
  <dcterms:modified xsi:type="dcterms:W3CDTF">2005-07-18T18:54:29Z</dcterms:modified>
  <cp:revision>42</cp:revision>
  <dc:subject/>
  <dc:title>Presentación de PowerPoint</dc:title>
</cp:coreProperties>
</file>