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3.jpeg" ContentType="image/jpeg"/>
  <Override PartName="/ppt/media/image9.wmf" ContentType="image/x-wmf"/>
  <Override PartName="/ppt/media/image10.jpeg" ContentType="image/jpeg"/>
  <Override PartName="/ppt/media/image8.jpeg" ContentType="image/jpeg"/>
  <Override PartName="/ppt/media/image5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737B3-48C3-4B01-AE0A-C362FCA80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606A5-7C71-4578-9176-B8B6C998D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BC7BD-2E9E-43C1-9A36-F2289508E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0846A-A266-489F-B226-40179DB99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92E14-662C-4478-8449-CD2B5C082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42369-A0FA-4212-B8CC-1D54D3FA9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1194B-A450-43ED-8CD2-10F5DB680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B834C-E5F3-486E-BF07-13949A987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E93BF-061C-4255-99FB-3EF3F793E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99CBA-7B95-4CF5-8B72-91BE4580D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A28F7-2819-4ACC-A37B-E7077449E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09330-0FAF-4962-98AC-39C185C77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A8E33-B2CB-4469-A98C-2BDC0FC4F5D0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jpe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5943600"/>
            <a:ext cx="297180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Sra. </a:t>
            </a: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María 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Ester</a:t>
            </a: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 Jiménez 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Ministra - Secretaria Ejecuti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19320" y="5562720"/>
            <a:ext cx="271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Con el apoyo d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47920" y="4267080"/>
            <a:ext cx="70102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333399"/>
                </a:solidFill>
                <a:latin typeface="Arial Black"/>
              </a:rPr>
              <a:t>Conferencia de prens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333399"/>
                </a:solidFill>
                <a:latin typeface="Arial Black"/>
              </a:rPr>
              <a:t>Jueves 28 de abril de 200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5257800" y="5334120"/>
            <a:ext cx="506520" cy="5079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792040" y="5330880"/>
            <a:ext cx="2687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PRESIDENCIA DE LA REPÚBL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SECRETARIA DE ACCIÓN SOC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1371600" y="6019920"/>
            <a:ext cx="1752480" cy="4204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1600200" y="1219320"/>
            <a:ext cx="6172200" cy="28591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gradFill rotWithShape="0">
            <a:gsLst>
              <a:gs pos="0">
                <a:srgbClr val="45a1fd"/>
              </a:gs>
              <a:gs pos="100000">
                <a:srgbClr val="f8fbf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1371600" y="838080"/>
            <a:ext cx="601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333399"/>
                </a:solidFill>
                <a:latin typeface="Arial Black"/>
              </a:rPr>
              <a:t>Áreas de Acción</a:t>
            </a:r>
            <a:r>
              <a:rPr b="0" lang="es-ES" sz="30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s-ES_tradnl" sz="3000" spc="-1" strike="noStrike">
                <a:solidFill>
                  <a:srgbClr val="333399"/>
                </a:solidFill>
                <a:latin typeface="Arial Black"/>
              </a:rPr>
              <a:t>y servici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219320" y="1219320"/>
          <a:ext cx="6553080" cy="41306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19320" y="1219320"/>
                    <a:ext cx="6553080" cy="413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0" y="4419720"/>
            <a:ext cx="2711520" cy="2118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25898" y="1116"/>
                </a:moveTo>
                <a:lnTo>
                  <a:pt x="22207" y="1283"/>
                </a:lnTo>
              </a:path>
            </a:pathLst>
          </a:cu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333399"/>
                </a:solidFill>
                <a:latin typeface="Arial"/>
                <a:ea typeface="Times New Roman"/>
              </a:rPr>
              <a:t>Apoyo escolar para los niños y niñ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333399"/>
                </a:solidFill>
                <a:latin typeface="Arial"/>
                <a:ea typeface="Times New Roman"/>
              </a:rPr>
              <a:t>Becas escolares (a niños reinsertos a  la escuel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333399"/>
                </a:solidFill>
                <a:latin typeface="Arial"/>
                <a:ea typeface="Times New Roman"/>
              </a:rPr>
              <a:t>Estimulación temprana para niños con menos de 5 año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333399"/>
                </a:solidFill>
                <a:latin typeface="Arial"/>
                <a:ea typeface="Times New Roman"/>
              </a:rPr>
              <a:t>Talleres recreativos y de desarrollo integral del niño y niñ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333399"/>
                </a:solidFill>
                <a:latin typeface="Arial"/>
                <a:ea typeface="Times New Roman"/>
              </a:rPr>
              <a:t>Actividades deportiv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010280" y="4114800"/>
            <a:ext cx="1876680" cy="1379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295" y="6507"/>
                </a:moveTo>
                <a:lnTo>
                  <a:pt x="-877" y="1796"/>
                </a:lnTo>
              </a:path>
            </a:pathLst>
          </a:cu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333399"/>
                </a:solidFill>
                <a:latin typeface="Arial"/>
                <a:ea typeface="Times New Roman"/>
              </a:rPr>
              <a:t>Baño diario y hábitos de higie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333399"/>
                </a:solidFill>
                <a:latin typeface="Arial"/>
                <a:ea typeface="Times New Roman"/>
              </a:rPr>
              <a:t>Atención a la salud primaria básic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333399"/>
                </a:solidFill>
                <a:latin typeface="Arial"/>
                <a:ea typeface="Times New Roman"/>
              </a:rPr>
              <a:t>Talleres de formación person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9280" y="3193920"/>
            <a:ext cx="1674720" cy="641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9210" y="5718"/>
                </a:moveTo>
                <a:lnTo>
                  <a:pt x="-983" y="3840"/>
                </a:lnTo>
              </a:path>
            </a:pathLst>
          </a:cu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333399"/>
                </a:solidFill>
                <a:latin typeface="Arial"/>
              </a:rPr>
              <a:t>Vaso de leche y almuerz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333399"/>
                </a:solidFill>
                <a:latin typeface="Arial"/>
                <a:ea typeface="Times New Roman"/>
              </a:rPr>
              <a:t>Control</a:t>
            </a:r>
            <a:r>
              <a:rPr b="0" lang="es-ES_tradnl" sz="1200" spc="-1" strike="noStrike">
                <a:solidFill>
                  <a:srgbClr val="333399"/>
                </a:solidFill>
                <a:latin typeface="Arial"/>
              </a:rPr>
              <a:t> nutricion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1279440"/>
            <a:ext cx="1828800" cy="2300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30693" y="14737"/>
                </a:moveTo>
                <a:lnTo>
                  <a:pt x="22500" y="1079"/>
                </a:lnTo>
              </a:path>
            </a:pathLst>
          </a:cu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333399"/>
                </a:solidFill>
                <a:latin typeface="Arial"/>
                <a:ea typeface="Times New Roman"/>
              </a:rPr>
              <a:t>Visitas a las cas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333399"/>
                </a:solidFill>
                <a:latin typeface="Arial"/>
                <a:ea typeface="Times New Roman"/>
              </a:rPr>
              <a:t>Orientación famili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333399"/>
                </a:solidFill>
                <a:latin typeface="Arial"/>
                <a:ea typeface="Times New Roman"/>
              </a:rPr>
              <a:t>Talleres de formación personal</a:t>
            </a:r>
            <a:br>
              <a:rPr sz="1200"/>
            </a:br>
            <a:r>
              <a:rPr b="0" lang="es-ES_tradnl" sz="1200" spc="-1" strike="noStrike">
                <a:solidFill>
                  <a:srgbClr val="333399"/>
                </a:solidFill>
                <a:latin typeface="Arial"/>
                <a:ea typeface="Times New Roman"/>
              </a:rPr>
              <a:t> Capacitación en generación de ingreso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333399"/>
                </a:solidFill>
                <a:latin typeface="Arial"/>
                <a:ea typeface="Times New Roman"/>
              </a:rPr>
              <a:t>Microcrédito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333399"/>
                </a:solidFill>
                <a:latin typeface="Arial"/>
                <a:ea typeface="Times New Roman"/>
              </a:rPr>
              <a:t>Bonos solidarios (de acuerdo a la evaluación socio económica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086600" y="1620720"/>
            <a:ext cx="2057400" cy="919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982" y="10390"/>
                </a:moveTo>
                <a:lnTo>
                  <a:pt x="-800" y="2691"/>
                </a:lnTo>
              </a:path>
            </a:pathLst>
          </a:cu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333399"/>
                </a:solidFill>
                <a:latin typeface="Arial"/>
                <a:ea typeface="Times New Roman"/>
              </a:rPr>
              <a:t>Inscripción en el Registro Civil. (si se requie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333399"/>
                </a:solidFill>
                <a:latin typeface="Arial"/>
                <a:ea typeface="Times New Roman"/>
              </a:rPr>
              <a:t>Cédula de Identidad. (si se requiere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304920" y="1415880"/>
            <a:ext cx="6172200" cy="43326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1526040" y="838080"/>
            <a:ext cx="2346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333399"/>
                </a:solidFill>
                <a:latin typeface="Arial Black"/>
              </a:rPr>
              <a:t>Localizació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0880" y="1371600"/>
            <a:ext cx="3276720" cy="105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920" rIns="79920" tIns="39960" bIns="3996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1" lang="es-ES_tradnl" sz="3200" spc="-1" strike="noStrike">
                <a:solidFill>
                  <a:srgbClr val="79a400"/>
                </a:solidFill>
                <a:latin typeface="Arial"/>
                <a:ea typeface="Times New Roman"/>
              </a:rPr>
              <a:t>13 centros abiert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990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951080" y="228600"/>
            <a:ext cx="2529360" cy="627120"/>
          </a:xfr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sunción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: 3 centros</a:t>
            </a:r>
            <a:br>
              <a:rPr sz="2000"/>
            </a:br>
            <a:r>
              <a:rPr b="0" lang="es-ES_tradnl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330 niños y niñ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80520" y="3595680"/>
            <a:ext cx="2667960" cy="746280"/>
          </a:xfr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Fernando de la Mo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150 niños y niñ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60320" y="2529000"/>
            <a:ext cx="1567440" cy="746280"/>
          </a:xfr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Lu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90 niños y niñ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-1800" y="4815000"/>
            <a:ext cx="1567440" cy="746280"/>
          </a:xfr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Lambar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50 niños y niñ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317640" y="4129200"/>
            <a:ext cx="1707840" cy="746280"/>
          </a:xfr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an Lorenz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50 niños y niñ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103720" y="4662360"/>
            <a:ext cx="1567440" cy="746280"/>
          </a:xfr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Ñem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50 niños y niñ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867280" y="776160"/>
            <a:ext cx="2951280" cy="746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162" y="43054"/>
                </a:moveTo>
                <a:lnTo>
                  <a:pt x="-594" y="3337"/>
                </a:lnTo>
              </a:path>
              <a:path w="21600" h="21600">
                <a:moveTo>
                  <a:pt x="-594" y="0"/>
                </a:moveTo>
                <a:lnTo>
                  <a:pt x="-594" y="2160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ariano Roque Alon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90 niños y niñ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246720" y="1614600"/>
            <a:ext cx="1567440" cy="627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0401" y="26582"/>
                </a:moveTo>
                <a:lnTo>
                  <a:pt x="-800" y="3927"/>
                </a:lnTo>
              </a:path>
              <a:path w="21600" h="21600">
                <a:moveTo>
                  <a:pt x="-800" y="0"/>
                </a:moveTo>
                <a:lnTo>
                  <a:pt x="-800" y="2160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regua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br>
              <a:rPr sz="2000"/>
            </a:br>
            <a:r>
              <a:rPr b="0" lang="es-ES_tradnl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50 niños y niñ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550560" y="2436840"/>
            <a:ext cx="1621080" cy="746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2829" y="14320"/>
                </a:moveTo>
                <a:lnTo>
                  <a:pt x="-635" y="3323"/>
                </a:lnTo>
              </a:path>
              <a:path w="21600" h="21600">
                <a:moveTo>
                  <a:pt x="-635" y="0"/>
                </a:moveTo>
                <a:lnTo>
                  <a:pt x="-635" y="2160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api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90 niños y niñas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369800" y="5500800"/>
            <a:ext cx="1567440" cy="746280"/>
          </a:xfr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Villa Eli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50 niños y niñ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703920" y="3351240"/>
            <a:ext cx="1567440" cy="746280"/>
          </a:xfr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taugua</a:t>
            </a:r>
            <a:r>
              <a:rPr b="0" lang="es-ES_tradnl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50 niños y niñ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1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1598040" y="914400"/>
            <a:ext cx="4152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333399"/>
                </a:solidFill>
                <a:latin typeface="Arial Black"/>
              </a:rPr>
              <a:t>Proceso del program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733920" y="4572000"/>
            <a:ext cx="2286000" cy="69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920" rIns="79920" tIns="39960" bIns="39960" anchor="t">
            <a:spAutoFit/>
          </a:bodyPr>
          <a:p>
            <a:pPr marL="399960" indent="-399960">
              <a:spcBef>
                <a:spcPts val="1250"/>
              </a:spcBef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2) Invitación a las familias.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400800" y="4419720"/>
            <a:ext cx="2514600" cy="12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920" rIns="79920" tIns="39960" bIns="39960" anchor="t">
            <a:spAutoFit/>
          </a:bodyPr>
          <a:p>
            <a:pPr marL="399960" indent="-399960">
              <a:spcBef>
                <a:spcPts val="1250"/>
              </a:spcBef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3) Entrevistas, compromiso familiar y visita a los hogar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914400" y="4572000"/>
            <a:ext cx="1905120" cy="69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920" rIns="79920" tIns="39960" bIns="39960" anchor="t">
            <a:spAutoFit/>
          </a:bodyPr>
          <a:p>
            <a:pPr marL="399960" indent="-399960">
              <a:spcBef>
                <a:spcPts val="1250"/>
              </a:spcBef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1) Focalización y cen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276720" y="1676520"/>
            <a:ext cx="3047760" cy="283500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380880" y="1781280"/>
            <a:ext cx="3124440" cy="263844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3124080" y="2895480"/>
            <a:ext cx="381240" cy="762120"/>
          </a:xfrm>
          <a:prstGeom prst="right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00ccff"/>
              </a:gs>
              <a:gs pos="100000">
                <a:srgbClr val="8be7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4"/>
          <a:stretch/>
        </p:blipFill>
        <p:spPr>
          <a:xfrm>
            <a:off x="6248520" y="1608120"/>
            <a:ext cx="2895480" cy="278928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6019920" y="2895480"/>
            <a:ext cx="380880" cy="762120"/>
          </a:xfrm>
          <a:prstGeom prst="right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00ccff"/>
              </a:gs>
              <a:gs pos="100000">
                <a:srgbClr val="8be7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1598040" y="914400"/>
            <a:ext cx="4152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333399"/>
                </a:solidFill>
                <a:latin typeface="Arial Black"/>
              </a:rPr>
              <a:t>Proceso del program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09480" y="4419720"/>
            <a:ext cx="2286000" cy="99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920" rIns="79920" tIns="39960" bIns="39960" anchor="t">
            <a:spAutoFit/>
          </a:bodyPr>
          <a:p>
            <a:pPr marL="399960" indent="-399960">
              <a:spcBef>
                <a:spcPts val="1250"/>
              </a:spcBef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4) Niños y niñas en centros abiert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581280" y="4267080"/>
            <a:ext cx="2286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 familia es abordada para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apacitación en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generación de ingresos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bono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172200" y="1981080"/>
            <a:ext cx="2743200" cy="236232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228600" y="1752480"/>
            <a:ext cx="2743200" cy="268632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6019920" y="4267080"/>
            <a:ext cx="2895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6) Niños dejan de trabajar en las calles y familias mejoran sus condiciones de vid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4"/>
          <a:stretch/>
        </p:blipFill>
        <p:spPr>
          <a:xfrm>
            <a:off x="3200400" y="1947960"/>
            <a:ext cx="2666880" cy="238284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2895480" y="3048120"/>
            <a:ext cx="533520" cy="761760"/>
          </a:xfrm>
          <a:prstGeom prst="right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00ccff"/>
              </a:gs>
              <a:gs pos="100000">
                <a:srgbClr val="8be7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867280" y="3048120"/>
            <a:ext cx="381240" cy="761760"/>
          </a:xfrm>
          <a:prstGeom prst="right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00ccff"/>
              </a:gs>
              <a:gs pos="100000">
                <a:srgbClr val="8be7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1295280" y="457200"/>
            <a:ext cx="7315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333399"/>
                </a:solidFill>
                <a:latin typeface="Arial Black"/>
              </a:rPr>
              <a:t>¿Cuál es el compromiso de la familia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6095880" y="3429000"/>
            <a:ext cx="2362320" cy="203184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1371600" y="1447920"/>
            <a:ext cx="685800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Que el niño o niña asista todos los días a la escuel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Que el niño o niña participe de las actividades educativas, recreativas, de salud en un centro abiert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90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Que el niño o niña reduzca poco </a:t>
            </a:r>
            <a:br>
              <a:rPr sz="2200"/>
            </a:b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a poco sus horas de trabajo o </a:t>
            </a:r>
            <a:br>
              <a:rPr sz="2200"/>
            </a:b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permanencia en las call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90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Que el niño nunca trabaje de noche, </a:t>
            </a:r>
            <a:br>
              <a:rPr sz="2200"/>
            </a:b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a partir de las 19 hora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90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Que los padres y madres participe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de las reuniones o talleres de </a:t>
            </a:r>
            <a:br>
              <a:rPr sz="2200"/>
            </a:b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capacitación y </a:t>
            </a:r>
            <a:br>
              <a:rPr sz="2200"/>
            </a:b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formación en el centro abiert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1507320" y="838080"/>
            <a:ext cx="3147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333399"/>
                </a:solidFill>
                <a:latin typeface="Arial Black"/>
              </a:rPr>
              <a:t>El programa ho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990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371600" y="1676520"/>
            <a:ext cx="685800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12 centros en funcionamiento.</a:t>
            </a:r>
            <a:br>
              <a:rPr sz="2200"/>
            </a:b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Más de 700 niños y niñas en programas.</a:t>
            </a:r>
            <a:br>
              <a:rPr sz="2200"/>
            </a:b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Focalización.</a:t>
            </a:r>
            <a:br>
              <a:rPr sz="2200"/>
            </a:b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90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Censo.</a:t>
            </a:r>
            <a:br>
              <a:rPr sz="2200"/>
            </a:b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90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Invitación a las familia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1295280" y="1916280"/>
            <a:ext cx="6934320" cy="83808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feecd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Y" sz="2200" spc="-1" strike="noStrike">
                <a:solidFill>
                  <a:srgbClr val="000000"/>
                </a:solidFill>
                <a:latin typeface="Arial"/>
              </a:rPr>
              <a:t>Estrategia Nacional de Lucha contra la</a:t>
            </a:r>
            <a:br>
              <a:rPr sz="2200"/>
            </a:br>
            <a:r>
              <a:rPr b="0" lang="es-PY" sz="2200" spc="-1" strike="noStrike">
                <a:solidFill>
                  <a:srgbClr val="000000"/>
                </a:solidFill>
                <a:latin typeface="Arial"/>
              </a:rPr>
              <a:t> Pobrez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286000" y="2906640"/>
            <a:ext cx="5181480" cy="42912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50000">
                <a:srgbClr val="fefeaa"/>
              </a:gs>
              <a:gs pos="100000">
                <a:srgbClr val="ffff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d de Protección y Promoción Soci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3733560" y="3440160"/>
            <a:ext cx="533160" cy="457200"/>
          </a:xfrm>
          <a:prstGeom prst="line">
            <a:avLst/>
          </a:prstGeom>
          <a:ln cap="sq" w="9360">
            <a:solidFill>
              <a:srgbClr val="333399"/>
            </a:solidFill>
            <a:miter/>
            <a:head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257800" y="3440160"/>
            <a:ext cx="533520" cy="457200"/>
          </a:xfrm>
          <a:prstGeom prst="line">
            <a:avLst/>
          </a:prstGeom>
          <a:ln cap="sq" w="9360">
            <a:solidFill>
              <a:srgbClr val="333399"/>
            </a:solidFill>
            <a:miter/>
            <a:head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905120" y="3897360"/>
            <a:ext cx="2438280" cy="1371600"/>
          </a:xfrm>
          <a:prstGeom prst="ellipse">
            <a:avLst/>
          </a:prstGeom>
          <a:gradFill rotWithShape="0">
            <a:gsLst>
              <a:gs pos="0">
                <a:srgbClr val="d2fcc1"/>
              </a:gs>
              <a:gs pos="50000">
                <a:srgbClr val="a4fb81"/>
              </a:gs>
              <a:gs pos="100000">
                <a:srgbClr val="d2fcc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Y" sz="2200" spc="-1" strike="noStrike">
                <a:solidFill>
                  <a:srgbClr val="000000"/>
                </a:solidFill>
                <a:latin typeface="Arial"/>
              </a:rPr>
              <a:t>Programa Familia</a:t>
            </a:r>
            <a:br>
              <a:rPr sz="2200"/>
            </a:br>
            <a:r>
              <a:rPr b="0" lang="es-PY" sz="1500" spc="-1" strike="noStrike">
                <a:solidFill>
                  <a:srgbClr val="000000"/>
                </a:solidFill>
                <a:latin typeface="Arial"/>
              </a:rPr>
              <a:t>(familias rurales)</a:t>
            </a:r>
            <a:r>
              <a:rPr b="0" lang="es-PY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181480" y="4038480"/>
            <a:ext cx="2438640" cy="1130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70" name=""/>
          <p:cNvSpPr/>
          <p:nvPr/>
        </p:nvSpPr>
        <p:spPr>
          <a:xfrm>
            <a:off x="1295280" y="457200"/>
            <a:ext cx="7315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333399"/>
                </a:solidFill>
                <a:latin typeface="Arial Black"/>
              </a:rPr>
              <a:t>Una acción de la R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04920" y="1981080"/>
            <a:ext cx="1523880" cy="1604880"/>
          </a:xfrm>
          <a:prstGeom prst="wedgeEllipseCallout">
            <a:avLst>
              <a:gd name="adj1" fmla="val 83013"/>
              <a:gd name="adj2" fmla="val 2331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ordinación: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Secretaría de Acción Soci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838080" y="2438280"/>
            <a:ext cx="506520" cy="50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72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7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295280" y="457200"/>
            <a:ext cx="75438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333399"/>
                </a:solidFill>
                <a:latin typeface="Arial Black"/>
              </a:rPr>
              <a:t>¿Qué es la Estrategia Nacional de Lucha contra la pobreza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447920" y="1676520"/>
            <a:ext cx="7162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ormula metas, estrategias, políticas sectoriales y programas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447920" y="3429000"/>
            <a:ext cx="6629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A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cciones inmediata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523880" y="2743200"/>
            <a:ext cx="67820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Exige focalizació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523880" y="4191120"/>
            <a:ext cx="4953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90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Crea la Red de Protección y Promoción Socia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2666880" y="1600200"/>
            <a:ext cx="3657600" cy="3809880"/>
          </a:xfrm>
          <a:prstGeom prst="rect">
            <a:avLst/>
          </a:prstGeom>
          <a:gradFill rotWithShape="0">
            <a:gsLst>
              <a:gs pos="0">
                <a:srgbClr val="a4fb81"/>
              </a:gs>
              <a:gs pos="100000">
                <a:srgbClr val="e6fc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Arial"/>
              </a:rPr>
              <a:t>municipalidad, gobierno departamental, </a:t>
            </a:r>
            <a:br>
              <a:rPr sz="1500"/>
            </a:br>
            <a:r>
              <a:rPr b="0" lang="es-ES_tradnl" sz="1500" spc="-1" strike="noStrike">
                <a:solidFill>
                  <a:srgbClr val="000000"/>
                </a:solidFill>
                <a:latin typeface="Arial"/>
              </a:rPr>
              <a:t>administración centra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295280" y="457200"/>
            <a:ext cx="7543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333399"/>
                </a:solidFill>
                <a:latin typeface="Arial Black"/>
              </a:rPr>
              <a:t>Red de Promoción y Protección Soci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743200" y="1600200"/>
            <a:ext cx="3505320" cy="312408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50000">
                <a:srgbClr val="fefebc"/>
              </a:gs>
              <a:gs pos="100000">
                <a:srgbClr val="ffff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Arial"/>
              </a:rPr>
              <a:t>Comunidad extrema pobr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5486400"/>
            <a:ext cx="3581280" cy="990720"/>
          </a:xfrm>
          <a:prstGeom prst="up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a4fb81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Arial"/>
              </a:rPr>
              <a:t>Fortalecimiento  </a:t>
            </a:r>
            <a:br>
              <a:rPr sz="1500"/>
            </a:br>
            <a:r>
              <a:rPr b="0" lang="es-ES_tradnl" sz="1500" spc="-1" strike="noStrike">
                <a:solidFill>
                  <a:srgbClr val="000000"/>
                </a:solidFill>
                <a:latin typeface="Arial"/>
              </a:rPr>
              <a:t>interinstituciona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553080" y="1447920"/>
            <a:ext cx="1752840" cy="1143000"/>
          </a:xfrm>
          <a:prstGeom prst="ellipse">
            <a:avLst/>
          </a:prstGeom>
          <a:gradFill rotWithShape="0">
            <a:gsLst>
              <a:gs pos="0">
                <a:srgbClr val="b6d9fd"/>
              </a:gs>
              <a:gs pos="100000">
                <a:srgbClr val="45a1f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Arial"/>
              </a:rPr>
              <a:t>Fortalecimiento </a:t>
            </a:r>
            <a:br>
              <a:rPr sz="1500"/>
            </a:br>
            <a:r>
              <a:rPr b="0" lang="es-ES_tradnl" sz="1500" spc="-1" strike="noStrike">
                <a:solidFill>
                  <a:srgbClr val="000000"/>
                </a:solidFill>
                <a:latin typeface="Arial"/>
              </a:rPr>
              <a:t>del núcleo familia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781680" y="3733920"/>
            <a:ext cx="1752840" cy="114300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50000">
                <a:srgbClr val="fefec4"/>
              </a:gs>
              <a:gs pos="100000">
                <a:srgbClr val="ffff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Arial"/>
              </a:rPr>
              <a:t>Desarrollo </a:t>
            </a:r>
            <a:br>
              <a:rPr sz="1500"/>
            </a:br>
            <a:r>
              <a:rPr b="0" lang="es-ES_tradnl" sz="1500" spc="-1" strike="noStrike">
                <a:solidFill>
                  <a:srgbClr val="000000"/>
                </a:solidFill>
                <a:latin typeface="Arial"/>
              </a:rPr>
              <a:t>Comunitari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09480" y="4800600"/>
            <a:ext cx="1752840" cy="114300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50000">
                <a:srgbClr val="fefec4"/>
              </a:gs>
              <a:gs pos="100000">
                <a:srgbClr val="ffff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Arial"/>
              </a:rPr>
              <a:t>Generación de</a:t>
            </a:r>
            <a:br>
              <a:rPr sz="1500"/>
            </a:br>
            <a:r>
              <a:rPr b="0" lang="es-ES_tradnl" sz="1500" spc="-1" strike="noStrike">
                <a:solidFill>
                  <a:srgbClr val="000000"/>
                </a:solidFill>
                <a:latin typeface="Arial"/>
              </a:rPr>
              <a:t> ingreso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4920" y="3352680"/>
            <a:ext cx="1752480" cy="114300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50000">
                <a:srgbClr val="fefec4"/>
              </a:gs>
              <a:gs pos="100000">
                <a:srgbClr val="ffff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Arial"/>
              </a:rPr>
              <a:t>Servicios sociales </a:t>
            </a:r>
            <a:br>
              <a:rPr sz="1500"/>
            </a:br>
            <a:r>
              <a:rPr b="0" lang="es-ES_tradnl" sz="1500" spc="-1" strike="noStrike">
                <a:solidFill>
                  <a:srgbClr val="000000"/>
                </a:solidFill>
                <a:latin typeface="Arial"/>
              </a:rPr>
              <a:t>(educación, salud, </a:t>
            </a:r>
            <a:br>
              <a:rPr sz="1500"/>
            </a:br>
            <a:r>
              <a:rPr b="0" lang="es-ES_tradnl" sz="1500" spc="-1" strike="noStrike">
                <a:solidFill>
                  <a:srgbClr val="000000"/>
                </a:solidFill>
                <a:latin typeface="Arial"/>
              </a:rPr>
              <a:t>agua, otros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33520" y="1523880"/>
            <a:ext cx="1752480" cy="1143000"/>
          </a:xfrm>
          <a:prstGeom prst="ellipse">
            <a:avLst/>
          </a:prstGeom>
          <a:gradFill rotWithShape="0">
            <a:gsLst>
              <a:gs pos="0">
                <a:srgbClr val="b6d9fd"/>
              </a:gs>
              <a:gs pos="100000">
                <a:srgbClr val="45a1f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Arial"/>
              </a:rPr>
              <a:t>Seguridad Alimentaria </a:t>
            </a:r>
            <a:br>
              <a:rPr sz="1500"/>
            </a:br>
            <a:r>
              <a:rPr b="0" lang="es-ES_tradnl" sz="1500" spc="-1" strike="noStrike">
                <a:solidFill>
                  <a:srgbClr val="000000"/>
                </a:solidFill>
                <a:latin typeface="Arial"/>
              </a:rPr>
              <a:t>(monetario o especies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486040" y="2438280"/>
            <a:ext cx="12193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38280" y="2286000"/>
            <a:ext cx="12193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022640" y="32367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505320" y="2057400"/>
            <a:ext cx="2133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Familia pob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3657600" y="1905120"/>
            <a:ext cx="1676520" cy="1558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0" name=""/>
          <p:cNvSpPr/>
          <p:nvPr/>
        </p:nvSpPr>
        <p:spPr>
          <a:xfrm flipV="1">
            <a:off x="2286000" y="4419360"/>
            <a:ext cx="9144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H="1" flipV="1">
            <a:off x="6248160" y="3809520"/>
            <a:ext cx="5331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133720" y="365724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1295280" y="914400"/>
            <a:ext cx="5334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333399"/>
                </a:solidFill>
                <a:latin typeface="Arial Black"/>
              </a:rPr>
              <a:t>Contexto del program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295280" y="1905120"/>
            <a:ext cx="6934320" cy="83808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feecd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Y" sz="2200" spc="-1" strike="noStrike">
                <a:solidFill>
                  <a:srgbClr val="000000"/>
                </a:solidFill>
                <a:latin typeface="Arial"/>
              </a:rPr>
              <a:t>Estrategia Nacional de Lucha contra la</a:t>
            </a:r>
            <a:br>
              <a:rPr sz="2200"/>
            </a:br>
            <a:r>
              <a:rPr b="0" lang="es-PY" sz="2200" spc="-1" strike="noStrike">
                <a:solidFill>
                  <a:srgbClr val="000000"/>
                </a:solidFill>
                <a:latin typeface="Arial"/>
              </a:rPr>
              <a:t> Pobrez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238880" y="533520"/>
            <a:ext cx="1600200" cy="838080"/>
          </a:xfrm>
          <a:prstGeom prst="wedgeEllipseCallout">
            <a:avLst>
              <a:gd name="adj1" fmla="val -79462"/>
              <a:gd name="adj2" fmla="val 100949"/>
            </a:avLst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Y" sz="1500" spc="-1" strike="noStrike">
                <a:solidFill>
                  <a:srgbClr val="333399"/>
                </a:solidFill>
                <a:latin typeface="Arial"/>
              </a:rPr>
              <a:t>objetivos del Milenio </a:t>
            </a:r>
            <a:br>
              <a:rPr sz="1500"/>
            </a:br>
            <a:r>
              <a:rPr b="0" lang="es-PY" sz="1500" spc="-1" strike="noStrike">
                <a:solidFill>
                  <a:srgbClr val="333399"/>
                </a:solidFill>
                <a:latin typeface="Arial"/>
              </a:rPr>
              <a:t>y metas nacionales </a:t>
            </a:r>
            <a:br>
              <a:rPr sz="1500"/>
            </a:br>
            <a:r>
              <a:rPr b="0" lang="es-PY" sz="1500" spc="-1" strike="noStrike">
                <a:solidFill>
                  <a:srgbClr val="333399"/>
                </a:solidFill>
                <a:latin typeface="Arial"/>
              </a:rPr>
              <a:t>intermedi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286000" y="2895480"/>
            <a:ext cx="5181480" cy="42912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50000">
                <a:srgbClr val="fefeaa"/>
              </a:gs>
              <a:gs pos="100000">
                <a:srgbClr val="ffff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d de Protección y Promoción Soci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733560" y="3429000"/>
            <a:ext cx="533160" cy="457200"/>
          </a:xfrm>
          <a:prstGeom prst="line">
            <a:avLst/>
          </a:prstGeom>
          <a:ln cap="sq" w="9360">
            <a:solidFill>
              <a:srgbClr val="333399"/>
            </a:solidFill>
            <a:miter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257800" y="3429000"/>
            <a:ext cx="533520" cy="457200"/>
          </a:xfrm>
          <a:prstGeom prst="line">
            <a:avLst/>
          </a:prstGeom>
          <a:ln cap="sq" w="9360">
            <a:solidFill>
              <a:srgbClr val="333399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486400" y="3886200"/>
            <a:ext cx="2438280" cy="1295280"/>
          </a:xfrm>
          <a:prstGeom prst="ellipse">
            <a:avLst/>
          </a:prstGeom>
          <a:gradFill rotWithShape="0">
            <a:gsLst>
              <a:gs pos="0">
                <a:srgbClr val="d2fcc1"/>
              </a:gs>
              <a:gs pos="50000">
                <a:srgbClr val="a4fb81"/>
              </a:gs>
              <a:gs pos="100000">
                <a:srgbClr val="d2fcc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Y" sz="2200" spc="-1" strike="noStrike">
                <a:solidFill>
                  <a:srgbClr val="000000"/>
                </a:solidFill>
                <a:latin typeface="Arial"/>
              </a:rPr>
              <a:t>Programa ABRAZO</a:t>
            </a:r>
            <a:br>
              <a:rPr sz="2200"/>
            </a:br>
            <a:r>
              <a:rPr b="0" lang="es-PY" sz="1500" spc="-1" strike="noStrike">
                <a:solidFill>
                  <a:srgbClr val="000000"/>
                </a:solidFill>
                <a:latin typeface="Arial"/>
              </a:rPr>
              <a:t>(niños trabajadores en las calles)</a:t>
            </a:r>
            <a:r>
              <a:rPr b="0" lang="es-PY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3886200"/>
            <a:ext cx="2438280" cy="1371600"/>
          </a:xfrm>
          <a:prstGeom prst="ellipse">
            <a:avLst/>
          </a:prstGeom>
          <a:gradFill rotWithShape="0">
            <a:gsLst>
              <a:gs pos="0">
                <a:srgbClr val="d2fcc1"/>
              </a:gs>
              <a:gs pos="50000">
                <a:srgbClr val="a4fb81"/>
              </a:gs>
              <a:gs pos="100000">
                <a:srgbClr val="d2fcc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Y" sz="2200" spc="-1" strike="noStrike">
                <a:solidFill>
                  <a:srgbClr val="000000"/>
                </a:solidFill>
                <a:latin typeface="Arial"/>
              </a:rPr>
              <a:t>Programa Familia</a:t>
            </a:r>
            <a:br>
              <a:rPr sz="2200"/>
            </a:br>
            <a:r>
              <a:rPr b="0" lang="es-PY" sz="1500" spc="-1" strike="noStrike">
                <a:solidFill>
                  <a:srgbClr val="000000"/>
                </a:solidFill>
                <a:latin typeface="Arial"/>
              </a:rPr>
              <a:t>(familias rurales)</a:t>
            </a:r>
            <a:r>
              <a:rPr b="0" lang="es-PY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5105520"/>
            <a:ext cx="914400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45a1f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600200" y="2971800"/>
            <a:ext cx="6781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Coordinado por: Secretaría de Acción Social (SA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600200" y="3657600"/>
            <a:ext cx="57913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Cuenta con la cooperación de UNICEF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600200" y="4114800"/>
            <a:ext cx="6781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Ejecutado por: Fundación DEQUENÍ, Fundación JOGUERAJ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600200" y="4952880"/>
            <a:ext cx="6019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Primera etapa: abril 2005 – marzo 2006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600200" y="5562720"/>
            <a:ext cx="6019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90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Administración: PNU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6"/>
          <a:stretch/>
        </p:blipFill>
        <p:spPr>
          <a:xfrm>
            <a:off x="1676520" y="304920"/>
            <a:ext cx="5790960" cy="268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371600" y="838080"/>
            <a:ext cx="7391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333399"/>
                </a:solidFill>
                <a:latin typeface="Arial Black"/>
              </a:rPr>
              <a:t>Interrelación con </a:t>
            </a:r>
            <a:r>
              <a:rPr b="0" lang="es-ES_tradnl" sz="3000" spc="-1" strike="noStrike">
                <a:solidFill>
                  <a:srgbClr val="333399"/>
                </a:solidFill>
                <a:latin typeface="Arial Black"/>
              </a:rPr>
              <a:t>otros program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1600" y="1600200"/>
            <a:ext cx="72388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La Secretaría Nacional de la Niñez y la Adolescencia es el ente rector (SNNA) de todos los programas enfocados a la niñez y la adolescencia del paí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71600" y="2895480"/>
            <a:ext cx="723888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La SNNA implementa un plan de </a:t>
            </a:r>
            <a:r>
              <a:rPr b="1" i="1" lang="es-ES_tradnl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Atención integral a la niñez en situación de calle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, con 4 componentes: la articulación interinstitucional, la insersión efectiva, el f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ortalecimiento familiar y comunitario para la protección integral de la niñez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y finalmente el monitoreo y evaluación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4952880"/>
            <a:ext cx="7162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El Programa ABRAZO implementa el tercer componente de éste pla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1295280" y="457200"/>
            <a:ext cx="7467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333399"/>
                </a:solidFill>
                <a:latin typeface="Arial Black"/>
              </a:rPr>
              <a:t>La situación de nuestros niños y niñ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447920" y="1523880"/>
            <a:ext cx="693396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920" rIns="79920" tIns="39960" bIns="39960" anchor="t">
            <a:spAutoFit/>
          </a:bodyPr>
          <a:p>
            <a:pPr marL="399960" indent="-399960">
              <a:spcBef>
                <a:spcPts val="1375"/>
              </a:spcBef>
              <a:buSzPct val="102909"/>
              <a:buBlip>
                <a:blip r:embed="rId2"/>
              </a:buBlip>
              <a:tabLst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41 de cada 100 paraguayos son niños de 0 a 14 añ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447920" y="2362320"/>
            <a:ext cx="6400800" cy="4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920" rIns="79920" tIns="39960" bIns="39960" anchor="t">
            <a:spAutoFit/>
          </a:bodyPr>
          <a:p>
            <a:pPr marL="399960" indent="-399960">
              <a:spcBef>
                <a:spcPts val="1375"/>
              </a:spcBef>
              <a:buSzPct val="102909"/>
              <a:buBlip>
                <a:blip r:embed="rId3"/>
              </a:buBlip>
              <a:tabLst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42% de ellos viven en hogares pob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447920" y="2895480"/>
            <a:ext cx="6172200" cy="10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920" rIns="79920" tIns="39960" bIns="39960" anchor="t">
            <a:spAutoFit/>
          </a:bodyPr>
          <a:p>
            <a:pPr marL="399960" indent="-399960">
              <a:spcBef>
                <a:spcPts val="1375"/>
              </a:spcBef>
              <a:buSzPct val="102909"/>
              <a:buBlip>
                <a:blip r:embed="rId4"/>
              </a:buBlip>
              <a:tabLst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1.935.725 niños entre </a:t>
            </a:r>
            <a:br>
              <a:rPr sz="2200"/>
            </a:b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5 a 17 años y, de ellos, </a:t>
            </a:r>
            <a:br>
              <a:rPr sz="2200"/>
            </a:b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el 13.6% trabaj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447920" y="4038480"/>
            <a:ext cx="38541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buSzPct val="10290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El 35% de los niños que trabajan no asisten a la escuel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447920" y="5257800"/>
            <a:ext cx="4038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buSzPct val="10290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55% argumenta razones económica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7"/>
          <a:stretch/>
        </p:blipFill>
        <p:spPr>
          <a:xfrm>
            <a:off x="5562720" y="3048120"/>
            <a:ext cx="3200400" cy="255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1295280" y="1676520"/>
            <a:ext cx="7239240" cy="292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79a400"/>
                </a:solidFill>
                <a:latin typeface="Arial"/>
                <a:ea typeface="Times New Roman"/>
              </a:rPr>
              <a:t>Propósito</a:t>
            </a:r>
            <a:r>
              <a:rPr b="1" lang="es-ES" sz="3200" spc="-1" strike="noStrike">
                <a:solidFill>
                  <a:srgbClr val="79a400"/>
                </a:solidFill>
                <a:latin typeface="Arial"/>
                <a:ea typeface="Times New Roman"/>
              </a:rPr>
              <a:t>:</a:t>
            </a:r>
            <a:r>
              <a:rPr b="1" lang="es-E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ontribuir a la disminución de la pobreza en el Paraguay, a partir del ejercicio de sus derechos de salud, educación y protección familiar, por parte de los  niños y niñas trabajadores en la vía pública, pudiendo desarrollar sus </a:t>
            </a:r>
            <a:br>
              <a:rPr sz="2200"/>
            </a:b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capacidades de 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a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cuerdo </a:t>
            </a:r>
            <a:br>
              <a:rPr sz="2200"/>
            </a:b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al ciclo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de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vida en el </a:t>
            </a:r>
            <a:br>
              <a:rPr sz="2200"/>
            </a:b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que se encuentra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838080"/>
            <a:ext cx="7391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333399"/>
                </a:solidFill>
                <a:latin typeface="Arial Black"/>
              </a:rPr>
              <a:t>ABRAZO, una respuesta integr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5943600" y="3397320"/>
            <a:ext cx="2514600" cy="21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1447920" y="762120"/>
            <a:ext cx="7008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333399"/>
                </a:solidFill>
                <a:latin typeface="Arial Black"/>
              </a:rPr>
              <a:t>Alcanc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7920" y="2971800"/>
            <a:ext cx="7391160" cy="32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Y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s-PY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En el plazo de 12 meses los resultados esperados son:</a:t>
            </a:r>
            <a:br>
              <a:rPr sz="2200"/>
            </a:br>
            <a:r>
              <a:rPr b="1" lang="es-ES" sz="3200" spc="-1" strike="noStrike">
                <a:solidFill>
                  <a:srgbClr val="79a400"/>
                </a:solidFill>
                <a:latin typeface="Arial"/>
                <a:ea typeface="Times New Roman"/>
              </a:rPr>
              <a:t>480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(40%) niños y niñas dej</a:t>
            </a:r>
            <a:r>
              <a:rPr b="0" lang="es-PY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e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n 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trabajar en las calles,</a:t>
            </a:r>
            <a:br>
              <a:rPr sz="2200"/>
            </a:br>
            <a:r>
              <a:rPr b="1" lang="es-ES" sz="3200" spc="-1" strike="noStrike">
                <a:solidFill>
                  <a:srgbClr val="79a400"/>
                </a:solidFill>
                <a:latin typeface="Arial"/>
                <a:ea typeface="Times New Roman"/>
              </a:rPr>
              <a:t>720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niños y niñas 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(60%) redu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zcan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su permanencia en la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calle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s,</a:t>
            </a:r>
            <a:br>
              <a:rPr sz="2200"/>
            </a:br>
            <a:r>
              <a:rPr b="1" lang="es-ES_tradnl" sz="3200" spc="-1" strike="noStrike">
                <a:solidFill>
                  <a:srgbClr val="79a400"/>
                </a:solidFill>
                <a:latin typeface="Arial"/>
                <a:ea typeface="Times New Roman"/>
              </a:rPr>
              <a:t>5</a:t>
            </a:r>
            <a:r>
              <a:rPr b="1" lang="es-ES" sz="3200" spc="-1" strike="noStrike">
                <a:solidFill>
                  <a:srgbClr val="79a400"/>
                </a:solidFill>
                <a:latin typeface="Arial"/>
                <a:ea typeface="Times New Roman"/>
              </a:rPr>
              <a:t>00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familias  </a:t>
            </a:r>
            <a:r>
              <a:rPr b="0" lang="es-PY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sean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apoyadas 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y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capacitadas en la generació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de ingresos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371600" y="1295280"/>
            <a:ext cx="7315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79a400"/>
                </a:solidFill>
                <a:latin typeface="Arial"/>
                <a:ea typeface="Times New Roman"/>
              </a:rPr>
              <a:t>1.200 niños</a:t>
            </a:r>
            <a:r>
              <a:rPr b="1" lang="es-PY" sz="3200" spc="-1" strike="noStrike">
                <a:solidFill>
                  <a:srgbClr val="79a400"/>
                </a:solidFill>
                <a:latin typeface="Arial"/>
                <a:ea typeface="Times New Roman"/>
              </a:rPr>
              <a:t> y niñas</a:t>
            </a:r>
            <a:r>
              <a:rPr b="1" lang="es-ES" sz="3200" spc="-1" strike="noStrike">
                <a:solidFill>
                  <a:srgbClr val="79a400"/>
                </a:solidFill>
                <a:latin typeface="Arial"/>
                <a:ea typeface="Times New Roman"/>
              </a:rPr>
              <a:t> que trabajan en la vía p</a:t>
            </a:r>
            <a:r>
              <a:rPr b="1" lang="es-ES_tradnl" sz="3200" spc="-1" strike="noStrike">
                <a:solidFill>
                  <a:srgbClr val="79a400"/>
                </a:solidFill>
                <a:latin typeface="Arial"/>
                <a:ea typeface="Times New Roman"/>
              </a:rPr>
              <a:t>ú</a:t>
            </a:r>
            <a:r>
              <a:rPr b="1" lang="es-ES" sz="3200" spc="-1" strike="noStrike">
                <a:solidFill>
                  <a:srgbClr val="79a400"/>
                </a:solidFill>
                <a:latin typeface="Arial"/>
                <a:ea typeface="Times New Roman"/>
              </a:rPr>
              <a:t>blica y 500 familias</a:t>
            </a:r>
            <a:r>
              <a:rPr b="1" lang="es-ES_tradnl" sz="3200" spc="-1" strike="noStrike">
                <a:solidFill>
                  <a:srgbClr val="79a400"/>
                </a:solidFill>
                <a:latin typeface="Arial"/>
                <a:ea typeface="Times New Roman"/>
              </a:rPr>
              <a:t> en 11  municipi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2T14:02:06Z</dcterms:created>
  <dc:creator>Pc1</dc:creator>
  <dc:description/>
  <dc:language>en-US</dc:language>
  <cp:lastModifiedBy>OAS</cp:lastModifiedBy>
  <dcterms:modified xsi:type="dcterms:W3CDTF">2005-07-19T14:52:48Z</dcterms:modified>
  <cp:revision>93</cp:revision>
  <dc:subject/>
  <dc:title>Diapositiva 1</dc:title>
</cp:coreProperties>
</file>