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1CE-8AB6-4A90-977E-2B7350D1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13E9-E585-4B71-BC43-830980C1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D93EF-EDB8-47E6-9546-798C6A3A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8F085-DAC0-489B-84D0-5F583B0A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476360" y="404280"/>
            <a:ext cx="698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ADDF0-F24B-4057-B4F9-6FCB0497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74400-9401-49B4-B5C3-21F6131F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D16E1-65D9-4486-81C7-F0BFEE78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81FD1-1809-4B7D-81F2-23BB432B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791B9-DFD9-4209-BCB0-FBC26D51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33E5F-7DAC-4896-A8B5-86DABEDD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D8DFD-5CB8-43A3-AEF3-384E3098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1D185-67A6-40CC-850B-F44A57D8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59E5-7E3F-40FA-89EE-96E0CB88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B7F13-C568-4306-8B19-A31F8AC4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16D43-1656-46B0-962A-FDE3829C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6131D-24A8-460D-8BA0-BA1483F6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B5115-47F6-44AC-9DF3-645C6069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476360" y="404280"/>
            <a:ext cx="698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93812-5B66-4674-901A-1827D2F2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2E020-CBB5-4402-9538-A19614E9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E6D33-5BF8-40C0-9B9F-24B3948F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3373E-807E-4843-954B-E2CD652F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5C01C-9F98-4F8F-987F-64D58413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E7B43-375A-4913-BFAF-0486A727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BAAD-F431-485A-8C85-D8E2E492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D06D4-71C9-4249-9C18-598D5C08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3875D-61D4-431D-AC2E-4A41E77C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962BD-C855-401C-8007-78219F83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BA44E-235C-43EE-80FA-984E3744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41C2F-1A68-4897-B210-5CAD7C45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2BD3E-A865-4D0C-9C4C-5E4037F0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476360" y="404280"/>
            <a:ext cx="698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236DA-2A91-4CF8-93ED-16929A08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6F9E7-7BE9-43ED-8790-8FD0BB23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0F98D-307D-42E8-A259-960F04F1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2CC79-08A9-4411-976F-19BE5714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266E-BDAB-452D-AA9A-777614EFF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F0D4B-4E81-44E3-9960-08A91D8F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08630-BADF-4407-A84F-9DF4081A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CCFDE-A36C-4980-86F2-AF25E3D6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150B-65B7-485C-8A10-B94E32BE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7D2D-939B-4E56-B7A3-B1419F88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08ED-8AB4-4CFC-8BDA-D63FFE2E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2577-CEC5-4377-A663-29E2A2FE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76360" y="404280"/>
            <a:ext cx="698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1C46-E7B0-471A-A72F-A7A0BF78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AD5B-E23B-432F-9028-865072DD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318-FFE4-49C7-8768-412D11C1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0E39-F482-4233-8336-966B2589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D3CE-B343-4877-93F9-52B8299F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1DFF-C9D1-42D6-A00B-9D478B16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8D1F-1AB7-4E83-BF6D-8B4A7DB8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A4AC-FC7B-43CD-B5A2-872BCE4A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93496-955D-431F-830C-A1EC9163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C7301-D10A-4BDE-AB5C-45C2F865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59920-B6C4-44D1-8B40-A3A790B4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0F33F-DCCF-4B0A-A1BE-BB0792FE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349B0-AB77-437F-82C4-8ACAEB4A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F71C-D09A-4526-A2CC-EDD64210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476360" y="404280"/>
            <a:ext cx="698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51633-AC06-4F12-8302-4693272C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32AE4-76B9-4127-8013-6328B9BB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1C956-F747-4985-9B2A-CE067870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44D27-7CC6-4490-8379-4C1ED8DD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DBDD0-BC7A-42D8-A6B4-A3CFBB9F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2387C-98B0-4909-AC0A-ABA715CA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92D91-B54F-4AC4-97B7-B2C440DF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E53B0-7C7C-4598-AF49-656185EC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6AA49-67C2-4B2D-B823-34F06807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181E6-D67D-412A-BA3D-E0E69FB6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D78-5839-472C-91ED-68A8CD10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E0668-2249-4438-970F-3EEC0DB3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97C2B-1C76-4742-9841-40E4562B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476360" y="404280"/>
            <a:ext cx="698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C1D8F-FE88-4118-B9FE-C4106595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ACCD2-E401-44CE-A2DD-2BDCDE4E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C5991-15F5-4D72-9FBC-8449AF6C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4452A-46F3-4468-891F-4F37EFAA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06F1D-F832-4E2E-ADF8-1791B521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E135A-A4C5-4F1D-9F79-E6C1B2B1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DEACC-7DC8-483D-9F1B-D28EA582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E51C1-398E-4546-A8BE-F813B0E2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ACCB-4B76-4CF8-A051-C2309B49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4AC9F-2EF5-4DEE-B7E9-9D4C099E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0DC37-3D0F-49CB-ADDE-876FAF3B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C6C04-1098-4E08-B511-2FCA54E5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40FC7-A9E4-4F8E-9F0A-163839C9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476360" y="404280"/>
            <a:ext cx="698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795D5-CF93-4AA9-82D0-100BE17F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3309C-2DD2-4E6D-AF37-9F383BEB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F1383-9A25-4118-87A5-01ABD9DB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B4C24-8E68-4904-88ED-8A83B6BF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1BC43-9D50-46F1-97CD-4941608F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882A2-823B-40B5-89F7-943F6F5B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76360" y="404280"/>
            <a:ext cx="698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2F9-BC4C-4D08-8AF3-9DA4514E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4CDE1-7075-434D-9C6B-82EAD574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E5CEB-C771-4D85-9A6B-97C050CC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3DE1E-6B31-43C0-BD3E-A0782436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FC4A4-E075-4CFD-9F6E-AE1CD022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3C830-040B-4932-A460-9E72C4E7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C75B9-83D9-4ABB-B7DD-0764561C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476360" y="404280"/>
            <a:ext cx="698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81B9A-7151-48CA-9773-BF0763DC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337D1-0B58-400B-999B-81F0C406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333A4-0919-4157-8DBB-9D50B3FE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EFA30-84DA-4931-9EA6-C391A1DE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F565-DAD5-422D-973F-C5B8701C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06FC0-D9D0-41DE-A63A-7DCE7032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02EC3-EF87-473A-B46A-8EC8A6D19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7CE9A-77C4-42DA-B918-2C50B632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7131E-704F-47AC-8A62-10A43D74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21F2D-0359-49AF-90C7-783E0DF7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4388C-2326-4804-AF46-482BDCA5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3FDC2-3513-4DC0-B069-6DB9A86C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F7BA0-2347-474C-AD85-077D5203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476360" y="404280"/>
            <a:ext cx="698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934AD-1749-4ED8-9F0E-2C018CA9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D4E08-23AC-499A-B859-16552B34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F46A-42F9-4C75-82D5-DB78423E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95743-0823-4BC1-951A-3A97CF15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9631D-0487-4689-AF07-CFEBFE8C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67C50-2CFF-4D52-835B-7CCDC033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2CA21-E4F2-46BB-B74F-A3A13B01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B8411-187F-4267-B672-E972D8E3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11E9F-0F2E-4B39-B542-4D75814C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3187D-B43B-406A-AFC3-7DC461C1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1277B-4AF0-4CA9-B07A-8CAB1ADD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3734C-6734-4B0A-B220-9C6537B5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0C641-F280-420F-B5CE-52CDFA0E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E09-A1EB-4B30-9BF5-291C64A9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476360" y="404280"/>
            <a:ext cx="698328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08984-D413-48BC-8EDB-97409990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442D1-8696-4CCF-A695-73F49F2B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E4768-F028-438C-8552-CF401311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5D7C3-BE32-46E2-A210-652BEFA0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45C2C-51EF-43AA-A367-3A77BD1A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76B0C-EC80-40A6-82AA-2EA21AE9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5A4F9-28FF-43C6-BBD1-1E284A1B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3768F-C952-4338-A27D-A5629D75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FEBBD-7C58-4324-AD8B-5ABBF71F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4F266-E30F-47E7-B61A-A3915306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D383-6C64-4A79-B3EF-DE0EFF334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7696080" y="304920"/>
            <a:ext cx="1197000" cy="12142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A635-851B-42F2-8184-C87C6E9976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0" y="2421000"/>
            <a:ext cx="1197000" cy="12142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971640" y="2492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50720" y="335736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3601-6789-4F9A-A793-F5C68A83C2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9AAD-4FBB-4F09-9751-4F91A8557B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2421000"/>
            <a:ext cx="1197000" cy="1214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71640" y="2492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50720" y="335736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B2E8-8192-460D-AD2F-0FCE9181DB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626C-60F4-436D-AED4-1BD92A3AB4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2421000"/>
            <a:ext cx="1197000" cy="1214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71640" y="2492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0720" y="335736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6F86-ED28-4007-9F7E-065B7B2737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197000" cy="1214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4B35-C6CF-44CF-BB73-0CCADC7134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2421000"/>
            <a:ext cx="1197000" cy="1214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971640" y="2492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0720" y="335736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5C9D-D04B-4025-9844-AFA4E042FD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F765-49AE-4954-B7AA-6C663548E5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2421000"/>
            <a:ext cx="1197000" cy="12142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971640" y="2492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50720" y="3357360"/>
            <a:ext cx="869328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3B15-80E5-405B-A128-6BD5124708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162920" y="380880"/>
            <a:ext cx="1430280" cy="14702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1197000" cy="12142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3352680" y="685800"/>
            <a:ext cx="2133720" cy="8380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219320" y="2514600"/>
            <a:ext cx="69339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CL" sz="3600" spc="-1" strike="noStrike">
                <a:solidFill>
                  <a:srgbClr val="333399"/>
                </a:solidFill>
                <a:latin typeface="Arial"/>
                <a:ea typeface="Arial Unicode MS"/>
              </a:rPr>
              <a:t>Comunidad Aprendizaje del Programa Puent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23880" y="4724280"/>
            <a:ext cx="6400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Sistema de Formación Capacitación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Acompañ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El Aprendizaje en </a:t>
            </a:r>
            <a:r>
              <a:rPr b="1" lang="es-ES_tradnl" sz="2800" spc="-1" strike="noStrike">
                <a:solidFill>
                  <a:srgbClr val="cc0000"/>
                </a:solidFill>
                <a:latin typeface="Arial"/>
              </a:rPr>
              <a:t>Comunidad de Aprendiza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587600" cy="15858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457200" y="152388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542160" indent="-54216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La reflexión grup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just">
              <a:lnSpc>
                <a:spcPct val="7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La conectividad , la comunicación con otros como estimulación a la reflexión prop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just">
              <a:lnSpc>
                <a:spcPct val="7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0" lang="es-ES_tradnl" sz="2000" spc="-1" strike="noStrike">
                <a:solidFill>
                  <a:srgbClr val="cc0000"/>
                </a:solidFill>
                <a:latin typeface="Arial"/>
              </a:rPr>
              <a:t>alteridad</a:t>
            </a: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 como intercambio de miradas, posturas, opin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just">
              <a:lnSpc>
                <a:spcPct val="7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just">
              <a:lnSpc>
                <a:spcPct val="7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just">
              <a:lnSpc>
                <a:spcPct val="7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conversaciones como vínculo privilegiado de reflexión y aprendizaje a partir de las propias prác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El sentimiento de pertenencia, de reconocimiento como parte - miembro de una comunidad de aprendizaje -que asume colectiva y solidariamente la misión de contribuir al logro de los objetivos del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La interactiv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conversación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como situación privilegiada de aprendizaj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62120" y="2331720"/>
            <a:ext cx="77724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conversación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como situación de vínculo - cara a cara- que involucra emociones y razón mediados por el lenguaje oral - donde las  personas se permiten una apertura emocional hacia la reflexión, al cambio, al crecimiento, al desarrollo, al proyecto individual y colectivo: </a:t>
            </a: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al aprendiza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7315200" y="228600"/>
            <a:ext cx="15573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MX" sz="2400" spc="-1" strike="noStrike">
                <a:solidFill>
                  <a:srgbClr val="cc0000"/>
                </a:solidFill>
                <a:latin typeface="Arial"/>
              </a:rPr>
              <a:t>Conversación</a:t>
            </a: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 para la Generación de un Vínculo de Apoyo Psico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73480" cy="150984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l Programa Puente puede ser definido como un </a:t>
            </a:r>
            <a:r>
              <a:rPr b="0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conjunto de relaciones interpersonales e institucionales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al servicio del logro de sus 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a experiencia de casi 3 años ha permitido precisar que el apoyo psicosocial en el Programa Puente consiste en la </a:t>
            </a:r>
            <a:r>
              <a:rPr b="0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construcción de un vínculo de apoyo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entre el AF y las Famil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as </a:t>
            </a:r>
            <a:r>
              <a:rPr b="0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evaluaciones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del Programa identifican al </a:t>
            </a:r>
            <a:r>
              <a:rPr b="0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vínculo</a:t>
            </a:r>
            <a:r>
              <a:rPr b="0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 como clave en la satisfacción de los usu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Las familias atendidas reconocen como aporte del Programa el </a:t>
            </a:r>
            <a:r>
              <a:rPr b="0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fortalecer sus capacidades de </a:t>
            </a:r>
            <a:r>
              <a:rPr b="0" lang="es-ES" sz="2000" spc="-1" strike="noStrike" u="sng">
                <a:solidFill>
                  <a:srgbClr val="cc0000"/>
                </a:solidFill>
                <a:uFillTx/>
                <a:latin typeface="Arial"/>
              </a:rPr>
              <a:t>conversación</a:t>
            </a: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 para vincularse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con los 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n la voz de los participantes de la Comunidad de Aprendizaje, se expresa frecuentemente que el </a:t>
            </a: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vínculo de apoyo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se potencia por el </a:t>
            </a:r>
            <a:r>
              <a:rPr b="0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encuadre de la práctica convers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conversación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como  espacio de concertación de accion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7162920" y="152280"/>
            <a:ext cx="1739880" cy="17384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09480" y="2057400"/>
            <a:ext cx="777240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Las personas disponen de capacidades y disposiciones a la conversación, es decir, de distinciones conceptuales y emocionales que les posibilitan o limitan establecer </a:t>
            </a: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conversaciones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de negociación o concertación de acc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conversación</a:t>
            </a: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 permite que dos o más personas lleguen a acuerdos mediante peticiones y compromisos mediados por el lengu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l proceso de fortalecimiento de las capacidades de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convers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7162920" y="228600"/>
            <a:ext cx="16668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519" name=""/>
          <p:cNvGrpSpPr/>
          <p:nvPr/>
        </p:nvGrpSpPr>
        <p:grpSpPr>
          <a:xfrm>
            <a:off x="1278000" y="1572840"/>
            <a:ext cx="5597280" cy="2981160"/>
            <a:chOff x="1278000" y="1572840"/>
            <a:chExt cx="5597280" cy="2981160"/>
          </a:xfrm>
        </p:grpSpPr>
        <p:sp>
          <p:nvSpPr>
            <p:cNvPr id="520" name="_s31766"/>
            <p:cNvSpPr/>
            <p:nvPr/>
          </p:nvSpPr>
          <p:spPr>
            <a:xfrm>
              <a:off x="3319560" y="2101680"/>
              <a:ext cx="1514160" cy="151380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_s31767"/>
            <p:cNvSpPr/>
            <p:nvPr/>
          </p:nvSpPr>
          <p:spPr>
            <a:xfrm>
              <a:off x="3319560" y="1572840"/>
              <a:ext cx="151416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De comprensión mutu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_s31768"/>
            <p:cNvSpPr/>
            <p:nvPr/>
          </p:nvSpPr>
          <p:spPr>
            <a:xfrm>
              <a:off x="3817800" y="2964960"/>
              <a:ext cx="1514520" cy="15141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_s31769"/>
            <p:cNvSpPr/>
            <p:nvPr/>
          </p:nvSpPr>
          <p:spPr>
            <a:xfrm>
              <a:off x="5360760" y="4176360"/>
              <a:ext cx="1514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De concertació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de acci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_s31770"/>
            <p:cNvSpPr/>
            <p:nvPr/>
          </p:nvSpPr>
          <p:spPr>
            <a:xfrm>
              <a:off x="2820960" y="2964960"/>
              <a:ext cx="1514520" cy="15141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_s31771"/>
            <p:cNvSpPr/>
            <p:nvPr/>
          </p:nvSpPr>
          <p:spPr>
            <a:xfrm>
              <a:off x="1278000" y="4176360"/>
              <a:ext cx="1514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De la vid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cotidia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MX" sz="2400" spc="-1" strike="noStrike">
                <a:solidFill>
                  <a:srgbClr val="cc0000"/>
                </a:solidFill>
                <a:latin typeface="Arial"/>
              </a:rPr>
              <a:t>Conversación</a:t>
            </a: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 para la Generación de un </a:t>
            </a:r>
            <a:r>
              <a:rPr b="1" lang="es-MX" sz="2400" spc="-1" strike="noStrike">
                <a:solidFill>
                  <a:srgbClr val="cc0000"/>
                </a:solidFill>
                <a:latin typeface="Arial"/>
              </a:rPr>
              <a:t>Vínculo</a:t>
            </a: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 de Apoyo Psicosoc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2952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2943360" y="2333520"/>
            <a:ext cx="3200400" cy="24274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447920" y="4676760"/>
            <a:ext cx="1839960" cy="80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633840" y="1523880"/>
            <a:ext cx="1838160" cy="809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791320" y="4648320"/>
            <a:ext cx="1839960" cy="8096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867280" y="4800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vers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29000" y="3276720"/>
            <a:ext cx="213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stru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 suj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71600" y="46483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strucción de vínculos de po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81280" y="1676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FLEX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30880" y="5560200"/>
            <a:ext cx="755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3399"/>
                </a:solidFill>
                <a:latin typeface="Trebuchet MS"/>
              </a:rPr>
              <a:t>“</a:t>
            </a:r>
            <a:r>
              <a:rPr b="1" lang="es-CL" sz="2200" spc="-1" strike="noStrike">
                <a:solidFill>
                  <a:srgbClr val="333399"/>
                </a:solidFill>
                <a:latin typeface="Trebuchet MS"/>
              </a:rPr>
              <a:t>Saber- hacer” con fundamentos teóricos y empír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333399"/>
                </a:solidFill>
                <a:latin typeface="Trebuchet MS"/>
              </a:rPr>
              <a:t>Flexibilidad – Efectiv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</a:rPr>
              <a:t>La Comunidad de Aprendizaje Puente:</a:t>
            </a:r>
            <a:br>
              <a:rPr sz="2000"/>
            </a:b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El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Apoyo </a:t>
            </a: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del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Apoyo</a:t>
            </a: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 para el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Apoyo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7315200" y="228600"/>
            <a:ext cx="1595520" cy="132876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33520" y="1523880"/>
            <a:ext cx="7848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0000"/>
                </a:solidFill>
                <a:latin typeface="Arial"/>
              </a:rPr>
              <a:t>Los Servicios que ofre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333399"/>
                </a:solidFill>
                <a:uFillTx/>
                <a:latin typeface="Arial"/>
              </a:rPr>
              <a:t>Formación básica, profesional y especializada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fundada en el aprendizaje a partir de la pr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333399"/>
                </a:solidFill>
                <a:uFillTx/>
                <a:latin typeface="Arial"/>
              </a:rPr>
              <a:t>Acompañamiento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: Autocuidado, cuidado mutuo y sentido de pertenencia e identificación con la Comunidad del Programa P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333399"/>
                </a:solidFill>
                <a:uFillTx/>
                <a:latin typeface="Arial"/>
              </a:rPr>
              <a:t>Capacitación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: desarrollo de competencias y habilidades para la intervención familiar, certificada por FLAC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Instancia de </a:t>
            </a:r>
            <a:r>
              <a:rPr b="0" lang="es-CL" sz="2400" spc="-1" strike="noStrike" u="sng">
                <a:solidFill>
                  <a:srgbClr val="333399"/>
                </a:solidFill>
                <a:uFillTx/>
                <a:latin typeface="Arial"/>
              </a:rPr>
              <a:t>sistematización</a:t>
            </a: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 y </a:t>
            </a:r>
            <a:r>
              <a:rPr b="0" lang="es-CL" sz="2400" spc="-1" strike="noStrike" u="sng">
                <a:solidFill>
                  <a:srgbClr val="333399"/>
                </a:solidFill>
                <a:uFillTx/>
                <a:latin typeface="Arial"/>
              </a:rPr>
              <a:t>producción de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140-0665-4B07-B9BE-3FA2371D00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Componentes de la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Comunidad de Aprendizaje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: Las modalidades de capacit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7315200" y="228600"/>
            <a:ext cx="1663560" cy="143352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2008080" y="1752480"/>
            <a:ext cx="43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eb412"/>
                </a:solidFill>
                <a:latin typeface="Arial"/>
              </a:rPr>
              <a:t>Círculo de Análisis de la Práctica (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144960" y="28954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9900"/>
                </a:solidFill>
                <a:latin typeface="Arial"/>
              </a:rPr>
              <a:t>Ag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036960" y="367200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3300"/>
                </a:solidFill>
                <a:latin typeface="Arial"/>
              </a:rPr>
              <a:t>Instit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876400" y="45100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Univers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138760" y="548496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Plataforma Tecn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f0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362320" y="304920"/>
            <a:ext cx="46195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ahoma"/>
              </a:rPr>
              <a:t>Círculo de Análisis de </a:t>
            </a:r>
            <a:br>
              <a:rPr sz="2800"/>
            </a:br>
            <a:r>
              <a:rPr b="1" lang="es-CL" sz="2800" spc="-1" strike="noStrike">
                <a:solidFill>
                  <a:srgbClr val="333399"/>
                </a:solidFill>
                <a:latin typeface="Tahoma"/>
              </a:rPr>
              <a:t>la Práctica (CAP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122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ahoma"/>
              </a:rPr>
              <a:t>Instancia de reflexión de la práctica de los particip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ahoma"/>
              </a:rPr>
              <a:t>Espacio de contención afectiva y auto- cuid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ahoma"/>
              </a:rPr>
              <a:t>Ayuda a formular nuevas alternativas de acción al incorporar la mirada de los otros (alteridad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7315200" y="228600"/>
            <a:ext cx="1571760" cy="14479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5"/>
          <a:stretch/>
        </p:blipFill>
        <p:spPr>
          <a:xfrm>
            <a:off x="228600" y="228600"/>
            <a:ext cx="17334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17"/>
            </a:gs>
            <a:gs pos="100000">
              <a:srgbClr val="33cc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76360" y="404280"/>
            <a:ext cx="698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ahoma"/>
              </a:rPr>
              <a:t>Agenc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Servicio responsable de la coordinación de Pasantí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Las Pasantías s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Visitas previamente acordad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Entre miembros que realizan igual fun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Que favorecen el aprendizaje a través </a:t>
            </a: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de la observación de experienc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733400" cy="118116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5364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os Componentes del Programa P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04920" y="2286000"/>
            <a:ext cx="1676160" cy="251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28177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estión de Condiciones Mín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086600" y="2362320"/>
            <a:ext cx="1600200" cy="251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0400" y="2438280"/>
            <a:ext cx="2514600" cy="18288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5257800"/>
            <a:ext cx="7391520" cy="1066680"/>
          </a:xfrm>
          <a:prstGeom prst="rect">
            <a:avLst/>
          </a:prstGeom>
          <a:solidFill>
            <a:srgbClr val="bbe0e3"/>
          </a:solidFill>
          <a:ln w="3816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819520"/>
            <a:ext cx="1600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Apoyo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Psico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010280" y="3168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Formación y 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apacitación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133720" y="547056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Sistema de Registro y Monitor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209680" y="3048120"/>
            <a:ext cx="838440" cy="228600"/>
          </a:xfrm>
          <a:prstGeom prst="leftRightArrow">
            <a:avLst>
              <a:gd name="adj1" fmla="val 50000"/>
              <a:gd name="adj2" fmla="val 7301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3048120"/>
            <a:ext cx="838440" cy="228600"/>
          </a:xfrm>
          <a:prstGeom prst="leftRightArrow">
            <a:avLst>
              <a:gd name="adj1" fmla="val 50000"/>
              <a:gd name="adj2" fmla="val 7301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16200000">
            <a:off x="3962160" y="4647960"/>
            <a:ext cx="838080" cy="228600"/>
          </a:xfrm>
          <a:prstGeom prst="leftRightArrow">
            <a:avLst>
              <a:gd name="adj1" fmla="val 50000"/>
              <a:gd name="adj2" fmla="val 7298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359000" cy="15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5e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352320" y="304920"/>
            <a:ext cx="30481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Tahoma"/>
              </a:rPr>
              <a:t>Instituto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ordinación y realización de Cursos, Talleres, Actividades de Extensión y Publ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yuda a incrementar la efectividad de la intervención, mediante la adquisición de nuevos conocimientos y favorecen la comprensión de la práct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porta la mirada de de un experto que enriquece los contenidos teóricos y metodológicos del análisis de la práctic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7334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3276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ahoma"/>
              </a:rPr>
              <a:t>Universida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22096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ntribuir a la especialización de profesionales que trabajan en el ámbito del Programa PUEN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iscutir y analizar los modelos actuales de intervención soc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Sistematizar las políticas sociales en el país dirigidas a la población pob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Elaborar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herramientas teóricas y prácticas, que mejoren su formación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733400" cy="118116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5364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09320" y="404280"/>
            <a:ext cx="5410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Plataforma Tecnológica:</a:t>
            </a:r>
            <a:br>
              <a:rPr sz="3200"/>
            </a:br>
            <a:r>
              <a:rPr b="1" lang="es-CL" sz="3200" spc="-1" strike="noStrike">
                <a:solidFill>
                  <a:srgbClr val="3333cc"/>
                </a:solidFill>
                <a:latin typeface="Tahoma"/>
              </a:rPr>
              <a:t>www.cpuente.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Es el soporte para todos los recursos de la Comunidad Aprendizaje Pu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Sus Objetivos s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ortalecer la conectividad y la interactividad entre los miembros de la Comunidad de Aprendizaje Pu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7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acilitar la relación con plataforma we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Ofrecer espacios para sistematizar las experiencias y conocimientos de la práctica de los miembros (Chat, Foros, Preguntas Frecuente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Lograr una mayor visibilidad y difusión de las acciones que realiza el Programa entre todos quienes lo conform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7334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Formación y Capacit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l componente d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rmación y Capacitació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e fundamenta en que la  efectividad de la estrategia del Programa se basa en la capacidad de sus recursos humanos  para que  las familias adquieran protagonismo, se integren a redes y superen la situación de  pobreza extr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s en el acompañamiento directo y personalizado, 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oyo Psicosocia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 por 24 meses, de una/a  Apoyo  Familiar a cada  Familia donde se  cifran  - en gran medida- las posibilidades de logro de los objetivos  del P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405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Del componente de Formación y Capacitación a la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Comunidad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7315200" y="304920"/>
            <a:ext cx="1511280" cy="16905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685800" y="2389320"/>
            <a:ext cx="777708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 2002 se encarga a la Facultad Latinoamericana de Ciencias Sociale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LACSO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un estudio sobre identificación de necesidades de capacitación y de modalidades preferidas de capacitación entre JUIFS, AFs y otros profesionales FOSIS, que sirve de base para la propuesta d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Comunidad de Aprendizaje Puente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Resultados del Estudio: El Sustrato de la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Comunidad de Aprendizaje P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</a:rPr>
              <a:t>Necesidades y preferencias de los Apoyos Familia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Necesidad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Desarrollo de capacidades de reflexión sobre la práctica (aprender de lo inédito tomando en cuenta la diversidad y complejidad de cada famil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ontención afectiva y autocuidado (una persona que se encuentre en la mejor forma po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Profundizar la formación básica (la formación inicial siempre será parc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referencias acerca de la modalidad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Una capacitación  a partir del análisis de situaciones concretas ligadas a la práctica (intervención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En pequeños grupos de conversación y apoyo mutu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Combinando posibilidades presénciales y virtu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Favoreciendo el Intercambio de experi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14047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De los Jefes de Unidad de Intervención JUIF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Asegurar la calidad de la intervención realizada por los AFs y facilitar que las Redes institucionales y sociales ope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Asegurar una buena comunicación con FOSIS para una gestión eficiente y oportuna en la com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omprometer al Alcalde y movilizar al Municipio para apoyar el Programa en todas sus dimensione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7391520" y="380880"/>
            <a:ext cx="1473120" cy="143352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Resultados del Estudio: El Sustrato de la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Comunidad de Aprendizaje P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incipios de Acción de la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Comunidad de Aprendizaje Pu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intervención consiste en al relación (práctica conversacional) que se da entre el Apoyo Familiar y la Famil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 calidad de la intervención es clave para que las familias logren abandonar la pobreza extr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calidad de intervención depende en gran medida de las habilidades de conversación del Apoyo famili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calidad de la intervención depende además del desarrollo de prácticas de autocuidado y cuidado mutuo al interior de los equip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s habilidades de conversación se mejoran a través de la reflexión de la prác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reflexión de la práctica es más efectiva si se realiza en el grupo de trabaj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La capacitación permanente asegura una mejor calidad de  interven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Arial"/>
              </a:rPr>
              <a:t>Reflexionar la práctica  mejora la calidad de la interve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0"/>
          <a:stretch/>
        </p:blipFill>
        <p:spPr>
          <a:xfrm>
            <a:off x="7467480" y="228600"/>
            <a:ext cx="140508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Mejorar la Calidad de la Intervención en el</a:t>
            </a:r>
            <a:br>
              <a:rPr sz="2400"/>
            </a:b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Programa Pu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511280" cy="16621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04920" y="19810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ustentabilidad: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Que las familias acrecienten sus niveles de autonomía  disponiendo de las habilidades sociales para ello. Entre estas habilidades cabe destacar la convers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l logro de los resultados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: Mediante el cumplimiento de las 53 Condiciones Mínimas (indicador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compañamiento personalizado: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Que las familias sean acompañadas tomando en cuenta su diversidad, su complejidad  su cultura y sus capac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esarrollo de Proyecto de Vida: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Que cada uno de los miembros de la  familia  potencie sus capacidades para formular  un proyecto de vida y hacer lo posible para alcanzarlo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El Aprendizaje a Partir de la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Práct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595520" cy="15573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441360" y="1862280"/>
            <a:ext cx="8321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Arial"/>
              </a:rPr>
              <a:t>Aprendizaje</a:t>
            </a: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 entendido como cambio, como enriquecimiento de las formas de pensar, sentir y actu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17680" y="2776680"/>
            <a:ext cx="8169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Arial"/>
              </a:rPr>
              <a:t>Aprendizaje</a:t>
            </a: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 que se transforma en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fortalecimiento de las competencias</a:t>
            </a: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 necesarias para cumplir una función que  contribuye al logro de los objetivos del Pro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93640" y="3732120"/>
            <a:ext cx="801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Arial"/>
              </a:rPr>
              <a:t>Aprendizaje</a:t>
            </a: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 que desarrolla la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competencia</a:t>
            </a: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, que es un saber actuar conciente en un campo determinado que supone la disponibilidad de conocimientos teóricos y prácticos, valores y actit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4938840"/>
            <a:ext cx="7940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Arial"/>
              </a:rPr>
              <a:t>El Aprendizaje</a:t>
            </a: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 deriva de la reflexión sobre prácticas- propias y de personas de prácticas afines- que permite fortalecer las competencias profesionales como fruto de  una  capacidad mayor para comprender situaciones de la contingencia  y  de la ampliación de los repertorios de acción: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Reflex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00:00:38Z</dcterms:created>
  <dc:creator>Lucia Vivanco</dc:creator>
  <dc:description/>
  <dc:language>en-US</dc:language>
  <cp:lastModifiedBy>Lucia Vivanco</cp:lastModifiedBy>
  <dcterms:modified xsi:type="dcterms:W3CDTF">2005-07-20T03:55:24Z</dcterms:modified>
  <cp:revision>18</cp:revision>
  <dc:subject/>
  <dc:title>Diapositiva 1</dc:title>
</cp:coreProperties>
</file>